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596-03C3-42D0-A108-0BA04701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6FA-614C-402F-AED1-A5A09FC4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5C4-1275-4543-A6FD-96C65B35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BA5-488E-4D61-A237-F9E048A3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A2FA-13E7-4351-A6C4-DBDEF7C6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E433-C187-4BCC-B265-064C53A2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97B5-EBA7-460E-919B-8377A0AF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0175-0311-43A7-B73C-15F2A0AB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0BCF-3045-4B2C-8468-68B8393A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5C4C-D01E-4500-A16D-D5459E90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A867-BD81-45A9-A5C1-65E2A73D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7B1-2B66-4429-8A3D-CBE446A3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E838-E8DC-4068-AA8B-9E465ACE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BC0D-EF67-4673-BBA9-D7F096E5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76CF-AC07-442B-8E31-61E92854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6080-3503-425C-9F99-15F0224E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84F2-FE21-444A-B803-CD008971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F68E-EC0D-44A0-81E7-304C7133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D4785-F433-4C71-ADD1-C05E4C37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290FF-1AB1-4F17-8F12-E6DDCB24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DAFFC-D2F1-4A91-AA68-2B64A468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CFD2A-4704-414A-8E87-97C66D80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E21-FDB1-4CDE-9726-97B61CFE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9F01-2170-46D8-AD33-AD02F841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AE987-FA64-447E-90C3-8C94E8B1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23B9-9D5B-405A-85A8-295B1DFF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B1EC-C359-417A-B768-BDDD8D73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B90A6-C4C9-4CD3-98A1-03428853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7B63E-1A7E-4EAF-A3CC-D654E465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46F3C-7478-425E-87B7-29C82A97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51C0-047B-442D-A0DA-CE545E6C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7AF79-9A89-41EB-88CB-2EFDC9A6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0763A-518B-4A44-8326-CE87509A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EDE-4109-424A-B4D7-7240DCAC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23C99-EF29-4FC4-BA4B-2C9CCE42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FED13-E708-4ED2-81DE-AFD5369A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81FA6-4CF3-498C-AF1F-8D4B3F5F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73E8B-00C6-427C-97FE-B7A1CE3D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AD79E-369B-47ED-A969-75F9A2BF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A7676-1B43-4E72-8679-1DFEE4D0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D7972-2D3D-4A10-92F0-3674EE83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E35E7-E1A6-4DCA-A428-17BF1F2F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4C670-A175-41D8-A7F9-4966730C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835-6FCA-4E10-A406-2388096E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D6B-4475-4C8F-9315-010C514B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9CA-50B6-4258-ADFE-C0E1865B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7C3-FAD3-4654-BA52-723C0E59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586-A3D3-4E3E-9B21-57BDD743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AAEF-4F95-4BA9-9DD5-2B2C6A444A87}" type="slidenum">
              <a:rPr b="1" lang="es-AR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3D26-548F-43ED-B57B-6BDA553A1F99}" type="slidenum">
              <a:rPr b="1" lang="es-AR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D52A-3544-4940-B03A-D6DC9BA95105}" type="slidenum">
              <a:rPr b="1" lang="es-AR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91BD-426F-435A-8A1F-72D8B0CFDEBD}" type="slidenum">
              <a:rPr b="1" lang="es-AR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3 Rectángulo"/>
          <p:cNvGrpSpPr/>
          <p:nvPr/>
        </p:nvGrpSpPr>
        <p:grpSpPr>
          <a:xfrm>
            <a:off x="-60480" y="-36360"/>
            <a:ext cx="9264960" cy="6980040"/>
            <a:chOff x="-60480" y="-36360"/>
            <a:chExt cx="9264960" cy="6980040"/>
          </a:xfrm>
        </p:grpSpPr>
        <p:pic>
          <p:nvPicPr>
            <p:cNvPr id="215" name="3 Rectángulo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64960" cy="69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17" name="1 Título" descr=""/>
          <p:cNvPicPr/>
          <p:nvPr/>
        </p:nvPicPr>
        <p:blipFill>
          <a:blip r:embed="rId2"/>
          <a:stretch/>
        </p:blipFill>
        <p:spPr>
          <a:xfrm>
            <a:off x="378000" y="55440"/>
            <a:ext cx="80168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Cuando el feto tiene el cuerpo fuera pero su cabeza está aún dentro del vientre materno, el abortista le atraviesa la nuca con unas tijera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El crimen culmina cuando el abortista, mediante una sonda, succiona la masa encefálica del feto que, durante todo el proceso, ha estado agitando su pequeño cuerpo para tratar inútilmente de defenders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5003640" y="3500280"/>
            <a:ext cx="3792600" cy="2847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2 Título" descr=""/>
          <p:cNvPicPr/>
          <p:nvPr/>
        </p:nvPicPr>
        <p:blipFill>
          <a:blip r:embed="rId1"/>
          <a:stretch/>
        </p:blipFill>
        <p:spPr>
          <a:xfrm>
            <a:off x="969840" y="2968560"/>
            <a:ext cx="71740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1 Título" descr=""/>
          <p:cNvPicPr/>
          <p:nvPr/>
        </p:nvPicPr>
        <p:blipFill>
          <a:blip r:embed="rId1"/>
          <a:stretch/>
        </p:blipFill>
        <p:spPr>
          <a:xfrm>
            <a:off x="927000" y="5241960"/>
            <a:ext cx="7040520" cy="1317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autoinducido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es realizado por la misma mujer. Se utilizan objetos tales como agujas de tejer o varillas de paraguas, o sustancias como detergente o vinagre, con el fin de destruir el embrión o simplemente dilatar el cuello uterino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empírico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Lo realizan personas sin conocimientos médicos, generalmente en condiciones de limpieza deficientes y con equipo e instrumentos inapropiado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1 Título" descr=""/>
          <p:cNvPicPr/>
          <p:nvPr/>
        </p:nvPicPr>
        <p:blipFill>
          <a:blip r:embed="rId1"/>
          <a:stretch/>
        </p:blipFill>
        <p:spPr>
          <a:xfrm>
            <a:off x="1427040" y="4243320"/>
            <a:ext cx="7229520" cy="13161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Procurado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es aquél en el que la mujer desempeña un papel protagónico, actuando como el sujeto activo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consentido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es aquél en donde la mujer es cómplice, es decir, es partícipe del acto a procurars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Sufrido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es aquél que se manifiesta cuando la mujer es víctima del act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1 Título" descr=""/>
          <p:cNvPicPr/>
          <p:nvPr/>
        </p:nvPicPr>
        <p:blipFill>
          <a:blip r:embed="rId1"/>
          <a:stretch/>
        </p:blipFill>
        <p:spPr>
          <a:xfrm>
            <a:off x="1414440" y="4237200"/>
            <a:ext cx="7229520" cy="131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84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Consensual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se da cuando la mujer acepta la actividad abortiva contribuyendo en la medida de sus posibilidades fisiológicas a facilitar la expulsión del feto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Culposo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Conlleva implícita la imprudencia, negligencia o imperic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Doloso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es el aborto que forma parte de los delitos en los que la culpabilidad se apoya sobre un elemento específico de la figur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1 Título" descr=""/>
          <p:cNvPicPr/>
          <p:nvPr/>
        </p:nvPicPr>
        <p:blipFill>
          <a:blip r:embed="rId1"/>
          <a:stretch/>
        </p:blipFill>
        <p:spPr>
          <a:xfrm>
            <a:off x="1328760" y="4243320"/>
            <a:ext cx="7248600" cy="13161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404040"/>
                </a:solidFill>
                <a:uFillTx/>
                <a:latin typeface="Trebuchet MS"/>
              </a:rPr>
              <a:t>Aborto Ético</a:t>
            </a:r>
            <a:r>
              <a:rPr b="1" lang="es-AR" sz="20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000" spc="-1" strike="noStrike">
                <a:solidFill>
                  <a:srgbClr val="404040"/>
                </a:solidFill>
                <a:latin typeface="Trebuchet MS"/>
              </a:rPr>
              <a:t>también se le conoce como sentimental o humanitario, se refiere a los casos de embarazo resultantes de ciertos delitos como la violación, el incesto, el estupro, etc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404040"/>
                </a:solidFill>
                <a:uFillTx/>
                <a:latin typeface="Trebuchet MS"/>
              </a:rPr>
              <a:t>Aborto Social</a:t>
            </a:r>
            <a:r>
              <a:rPr b="1" lang="es-AR" sz="20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000" spc="-1" strike="noStrike">
                <a:solidFill>
                  <a:srgbClr val="404040"/>
                </a:solidFill>
                <a:latin typeface="Trebuchet MS"/>
              </a:rPr>
              <a:t>es aquél realizado por razones de pobreza y aún de miseria en los hogares en los que el nacimiento de los hijos constituye un grave problema económico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404040"/>
                </a:solidFill>
                <a:uFillTx/>
                <a:latin typeface="Trebuchet MS"/>
              </a:rPr>
              <a:t>Aborto Tentado</a:t>
            </a:r>
            <a:r>
              <a:rPr b="1" lang="es-AR" sz="20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000" spc="-1" strike="noStrike">
                <a:solidFill>
                  <a:srgbClr val="404040"/>
                </a:solidFill>
                <a:latin typeface="Trebuchet MS"/>
              </a:rPr>
              <a:t>el aborto tentado implica la intención de la mujer para causar su propio aborto. Aborto Terapéutico: es aquél provocado para salvar la vida o la salud de la madre, puesta en peligro por el embarazo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1 Título" descr=""/>
          <p:cNvPicPr/>
          <p:nvPr/>
        </p:nvPicPr>
        <p:blipFill>
          <a:blip r:embed="rId1"/>
          <a:stretch/>
        </p:blipFill>
        <p:spPr>
          <a:xfrm>
            <a:off x="1116000" y="4243320"/>
            <a:ext cx="7454880" cy="13161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404040"/>
                </a:solidFill>
                <a:uFillTx/>
                <a:latin typeface="Trebuchet MS"/>
              </a:rPr>
              <a:t>Aborto Terapéutico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es aquél provocado para salvar la vida o la salud de la madre, puesta en peligro por el embarazo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2 Título" descr=""/>
          <p:cNvPicPr/>
          <p:nvPr/>
        </p:nvPicPr>
        <p:blipFill>
          <a:blip r:embed="rId1"/>
          <a:stretch/>
        </p:blipFill>
        <p:spPr>
          <a:xfrm>
            <a:off x="969840" y="2968560"/>
            <a:ext cx="71740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1 Título" descr=""/>
          <p:cNvPicPr/>
          <p:nvPr/>
        </p:nvPicPr>
        <p:blipFill>
          <a:blip r:embed="rId1"/>
          <a:stretch/>
        </p:blipFill>
        <p:spPr>
          <a:xfrm>
            <a:off x="1792440" y="4243320"/>
            <a:ext cx="6778440" cy="13161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1143000" y="731880"/>
            <a:ext cx="640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Miedo por la falta de capacidad económicas par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alimentar a el hijo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Miedo a lo que digan sus padres o a las demás persona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Miedo a los 9 meses de embarazo y a los dolores de part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Problema de salu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Violació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Anticonceptivos Hormonal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2 Título" descr=""/>
          <p:cNvPicPr/>
          <p:nvPr/>
        </p:nvPicPr>
        <p:blipFill>
          <a:blip r:embed="rId1"/>
          <a:stretch/>
        </p:blipFill>
        <p:spPr>
          <a:xfrm>
            <a:off x="969840" y="2968560"/>
            <a:ext cx="71740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142640" y="731880"/>
            <a:ext cx="68850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 u="sng">
                <a:solidFill>
                  <a:srgbClr val="404040"/>
                </a:solidFill>
                <a:uFillTx/>
                <a:latin typeface="Trebuchet MS"/>
              </a:rPr>
              <a:t>DEFINICIÓN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El aborto es la muerte de un niño o niña en el vientre d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su madre producida durante cualquier momento de l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etapa que va desde la fecundación (unión del óvulo con 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espermatozoide) hasta el momento previo al nacimiento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1 Título" descr=""/>
          <p:cNvPicPr/>
          <p:nvPr/>
        </p:nvPicPr>
        <p:blipFill>
          <a:blip r:embed="rId1"/>
          <a:stretch/>
        </p:blipFill>
        <p:spPr>
          <a:xfrm>
            <a:off x="1835280" y="5241960"/>
            <a:ext cx="6778440" cy="13176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Esterilida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Abortos Espontáne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Embaraz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Nacimientos de niños muert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Trastornos menstrual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Hemorrag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Infeccion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Shoc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1 Título" descr=""/>
          <p:cNvPicPr/>
          <p:nvPr/>
        </p:nvPicPr>
        <p:blipFill>
          <a:blip r:embed="rId1"/>
          <a:stretch/>
        </p:blipFill>
        <p:spPr>
          <a:xfrm>
            <a:off x="1835280" y="5241960"/>
            <a:ext cx="6778440" cy="1317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Com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Útero perforad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Peritoniti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Coágulos de sangre pasajer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Fiebre / sudores frí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Intenso dolo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Perdida de otros órgan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1 Título" descr=""/>
          <p:cNvPicPr/>
          <p:nvPr/>
        </p:nvPicPr>
        <p:blipFill>
          <a:blip r:embed="rId1"/>
          <a:stretch/>
        </p:blipFill>
        <p:spPr>
          <a:xfrm>
            <a:off x="1835280" y="5241960"/>
            <a:ext cx="6778440" cy="1317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Culpabilida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Impulsos suicida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Sensación de perdida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Sentimiento de lut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Pesar y remordimient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1 Título" descr=""/>
          <p:cNvPicPr/>
          <p:nvPr/>
        </p:nvPicPr>
        <p:blipFill>
          <a:blip r:embed="rId1"/>
          <a:stretch/>
        </p:blipFill>
        <p:spPr>
          <a:xfrm>
            <a:off x="1835280" y="5241960"/>
            <a:ext cx="6778440" cy="13176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Retraimient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Perdida de confianza en la capacidad de toma de decision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404040"/>
                </a:solidFill>
                <a:latin typeface="Trebuchet MS"/>
              </a:rPr>
              <a:t>I</a:t>
            </a: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nferio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Preocupación por la muer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Hostilida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1 Título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143000" y="731880"/>
            <a:ext cx="6742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06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Trebuchet MS"/>
              </a:rPr>
              <a:t>Primera Clasificació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04040"/>
                </a:solidFill>
                <a:latin typeface="Trebuchet MS"/>
              </a:rPr>
              <a:t>Aborto espontáneo: se habla de aborto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04040"/>
                </a:solidFill>
                <a:latin typeface="Trebuchet MS"/>
              </a:rPr>
              <a:t>espontáneo cuando la muerte es producto de alguna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04040"/>
                </a:solidFill>
                <a:latin typeface="Trebuchet MS"/>
              </a:rPr>
              <a:t>anomalía o disfunción no prevista ni deseada por la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04040"/>
                </a:solidFill>
                <a:latin typeface="Trebuchet MS"/>
              </a:rPr>
              <a:t>Madre.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04040"/>
                </a:solidFill>
                <a:latin typeface="Trebuchet MS"/>
              </a:rPr>
              <a:t>Aborto inducido o provocado: Es lo que suele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04040"/>
                </a:solidFill>
                <a:latin typeface="Trebuchet MS"/>
              </a:rPr>
              <a:t>entenderse cuando se habla simplemente de aborto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04040"/>
                </a:solidFill>
                <a:latin typeface="Trebuchet MS"/>
              </a:rPr>
              <a:t>cuando la muerte del bebé es procurada de cualquier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4068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404040"/>
                </a:solidFill>
                <a:latin typeface="Trebuchet MS"/>
              </a:rPr>
              <a:t>manera: doméstica, química o quirúrgica.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1 Título" descr=""/>
          <p:cNvPicPr/>
          <p:nvPr/>
        </p:nvPicPr>
        <p:blipFill>
          <a:blip r:embed="rId1"/>
          <a:stretch/>
        </p:blipFill>
        <p:spPr>
          <a:xfrm>
            <a:off x="1779480" y="4243320"/>
            <a:ext cx="6791400" cy="1316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143000" y="731520"/>
            <a:ext cx="65246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Un feto de muchas semanas es arrancado del vientre materno mediante una operación cesáre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404040"/>
                </a:solidFill>
                <a:latin typeface="Trebuchet MS"/>
              </a:rPr>
              <a:t>Es el mismo procedimiento que se utiliza para partos por cesárea, solo que en este caso se deja morir al niño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1 Título" descr=""/>
          <p:cNvPicPr/>
          <p:nvPr/>
        </p:nvPicPr>
        <p:blipFill>
          <a:blip r:embed="rId1"/>
          <a:stretch/>
        </p:blipFill>
        <p:spPr>
          <a:xfrm>
            <a:off x="1700280" y="4243320"/>
            <a:ext cx="7626240" cy="2017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404040"/>
                </a:solidFill>
                <a:latin typeface="Trebuchet MS"/>
              </a:rPr>
              <a:t>Un feto puede morir envenenado y quemado por una solución salina altamente concentrada introducida en el líquido amniótico de la madre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1 Título" descr=""/>
          <p:cNvPicPr/>
          <p:nvPr/>
        </p:nvPicPr>
        <p:blipFill>
          <a:blip r:embed="rId1"/>
          <a:stretch/>
        </p:blipFill>
        <p:spPr>
          <a:xfrm>
            <a:off x="1792440" y="4243320"/>
            <a:ext cx="6778440" cy="1316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404040"/>
                </a:solidFill>
                <a:latin typeface="Trebuchet MS"/>
              </a:rPr>
              <a:t>Un embrión de pocas semanas puede ser asesinado  mediante una potente aspiradora que lo destroza completamente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1 Título" descr=""/>
          <p:cNvPicPr/>
          <p:nvPr/>
        </p:nvPicPr>
        <p:blipFill>
          <a:blip r:embed="rId1"/>
          <a:stretch/>
        </p:blipFill>
        <p:spPr>
          <a:xfrm>
            <a:off x="1579680" y="4243320"/>
            <a:ext cx="7162560" cy="2017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04040"/>
                </a:solidFill>
                <a:latin typeface="Trebuchet MS"/>
              </a:rPr>
              <a:t>Un feto puede ser destrozado con un cuchillo mientras se encuentra en el vientre materno. La enfermera debe juntar las piezas del feto para asegurar que ha sido extraído totalmente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1 Título" descr=""/>
          <p:cNvPicPr/>
          <p:nvPr/>
        </p:nvPicPr>
        <p:blipFill>
          <a:blip r:embed="rId1"/>
          <a:stretch/>
        </p:blipFill>
        <p:spPr>
          <a:xfrm>
            <a:off x="1127160" y="5241960"/>
            <a:ext cx="7157880" cy="1317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04040"/>
                </a:solidFill>
                <a:latin typeface="Trebuchet MS"/>
              </a:rPr>
              <a:t>El aborto por parto parcial comienza cuando el  doctor toma con unas pinazas al bebé dentro del vientre matern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4572000" y="2276640"/>
            <a:ext cx="4245120" cy="2906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4040"/>
                </a:solidFill>
                <a:latin typeface="Trebuchet MS"/>
              </a:rPr>
              <a:t>Cuando los pies del bebé están fuera del útero,  el abortista lo toma con sus manos y lo saca,  como si se tratara de un parto natural, pero asegurándose que salga por los pi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067280" y="2781360"/>
            <a:ext cx="4222800" cy="3024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04:48:49Z</dcterms:created>
  <dc:creator>Villegas</dc:creator>
  <dc:description/>
  <dc:language>en-US</dc:language>
  <cp:lastModifiedBy>Villegas</cp:lastModifiedBy>
  <dcterms:modified xsi:type="dcterms:W3CDTF">2012-09-13T05:16:13Z</dcterms:modified>
  <cp:revision>4</cp:revision>
  <dc:subject/>
  <dc:title>El Aborto</dc:title>
</cp:coreProperties>
</file>