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36A-E2E6-427B-889B-740C09CC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7B8-F89E-44E9-9C90-0D4F1AD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855-5087-4DFF-A735-A214F5FD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322-F5EF-44C5-A645-CD78EB5B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A23C-B694-463D-8547-69365A85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E373-28EB-43D1-AACD-0ADDE74D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97C0-78CB-4BB0-BB9A-C5A9912B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66C6-D01E-4C2D-B3B3-13CFB08E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472E-F7A5-4C87-A4DF-436E4E1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A970-ACED-4AEF-9BF9-807AD51C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EDA2-9275-472E-BB9E-DB7C559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3AB-AEA8-496F-A1AB-6A05C41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755E-C52A-41EB-8B37-BD1A90F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9998-5A57-4D31-8DD0-8E4522CC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992-514A-40FB-BD42-EA0FBCF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211-BA00-4A1D-8519-9F3B20F4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5D1B-AC9D-44F7-AD97-9E27DE8B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E84B-BE90-41DD-8228-38723AA7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CE47-C7CF-418E-8802-C003371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8287-2BEB-446F-BE45-72157EBB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CE66-7535-4B07-880C-25D5341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286C-094C-4FCE-8378-2A016E4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74A-66E1-4FAB-85E3-6911967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4848-01C3-469B-B882-67134FD3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2EDE-440E-407D-925F-06FA3E8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3C9B-DB4F-465E-9E81-0792829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3BA6-D49B-4559-91EE-126E4806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7EA5-B3E1-4116-941D-E4514D69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25D8-8BF2-4732-9F30-64B520C8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FCD7-06F6-412C-A535-28D619AC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E840-F387-4A81-B4ED-7D1D19F9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7D09-1285-4109-A651-8A24E6F8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CC2C-DE9F-47EE-837C-8585633F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60E-A8F0-4E87-AFB0-BD0D22EB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BF3B-DA26-455F-8513-C2CDD798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9F34-119E-4C16-B01F-BC35EFA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F1D9-37A3-4724-877B-3898CCB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1AA3-7075-4501-8EB8-697DFF4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5D59A-1ACF-4975-96FA-9B0D79E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99ED-A912-4CC5-B5E8-A992229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B9FF-03B8-4AF6-9557-92A2314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5C57-5A7E-4C44-86C8-40A446F4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3934-B8AE-4CCE-B497-C4B8E80D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6EE-C52D-411F-A6B9-18E3D42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82D-779B-4680-944F-F4C2AA27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2CF-D0E3-4E45-A792-482CAA1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25B-98DD-4AEF-9892-5DF9D4C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19B-2601-4C82-8D1E-74DE8BD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FD2A-3739-4A54-A362-ECEAAAC0801C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142C-26C4-4A2A-8EA0-95237B55C043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E48-6A6F-4A40-85AF-91E69BAAA56D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6D30-AD34-40E4-8484-AEA3F58D6DD5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3 Rectángulo"/>
          <p:cNvGrpSpPr/>
          <p:nvPr/>
        </p:nvGrpSpPr>
        <p:grpSpPr>
          <a:xfrm>
            <a:off x="-60480" y="-36360"/>
            <a:ext cx="9264960" cy="6980040"/>
            <a:chOff x="-60480" y="-36360"/>
            <a:chExt cx="9264960" cy="6980040"/>
          </a:xfrm>
        </p:grpSpPr>
        <p:pic>
          <p:nvPicPr>
            <p:cNvPr id="215" name="3 Rectángulo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64960" cy="69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17" name="1 Título" descr=""/>
          <p:cNvPicPr/>
          <p:nvPr/>
        </p:nvPicPr>
        <p:blipFill>
          <a:blip r:embed="rId2"/>
          <a:stretch/>
        </p:blipFill>
        <p:spPr>
          <a:xfrm>
            <a:off x="378000" y="55440"/>
            <a:ext cx="80168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Cuando el feto tiene el cuerpo fuera pero su cabeza está aún dentro del vientre materno, el abortista le atraviesa la nuca con unas tijer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l crimen culmina cuando el abortista, mediante una sonda, succiona la masa encefálica del feto que, durante todo el proceso, ha estado agitando su pequeño cuerpo para tratar inútilmente de defenders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792600" cy="2847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2 Título" descr=""/>
          <p:cNvPicPr/>
          <p:nvPr/>
        </p:nvPicPr>
        <p:blipFill>
          <a:blip r:embed="rId1"/>
          <a:stretch/>
        </p:blipFill>
        <p:spPr>
          <a:xfrm>
            <a:off x="969840" y="2968560"/>
            <a:ext cx="7174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927000" y="5241960"/>
            <a:ext cx="7040520" cy="1317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autoinduci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realizado por la misma mujer. Se utilizan objetos tales como agujas de tejer o varillas de paraguas, o sustancias como detergente o vinagre, con el fin de destruir el embrión o simplemente dilatar el cuello uterin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empíric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Lo realizan personas sin conocimientos médicos, generalmente en condiciones de limpieza deficientes y con equipo e instrumentos inapropiado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1 Título" descr=""/>
          <p:cNvPicPr/>
          <p:nvPr/>
        </p:nvPicPr>
        <p:blipFill>
          <a:blip r:embed="rId1"/>
          <a:stretch/>
        </p:blipFill>
        <p:spPr>
          <a:xfrm>
            <a:off x="1427040" y="4243320"/>
            <a:ext cx="7229520" cy="1316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Procura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en el que la mujer desempeña un papel protagónico, actuando como el sujeto activ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consenti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en donde la mujer es cómplice, es decir, es partícipe del acto a procurars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Sufri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que se manifiesta cuando la mujer es víctima del ac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1414440" y="4237200"/>
            <a:ext cx="7229520" cy="131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Consensual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se da cuando la mujer acepta la actividad abortiva contribuyendo en la medida de sus posibilidades fisiológicas a facilitar la expulsión del feto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Culpos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Conlleva implícita la imprudencia, negligencia o imperic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Dolos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el aborto que forma parte de los delitos en los que la culpabilidad se apoya sobre un elemento específico de la figur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1 Título" descr=""/>
          <p:cNvPicPr/>
          <p:nvPr/>
        </p:nvPicPr>
        <p:blipFill>
          <a:blip r:embed="rId1"/>
          <a:stretch/>
        </p:blipFill>
        <p:spPr>
          <a:xfrm>
            <a:off x="1328760" y="4243320"/>
            <a:ext cx="7248600" cy="1316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404040"/>
                </a:solidFill>
                <a:uFillTx/>
                <a:latin typeface="Trebuchet MS"/>
              </a:rPr>
              <a:t>Aborto Ético</a:t>
            </a: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000" spc="-1" strike="noStrike">
                <a:solidFill>
                  <a:srgbClr val="404040"/>
                </a:solidFill>
                <a:latin typeface="Trebuchet MS"/>
              </a:rPr>
              <a:t>también se le conoce como sentimental o humanitario, se refiere a los casos de embarazo resultantes de ciertos delitos como la violación, el incesto, el estupro, etc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404040"/>
                </a:solidFill>
                <a:uFillTx/>
                <a:latin typeface="Trebuchet MS"/>
              </a:rPr>
              <a:t>Aborto Social</a:t>
            </a: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000" spc="-1" strike="noStrike">
                <a:solidFill>
                  <a:srgbClr val="404040"/>
                </a:solidFill>
                <a:latin typeface="Trebuchet MS"/>
              </a:rPr>
              <a:t>es aquél realizado por razones de pobreza y aún de miseria en los hogares en los que el nacimiento de los hijos constituye un grave problema económico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404040"/>
                </a:solidFill>
                <a:uFillTx/>
                <a:latin typeface="Trebuchet MS"/>
              </a:rPr>
              <a:t>Aborto Tentado</a:t>
            </a: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000" spc="-1" strike="noStrike">
                <a:solidFill>
                  <a:srgbClr val="404040"/>
                </a:solidFill>
                <a:latin typeface="Trebuchet MS"/>
              </a:rPr>
              <a:t>el aborto tentado implica la intención de la mujer para causar su propio aborto. Aborto Terapéutico: es aquél provocado para salvar la vida o la salud de la madre, puesta en peligro por el embarazo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1 Título" descr=""/>
          <p:cNvPicPr/>
          <p:nvPr/>
        </p:nvPicPr>
        <p:blipFill>
          <a:blip r:embed="rId1"/>
          <a:stretch/>
        </p:blipFill>
        <p:spPr>
          <a:xfrm>
            <a:off x="1116000" y="4243320"/>
            <a:ext cx="7454880" cy="1316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Terapéutic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provocado para salvar la vida o la salud de la madre, puesta en peligro por el embaraz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2 Título" descr=""/>
          <p:cNvPicPr/>
          <p:nvPr/>
        </p:nvPicPr>
        <p:blipFill>
          <a:blip r:embed="rId1"/>
          <a:stretch/>
        </p:blipFill>
        <p:spPr>
          <a:xfrm>
            <a:off x="969840" y="2968560"/>
            <a:ext cx="7174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Título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778440" cy="1316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43000" y="731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Miedo por la falta de capacidad económicas par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alimentar a el hij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Miedo a lo que digan sus padres o a las demás person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Miedo a los 9 meses de embarazo y a los dolores de part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Problema de salu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Violació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Anticonceptivos Hormon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2 Título" descr=""/>
          <p:cNvPicPr/>
          <p:nvPr/>
        </p:nvPicPr>
        <p:blipFill>
          <a:blip r:embed="rId1"/>
          <a:stretch/>
        </p:blipFill>
        <p:spPr>
          <a:xfrm>
            <a:off x="969840" y="2968560"/>
            <a:ext cx="7174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142640" y="731880"/>
            <a:ext cx="6885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 u="sng">
                <a:solidFill>
                  <a:srgbClr val="404040"/>
                </a:solidFill>
                <a:uFillTx/>
                <a:latin typeface="Trebuchet MS"/>
              </a:rPr>
              <a:t>DEFINICIÓN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l aborto es la muerte de un niño o niña en el vientre 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u madre producida durante cualquier momento de l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tapa que va desde la fecundación (unión del óvulo con 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spermatozoide) hasta el momento previo al nacimient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sterilid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Abortos Espontáne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mbaraz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Nacimientos de niños muert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Trastornos menstru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Hemorrag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Infeccion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hoc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Com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Útero perforad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ritonit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Coágulos de sangre pasajer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Fiebre / sudores frí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Intenso dol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rdida de otros órgan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Culpabilid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Impulsos suicid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ensación de perdid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entimiento de lu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sar y remordimien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Retraimien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rdida de confianza en la capacidad de toma de decision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I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nferi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reocupación por la muer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Hostilid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1 Título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43000" y="731880"/>
            <a:ext cx="674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Primera Clasificac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Aborto espontáneo: se habla de aborto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espontáneo cuando la muerte es producto de alguna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anomalía o disfunción no prevista ni deseada por la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Madre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Aborto inducido o provocado: Es lo que suele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entenderse cuando se habla simplemente de aborto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cuando la muerte del bebé es procurada de cualquier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04040"/>
                </a:solidFill>
                <a:latin typeface="Trebuchet MS"/>
              </a:rPr>
              <a:t>manera: doméstica, química o quirúrgica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1 Título" descr=""/>
          <p:cNvPicPr/>
          <p:nvPr/>
        </p:nvPicPr>
        <p:blipFill>
          <a:blip r:embed="rId1"/>
          <a:stretch/>
        </p:blipFill>
        <p:spPr>
          <a:xfrm>
            <a:off x="1779480" y="4243320"/>
            <a:ext cx="6791400" cy="1316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143000" y="731520"/>
            <a:ext cx="65246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Un feto de muchas semanas es arrancado del vientre materno mediante una operación cesáre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s el mismo procedimiento que se utiliza para partos por cesárea, solo que en este caso se deja morir al niñ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1700280" y="4243320"/>
            <a:ext cx="7626240" cy="2017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04040"/>
                </a:solidFill>
                <a:latin typeface="Trebuchet MS"/>
              </a:rPr>
              <a:t>Un feto puede morir envenenado y quemado por una solución salina altamente concentrada introducida en el líquido amniótico de la madre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 Título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778440" cy="1316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04040"/>
                </a:solidFill>
                <a:latin typeface="Trebuchet MS"/>
              </a:rPr>
              <a:t>Un embrión de pocas semanas puede ser asesinado  mediante una potente aspiradora que lo destroza completamente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579680" y="4243320"/>
            <a:ext cx="7162560" cy="201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040"/>
                </a:solidFill>
                <a:latin typeface="Trebuchet MS"/>
              </a:rPr>
              <a:t>Un feto puede ser destrozado con un cuchillo mientras se encuentra en el vientre materno. La enfermera debe juntar las piezas del feto para asegurar que ha sido extraído totalment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 Título" descr=""/>
          <p:cNvPicPr/>
          <p:nvPr/>
        </p:nvPicPr>
        <p:blipFill>
          <a:blip r:embed="rId1"/>
          <a:stretch/>
        </p:blipFill>
        <p:spPr>
          <a:xfrm>
            <a:off x="1127160" y="5241960"/>
            <a:ext cx="7157880" cy="1317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Trebuchet MS"/>
              </a:rPr>
              <a:t>El aborto por parto parcial comienza cuando el  doctor toma con unas pinazas al bebé dentro del vientre matern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245120" cy="2906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Trebuchet MS"/>
              </a:rPr>
              <a:t>Cuando los pies del bebé están fuera del útero,  el abortista lo toma con sus manos y lo saca,  como si se tratara de un parto natural, pero asegurándose que salga por los p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222800" cy="3024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4:48:49Z</dcterms:created>
  <dc:creator>Villegas</dc:creator>
  <dc:description/>
  <dc:language>en-US</dc:language>
  <cp:lastModifiedBy>Villegas</cp:lastModifiedBy>
  <dcterms:modified xsi:type="dcterms:W3CDTF">2012-09-13T05:16:13Z</dcterms:modified>
  <cp:revision>4</cp:revision>
  <dc:subject/>
  <dc:title>El Aborto</dc:title>
</cp:coreProperties>
</file>