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70E-E818-4C57-B8FC-DBAC4CF1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8A2-A42A-4831-BC95-4C43DCFC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369-1516-43BB-B3E6-6E1F49FA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592-6613-40B1-A5D7-7A5BD399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0E85-0150-4A92-BD3E-E55D0822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F3A9-900B-41FB-8EAE-DF8C638D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1493-0FAA-4EDE-B29C-EBFD5544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0B7E-9811-44AA-B305-951D9945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74CD-D087-4918-89CF-9BC97770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B871-A3B8-4FDE-B026-ACC975C1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F282-C86E-4A6F-BC6E-BDA714FB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6AF-F2DA-44AE-83AD-1C71B17A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00AA-7205-4CFA-BEE9-614F55EF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0CBC-EE98-487A-81BE-71868D56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1693-92DC-4992-834F-003AAE19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045D-BD7C-4810-81D1-EB337BA2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A5E9-9D1A-4D80-936D-1B839C35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C766-2FE3-4E27-84FC-112F2CDD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B79-DB78-466A-8B27-C6BE0A3A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5BD-3737-44CB-A0D7-DA8518FB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9B2-A4A5-4A45-9977-B6C1F9A1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F73-8741-4608-AA11-B2BE70EB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9FA-BFAE-493C-8059-D37C1055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2C0-1A8E-49B0-A5EA-5A42D93C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9aac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9aac9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3E82-6142-4564-BFD2-5AB36F147230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3722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9aa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9aac9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3722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22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9526-292B-4BB6-87E9-908581BCFB22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Redação empresarial 2012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ª. Sílvia José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72221"/>
                </a:solidFill>
                <a:latin typeface="Arial"/>
              </a:rPr>
              <a:t>Recomendações gerais para redigir um e-mail: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ão enviar ou reencaminhar mensagens publicitári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ão se envolver em discussões prolongadas e pessoa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ntes de reecaminhar pedidos de ajuda, verificar a sua veracida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72221"/>
                </a:solidFill>
                <a:latin typeface="Arial"/>
              </a:rPr>
              <a:t>Regras específicas para e-mail empresarial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11280" y="162864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No corpo do texto, utilize o sistema bloco, sem parágrafos avançad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Redija mensagens bre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Não redija relatórios pelo e-mail. Use o e-mail para enviá-lo como um arquivo anex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72221"/>
                </a:solidFill>
                <a:latin typeface="Arial"/>
              </a:rPr>
              <a:t>Regras específicas para e-mail empresarial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8952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o enviar anexos, certifique-se que quem o receba possui o programa adequado para abri-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use expressões como :-) ;-) :- l vc. kd. tc. – isso só pode ser usado em bate-papo ou e-mails inform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9520" indent="-38952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utilizar imagens de fundo ou outras “decorações” no seu e-mail – além de aumentarem o tamanho da mensagem, podem impedir a visualização no programa usado pelo destinatá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9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Leia esse e-mail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 problemas ele apresen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lá, Paulo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enho por meio deste pedir desculpas em nome da equipe por alterar a data da reunião. Infelizmente o diretor-financeiro não poderá estar comparecendo nesse dia. Quero comunicar que a reunião será na próxima semana às 09hs., na sala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exo a pauta que será discut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Juvenal Prudên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ssistente do diretor da área de comun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Problemas apresentados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Olá, Paulo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Venho por meio dest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pedir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desculpa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em nome da equipe por alterar a data da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reuniã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Infelizment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o diretor-financeiro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não poderá estar comparecend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nesse dia. Quero comunicar que a reunião será na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próxima semana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às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09hs.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, na sala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Anexo a pauta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que será discut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Juvenal Prudên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Assistente do diretor da área de comun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Correção e sugestões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938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Olá, Paulo !!! </a:t>
            </a:r>
            <a:r>
              <a:rPr b="1" lang="pt-BR" sz="2900" spc="-1" strike="noStrike">
                <a:solidFill>
                  <a:srgbClr val="008000"/>
                </a:solidFill>
                <a:latin typeface="Arial"/>
                <a:ea typeface="宋体"/>
              </a:rPr>
              <a:t>(inadequação ao iniciar o e-mail – evite o uso de pontuação que expresse emoção – Sugestão: Senhor Paulo,) </a:t>
            </a: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Venho por meio deste </a:t>
            </a:r>
            <a:r>
              <a:rPr b="1" lang="pt-BR" sz="2900" spc="-1" strike="noStrike">
                <a:solidFill>
                  <a:srgbClr val="008000"/>
                </a:solidFill>
                <a:latin typeface="Arial"/>
                <a:ea typeface="宋体"/>
              </a:rPr>
              <a:t>(desnecessário – sugestão Comunico que / Informo que) </a:t>
            </a:r>
            <a:r>
              <a:rPr b="1" lang="pt-BR" sz="2900" spc="-1" strike="noStrike">
                <a:solidFill>
                  <a:srgbClr val="000000"/>
                </a:solidFill>
                <a:latin typeface="Arial"/>
                <a:ea typeface="宋体"/>
              </a:rPr>
              <a:t> pedir </a:t>
            </a: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desculpas </a:t>
            </a:r>
            <a:r>
              <a:rPr b="1" lang="pt-BR" sz="2900" spc="-1" strike="noStrike">
                <a:solidFill>
                  <a:srgbClr val="008000"/>
                </a:solidFill>
                <a:latin typeface="Arial"/>
                <a:ea typeface="宋体"/>
              </a:rPr>
              <a:t>(qual a finalidade desse e-mail? Pedir desculpas ou marcar uma nova reunião? Estrutura da pirâmide invertida) </a:t>
            </a:r>
            <a:r>
              <a:rPr b="1" lang="pt-BR" sz="2900" spc="-1" strike="noStrike">
                <a:solidFill>
                  <a:srgbClr val="000000"/>
                </a:solidFill>
                <a:latin typeface="Arial"/>
                <a:ea typeface="宋体"/>
              </a:rPr>
              <a:t>em nome da equipe por alterar a data da </a:t>
            </a:r>
            <a:r>
              <a:rPr b="1" lang="pt-BR" sz="2900" spc="-1" strike="noStrike">
                <a:solidFill>
                  <a:srgbClr val="9933ff"/>
                </a:solidFill>
                <a:latin typeface="Arial"/>
                <a:ea typeface="宋体"/>
              </a:rPr>
              <a:t>reunião </a:t>
            </a:r>
            <a:r>
              <a:rPr b="1" lang="pt-BR" sz="2900" spc="-1" strike="noStrike">
                <a:solidFill>
                  <a:srgbClr val="008000"/>
                </a:solidFill>
                <a:latin typeface="Arial"/>
                <a:ea typeface="宋体"/>
              </a:rPr>
              <a:t>(deixe seu e-mail com mais informações. Reunião com quem?) </a:t>
            </a:r>
            <a:r>
              <a:rPr b="1" lang="pt-BR" sz="29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Infelizmente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  <a:ea typeface="宋体"/>
              </a:rPr>
              <a:t>(evite palavras que carregam sentido negativo – sugestão elimine essa palavra)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o diretor-financeiro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não poderá estar comparecend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  <a:ea typeface="宋体"/>
              </a:rPr>
              <a:t>(gerundismo – evite – sugestão Não poderá comparecer)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nesse dia. Quero comunicar que a reunião será na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próxima semana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  <a:ea typeface="宋体"/>
              </a:rPr>
              <a:t>deixe seu e-mail com mais informações – que dia exatamente será a reunião?)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 às </a:t>
            </a:r>
            <a:r>
              <a:rPr b="1" lang="pt-BR" sz="2800" spc="-1" strike="noStrike">
                <a:solidFill>
                  <a:srgbClr val="9933ff"/>
                </a:solidFill>
                <a:latin typeface="Arial"/>
                <a:ea typeface="宋体"/>
              </a:rPr>
              <a:t>9hs.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  <a:ea typeface="宋体"/>
              </a:rPr>
              <a:t>(inadequação com a escrita – não usar 0 antes da hora e abreviação de horas é h – sem s – sugestão 9h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宋体"/>
              </a:rPr>
              <a:t>, na sala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93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9933ff"/>
                </a:solidFill>
                <a:latin typeface="Arial"/>
                <a:ea typeface="宋体"/>
              </a:rPr>
              <a:t>Anexo a pauta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(inadequação de concordância – a palavra anexo concorda sempre com o que vem antes ou depois – se é pauta deveria ficar; anexa a pauta – o mesmo ocorre com anexos os relatórios –s fotografias anexas etc.)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宋体"/>
              </a:rPr>
              <a:t>que será discut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9933ff"/>
                </a:solidFill>
                <a:latin typeface="Arial"/>
                <a:ea typeface="宋体"/>
              </a:rPr>
              <a:t>Att. 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(inadequado para e-mail profissional – sugestão; atenciosamente; gra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宋体"/>
              </a:rPr>
              <a:t>Juvenal Prudênc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33ff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9933ff"/>
                </a:solidFill>
                <a:latin typeface="Arial"/>
                <a:ea typeface="宋体"/>
              </a:rPr>
              <a:t>Assistente do diretor da área de comunicação.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 (muito título para pouca informação – sugestã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Comunicação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Telefone XX XXXX X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	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宋体"/>
              </a:rPr>
              <a:t>Nome d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72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  <a:ea typeface="宋体"/>
              </a:rPr>
              <a:t>(</a:t>
            </a:r>
            <a:r>
              <a:rPr b="0" i="1" lang="pt-BR" sz="2400" spc="-1" strike="noStrike">
                <a:solidFill>
                  <a:srgbClr val="008000"/>
                </a:solidFill>
                <a:latin typeface="Arial"/>
                <a:ea typeface="宋体"/>
              </a:rPr>
              <a:t>Revista Época 2009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unicação – ato diário e con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 algn="just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z diferença entre o sucesso e o fracasso nas relações profissionais, pessoais e famili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Correspondência e documentos empresariais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ATA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O que é uma ata?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um documento que registra resumidamente as ocorrências , deliberações, resoluções e decisões de reuniões ou assembléia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72221"/>
                </a:solidFill>
                <a:latin typeface="Arial"/>
              </a:rPr>
              <a:t>Onde circula esse gênero textual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domín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lub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presa (reunião/ CIPA/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O que deve ter em uma ATA?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6611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 Título da Reunião: 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 Cidade, dd de mm de aaaa das hh:mm as hh:mm: 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 Local: 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 Introdução: Descrição do título do evento, local, data, hora, participantes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 Participantes: Nome completo/Instituição 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 Agenda: Agenda/pauta da reunião: temas tratados e respectivos responsáveis 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rpo do texto: temas discutidos, conclusões e encaminhamentos </a:t>
            </a:r>
            <a:br>
              <a:rPr sz="2200"/>
            </a:b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Fecho: “Nada mais havendo a tratar, o Sr. Presidente declarou encerrada a sessão...”; (fecho mais utilizado, o que não quer dizer que não possam ocorrer alterações, sem exageros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ssinatu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Observação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podem ocorrer rasuras. As correções podem ser feitas em duas situações: o erro identificado no momento, usa-se “digo”, antes da forma correta; o erro identificado depois da ata lavrada, usa-se “em tempo”, antes da  forma corr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evitar qualquer modificação posterior a ata deve ser redigida de tal maneira que isso não seja possível: </a:t>
            </a:r>
            <a:br>
              <a:rPr sz="2000"/>
            </a:br>
            <a:endParaRPr b="0" lang="en-US" sz="2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sem parágrafos ou alíneas, ocupando todo o espaço da págin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sem abreviatura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números escritos por extenso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sem rasuras nem emenda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sem uso de corre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com verbo no tempo pretérito perfeito do indicativo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- com verbo de elocução para registrar as diferentes opiniõ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 relator cometer um erro, deve empregar a partícula retificativa “digo”, como neste exemplo: “Aos dezesseis dias do mês de julho, digo, de junho, de dois mil e cinco…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659640" y="5734080"/>
            <a:ext cx="219528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2221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rcRect l="12793" t="25522" r="51128" b="12146"/>
          <a:stretch/>
        </p:blipFill>
        <p:spPr>
          <a:xfrm>
            <a:off x="179280" y="0"/>
            <a:ext cx="603432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MEMORANDO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Memorando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itui um tipo de comunicação eminentemente interna estabelecida entre as unidades administrativas de um mesmo órgão, de níveis hierárquicos iguais ou distin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ter caráter meramente administrativo, ou ser empregado para a exposição de projetos, idéias, diretrizes, etc. a serem adotados por determinado setor do serviço públ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72221"/>
                </a:solidFill>
                <a:latin typeface="Arial"/>
              </a:rPr>
              <a:t>Vimos que para escrever bem é necessário: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hecer a estrutura da comun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rnar o pensamento co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rsua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ter uma resp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Estrutura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Timbre da institui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Número do memora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Remet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Destinatário, sendo este mencionado pelo cargo que ocup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Indicação do assu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  Local e d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Corpo da mensagem, ou seja, o próprio tex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Desped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Assinatura e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93080" y="2349360"/>
            <a:ext cx="166680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72221"/>
                </a:solidFill>
                <a:latin typeface="Arial"/>
              </a:rPr>
              <a:t>Modelo</a:t>
            </a:r>
            <a:endParaRPr b="0" lang="en-US" sz="2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Exemplo de memorando com todos os elementos necessários"/>
          <p:cNvPicPr/>
          <p:nvPr/>
        </p:nvPicPr>
        <p:blipFill>
          <a:blip r:embed="rId1"/>
          <a:stretch/>
        </p:blipFill>
        <p:spPr>
          <a:xfrm>
            <a:off x="468360" y="289080"/>
            <a:ext cx="64800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Carta comercial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Carta comercial ou empresarial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tilizada p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presas atuantes no comérc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tor bancá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indúst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tor de serviços, entre outros seg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ao conteú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radecimento por um serviço prest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licitação de um determinado orç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brança na melhoria dos serviços prest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brança financeira, entre ou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Características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0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rez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texto, além de ser claro, deve ser objetivo, como forma de evitar múltiplas interpretações, o que prejudica os comunicados e negócios.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ét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fim de causar boa impressão, o texto deve estar bem organizado e dentro da estruturação cabível. Não pode haver rasuras ou “sujeiras” impregnadas ao papel.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gu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eja conciso e objetivo: passe as informações necessárias, sem ficar usufruindo de recursos estilísticos. Seja impessoal, ou seja, não faça uso da subjetividade e de sentimentalismo. E por fim, escreva com simplicidade, mas observando a norma culta da língu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Estrutura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Timbre ou cabeçalho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Local e data; 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Índice e número (sendo esta parte opcional)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Identificação do destinatário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Epígrafe ou ementa (a qual revela o assunto referente à carta), também se consolidando como parte opcional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Vocativo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Texto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 Despedida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* Assin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27280" y="515736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72221"/>
                </a:solidFill>
                <a:latin typeface="Arial"/>
              </a:rPr>
              <a:t>Modelo de carta comercial</a:t>
            </a:r>
            <a:endParaRPr b="0" lang="en-US" sz="24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164" name="Picture 3" descr="carta veja"/>
          <p:cNvPicPr/>
          <p:nvPr/>
        </p:nvPicPr>
        <p:blipFill>
          <a:blip r:embed="rId1"/>
          <a:stretch/>
        </p:blipFill>
        <p:spPr>
          <a:xfrm>
            <a:off x="539640" y="260280"/>
            <a:ext cx="4824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Ofício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 algn="just"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ofício é tipo de correspondência externa muito usado, especialmente quando o destinatário é órgão público. Ele serve para "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inform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ncaminh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cumentos importantes,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solicit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rovidências ou informações,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propor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vênios, ajustes, acordos, etc.,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convid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lguém com distinção para a participação em certos eventos, enfim, tratar o destinatário com especial fineza e consideração" (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MPOS MELLO, 1978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12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Estrutura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 Timbre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e houv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À esquerd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Número do ofício.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a mesma linha, na posição centro-direit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Local e data 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  Assunto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4.   Vocativo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Prezados Senhores, Excelentíssimo Senhor Ministro,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 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5.   Corpo do texto 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6.   Fecho 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7. Assinatura acima do nome, abaixo do qual aparece o cargo ou função 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8.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ais abaixo, à esquerd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Endereçamento: nome e cargo ou apenas o cargo do destinatário, endereço postal completo </a:t>
            </a:r>
            <a:br>
              <a:rPr sz="2200"/>
            </a:b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9. Iniciais de quem redigiu e as de quem datilografou/digitou, separadas por barra (/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Comunicação empresarial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9840" indent="-429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rrespondência empresarial é dividida 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219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na (aquela dirigida a todos os níveis, autoridades e setores da empresa)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219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terna (trocada entre a empresa e outra entidade ou pessoa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840" indent="-429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 ser elaborada de modo que otimize os trâmites da comunic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219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correto das normas gramatica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200" indent="-4219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equação da linguagem ao rece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0000" y="5516280"/>
            <a:ext cx="209844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72221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rcRect l="17034" t="17052" r="32060" b="15871"/>
          <a:stretch/>
        </p:blipFill>
        <p:spPr>
          <a:xfrm>
            <a:off x="0" y="0"/>
            <a:ext cx="73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Pronomes de tratamento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72221"/>
                </a:solidFill>
                <a:latin typeface="Arial"/>
              </a:rPr>
              <a:t>Pronome de tratamento para religiosos de acordo com a hierarquia</a:t>
            </a:r>
            <a:endParaRPr b="0" lang="en-US" sz="28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ossa ou Sua Sant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o Papa e o vocativo correspondente é Santíssimo Pad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ossa ou Sua Eminência ou Vossa ou Sua Eminência  Reverendíssi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empregado em comunicações aos Cardeais. Corresponde-lhe o vocativo Eminentíssimo Senhor Cardeal ou Eminentíssimo e Reverendíssimo Senhor Card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ossa ou Sua Excelência Reverendíssi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usado em comunicações dirigidas a Arcebispos e Bispos e o vocativo correspondente é Excelentíssimo e Reverendíssimo; Vossa ou Sua Reverendíssima ou Vossa ou Sua Senhoria Reverendíssima para Monsenhores, Cônegos e superiores religiosos e o vocativo é Reverendíssim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)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ossa ou Sua Reverên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empregado para sacerdotes, clérigos e demais religiosos e o vocativo é Revere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Vossa/Sua Excelência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.Ex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as autoridades, desde o Presidente da Câmara Municipal até o Presidente da República –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ra este nada deve ser abrevi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Exemplos de uso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rcRect l="14912" t="15315" r="17089" b="62254"/>
          <a:stretch/>
        </p:blipFill>
        <p:spPr>
          <a:xfrm>
            <a:off x="324000" y="1341360"/>
            <a:ext cx="8137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rcRect l="14912" t="20458" r="17089" b="51742"/>
          <a:stretch/>
        </p:blipFill>
        <p:spPr>
          <a:xfrm>
            <a:off x="324000" y="549360"/>
            <a:ext cx="8280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72221"/>
                </a:solidFill>
                <a:latin typeface="Arial"/>
              </a:rPr>
              <a:t>Vossa/Sua Senhoria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.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servidores em geral e particula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Reitor de Universidade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ossa Magnific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Exemplo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rcRect l="14912" t="34700" r="17089" b="25118"/>
          <a:stretch/>
        </p:blipFill>
        <p:spPr>
          <a:xfrm>
            <a:off x="395280" y="1401840"/>
            <a:ext cx="8280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72221"/>
                </a:solidFill>
                <a:latin typeface="Arial"/>
              </a:rPr>
              <a:t>Documentos e correspondências</a:t>
            </a: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1052640"/>
          <a:ext cx="8229600" cy="5814720"/>
        </p:xfrm>
        <a:graphic>
          <a:graphicData uri="http://schemas.openxmlformats.org/drawingml/2006/table">
            <a:tbl>
              <a:tblPr/>
              <a:tblGrid>
                <a:gridCol w="1655640"/>
                <a:gridCol w="4330800"/>
                <a:gridCol w="2243160"/>
              </a:tblGrid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da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i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tamento de assuntos oficiais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os Órgãos Públicos da Administração Públ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o e Ex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minhamento de atos, propostas, pedidos, divulgar informações et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o com objetivo de se fazer uma comunicação comercial, empresarial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a ou várias pesso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o em que se relatam os assuntos de uma reunião, assembléia ou conven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o e in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ão de mensagens rápi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o e in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óri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ição circunstanciada sobre atividades em função do cargo que exerc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ior hierárqu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rcRect l="2192" t="14227" r="40538" b="60285"/>
          <a:stretch/>
        </p:blipFill>
        <p:spPr>
          <a:xfrm>
            <a:off x="755640" y="1341360"/>
            <a:ext cx="7848720" cy="3824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rcRect l="2192" t="59429" r="40538" b="35005"/>
          <a:stretch/>
        </p:blipFill>
        <p:spPr>
          <a:xfrm>
            <a:off x="755640" y="5157720"/>
            <a:ext cx="78487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Uso de Vossa ou de Sua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oss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xcelência se dá quando se fala diretamente com a pessoa (com quem se fal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u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xcelência se dá quando se fala da pessoa (de quem se fal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o usar o pronome de tratamento como vocativo (para chamar, avisar, interpelar), dispensa-se o pronome possessivo (Vossa, Sua). Ex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idado, Excelênc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rdão, Altez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enção, Majestad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observações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se usa mais Digníssimo (D.D) nem Ilustríssimo (Ilm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vite-se o uso de Doutor (Dr.), por ser título acadêmico e não pronome de tra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2221"/>
                </a:solidFill>
                <a:latin typeface="Verdana"/>
              </a:rPr>
              <a:t>QUALIDADES EXIGIDAS PELA CORRESPONDÊNCIA OFICIAL E EMPRESARIAL</a:t>
            </a:r>
            <a:br>
              <a:rPr sz="2000"/>
            </a:br>
            <a:endParaRPr b="0" lang="en-US" sz="2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vocabulário simples e form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lareza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jetividade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frases curtas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gramática corre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E-mail: correspondência empresarial  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72221"/>
                </a:solidFill>
                <a:latin typeface="Arial"/>
              </a:rPr>
              <a:t>Lembre-se:</a:t>
            </a:r>
            <a:endParaRPr b="0" lang="en-US" sz="40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 algn="just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preciso ter em mente que e-mails são documentos juridicamente válidos e podem sempre depor contra ou a favor de alguma pessoa. Por isso, pense bem antes de escrever bobagens. Use o e-mail com consciê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 algn="just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ocê é a imagem d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72221"/>
                </a:solidFill>
                <a:latin typeface="Arial"/>
              </a:rPr>
              <a:t>Recomendações gerais para redigir um e-mail:</a:t>
            </a:r>
            <a:endParaRPr b="0" lang="en-US" sz="3600" spc="-1" strike="noStrike">
              <a:solidFill>
                <a:srgbClr val="3722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ratar os outros como gostaria de ser trat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vitar as MAIÚSCULAS, pois os usuários entendem isto como “gritar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10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Não utilizar linguagem inadequada ou ofensi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4212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00:54:44Z</dcterms:created>
  <dc:creator>Silva</dc:creator>
  <dc:description/>
  <dc:language>en-US</dc:language>
  <cp:lastModifiedBy>User</cp:lastModifiedBy>
  <dcterms:modified xsi:type="dcterms:W3CDTF">2012-11-26T20:01:36Z</dcterms:modified>
  <cp:revision>15</cp:revision>
  <dc:subject/>
  <dc:title>Slide 1</dc:title>
</cp:coreProperties>
</file>