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FF9-0E82-452A-B8F0-5FFF5016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945-AB0B-4BD2-AB36-655593A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457-DFCC-4A24-9715-9E0C59E1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357-F7EB-4138-B361-95A605A4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F91A-6932-4569-976B-E596ED4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CF7-3D13-4F73-9980-422AA7C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4C59-C6E8-4C30-9B4F-2DE4E58F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4979-D9FF-4843-BF06-E3CB6AB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8B18-AC74-48C5-8241-B3A18A0E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9314-641C-481A-B2CB-2DC03971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12AF-5D48-448A-B1D7-3342371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00C-9386-406C-8A49-F22018F2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205-1173-44C9-AFD5-88CCE6B3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7451-B012-4C39-ACBB-74D93457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68CF-296C-42C0-B293-487B548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C9BC-6508-436C-AED8-374C1A65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3111-01E6-4522-A3C4-00296EA8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9D9-76CE-4249-93C0-0451ED29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1BF-3D6D-4ABE-81FD-02D6DE8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EED-57FF-47E8-B7CC-73D4C10F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317-DEA9-4C48-BDBC-4B794998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4E3-CE32-4332-B43D-1FA2A6C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212-9C66-4A4D-A02F-4C7DD0EA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5F5-753A-4A9E-B218-9BB171A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9aac9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8FDF-6492-4A11-B516-766CA7D18905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9aac9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8884-CF20-4059-86F3-1E694F68056A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Redação empresarial 2012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ª. Sílvia José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comendações gerais para redigir um e-mail: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ão enviar ou reencaminhar mensagens publicitári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ão se envolver em discussões prolongadas e pesso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ntes de reecaminhar pedidos de ajuda, verificar a sua veraci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gras específicas para e-mail empresarial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162864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No corpo do texto, utilize o sistema bloco, sem parágrafos avanç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Redija mensagens bre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Não redija relatórios pelo e-mail. Use o e-mail para enviá-lo como um arquivo anex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gras específicas para e-mail empresarial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enviar anexos, certifique-se que quem o receba possui o programa adequado para abri-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use expressões como :-) ;-) :- l vc. kd. tc. – isso só pode ser usado em bate-papo ou e-mails inform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utilizar imagens de fundo ou outras “decorações” no seu e-mail – além de aumentarem o tamanho da mensagem, podem impedir a visualização no programa usado pelo destinatá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Leia esse e-mail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problemas ele aprese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lá, Paulo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enho por meio deste pedir desculpas em nome da equipe por alterar a data da reunião. Infelizmente o diretor-financeiro não poderá estar comparecendo nesse dia. Quero comunicar que a reunião será na próxima semana às 09hs., na sala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exo a pauta que será discut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uvenal Prudên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sistente do diretor da área de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Problemas apresentados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Olá, Paulo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Venho por meio des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pedir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desculpa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em nome da equipe por alterar a data da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reuni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Infelizmen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o diretor-financeiro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não poderá estar comparecen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nesse dia. Quero comunicar que a reunião será na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próxima seman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às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09hs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, na sala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Anexo a paut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que será discut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Juvenal Prudên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Assistente do diretor da área de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orreção e sugestões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Olá, Paulo !!!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inadequação ao iniciar o e-mail – evite o uso de pontuação que expresse emoção – Sugestão: Senhor Paulo,) 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Venho por meio deste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desnecessário – sugestão Comunico que / Informo que)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宋体"/>
              </a:rPr>
              <a:t> pedir 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desculpas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qual a finalidade desse e-mail? Pedir desculpas ou marcar uma nova reunião? Estrutura da pirâmide invertida)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宋体"/>
              </a:rPr>
              <a:t>em nome da equipe por alterar a data da 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reunião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deixe seu e-mail com mais informações. Reunião com quem?)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Infelizmente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(evite palavras que carregam sentido negativo – sugestão elimine essa palavra)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o diretor-financeiro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não poderá estar comparecen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(gerundismo – evite – sugestão Não poderá comparecer)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nesse dia. Quero comunicar que a reunião será na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próxima semana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deixe seu e-mail com mais informações – que dia exatamente será a reunião?)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às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9hs.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(inadequação com a escrita – não usar 0 antes da hora e abreviação de horas é h – sem s – sugestão 9h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, na sala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Anexo a paut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(inadequação de concordância – a palavra anexo concorda sempre com o que vem antes ou depois – se é pauta deveria ficar; anexa a pauta – o mesmo ocorre com anexos os relatórios –s fotografias anexas etc.)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que será discut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Att.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(inadequado para e-mail profissional – sugestão; atenciosamente; gra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Juvenal Prudênc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Assistente do diretor da área de comunicação.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 (muito título para pouca informação – sugest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Comunicação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Telefone XX XXXX X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Nome d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  <a:ea typeface="宋体"/>
              </a:rPr>
              <a:t>(</a:t>
            </a:r>
            <a:r>
              <a:rPr b="0" i="1" lang="pt-BR" sz="2400" spc="-1" strike="noStrike">
                <a:solidFill>
                  <a:srgbClr val="008000"/>
                </a:solidFill>
                <a:latin typeface="Arial"/>
                <a:ea typeface="宋体"/>
              </a:rPr>
              <a:t>Revista Época 2009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unicação – ato diário e con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 algn="just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 diferença entre o sucesso e o fracasso nas relações profissionais, pessoais e famili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orrespondência e documentos empresariais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ATA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 que é uma ata?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documento que registra resumidamente as ocorrências , deliberações, resoluções e decisões de reuniões ou assembléia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Onde circula esse gênero textual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domín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u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presa (reunião/ CIPA/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 que deve ter em uma ATA?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661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Título da Reunião: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Cidade, dd de mm de aaaa das hh:mm as hh:mm: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Local: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Introdução: Descrição do título do evento, local, data, hora, participantes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Participantes: Nome completo/Instituição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Agenda: Agenda/pauta da reunião: temas tratados e respectivos responsáveis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rpo do texto: temas discutidos, conclusões e encaminhamentos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Fecho: “Nada mais havendo a tratar, o Sr. Presidente declarou encerrada a sessão...”; (fecho mais utilizado, o que não quer dizer que não possam ocorrer alterações, sem exagero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ssinatu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bservação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podem ocorrer rasuras. As correções podem ser feitas em duas situações: o erro identificado no momento, usa-se “digo”, antes da forma correta; o erro identificado depois da ata lavrada, usa-se “em tempo”, antes da  forma corr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vitar qualquer modificação posterior a ata deve ser redigida de tal maneira que isso não seja possível: </a:t>
            </a:r>
            <a:br>
              <a:rPr sz="2000"/>
            </a:b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parágrafos ou alíneas, ocupando todo o espaço da págin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abreviatura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números escritos por extens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rasuras nem emenda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uso de corre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com verbo no tempo pretérito perfeito do indicativ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com verbo de elocução para registrar as diferentes opiniõ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 relator cometer um erro, deve empregar a partícula retificativa “digo”, como neste exemplo: “Aos dezesseis dias do mês de julho, digo, de junho, de dois mil e cinco…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59640" y="5734080"/>
            <a:ext cx="21952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2221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12793" t="25522" r="51128" b="12146"/>
          <a:stretch/>
        </p:blipFill>
        <p:spPr>
          <a:xfrm>
            <a:off x="179280" y="0"/>
            <a:ext cx="603432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MEMORANDO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Memorand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itui um tipo de comunicação eminentemente interna estabelecida entre as unidades administrativas de um mesmo órgão, de níveis hierárquicos iguais ou disti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ter caráter meramente administrativo, ou ser empregado para a exposição de projetos, idéias, diretrizes, etc. a serem adotados por determinado setor do serviço públ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Vimos que para escrever bem é necessário: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hecer a estrutura da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rnar o pensamento co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ter uma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strutur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Timbre da institui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Número do memora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Remet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Destinatário, sendo este mencionado pelo cargo que ocup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Indicação do assu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  Local e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orpo da mensagem, ou seja, o próprio tex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Desped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ssinatura 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93080" y="2349360"/>
            <a:ext cx="16668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72221"/>
                </a:solidFill>
                <a:latin typeface="Arial"/>
              </a:rPr>
              <a:t>Modelo</a:t>
            </a: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xemplo de memorando com todos os elementos necessários"/>
          <p:cNvPicPr/>
          <p:nvPr/>
        </p:nvPicPr>
        <p:blipFill>
          <a:blip r:embed="rId1"/>
          <a:stretch/>
        </p:blipFill>
        <p:spPr>
          <a:xfrm>
            <a:off x="468360" y="289080"/>
            <a:ext cx="6480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arta comercial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arta comercial ou empresarial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tilizada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atuantes no comérc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or bancá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indúst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or de serviços, entre outros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ao conteú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radecimento por um serviço prest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icitação de um determinado orç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rança na melhoria dos serviços prest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rança financeira, entre ou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aracterísticas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rez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texto, além de ser claro, deve ser objetivo, como forma de evitar múltiplas interpretações, o que prejudica os comunicados e negócios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é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fim de causar boa impressão, o texto deve estar bem organizado e dentro da estruturação cabível. Não pode haver rasuras ou “sujeiras” impregnadas ao papel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ja conciso e objetivo: passe as informações necessárias, sem ficar usufruindo de recursos estilísticos. Seja impessoal, ou seja, não faça uso da subjetividade e de sentimentalismo. E por fim, escreva com simplicidade, mas observando a norma culta da líng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strutur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Timbre ou cabeçalh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Local e data; 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Índice e número (sendo esta parte opcional)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Identificação do destinatári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Epígrafe ou ementa (a qual revela o assunto referente à carta), também se consolidando como parte opcional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Vocativ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Text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Despedida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 Assin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27280" y="515736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72221"/>
                </a:solidFill>
                <a:latin typeface="Arial"/>
              </a:rPr>
              <a:t>Modelo de carta comercial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64" name="Picture 3" descr="carta veja"/>
          <p:cNvPicPr/>
          <p:nvPr/>
        </p:nvPicPr>
        <p:blipFill>
          <a:blip r:embed="rId1"/>
          <a:stretch/>
        </p:blipFill>
        <p:spPr>
          <a:xfrm>
            <a:off x="539640" y="260280"/>
            <a:ext cx="4824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fício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 algn="just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ofício é tipo de correspondência externa muito usado, especialmente quando o destinatário é órgão público. Ele serve para "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form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ncaminh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cumentos importantes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solicit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vidências ou informações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propo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vênios, ajustes, acordos, etc.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convid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lguém com distinção para a participação em certos eventos, enfim, tratar o destinatário com especial fineza e consideração" (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MPOS MELLO, 1978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12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strutur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 Timbre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e houv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À esquer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Número do ofício.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a mesma linha, na posição centro-direi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Local e data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  Assunt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   Vocativo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ezados Senhores, Excelentíssimo Senhor Ministro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5.   Corpo do text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6.   Fech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7. Assinatura acima do nome, abaixo do qual aparece o cargo ou funçã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is abaixo, à esquer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Endereçamento: nome e cargo ou apenas o cargo do destinatário, endereço postal complet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9. Iniciais de quem redigiu e as de quem datilografou/digitou, separadas por barra (/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omunicação empresarial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rrespondência empresarial é dividida 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a (aquela dirigida a todos os níveis, autoridades e setores da empresa)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terna (trocada entre a empresa e outra entidade ou pessoa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 ser elaborada de modo que otimize os trâmites da comunic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correto das normas gramatica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ção da linguagem a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0000" y="5516280"/>
            <a:ext cx="209844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72221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rcRect l="17034" t="17052" r="32060" b="15871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Pronomes de tratament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2221"/>
                </a:solidFill>
                <a:latin typeface="Arial"/>
              </a:rPr>
              <a:t>Pronome de tratamento para religiosos de acordo com a hierarquia</a:t>
            </a: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Sant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 Papa e o vocativo correspondente é Santíssimo Pad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Eminência ou Vossa ou Sua Eminência  Reverendíssi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empregado em comunicações aos Cardeais. Corresponde-lhe o vocativo Eminentíssimo Senhor Cardeal ou Eminentíssimo e Reverendíssimo Senhor Card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Excelência Reverendíssi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sado em comunicações dirigidas a Arcebispos e Bispos e o vocativo correspondente é Excelentíssimo e Reverendíssimo; Vossa ou Sua Reverendíssima ou Vossa ou Sua Senhoria Reverendíssima para Monsenhores, Cônegos e superiores religiosos e o vocativo é Reverendíssi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Rever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empregado para sacerdotes, clérigos e demais religiosos e o vocativo é Revere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Vossa/Sua Excelência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.Ex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s autoridades, desde o Presidente da Câmara Municipal até o Presidente da República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ra este nada deve ser abrevi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xemplos de us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rcRect l="14912" t="15315" r="17089" b="62254"/>
          <a:stretch/>
        </p:blipFill>
        <p:spPr>
          <a:xfrm>
            <a:off x="324000" y="1341360"/>
            <a:ext cx="8137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rcRect l="14912" t="20458" r="17089" b="51742"/>
          <a:stretch/>
        </p:blipFill>
        <p:spPr>
          <a:xfrm>
            <a:off x="324000" y="549360"/>
            <a:ext cx="8280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72221"/>
                </a:solidFill>
                <a:latin typeface="Arial"/>
              </a:rPr>
              <a:t>Vossa/Sua Senhoria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.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servidores em geral e particula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Reitor de Universidade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ssa Magnific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xempl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14912" t="34700" r="17089" b="25118"/>
          <a:stretch/>
        </p:blipFill>
        <p:spPr>
          <a:xfrm>
            <a:off x="395280" y="1401840"/>
            <a:ext cx="8280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72221"/>
                </a:solidFill>
                <a:latin typeface="Arial"/>
              </a:rPr>
              <a:t>Documentos e correspondências</a:t>
            </a: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052640"/>
          <a:ext cx="8229600" cy="5814720"/>
        </p:xfrm>
        <a:graphic>
          <a:graphicData uri="http://schemas.openxmlformats.org/drawingml/2006/table">
            <a:tbl>
              <a:tblPr/>
              <a:tblGrid>
                <a:gridCol w="1655640"/>
                <a:gridCol w="4330800"/>
                <a:gridCol w="224316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tamento de assuntos oficiais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os Órgãos Públicos da Administração Públ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o e Ex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mento de atos, propostas, pedidos, divulgar informações et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 com objetivo de se fazer uma comunicação comercial, empresari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ou várias pesso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 em que se relatam os assuntos de uma reunião, assembléia ou conven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o e 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ão de mensagens ráp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o e 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ção circunstanciada sobre atividades em função do cargo que exerc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ior hierárqu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2192" t="14227" r="40538" b="60285"/>
          <a:stretch/>
        </p:blipFill>
        <p:spPr>
          <a:xfrm>
            <a:off x="755640" y="1341360"/>
            <a:ext cx="7848720" cy="3824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rcRect l="2192" t="59429" r="40538" b="35005"/>
          <a:stretch/>
        </p:blipFill>
        <p:spPr>
          <a:xfrm>
            <a:off x="755640" y="5157720"/>
            <a:ext cx="7848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Uso de Vossa ou de Su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oss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xcelência se dá quando se fala diretamente com a pessoa (com quem se fal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u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xcelência se dá quando se fala da pessoa (de quem se fal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usar o pronome de tratamento como vocativo (para chamar, avisar, interpelar), dispensa-se o pronome possessivo (Vossa, Sua). 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idado, Excelênc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dão, Altez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enção, Majestad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bservações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se usa mais Digníssimo (D.D) nem Ilustríssimo (Ilm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vite-se o uso de Doutor (Dr.), por ser título acadêmico e não pronome de tra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2221"/>
                </a:solidFill>
                <a:latin typeface="Verdana"/>
              </a:rPr>
              <a:t>QUALIDADES EXIGIDAS PELA CORRESPONDÊNCIA OFICIAL E EMPRESARIAL</a:t>
            </a:r>
            <a:br>
              <a:rPr sz="2000"/>
            </a:b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vocabulário simples e form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larez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idade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rases curta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gramática corre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-mail: correspondência empresarial 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Lembre-se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preciso ter em mente que e-mails são documentos juridicamente válidos e podem sempre depor contra ou a favor de alguma pessoa. Por isso, pense bem antes de escrever bobagens. Use o e-mail com consciê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cê é a imagem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comendações gerais para redigir um e-mail: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ratar os outros como gostaria de ser tra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vitar as MAIÚSCULAS, pois os usuários entendem isto como “gritar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ão utilizar linguagem inadequada ou ofensi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4212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0:54:44Z</dcterms:created>
  <dc:creator>Silva</dc:creator>
  <dc:description/>
  <dc:language>en-US</dc:language>
  <cp:lastModifiedBy>User</cp:lastModifiedBy>
  <dcterms:modified xsi:type="dcterms:W3CDTF">2012-11-26T20:01:36Z</dcterms:modified>
  <cp:revision>15</cp:revision>
  <dc:subject/>
  <dc:title>Slide 1</dc:title>
</cp:coreProperties>
</file>