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É um medidor flexível e universal, pode ser usado em vários processos industriais, apenas tendo alguns cuidados especia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</a:rPr>
              <a:t>Medidores magnéticos são  ideais para medição de produtos químicos </a:t>
            </a:r>
            <a:r>
              <a:rPr b="0" lang="pt-BR" sz="2600" spc="-1" strike="noStrike">
                <a:solidFill>
                  <a:srgbClr val="ffffff"/>
                </a:solidFill>
                <a:latin typeface="Constantia"/>
                <a:ea typeface="Arial"/>
              </a:rPr>
              <a:t>altamente corrosivos, fluidos com sólidos em suspensão, lama, água, polpa de pap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nstantia"/>
                <a:ea typeface="Arial"/>
              </a:rPr>
              <a:t>Assim sua aplicação vai desde saneamento até indústrias químicas, papel e celulose, mineração e indústrias alimentíci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457200" y="152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200" spc="-1" strike="noStrike">
                <a:solidFill>
                  <a:srgbClr val="dbdbdb"/>
                </a:solidFill>
                <a:latin typeface="Constantia"/>
              </a:rPr>
              <a:t>Aplicaçã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