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334-FFB8-45DF-817E-ED04DD4A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5E5-6614-4C3C-98A8-EE3D989C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6DD-C127-4C64-B1BA-FC26FC07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DD3-C792-4823-9151-02ADED84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E12D-B361-4897-BDD6-D363D9F8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9127-2BCE-42A8-B26C-A7AA28CC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9E52-81BF-42A2-9690-21E5F07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5709-D85D-4978-A11F-D796BE7A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A996-78C4-4895-83AF-6A9CAA81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D5FA-96CD-4903-A1EB-30EBC515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FFCC-80E8-4206-A4C4-8AA518B7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832-685D-4F44-81C7-DE8AB6C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9B19-4AE2-435A-821B-A03CB77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1A31-4422-4330-9AED-94B5A03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91DF-189B-4AC0-A923-34C93DB4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EAB6-D49D-44CD-AE11-BAAAFBC4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02BE-A1B2-4418-92F3-5D44E08D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E16-B8ED-4D12-81D3-324F6688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4BB-2E20-4326-AD27-18833D59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82B-E0BE-4470-9650-6D5A4F10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9A9-9DA0-4A95-846C-3B47C059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CC0-98D9-46BD-B4C6-24B013A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254-A533-4E2E-9A24-6DE6D39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A17-7618-4427-8068-2130E04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167-D3E7-4DD9-A894-5D50A6A25A0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B8AC-1516-4835-B091-9B6071F9B883}" type="slidenum"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image" Target="../media/image5.wmf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Arial"/>
              </a:rPr>
              <a:t>PRĘDKOŚĆ, DROGA, CZ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Arial"/>
              </a:rPr>
              <a:t>SZKOŁA PODSTAWOWA NR 10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Arial"/>
              </a:rPr>
              <a:t>W GŁOGOW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AutoShape 4">
            <a:hlinkClick r:id="" action="ppaction://hlinkshowjump?jump=nextslide"/>
          </p:cNvPr>
          <p:cNvSpPr/>
          <p:nvPr/>
        </p:nvSpPr>
        <p:spPr>
          <a:xfrm>
            <a:off x="6934320" y="4876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9683" y="3794"/>
                </a:moveTo>
                <a:lnTo>
                  <a:pt x="23696" y="10800"/>
                </a:lnTo>
                <a:lnTo>
                  <a:pt x="968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3x50km=150km</a:t>
            </a:r>
            <a:br>
              <a:rPr sz="2800"/>
            </a:b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Samochód pokona odległość 3 razy dłuższą niż w godzinę, czyli 150km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AutoShape 5">
            <a:hlinkClick r:id="" action="ppaction://hlinkshowjump?jump=previousslide"/>
          </p:cNvPr>
          <p:cNvSpPr/>
          <p:nvPr/>
        </p:nvSpPr>
        <p:spPr>
          <a:xfrm>
            <a:off x="1219320" y="411480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83" h="21600">
                <a:moveTo>
                  <a:pt x="10735" y="10800"/>
                </a:moveTo>
                <a:lnTo>
                  <a:pt x="24748" y="3794"/>
                </a:lnTo>
                <a:lnTo>
                  <a:pt x="24748" y="178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0,5 x 50km = 25km</a:t>
            </a:r>
            <a:br>
              <a:rPr sz="2800"/>
            </a:br>
            <a:r>
              <a:rPr b="0" lang="pl-PL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Samochód pokona odległość 2 razy krótszą niż w godzinę, czyli 25km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AutoShape 5">
            <a:hlinkClick r:id="" action="ppaction://hlinkshowjump?jump=previousslide"/>
          </p:cNvPr>
          <p:cNvSpPr/>
          <p:nvPr/>
        </p:nvSpPr>
        <p:spPr>
          <a:xfrm>
            <a:off x="1219320" y="3962520"/>
            <a:ext cx="1828800" cy="1371600"/>
          </a:xfrm>
          <a:custGeom>
            <a:avLst/>
            <a:gdLst>
              <a:gd name="textAreaLeft" fmla="*/ 88920 w 1828800"/>
              <a:gd name="textAreaRight" fmla="*/ 1739880 w 18288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8" h="21600">
                <a:moveTo>
                  <a:pt x="7393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1,5 x 50km = 75km</a:t>
            </a:r>
            <a:br>
              <a:rPr sz="4400"/>
            </a:b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Samochód pokona odległość 1,5 razy dłuższą niż w godzinę, czyli 75km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AutoShape 4">
            <a:hlinkClick r:id="" action="ppaction://hlinkshowjump?jump=previousslide"/>
          </p:cNvPr>
          <p:cNvSpPr/>
          <p:nvPr/>
        </p:nvSpPr>
        <p:spPr>
          <a:xfrm>
            <a:off x="1295280" y="3962520"/>
            <a:ext cx="1752840" cy="1143000"/>
          </a:xfrm>
          <a:custGeom>
            <a:avLst/>
            <a:gdLst>
              <a:gd name="textAreaLeft" fmla="*/ 73800 w 1752840"/>
              <a:gd name="textAreaRight" fmla="*/ 1679040 w 17528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3121" h="21600">
                <a:moveTo>
                  <a:pt x="0" y="0"/>
                </a:moveTo>
                <a:lnTo>
                  <a:pt x="33121" y="0"/>
                </a:lnTo>
                <a:lnTo>
                  <a:pt x="33121" y="21600"/>
                </a:lnTo>
                <a:lnTo>
                  <a:pt x="0" y="21600"/>
                </a:lnTo>
                <a:close/>
              </a:path>
              <a:path fill="lightenLess" w="33121" h="21600">
                <a:moveTo>
                  <a:pt x="0" y="0"/>
                </a:moveTo>
                <a:lnTo>
                  <a:pt x="33121" y="0"/>
                </a:lnTo>
                <a:lnTo>
                  <a:pt x="31721" y="1400"/>
                </a:lnTo>
                <a:lnTo>
                  <a:pt x="1400" y="1400"/>
                </a:lnTo>
                <a:close/>
              </a:path>
              <a:path fill="darken" w="33121" h="21600">
                <a:moveTo>
                  <a:pt x="33121" y="0"/>
                </a:moveTo>
                <a:lnTo>
                  <a:pt x="33121" y="21600"/>
                </a:lnTo>
                <a:lnTo>
                  <a:pt x="31721" y="20200"/>
                </a:lnTo>
                <a:lnTo>
                  <a:pt x="31721" y="1400"/>
                </a:lnTo>
                <a:close/>
              </a:path>
              <a:path fill="darkenLess" w="33121" h="21600">
                <a:moveTo>
                  <a:pt x="3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21" y="20200"/>
                </a:lnTo>
                <a:close/>
              </a:path>
              <a:path fill="lighten" w="3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21" h="21600">
                <a:moveTo>
                  <a:pt x="9554" y="10800"/>
                </a:moveTo>
                <a:lnTo>
                  <a:pt x="23567" y="3794"/>
                </a:lnTo>
                <a:lnTo>
                  <a:pt x="23567" y="178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Times New Roman"/>
              </a:rPr>
              <a:t>ZADNIA DO SAMODZIELNEGO WYKONANI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imes New Roman"/>
              </a:rPr>
              <a:t>ZADANIE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imes New Roman"/>
              </a:rPr>
              <a:t>Który pojazd przebyłby dłuższą drogę: samochód ciężarowy jadący z prędkością 70km/h przez 4 godziny, czy samochód osobowy, jadący z prędkością 90km/h przez 3 godziny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imes New Roman"/>
              </a:rPr>
              <a:t>ZADANIE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imes New Roman"/>
              </a:rPr>
              <a:t>Prędkość światła wynosi około 300 000km/s. Mrugnięcie okiem trwa średnio 1/4s. Jaką drogę przebędzie w tym czasie światł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7467480" y="57913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PRĘDKOŚ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40458c"/>
                </a:solidFill>
                <a:latin typeface="Times New Roman"/>
              </a:rPr>
              <a:t>Prędkość = długość drogi / cza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800240" y="19051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5">
            <a:hlinkClick r:id="" action="ppaction://hlinkshowjump?jump=nextslide"/>
          </p:cNvPr>
          <p:cNvSpPr/>
          <p:nvPr/>
        </p:nvSpPr>
        <p:spPr>
          <a:xfrm>
            <a:off x="6172200" y="56386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40458c"/>
                </a:solidFill>
                <a:latin typeface="Times New Roman"/>
              </a:rPr>
              <a:t>Gdy wiemy, jak długą drogę przejechał pojazd, i wiemy, w jakim czasie ją pokonał, to możemy obliczyć z jaką prędkością jechał-wystarczy podzielić długość drogi przez dany czas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AutoShape 4">
            <a:hlinkClick r:id="" action="ppaction://hlinkshowjump?jump=nextslide"/>
          </p:cNvPr>
          <p:cNvSpPr/>
          <p:nvPr/>
        </p:nvSpPr>
        <p:spPr>
          <a:xfrm>
            <a:off x="6324480" y="548640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PRZYKŁAD 3 </a:t>
            </a:r>
            <a:br>
              <a:rPr sz="1600"/>
            </a:b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Jednym z najszybszych ptaków jest jerzyk igłosterny. Potrafi przelecieć odległość 700km w ciągu 5 godzin. Z jaką średnią prędkością wtedy leci?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imes New Roman"/>
              </a:rPr>
              <a:t>Prędkość = 700km/5h = 140km/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imes New Roman"/>
              </a:rPr>
              <a:t>Odp.: Średnia prędkość jerzyka to 140km/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AutoShape 4">
            <a:hlinkClick r:id="" action="ppaction://hlinkshowjump?jump=nextslide"/>
          </p:cNvPr>
          <p:cNvSpPr/>
          <p:nvPr/>
        </p:nvSpPr>
        <p:spPr>
          <a:xfrm>
            <a:off x="6553080" y="51055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0066"/>
                </a:solidFill>
                <a:latin typeface="Tahoma"/>
              </a:rPr>
              <a:t>Prędkość wyrażoną w m/s można zamieniać na prędkość wyrażoną w km/h.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Object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2971800"/>
            <a:ext cx="3810240" cy="2016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5" descr="C:\Program Files\Common Files\Microsoft Shared\Clipart\cagcat50\IN00561_.WMF"/>
          <p:cNvPicPr/>
          <p:nvPr/>
        </p:nvPicPr>
        <p:blipFill>
          <a:blip r:embed="rId2"/>
          <a:stretch/>
        </p:blipFill>
        <p:spPr>
          <a:xfrm>
            <a:off x="762120" y="16765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1066680" y="48006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Samochód ciężarowy jedzi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z prędkością 20m/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876920" y="2057400"/>
          <a:ext cx="3657600" cy="2198520"/>
        </p:xfrm>
        <a:graphic>
          <a:graphicData uri="http://schemas.openxmlformats.org/drawingml/2006/table">
            <a:tbl>
              <a:tblPr/>
              <a:tblGrid>
                <a:gridCol w="1295280"/>
                <a:gridCol w="2362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CZAS PRZEJAZD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PRZEBYTE ODLEGŁOŚCI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1mi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60x20m=1200m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1h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60 x 1200m=72000m=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=72km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295280" y="99072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44"/>
          <p:cNvSpPr/>
          <p:nvPr/>
        </p:nvSpPr>
        <p:spPr>
          <a:xfrm>
            <a:off x="4876920" y="4495680"/>
            <a:ext cx="3657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90a15"/>
                </a:solidFill>
                <a:latin typeface="Tahoma"/>
              </a:rPr>
              <a:t>Zatem prędkość samochodu ciężarowego można wyrazić w różnych jednostkach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90a15"/>
                </a:solidFill>
                <a:latin typeface="Tahoma"/>
              </a:rPr>
              <a:t>20m/s = 1200m/min = 72km/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AutoShape 45">
            <a:hlinkClick r:id="" action="ppaction://hlinkshowjump?jump=nextslide"/>
          </p:cNvPr>
          <p:cNvSpPr/>
          <p:nvPr/>
        </p:nvSpPr>
        <p:spPr>
          <a:xfrm>
            <a:off x="2209680" y="6095880"/>
            <a:ext cx="1295640" cy="60984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5876" h="21600">
                <a:moveTo>
                  <a:pt x="0" y="0"/>
                </a:moveTo>
                <a:lnTo>
                  <a:pt x="45876" y="0"/>
                </a:lnTo>
                <a:lnTo>
                  <a:pt x="45876" y="21600"/>
                </a:lnTo>
                <a:lnTo>
                  <a:pt x="0" y="21600"/>
                </a:lnTo>
                <a:close/>
              </a:path>
              <a:path fill="lightenLess" w="45876" h="21600">
                <a:moveTo>
                  <a:pt x="0" y="0"/>
                </a:moveTo>
                <a:lnTo>
                  <a:pt x="45876" y="0"/>
                </a:lnTo>
                <a:lnTo>
                  <a:pt x="44476" y="1400"/>
                </a:lnTo>
                <a:lnTo>
                  <a:pt x="1400" y="1400"/>
                </a:lnTo>
                <a:close/>
              </a:path>
              <a:path fill="darken" w="45876" h="21600">
                <a:moveTo>
                  <a:pt x="45876" y="0"/>
                </a:moveTo>
                <a:lnTo>
                  <a:pt x="45876" y="21600"/>
                </a:lnTo>
                <a:lnTo>
                  <a:pt x="44476" y="20200"/>
                </a:lnTo>
                <a:lnTo>
                  <a:pt x="44476" y="1400"/>
                </a:lnTo>
                <a:close/>
              </a:path>
              <a:path fill="darkenLess" w="45876" h="21600">
                <a:moveTo>
                  <a:pt x="45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76" y="20200"/>
                </a:lnTo>
                <a:close/>
              </a:path>
              <a:path fill="lighten" w="45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76" h="21600">
                <a:moveTo>
                  <a:pt x="15932" y="3794"/>
                </a:moveTo>
                <a:lnTo>
                  <a:pt x="29945" y="10800"/>
                </a:lnTo>
                <a:lnTo>
                  <a:pt x="15932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Oblicz prędkości poniższych obiektów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C:\Program Files\Common Files\Microsoft Shared\Clipart\cagcat50\BD00017_.WMF"/>
          <p:cNvPicPr/>
          <p:nvPr/>
        </p:nvPicPr>
        <p:blipFill>
          <a:blip r:embed="rId1"/>
          <a:stretch/>
        </p:blipFill>
        <p:spPr>
          <a:xfrm>
            <a:off x="5943600" y="1905120"/>
            <a:ext cx="1033560" cy="3124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6705720" y="3581280"/>
            <a:ext cx="220968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90a15"/>
                </a:solidFill>
                <a:latin typeface="Tahoma"/>
              </a:rPr>
              <a:t>14km w 2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Tahoma"/>
              </a:rPr>
              <a:t>Prędkość =..........km/h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Picture 7" descr="C:\Program Files\Common Files\Microsoft Shared\Clipart\cagcat50\PE01981_.wmf"/>
          <p:cNvPicPr/>
          <p:nvPr/>
        </p:nvPicPr>
        <p:blipFill>
          <a:blip r:embed="rId2"/>
          <a:stretch/>
        </p:blipFill>
        <p:spPr>
          <a:xfrm>
            <a:off x="838080" y="2362320"/>
            <a:ext cx="2210040" cy="3124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8"/>
          <p:cNvSpPr/>
          <p:nvPr/>
        </p:nvSpPr>
        <p:spPr>
          <a:xfrm>
            <a:off x="2743200" y="3886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666880" y="426708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Arial"/>
              </a:rPr>
              <a:t>9km w 15mi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Arial"/>
              </a:rPr>
              <a:t>Prędkość =..........km/h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AutoShape 10">
            <a:hlinkClick r:id="" action="ppaction://hlinkshowjump?jump=nextslide"/>
          </p:cNvPr>
          <p:cNvSpPr/>
          <p:nvPr/>
        </p:nvSpPr>
        <p:spPr>
          <a:xfrm>
            <a:off x="5943600" y="55627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Uzupełnij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10m/s=........m/min=.........m/h=.......km/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120km/h=.......m/h=..........m/min=........m/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6172200" y="52578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DROG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3" name="Picture 5" descr="C:\Program Files\Common Files\Microsoft Shared\Clipart\cagcat50\BD05679_.WMF"/>
          <p:cNvPicPr/>
          <p:nvPr/>
        </p:nvPicPr>
        <p:blipFill>
          <a:blip r:embed="rId1"/>
          <a:stretch/>
        </p:blipFill>
        <p:spPr>
          <a:xfrm>
            <a:off x="4800600" y="2119320"/>
            <a:ext cx="2895480" cy="28018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5486400" y="556272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86" h="21600">
                <a:moveTo>
                  <a:pt x="13387" y="3794"/>
                </a:moveTo>
                <a:lnTo>
                  <a:pt x="27400" y="10800"/>
                </a:lnTo>
                <a:lnTo>
                  <a:pt x="13387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90a15"/>
                </a:solidFill>
                <a:latin typeface="Tahoma"/>
              </a:rPr>
              <a:t>Przykład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90a15"/>
                </a:solidFill>
                <a:latin typeface="Tahoma"/>
              </a:rPr>
              <a:t>Dom pana Kowalskiego i supermarket znajdują się na terenie zabudowanym. Dopuszczalna prędkość na tym terenie wynosi 50km/h. Pan Kowalski odległość z domu do supermarketu wynoszącą 10km pokonał w ciągu 10minut. Czy złamał przepisy ruchu drogoweg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4572000" y="426708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DPOWIED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010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TA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AutoShape 3">
            <a:hlinkClick r:id="" action="ppaction://hlinkshowjump?jump=previousslide"/>
          </p:cNvPr>
          <p:cNvSpPr/>
          <p:nvPr/>
        </p:nvSpPr>
        <p:spPr>
          <a:xfrm>
            <a:off x="1143000" y="41148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90a15"/>
                </a:solidFill>
                <a:latin typeface="Tahoma"/>
              </a:rPr>
              <a:t>Przykład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90a15"/>
                </a:solidFill>
                <a:latin typeface="Tahoma"/>
              </a:rPr>
              <a:t>Kierowca wyruszył z Gdańska o godzinie 6:15 i dotarł do Warszawy o 10:30. Przejechał w tym czasie 360km. Wracając z Warszawy jechał o pół godziny dłużej. W którą stronę jechał z większą średnią prędkością i o ile większą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5791320" y="39625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dpowied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7010280" y="54864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3794"/>
                </a:moveTo>
                <a:lnTo>
                  <a:pt x="26204" y="10800"/>
                </a:lnTo>
                <a:lnTo>
                  <a:pt x="12191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660066"/>
                </a:solidFill>
                <a:latin typeface="Tahoma"/>
              </a:rPr>
              <a:t>Z większą średnią prędkością jechał w pierwszą stronę, o około 9km/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AutoShape 4">
            <a:hlinkClick r:id="" action="ppaction://hlinkshowjump?jump=previousslide"/>
          </p:cNvPr>
          <p:cNvSpPr/>
          <p:nvPr/>
        </p:nvSpPr>
        <p:spPr>
          <a:xfrm>
            <a:off x="1295280" y="40384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10800"/>
                </a:moveTo>
                <a:lnTo>
                  <a:pt x="23201" y="3794"/>
                </a:lnTo>
                <a:lnTo>
                  <a:pt x="23201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CZ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9" name="Picture 4" descr="MCj04326350000[1]"/>
          <p:cNvPicPr/>
          <p:nvPr/>
        </p:nvPicPr>
        <p:blipFill>
          <a:blip r:embed="rId1"/>
          <a:stretch/>
        </p:blipFill>
        <p:spPr>
          <a:xfrm>
            <a:off x="6019920" y="182880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MCj04326350000[1]"/>
          <p:cNvPicPr/>
          <p:nvPr/>
        </p:nvPicPr>
        <p:blipFill>
          <a:blip r:embed="rId2"/>
          <a:stretch/>
        </p:blipFill>
        <p:spPr>
          <a:xfrm>
            <a:off x="3809880" y="2362320"/>
            <a:ext cx="1855800" cy="1780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MCj04326350000[1]"/>
          <p:cNvPicPr/>
          <p:nvPr/>
        </p:nvPicPr>
        <p:blipFill>
          <a:blip r:embed="rId3"/>
          <a:stretch/>
        </p:blipFill>
        <p:spPr>
          <a:xfrm>
            <a:off x="1676520" y="2819520"/>
            <a:ext cx="1371600" cy="124776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7">
            <a:hlinkClick r:id="" action="ppaction://hlinkshowjump?jump=nextslide"/>
          </p:cNvPr>
          <p:cNvSpPr/>
          <p:nvPr/>
        </p:nvSpPr>
        <p:spPr>
          <a:xfrm>
            <a:off x="7238880" y="54864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Uzupełnij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3880" y="2057400"/>
          <a:ext cx="6096240" cy="3886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ędkość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roga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zas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0km/h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40km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............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m/min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0m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............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AutoShape 27">
            <a:hlinkClick r:id="" action="ppaction://hlinkshowjump?jump=nextslide"/>
          </p:cNvPr>
          <p:cNvSpPr/>
          <p:nvPr/>
        </p:nvSpPr>
        <p:spPr>
          <a:xfrm>
            <a:off x="7924680" y="57150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Przykład 6</a:t>
            </a:r>
            <a:br>
              <a:rPr sz="2000"/>
            </a:b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W jakim czasie samolot lecący z prędkością 600km/h pokonuje trasę 1800km?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90a15"/>
                </a:solidFill>
                <a:latin typeface="Tahoma"/>
              </a:rPr>
              <a:t>Rozwiązani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600km w 1 godzin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1800=3x600, wię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1800km w 3 godzin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Odp.: Trasę 1800km samolot pokonuje w 3 godz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AutoShape 4">
            <a:hlinkClick r:id="" action="ppaction://hlinkshowjump?jump=nextslide"/>
          </p:cNvPr>
          <p:cNvSpPr/>
          <p:nvPr/>
        </p:nvSpPr>
        <p:spPr>
          <a:xfrm>
            <a:off x="6172200" y="55627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Times New Roman"/>
              </a:rPr>
              <a:t>ZADNIA DO SAMODZIELNEGO WYKONANI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ZADANIE 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Rolnik jedzie z Masłowa z prędkością 12km/h, a rowerzysta do Kociełapek z prędkością 15km/h. Który z panów szybciej dojedzie do celu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Tahoma"/>
              </a:rPr>
              <a:t>Kociełapki – 24k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90a15"/>
                </a:solidFill>
                <a:latin typeface="Tahoma"/>
              </a:rPr>
              <a:t>Masłowo – 18k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ZADANIE B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90a15"/>
                </a:solidFill>
                <a:latin typeface="Tahoma"/>
              </a:rPr>
              <a:t>Krasnoludki z domu do pracy muszą przejść 800m. Najmniejszy z nich chodzi z prędkością 40m/min. Największy krasnoludek chodzi dwa razy szybciej. Oblicz, o której godzinie musi wyruszyć najmniejszy, a o której największy krasnoludek, aby zdążyć do pracy na godzinę 6:00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4572000" y="3352680"/>
            <a:ext cx="2057400" cy="38124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16477" h="21600">
                <a:moveTo>
                  <a:pt x="0" y="0"/>
                </a:moveTo>
                <a:lnTo>
                  <a:pt x="116477" y="0"/>
                </a:lnTo>
                <a:lnTo>
                  <a:pt x="116477" y="21600"/>
                </a:lnTo>
                <a:lnTo>
                  <a:pt x="0" y="21600"/>
                </a:lnTo>
                <a:close/>
              </a:path>
              <a:path fill="lightenLess" w="116477" h="21600">
                <a:moveTo>
                  <a:pt x="0" y="0"/>
                </a:moveTo>
                <a:lnTo>
                  <a:pt x="116477" y="0"/>
                </a:lnTo>
                <a:lnTo>
                  <a:pt x="115077" y="1400"/>
                </a:lnTo>
                <a:lnTo>
                  <a:pt x="1400" y="1400"/>
                </a:lnTo>
                <a:close/>
              </a:path>
              <a:path fill="darken" w="116477" h="21600">
                <a:moveTo>
                  <a:pt x="116477" y="0"/>
                </a:moveTo>
                <a:lnTo>
                  <a:pt x="116477" y="21600"/>
                </a:lnTo>
                <a:lnTo>
                  <a:pt x="115077" y="20200"/>
                </a:lnTo>
                <a:lnTo>
                  <a:pt x="115077" y="1400"/>
                </a:lnTo>
                <a:close/>
              </a:path>
              <a:path fill="darkenLess" w="116477" h="21600">
                <a:moveTo>
                  <a:pt x="116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077" y="20200"/>
                </a:lnTo>
                <a:close/>
              </a:path>
              <a:path fill="lighten" w="116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dpowied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4572000" y="579132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dpowied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7620120" y="57913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660066"/>
                </a:solidFill>
                <a:latin typeface="Tahoma"/>
              </a:rPr>
              <a:t>Rolnik szybciej dojedzie do celu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1219320" y="39625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10800"/>
                </a:moveTo>
                <a:lnTo>
                  <a:pt x="24679" y="3794"/>
                </a:lnTo>
                <a:lnTo>
                  <a:pt x="2467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Najmniejszy – o godzinie 5:40, </a:t>
            </a:r>
            <a:br>
              <a:rPr sz="3200"/>
            </a:b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a największy  - o godzinie 5:50.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1219320" y="43434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AutoShape 5">
            <a:hlinkClick r:id="" action="ppaction://hlinkshowjump?jump=nextslide"/>
          </p:cNvPr>
          <p:cNvSpPr/>
          <p:nvPr/>
        </p:nvSpPr>
        <p:spPr>
          <a:xfrm>
            <a:off x="6477120" y="4495680"/>
            <a:ext cx="1447560" cy="99072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57" h="21600">
                <a:moveTo>
                  <a:pt x="0" y="0"/>
                </a:moveTo>
                <a:lnTo>
                  <a:pt x="31557" y="0"/>
                </a:lnTo>
                <a:lnTo>
                  <a:pt x="31557" y="21600"/>
                </a:lnTo>
                <a:lnTo>
                  <a:pt x="0" y="21600"/>
                </a:lnTo>
                <a:close/>
              </a:path>
              <a:path fill="lightenLess" w="31557" h="21600">
                <a:moveTo>
                  <a:pt x="0" y="0"/>
                </a:moveTo>
                <a:lnTo>
                  <a:pt x="31557" y="0"/>
                </a:lnTo>
                <a:lnTo>
                  <a:pt x="30157" y="1400"/>
                </a:lnTo>
                <a:lnTo>
                  <a:pt x="1400" y="1400"/>
                </a:lnTo>
                <a:close/>
              </a:path>
              <a:path fill="darken" w="31557" h="21600">
                <a:moveTo>
                  <a:pt x="31557" y="0"/>
                </a:moveTo>
                <a:lnTo>
                  <a:pt x="31557" y="21600"/>
                </a:lnTo>
                <a:lnTo>
                  <a:pt x="30157" y="20200"/>
                </a:lnTo>
                <a:lnTo>
                  <a:pt x="30157" y="1400"/>
                </a:lnTo>
                <a:close/>
              </a:path>
              <a:path fill="darkenLess" w="31557" h="21600">
                <a:moveTo>
                  <a:pt x="31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7" y="20200"/>
                </a:lnTo>
                <a:close/>
              </a:path>
              <a:path fill="lighten" w="31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7" h="21600">
                <a:moveTo>
                  <a:pt x="19277" y="10800"/>
                </a:moveTo>
                <a:lnTo>
                  <a:pt x="8772" y="17806"/>
                </a:lnTo>
                <a:lnTo>
                  <a:pt x="8772" y="3794"/>
                </a:lnTo>
                <a:close/>
              </a:path>
              <a:path fill="darken" w="31557" h="21600">
                <a:moveTo>
                  <a:pt x="21122" y="3794"/>
                </a:moveTo>
                <a:lnTo>
                  <a:pt x="21122" y="17806"/>
                </a:lnTo>
                <a:lnTo>
                  <a:pt x="22785" y="17806"/>
                </a:lnTo>
                <a:lnTo>
                  <a:pt x="22785" y="3794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Zapis km/h czytamy: „kilometrów na godzinę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h to międzynarodowy skrót godzin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AutoShape 4">
            <a:hlinkClick r:id="" action="ppaction://hlinkshowjump?jump=nextslide"/>
          </p:cNvPr>
          <p:cNvSpPr/>
          <p:nvPr/>
        </p:nvSpPr>
        <p:spPr>
          <a:xfrm>
            <a:off x="6705720" y="56386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9676" y="3794"/>
                </a:moveTo>
                <a:lnTo>
                  <a:pt x="23689" y="10800"/>
                </a:lnTo>
                <a:lnTo>
                  <a:pt x="9676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Koniec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0066"/>
                </a:solidFill>
                <a:latin typeface="Times New Roman"/>
              </a:rPr>
              <a:t>Prędkość obiektu</a:t>
            </a:r>
            <a:r>
              <a:rPr b="0" lang="pl-PL" sz="2400" spc="-1" strike="noStrike">
                <a:solidFill>
                  <a:srgbClr val="660066"/>
                </a:solidFill>
                <a:latin typeface="Times New Roman"/>
              </a:rPr>
              <a:t> (samochodu, roweru, pieszego lub biegnącego zwierzęcia) </a:t>
            </a:r>
            <a:r>
              <a:rPr b="1" lang="pl-PL" sz="2400" spc="-1" strike="noStrike">
                <a:solidFill>
                  <a:srgbClr val="660066"/>
                </a:solidFill>
                <a:latin typeface="Times New Roman"/>
              </a:rPr>
              <a:t>wyraża, jaką odległość pokonuje ten obiekt w pewnej jednostce czasu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Gdy samochód jedzie ze stałą prędkością 60km/h, to znaczy, że pokonuje odległość 60km w ciągu 1 godziny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Pieszy idący z prędkością 50m/min pokonuje odległość 50m w ciągu 1 minuty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Jeśli pies biegnie z prędkością 8m/s, to w ciągu 1 sekundy pokonuje odległość 8m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AutoShape 4">
            <a:hlinkClick r:id="" action="ppaction://hlinkshowjump?jump=nextslide"/>
          </p:cNvPr>
          <p:cNvSpPr/>
          <p:nvPr/>
        </p:nvSpPr>
        <p:spPr>
          <a:xfrm>
            <a:off x="7010280" y="5791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0066"/>
                </a:solidFill>
                <a:latin typeface="Times New Roman"/>
              </a:rPr>
              <a:t>Prędkości mogą być podawane w różnych jednostkach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km/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m/m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m/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km/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458c"/>
                </a:solidFill>
                <a:latin typeface="Times New Roman"/>
              </a:rPr>
              <a:t>cm/m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AutoShape 4">
            <a:hlinkClick r:id="" action="ppaction://hlinkshowjump?jump=nextslide"/>
          </p:cNvPr>
          <p:cNvSpPr/>
          <p:nvPr/>
        </p:nvSpPr>
        <p:spPr>
          <a:xfrm>
            <a:off x="6705720" y="5791320"/>
            <a:ext cx="1218960" cy="76176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58" h="21600">
                <a:moveTo>
                  <a:pt x="0" y="0"/>
                </a:moveTo>
                <a:lnTo>
                  <a:pt x="34558" y="0"/>
                </a:lnTo>
                <a:lnTo>
                  <a:pt x="34558" y="21600"/>
                </a:lnTo>
                <a:lnTo>
                  <a:pt x="0" y="21600"/>
                </a:lnTo>
                <a:close/>
              </a:path>
              <a:path fill="lightenLess" w="34558" h="21600">
                <a:moveTo>
                  <a:pt x="0" y="0"/>
                </a:moveTo>
                <a:lnTo>
                  <a:pt x="34558" y="0"/>
                </a:lnTo>
                <a:lnTo>
                  <a:pt x="33158" y="1400"/>
                </a:lnTo>
                <a:lnTo>
                  <a:pt x="1400" y="1400"/>
                </a:lnTo>
                <a:close/>
              </a:path>
              <a:path fill="darken" w="34558" h="21600">
                <a:moveTo>
                  <a:pt x="34558" y="0"/>
                </a:moveTo>
                <a:lnTo>
                  <a:pt x="34558" y="21600"/>
                </a:lnTo>
                <a:lnTo>
                  <a:pt x="33158" y="20200"/>
                </a:lnTo>
                <a:lnTo>
                  <a:pt x="33158" y="1400"/>
                </a:lnTo>
                <a:close/>
              </a:path>
              <a:path fill="darkenLess" w="34558" h="21600">
                <a:moveTo>
                  <a:pt x="3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8" y="20200"/>
                </a:lnTo>
                <a:close/>
              </a:path>
              <a:path fill="lighten" w="3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8" h="21600">
                <a:moveTo>
                  <a:pt x="10272" y="3794"/>
                </a:moveTo>
                <a:lnTo>
                  <a:pt x="24285" y="10800"/>
                </a:lnTo>
                <a:lnTo>
                  <a:pt x="10272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PRZYKŁAD 1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Załóżmy, że samochód jedzie z prędkością 70 km/h. Gdy będzie się poruszać z tą prędkością przez pewien czas, to długość przebytej drogi możemy obliczać w następujący sposób: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724280" y="1905120"/>
          <a:ext cx="3733920" cy="4114800"/>
        </p:xfrm>
        <a:graphic>
          <a:graphicData uri="http://schemas.openxmlformats.org/drawingml/2006/table">
            <a:tbl>
              <a:tblPr/>
              <a:tblGrid>
                <a:gridCol w="1351080"/>
                <a:gridCol w="23828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CZAS PRZEJAZD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PRZEBYTE ODLEGŁOŚCI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1h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70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2h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2x70km=140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(2 razy więcej niż w 1h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5h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5x70km=350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(5 razy więcej niż w 1h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30m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0,5x70km=35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(2 razy mniej niż w 1h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W ciągu minut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1/60 x70km=</a:t>
                      </a:r>
                      <a:r>
                        <a:rPr b="0" lang="pl-PL" sz="18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1i</a:t>
                      </a:r>
                      <a:r>
                        <a:rPr b="0" lang="pl-PL" sz="16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1/6k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90a15"/>
                          </a:solidFill>
                          <a:latin typeface="Tahoma"/>
                        </a:rPr>
                        <a:t>(1/60 tego co w 1h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04" descr="C:\Program Files\Common Files\Microsoft Shared\Clipart\cagcat50\TN00332_.wmf"/>
          <p:cNvPicPr/>
          <p:nvPr/>
        </p:nvPicPr>
        <p:blipFill>
          <a:blip r:embed="rId1"/>
          <a:stretch/>
        </p:blipFill>
        <p:spPr>
          <a:xfrm>
            <a:off x="1143000" y="2209680"/>
            <a:ext cx="2895480" cy="3429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5"/>
          <p:cNvSpPr/>
          <p:nvPr/>
        </p:nvSpPr>
        <p:spPr>
          <a:xfrm>
            <a:off x="685800" y="1828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90a15"/>
                </a:solidFill>
                <a:latin typeface="Tahoma"/>
              </a:rPr>
              <a:t>70km/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AutoShape 106">
            <a:hlinkClick r:id="" action="ppaction://hlinkshowjump?jump=nextslide"/>
          </p:cNvPr>
          <p:cNvSpPr/>
          <p:nvPr/>
        </p:nvSpPr>
        <p:spPr>
          <a:xfrm>
            <a:off x="685800" y="6019920"/>
            <a:ext cx="1447920" cy="609480"/>
          </a:xfrm>
          <a:custGeom>
            <a:avLst/>
            <a:gdLst>
              <a:gd name="textAreaLeft" fmla="*/ 39240 w 1447920"/>
              <a:gd name="textAreaRight" fmla="*/ 1408680 w 1447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97" h="21600">
                <a:moveTo>
                  <a:pt x="0" y="0"/>
                </a:moveTo>
                <a:lnTo>
                  <a:pt x="51297" y="0"/>
                </a:lnTo>
                <a:lnTo>
                  <a:pt x="51297" y="21600"/>
                </a:lnTo>
                <a:lnTo>
                  <a:pt x="0" y="21600"/>
                </a:lnTo>
                <a:close/>
              </a:path>
              <a:path fill="lightenLess" w="51297" h="21600">
                <a:moveTo>
                  <a:pt x="0" y="0"/>
                </a:moveTo>
                <a:lnTo>
                  <a:pt x="51297" y="0"/>
                </a:lnTo>
                <a:lnTo>
                  <a:pt x="49897" y="1400"/>
                </a:lnTo>
                <a:lnTo>
                  <a:pt x="1400" y="1400"/>
                </a:lnTo>
                <a:close/>
              </a:path>
              <a:path fill="darken" w="51297" h="21600">
                <a:moveTo>
                  <a:pt x="51297" y="0"/>
                </a:moveTo>
                <a:lnTo>
                  <a:pt x="51297" y="21600"/>
                </a:lnTo>
                <a:lnTo>
                  <a:pt x="49897" y="20200"/>
                </a:lnTo>
                <a:lnTo>
                  <a:pt x="49897" y="1400"/>
                </a:lnTo>
                <a:close/>
              </a:path>
              <a:path fill="darkenLess" w="51297" h="21600">
                <a:moveTo>
                  <a:pt x="51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7" y="20200"/>
                </a:lnTo>
                <a:close/>
              </a:path>
              <a:path fill="lighten" w="51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7" h="21600">
                <a:moveTo>
                  <a:pt x="18642" y="3794"/>
                </a:moveTo>
                <a:lnTo>
                  <a:pt x="32655" y="10800"/>
                </a:lnTo>
                <a:lnTo>
                  <a:pt x="18642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PRZYKŁAD 2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90a15"/>
                </a:solidFill>
                <a:latin typeface="Times New Roman"/>
              </a:rPr>
              <a:t>Samochód wyścigowy porusza się ze stałą prędkością 240km/h. Oblicz, jaką odległość pokona w ciągu 5 minut.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I SPOSÓ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5minut to 5/60godzin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5/60 x 240 = 20k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II SPOSÓ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w 1 godzinę: 240k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w 1 minutę: 240/60 = 4k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90a15"/>
                </a:solidFill>
                <a:latin typeface="Tahoma"/>
              </a:rPr>
              <a:t>w 5 minut: 5 x 4 = 20k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14400" y="44956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90a15"/>
                </a:solidFill>
                <a:latin typeface="Tahoma"/>
              </a:rPr>
              <a:t>Odp.:Samochód wyścigowy w ciągu 5 minut pokona 20k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AutoShape 6">
            <a:hlinkClick r:id="" action="ppaction://hlinkshowjump?jump=nextslide"/>
          </p:cNvPr>
          <p:cNvSpPr/>
          <p:nvPr/>
        </p:nvSpPr>
        <p:spPr>
          <a:xfrm>
            <a:off x="7010280" y="54864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Spróbuj samodzielnie rozwiązać zadani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Oblicz, jaką odległość pokona samochód ciężarowy w czas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90a1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 </a:t>
            </a:r>
            <a:r>
              <a:rPr b="0" lang="pl-PL" sz="28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1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90a1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90a15"/>
                </a:solidFill>
                <a:latin typeface="Tahoma"/>
              </a:rPr>
              <a:t> </a:t>
            </a:r>
            <a:r>
              <a:rPr b="0" lang="pl-PL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3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90a1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 30m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90a1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 1,5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6" descr="C:\Program Files\Common Files\Microsoft Shared\Clipart\cagcat50\IN00561_.WMF"/>
          <p:cNvPicPr/>
          <p:nvPr/>
        </p:nvPicPr>
        <p:blipFill>
          <a:blip r:embed="rId5"/>
          <a:stretch/>
        </p:blipFill>
        <p:spPr>
          <a:xfrm>
            <a:off x="5029200" y="1905120"/>
            <a:ext cx="3301920" cy="3733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57913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90a15"/>
                </a:solidFill>
                <a:latin typeface="Tahoma"/>
              </a:rPr>
              <a:t>50km/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AutoShape 13">
            <a:hlinkClick r:id="rId6" action="ppaction://hlinksldjump"/>
          </p:cNvPr>
          <p:cNvSpPr/>
          <p:nvPr/>
        </p:nvSpPr>
        <p:spPr>
          <a:xfrm>
            <a:off x="83808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22711" y="10800"/>
                </a:lnTo>
                <a:lnTo>
                  <a:pt x="8698" y="1780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90a15"/>
                </a:solidFill>
                <a:latin typeface="Tahoma"/>
              </a:rPr>
              <a:t>W ciągu 1 godziny samochód pokona 50k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AutoShape 4">
            <a:hlinkClick r:id="" action="ppaction://hlinkshowjump?jump=previousslide"/>
          </p:cNvPr>
          <p:cNvSpPr/>
          <p:nvPr/>
        </p:nvSpPr>
        <p:spPr>
          <a:xfrm>
            <a:off x="1066680" y="39625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8:35:20Z</dcterms:created>
  <dc:creator>kb</dc:creator>
  <dc:description/>
  <dc:language>en-US</dc:language>
  <cp:lastModifiedBy>MOBILE</cp:lastModifiedBy>
  <dcterms:modified xsi:type="dcterms:W3CDTF">2009-03-30T19:06:11Z</dcterms:modified>
  <cp:revision>23</cp:revision>
  <dc:subject/>
  <dc:title>PRĘDKOŚĆ, DROGA, CZAS</dc:title>
</cp:coreProperties>
</file>