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DE6-83C8-4DF6-84AC-053E826C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1F4-7483-4FAF-B613-C4F4B9C3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26D-66A6-4696-97F4-0EE314DA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4F4-79AC-4B29-B7DA-72B55034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496-CFC6-4968-B0C5-C1A37CF2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B64-70DC-4A07-8C6C-8F00F32D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A65-0168-4C4C-8269-7485E78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5D8-AAB2-43C2-94C7-BE7C866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7CC-21E5-4CC0-AF95-601C5134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C6E-067C-4316-A9CB-FF8CAD0E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3BC-6056-40F7-AFE4-89358FE3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ED3-C0E4-4E73-A60B-147CFF3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0E9A-0922-45EC-8026-6703F3A51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920" y="-25560"/>
          <a:ext cx="9109080" cy="5185080"/>
        </p:xfrm>
        <a:graphic>
          <a:graphicData uri="http://schemas.openxmlformats.org/drawingml/2006/table">
            <a:tbl>
              <a:tblPr/>
              <a:tblGrid>
                <a:gridCol w="533520"/>
                <a:gridCol w="538200"/>
                <a:gridCol w="536400"/>
                <a:gridCol w="536760"/>
                <a:gridCol w="534960"/>
                <a:gridCol w="533160"/>
                <a:gridCol w="538200"/>
                <a:gridCol w="536760"/>
                <a:gridCol w="533160"/>
                <a:gridCol w="536760"/>
                <a:gridCol w="536400"/>
                <a:gridCol w="536760"/>
                <a:gridCol w="533160"/>
                <a:gridCol w="536760"/>
                <a:gridCol w="536400"/>
                <a:gridCol w="535320"/>
                <a:gridCol w="536400"/>
              </a:tblGrid>
              <a:tr h="365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5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1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44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/Ri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4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/Ri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2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entoe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12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entoe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2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9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11280" y="6305400"/>
            <a:ext cx="287280" cy="366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6311880"/>
            <a:ext cx="287640" cy="366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8720" y="6305400"/>
            <a:ext cx="287280" cy="366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59640" y="6238800"/>
            <a:ext cx="2484360" cy="469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4200" y="5446800"/>
            <a:ext cx="892836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tum: Donderdag 7 Febru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fwezig: Ro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en wijzig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jzig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itv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1341360"/>
            <a:ext cx="9144000" cy="70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et op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ijk elke dag op dit scherm wat je rooster is voor morge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oosterwijzigingen nu ook te volgen op smartsch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og in o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elanchthon-kralingen.smartschool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ort Lesrooster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rvee: Outmane Kacho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ilara Kem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 Antiqua"/>
              </a:rPr>
              <a:t>Mededeli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788000" y="2349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968720" y="1628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700360" y="2492280"/>
            <a:ext cx="4572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59640" y="6308640"/>
            <a:ext cx="2484360" cy="4701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4:22:35Z</dcterms:created>
  <dc:creator>mrozendaal</dc:creator>
  <dc:description/>
  <dc:language>en-US</dc:language>
  <cp:lastModifiedBy>gvdijk</cp:lastModifiedBy>
  <dcterms:modified xsi:type="dcterms:W3CDTF">2013-02-06T14:01:21Z</dcterms:modified>
  <cp:revision>73</cp:revision>
  <dc:subject/>
  <dc:title>Dia 1</dc:title>
</cp:coreProperties>
</file>