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6AF-132A-4ACC-91A8-6F692F51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573-3DB6-4CF4-A6A4-96DC856F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AF8-ACF8-4C0A-82DE-52508F7F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1C21-F125-4579-A571-F60905C4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7FC-34AE-4FA0-94BE-13A4BE23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2EE-7958-4E15-9D4A-3A396BE7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037-B910-42B3-B5FD-6DF6A8B3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04E-A790-4995-8FCD-021505E2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7E2-9D6B-4131-9417-81B44EBF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3F8-E360-457D-A529-4FD7B1C3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97B-63F8-4354-B7DB-3D61D1FF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DC2-0A6A-4009-8345-10C47DA7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87E2-5CEC-4DDF-A9E0-50125415E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920" y="-25560"/>
          <a:ext cx="9109080" cy="5185080"/>
        </p:xfrm>
        <a:graphic>
          <a:graphicData uri="http://schemas.openxmlformats.org/drawingml/2006/table">
            <a:tbl>
              <a:tblPr/>
              <a:tblGrid>
                <a:gridCol w="533520"/>
                <a:gridCol w="538200"/>
                <a:gridCol w="536400"/>
                <a:gridCol w="536760"/>
                <a:gridCol w="534960"/>
                <a:gridCol w="533160"/>
                <a:gridCol w="538200"/>
                <a:gridCol w="536760"/>
                <a:gridCol w="533160"/>
                <a:gridCol w="536760"/>
                <a:gridCol w="536400"/>
                <a:gridCol w="536760"/>
                <a:gridCol w="533160"/>
                <a:gridCol w="536760"/>
                <a:gridCol w="536400"/>
                <a:gridCol w="535320"/>
                <a:gridCol w="536400"/>
              </a:tblGrid>
              <a:tr h="3654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5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j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k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1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j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k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44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j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e/Ri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/Gra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K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41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e/Ri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/Gra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K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12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o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entoe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/Gra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112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o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entoe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/Gra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12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09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11280" y="6305400"/>
            <a:ext cx="287280" cy="366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6311880"/>
            <a:ext cx="287640" cy="366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68720" y="6305400"/>
            <a:ext cx="287280" cy="366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59640" y="6238800"/>
            <a:ext cx="2484360" cy="469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4200" y="5446800"/>
            <a:ext cx="892836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atum: Donderdag 7 Febru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genda: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fwezig: Ro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een wijzig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ijzig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itv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1341360"/>
            <a:ext cx="9144000" cy="70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et op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ijk elke dag op dit scherm wat je rooster is voor morge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oosterwijzigingen nu ook te volgen op smartschool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og in o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elanchthon-kralingen.smartschool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kort Lesrooster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rvee: Outmane Kacho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Dilara Kem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 Antiqua"/>
              </a:rPr>
              <a:t>Mededelin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788000" y="2349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968720" y="1628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700360" y="2492280"/>
            <a:ext cx="4572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659640" y="6308640"/>
            <a:ext cx="2484360" cy="4701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4:22:35Z</dcterms:created>
  <dc:creator>mrozendaal</dc:creator>
  <dc:description/>
  <dc:language>en-US</dc:language>
  <cp:lastModifiedBy>gvdijk</cp:lastModifiedBy>
  <dcterms:modified xsi:type="dcterms:W3CDTF">2013-02-06T14:01:21Z</dcterms:modified>
  <cp:revision>73</cp:revision>
  <dc:subject/>
  <dc:title>Dia 1</dc:title>
</cp:coreProperties>
</file>