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D30E-533C-4265-BFD7-FC1E69C8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394-31E0-4FF3-96FF-FEC12316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36C7-142D-45CD-B189-DEE477FB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2721-F5A8-4D8F-8BB7-F93EF1DB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DED7-7B34-49D2-9E54-7A4D3965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7288-553D-47FB-B08D-B9153912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643-0662-4FAD-AFFB-83E11D81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1264-EA2A-4A21-84A9-0A25D41E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ADF-0A6A-4B58-8B80-D1D109FD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4976-2841-4AE9-A074-F934A0FB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89F-7DD6-43F6-B6E1-030698B6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0DF3-1708-47D2-A7C1-E4E977CF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2613-50BE-4DFC-8149-96BF2E990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4920" y="-25560"/>
          <a:ext cx="9109080" cy="5185080"/>
        </p:xfrm>
        <a:graphic>
          <a:graphicData uri="http://schemas.openxmlformats.org/drawingml/2006/table">
            <a:tbl>
              <a:tblPr/>
              <a:tblGrid>
                <a:gridCol w="533520"/>
                <a:gridCol w="538200"/>
                <a:gridCol w="536400"/>
                <a:gridCol w="536760"/>
                <a:gridCol w="534960"/>
                <a:gridCol w="533160"/>
                <a:gridCol w="538200"/>
                <a:gridCol w="536760"/>
                <a:gridCol w="533160"/>
                <a:gridCol w="536760"/>
                <a:gridCol w="536400"/>
                <a:gridCol w="536760"/>
                <a:gridCol w="533160"/>
                <a:gridCol w="536760"/>
                <a:gridCol w="536400"/>
                <a:gridCol w="535320"/>
                <a:gridCol w="536400"/>
              </a:tblGrid>
              <a:tr h="36540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5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j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k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415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j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k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446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j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e/Ri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/Gra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K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410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z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e/Ried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/Gra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K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12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o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w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entoe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/Gra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1128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o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Y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1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h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B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d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2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T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e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s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entoet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ilm/Gra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1272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09840"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18000" rIns="18000" tIns="18000" bIns="18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en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611280" y="6305400"/>
            <a:ext cx="287280" cy="366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6311880"/>
            <a:ext cx="287640" cy="366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68720" y="6305400"/>
            <a:ext cx="287280" cy="3668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659640" y="6238800"/>
            <a:ext cx="2484360" cy="469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4200" y="5446800"/>
            <a:ext cx="8928360" cy="15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atum: Donderdag 7 Febru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genda: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fwezig: Ro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een wijzig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ijzigi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itv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66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1341360"/>
            <a:ext cx="9144000" cy="70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et op!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Kijk elke dag op dit scherm wat je rooster is voor morgen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oosterwijzigingen nu ook te volgen op smartschool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og in o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elanchthon-kralingen.smartschool.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kort Lesrooster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rvee: Outmane Kacho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Dilara Kem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Book Antiqua"/>
              </a:rPr>
              <a:t>Mededeling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4788000" y="2349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4968720" y="162864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700360" y="2492280"/>
            <a:ext cx="4572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659640" y="6308640"/>
            <a:ext cx="2484360" cy="4701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14:22:35Z</dcterms:created>
  <dc:creator>mrozendaal</dc:creator>
  <dc:description/>
  <dc:language>en-US</dc:language>
  <cp:lastModifiedBy>gvdijk</cp:lastModifiedBy>
  <dcterms:modified xsi:type="dcterms:W3CDTF">2013-02-06T14:01:21Z</dcterms:modified>
  <cp:revision>73</cp:revision>
  <dc:subject/>
  <dc:title>Dia 1</dc:title>
</cp:coreProperties>
</file>