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C8BB-42B2-452B-9CA8-BE7A5071A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56D0-6083-47BC-9183-D21010B94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F5D0-5590-4D92-AF99-5E989C241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7A11-163D-4633-BAF0-7A2929F79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7BC2-0815-475F-A22E-B68606E6B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A0DD-294D-4D1D-B4DE-DBD2DE14B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918E-DFF8-485E-BB1D-31A0A4C66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F26F-B5C8-41AB-B501-1CC7367DE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5AA7-6C41-4CBE-976B-608EA04F7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2D2B-B902-49E1-B9AB-73754C05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8DDF-C007-48D2-AB48-E17A414E1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7C72-E26E-40C0-B0A7-E807DB589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DEE19-26D6-4400-B1FD-34541A8FA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4920" y="-25560"/>
          <a:ext cx="9109080" cy="5185080"/>
        </p:xfrm>
        <a:graphic>
          <a:graphicData uri="http://schemas.openxmlformats.org/drawingml/2006/table">
            <a:tbl>
              <a:tblPr/>
              <a:tblGrid>
                <a:gridCol w="533520"/>
                <a:gridCol w="538200"/>
                <a:gridCol w="536400"/>
                <a:gridCol w="536760"/>
                <a:gridCol w="534960"/>
                <a:gridCol w="533160"/>
                <a:gridCol w="538200"/>
                <a:gridCol w="536760"/>
                <a:gridCol w="533160"/>
                <a:gridCol w="536760"/>
                <a:gridCol w="536400"/>
                <a:gridCol w="536760"/>
                <a:gridCol w="533160"/>
                <a:gridCol w="536760"/>
                <a:gridCol w="536400"/>
                <a:gridCol w="535320"/>
                <a:gridCol w="536400"/>
              </a:tblGrid>
              <a:tr h="36540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64584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T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1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h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1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j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1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z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2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ek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2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z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lz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s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sk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d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j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j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64152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wa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1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1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h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1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j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1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z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2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2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ek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br>
                        <a:rPr sz="800"/>
                      </a:b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2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z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lz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il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sk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d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j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j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54468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j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T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1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h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1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1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1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2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j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2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z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2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wa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2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ek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s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n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ge/Ri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ilm/Gra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SK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54108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1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h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1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1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1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lz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2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j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2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z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2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wa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2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ek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d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m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s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n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ge/Ri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ilm/Gra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SK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61272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1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to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Y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wa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1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1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j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2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h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2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d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2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T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ek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s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kentoe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ilm/Gra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n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T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g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s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61128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1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to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Y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1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j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2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h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2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d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2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T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ek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s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kentoe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ilm/Gra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g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t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s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61272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n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60984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n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611280" y="6305400"/>
            <a:ext cx="287280" cy="3668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6311880"/>
            <a:ext cx="287640" cy="3668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068720" y="6305400"/>
            <a:ext cx="287280" cy="3668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659640" y="6238800"/>
            <a:ext cx="2484360" cy="469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14200" y="5446800"/>
            <a:ext cx="8928360" cy="15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atum: Donderdag 7 Februa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egenda: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fwezig: Ro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Geen wijziging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ijziging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Uitval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0" y="1341360"/>
            <a:ext cx="9144000" cy="70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Let op!!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Kijk elke dag op dit scherm wat je rooster is voor morgen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Roosterwijzigingen nu ook te volgen op smartschool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Log in op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melanchthon-kralingen.smartschool.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kort Lesrooster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Corvee: Outmane Kacho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Dilara Kem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Book Antiqua"/>
              </a:rPr>
              <a:t>Mededeling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4788000" y="234936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4968720" y="162864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2700360" y="2492280"/>
            <a:ext cx="4572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659640" y="6308640"/>
            <a:ext cx="2484360" cy="47016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7T14:22:35Z</dcterms:created>
  <dc:creator>mrozendaal</dc:creator>
  <dc:description/>
  <dc:language>en-US</dc:language>
  <cp:lastModifiedBy>gvdijk</cp:lastModifiedBy>
  <dcterms:modified xsi:type="dcterms:W3CDTF">2013-02-06T14:01:21Z</dcterms:modified>
  <cp:revision>73</cp:revision>
  <dc:subject/>
  <dc:title>Dia 1</dc:title>
</cp:coreProperties>
</file>