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37500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4792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016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34792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34016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37500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37500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4792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4016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34792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434016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7500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199080" indent="-19908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40280" indent="-19908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681480" indent="-19872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22680" indent="-19872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163880" indent="-19872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163880" indent="-198720">
              <a:spcBef>
                <a:spcPts val="3801"/>
              </a:spcBef>
              <a:buClr>
                <a:srgbClr val="000000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163880" indent="-198720">
              <a:spcBef>
                <a:spcPts val="3801"/>
              </a:spcBef>
              <a:buClr>
                <a:srgbClr val="000000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29220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DESARROLLO </a:t>
            </a:r>
            <a:br>
              <a:rPr sz="7200"/>
            </a:b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VS.</a:t>
            </a:r>
            <a:br>
              <a:rPr sz="7200"/>
            </a:b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 DESARROLLISMO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-122400" y="6821640"/>
            <a:ext cx="13127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2800" spc="-1" strike="noStrike">
                <a:solidFill>
                  <a:srgbClr val="414141"/>
                </a:solidFill>
                <a:latin typeface="Gill Sans Light"/>
              </a:rPr>
              <a:t>Miranda Aguilar  #1</a:t>
            </a:r>
            <a:endParaRPr b="0" lang="en-US" sz="28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2800" spc="-1" strike="noStrike">
                <a:solidFill>
                  <a:srgbClr val="414141"/>
                </a:solidFill>
                <a:latin typeface="Gill Sans Light"/>
              </a:rPr>
              <a:t>Melissa Rodríguez #</a:t>
            </a:r>
            <a:br>
              <a:rPr sz="2800"/>
            </a:br>
            <a:r>
              <a:rPr b="0" lang="es-MX" sz="2800" spc="-1" strike="noStrike">
                <a:solidFill>
                  <a:srgbClr val="414141"/>
                </a:solidFill>
                <a:latin typeface="Gill Sans Light"/>
              </a:rPr>
              <a:t>Andrés Suárez  #19</a:t>
            </a:r>
            <a:endParaRPr b="0" lang="en-US" sz="2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Resultado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3 CuadroTexto"/>
          <p:cNvSpPr/>
          <p:nvPr/>
        </p:nvSpPr>
        <p:spPr>
          <a:xfrm>
            <a:off x="309600" y="2716200"/>
            <a:ext cx="1238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tinuo la inversión norteamericana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Aumento el endeudamiento externo latinoamericano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Se pagaba la deuda de la inversión con la misma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La balanza comercial se puso a favor de los E.U.A.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Se abrieron las puertas al capital transnacional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Hubo un crecimiento económico por parte del latinoamerica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Conclusión 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9240" y="1852560"/>
            <a:ext cx="1233972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El desarrollismo es simplemente poner las herramientas necesarias para que un individuo pueda crecer social y económicamente, y el desarrollo es ver si las herramientas son funcionales o no. 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QUE ES DESARROLLO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Evolucion creciente o la estabilidad de algunos de los indicadores en materia economica y socia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9" name="Picture 6" descr="http://t3.gstatic.com/images?q=tbn:ANd9GcRi_rlUlH7U1gFNtLICYdBHZZmB8fBOqY4PubdQOqegY7CHwaCY"/>
          <p:cNvPicPr/>
          <p:nvPr/>
        </p:nvPicPr>
        <p:blipFill>
          <a:blip r:embed="rId1"/>
          <a:stretch/>
        </p:blipFill>
        <p:spPr>
          <a:xfrm>
            <a:off x="7365960" y="3868560"/>
            <a:ext cx="42735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QUE ES DESARROLLISMO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teoría económica de origen latinoamericano referida al desarrollo.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Influencias 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Plan Marshall de reconstrucción de Europa </a:t>
            </a:r>
            <a:br>
              <a:rPr sz="3800"/>
            </a:b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(posguerra)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96760" indent="-26172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Ayuda económica estaunidense 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4" name="Picture 5" descr="http://t0.gstatic.com/images?q=tbn:ANd9GcRgdR7V7cfFBIdE3LTw6q90CVmRG50jBYmsD_Qi4s9ll5rpht_2"/>
          <p:cNvPicPr/>
          <p:nvPr/>
        </p:nvPicPr>
        <p:blipFill>
          <a:blip r:embed="rId1"/>
          <a:stretch/>
        </p:blipFill>
        <p:spPr>
          <a:xfrm>
            <a:off x="8086680" y="2500200"/>
            <a:ext cx="3975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Inicios 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5680" y="2284200"/>
            <a:ext cx="6578640" cy="67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200" spc="-1" strike="noStrike">
                <a:solidFill>
                  <a:srgbClr val="414141"/>
                </a:solidFill>
                <a:latin typeface="Gill Sans Light"/>
              </a:rPr>
              <a:t>Se crea la CEPAL(Comisión Económica para América Latina y el Caribe)  en 1948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lvl="2" marL="896760" indent="-26172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200" spc="-1" strike="noStrike">
                <a:solidFill>
                  <a:srgbClr val="414141"/>
                </a:solidFill>
                <a:latin typeface="Gill Sans Light"/>
              </a:rPr>
              <a:t>Promover el desarrollo económico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lvl="2" marL="896760" indent="-26172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200" spc="-1" strike="noStrike">
                <a:solidFill>
                  <a:srgbClr val="414141"/>
                </a:solidFill>
                <a:latin typeface="Gill Sans Light"/>
              </a:rPr>
              <a:t>promover la industrialización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lvl="2" marL="896760" indent="-26172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200" spc="-1" strike="noStrike">
                <a:solidFill>
                  <a:srgbClr val="414141"/>
                </a:solidFill>
                <a:latin typeface="Gill Sans Light"/>
              </a:rPr>
              <a:t>Atraer la inversión extranjera.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7" name="Picture 5" descr="http://t1.gstatic.com/images?q=tbn:ANd9GcSl14Maa1Nbt_QRN6MwvSx3mw-sld4uuBKZ_8nRGCsxdlxhqJ4HjQ"/>
          <p:cNvPicPr/>
          <p:nvPr/>
        </p:nvPicPr>
        <p:blipFill>
          <a:blip r:embed="rId1"/>
          <a:stretch/>
        </p:blipFill>
        <p:spPr>
          <a:xfrm>
            <a:off x="8518680" y="3147840"/>
            <a:ext cx="3346200" cy="36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Inicios  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844560"/>
            <a:ext cx="12433320" cy="6672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Insistencia latinoamericana por inversión estadunidense</a:t>
            </a:r>
            <a:br>
              <a:rPr sz="3800"/>
            </a:b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en las Conferencias interamericanas:</a:t>
            </a:r>
            <a:br>
              <a:rPr sz="3800"/>
            </a:b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	</a:t>
            </a: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	</a:t>
            </a:r>
            <a:br>
              <a:rPr sz="3800"/>
            </a:b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	</a:t>
            </a: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-Colombia 1948</a:t>
            </a: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	</a:t>
            </a: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	</a:t>
            </a: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-Brasil 1954</a:t>
            </a: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	</a:t>
            </a: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	</a:t>
            </a: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-Argentina 1957</a:t>
            </a:r>
            <a:br>
              <a:rPr sz="3800"/>
            </a:br>
            <a:r>
              <a:rPr b="0" lang="es-MX" sz="3800" spc="-1" strike="noStrike">
                <a:solidFill>
                  <a:srgbClr val="414141"/>
                </a:solidFill>
                <a:latin typeface="Gill Sans Light"/>
              </a:rPr>
              <a:t> 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4 CuadroTexto"/>
          <p:cNvSpPr/>
          <p:nvPr/>
        </p:nvSpPr>
        <p:spPr>
          <a:xfrm>
            <a:off x="0" y="6748560"/>
            <a:ext cx="1300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ff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Gill Sans Light"/>
              </a:rPr>
              <a:t>Respuesta negativa por parte de E.U.A 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marL="571680" indent="-571680" algn="ctr">
              <a:buClr>
                <a:srgbClr val="ff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Gill Sans Light"/>
              </a:rPr>
              <a:t>Razón: Europa o Latinoamérica  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6469200" y="-2746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6469200" y="-2746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6469200" y="-2746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6469200" y="-2746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6469200" y="-2746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Inicio de la “Alianza para el Progreso”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4 CuadroTexto"/>
          <p:cNvSpPr/>
          <p:nvPr/>
        </p:nvSpPr>
        <p:spPr>
          <a:xfrm>
            <a:off x="309600" y="2716200"/>
            <a:ext cx="1269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414141"/>
              </a:buClr>
              <a:buFont typeface="Wingdings" charset="2"/>
              <a:buChar char="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</a:rPr>
              <a:t>Punta del este, Uruguay  5-17 de agosto de 1961: 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John F. Kennedy firma  una carta en donde establece: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Mil millones de dls. En el primer año.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Veinte mil millones de dls. En 10 años.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ara  fondos públicos.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tabLst>
                <a:tab algn="l" pos="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98" name="Picture 5" descr="http://t3.gstatic.com/images?q=tbn:ANd9GcQx0TAZWga7_0eguoIjkEH-RUdLG3syMKHhHWK3V2JIVRtLzkFC"/>
          <p:cNvPicPr/>
          <p:nvPr/>
        </p:nvPicPr>
        <p:blipFill>
          <a:blip r:embed="rId1"/>
          <a:stretch/>
        </p:blipFill>
        <p:spPr>
          <a:xfrm>
            <a:off x="8447040" y="5524560"/>
            <a:ext cx="29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Objetivos de la carta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3 CuadroTexto"/>
          <p:cNvSpPr/>
          <p:nvPr/>
        </p:nvSpPr>
        <p:spPr>
          <a:xfrm>
            <a:off x="309600" y="2716200"/>
            <a:ext cx="1269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Elevar el ingreso per cápita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Acelerar el proceso de industrialización 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Aumentar la producción y productividad agrícola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Impulsar reformas necesarias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Aprovechar los recursos materiales y humanos de los países involucrados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7200" spc="-1" strike="noStrike">
                <a:solidFill>
                  <a:srgbClr val="414141"/>
                </a:solidFill>
                <a:latin typeface="Gill Sans Light"/>
              </a:rPr>
              <a:t>Obstáculos 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2" name="3 CuadroTexto"/>
          <p:cNvSpPr/>
          <p:nvPr/>
        </p:nvSpPr>
        <p:spPr>
          <a:xfrm>
            <a:off x="309600" y="2716200"/>
            <a:ext cx="1238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Los 20 mil millones de dólares jamás fueron aprobados por el congreso norteamericano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Asesinato del Presidente Kennedy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lvl="2" marL="1257480" indent="-571680">
              <a:lnSpc>
                <a:spcPct val="100000"/>
              </a:lnSpc>
              <a:buClr>
                <a:srgbClr val="414141"/>
              </a:buClr>
              <a:buFont typeface="Arial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s-MX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No se le dio seguimiento al proyecto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6469200" y="-2746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6469200" y="-2746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anda</cp:lastModifiedBy>
  <dcterms:modified xsi:type="dcterms:W3CDTF">2012-10-05T04:55:07Z</dcterms:modified>
  <cp:revision>18</cp:revision>
  <dc:subject/>
  <dc:title>DESARROLLO VS. DESARROLLISMO</dc:title>
</cp:coreProperties>
</file>