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D1F-9B7A-4973-B84F-BBCE29EF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9CF-630C-4107-A3AC-419D8263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AF9-E793-41D5-93D8-2E06D71E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E73-2BBE-4B62-AA7B-6CDE8ABC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EB3B-13D0-4616-8D9D-A3F2D0CE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2FF5-9D7B-44BE-B7FA-1F059656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E553-7D95-4BE5-8DE5-B6465EAC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619B-041F-4618-B704-E441509B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2939-25C1-4C67-A42A-AD24F7FF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509C-951C-4A0F-87A5-54775C9E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0051-8213-44B4-B172-653B2D16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B03-CBA8-4943-9C78-4193F39F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21C4-D7C5-439D-9316-120BE6CC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C1EC-AF6D-4110-BCF2-CC92C7B0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A17D-631F-4224-8FB8-502290D6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1D63-276C-4A65-8DBC-88F13CB2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B80E-2231-4C1F-9275-E4BECDC8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BDB-A52A-4120-97C7-C98852E9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1AB-A84F-45D1-B303-363FA77E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530-4E71-4332-9916-90233CCA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C82-C9DD-40C9-9D18-FD9EB794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95C-AB17-4E27-9F65-78B08BC0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A81-D7D7-4767-8C0F-4CD6EEF4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40C-417C-40FD-8121-87826339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A4FB-E5E7-4E97-8E7E-8A5BDA4081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C0C1-2DE2-4704-81B9-70E9116986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mooni.fccj.org/~ethall/2046/ch18/galvanic.htm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commons.wikimedia.org/wiki/Image:Electrochemical_element_with_salt_bridge.png" TargetMode="External"/><Relationship Id="rId5" Type="http://schemas.openxmlformats.org/officeDocument/2006/relationships/hyperlink" Target="http://commons.wikimedia.org/wiki/Image:Electrochemical_element_with_salt_bridge.png" TargetMode="External"/><Relationship Id="rId6" Type="http://schemas.openxmlformats.org/officeDocument/2006/relationships/image" Target="../media/image10.png"/><Relationship Id="rId7" Type="http://schemas.openxmlformats.org/officeDocument/2006/relationships/hyperlink" Target="http://www.steve.gb.com/science/thermodynamics.html" TargetMode="External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666880" y="5791320"/>
            <a:ext cx="2895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1219320"/>
            <a:ext cx="807696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Polarization of electr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 theoretically, half-cell potent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defined for </a:t>
            </a: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宋体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etwee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lectrode and electrolyte under chemical equilib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 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≠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will be altered, i.e.,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I≠0) 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I=0), due to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polar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 the difference is defined a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overpotent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I≠0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I=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4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caused by the following factor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514600" y="4572000"/>
                <a:ext cx="14032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hmic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ncentration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tivatio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Rectangle 10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4975200" y="4572000"/>
                <a:ext cx="714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Δ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hm</m:t>
                                  </m:r>
                                </m:sub>
                                <m:sup>
                                  <m:r>
                                    <m:t xml:space="preserve">0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ΔE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  <m:sup>
                                  <m:r>
                                    <m:t xml:space="preserve">0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ΔE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0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Line 13"/>
          <p:cNvSpPr/>
          <p:nvPr/>
        </p:nvSpPr>
        <p:spPr>
          <a:xfrm>
            <a:off x="4267080" y="5105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2743200" y="5854680"/>
                <a:ext cx="2666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hm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3520" y="1219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  Other 2 common electro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5"/>
          <p:cNvPicPr/>
          <p:nvPr/>
        </p:nvPicPr>
        <p:blipFill>
          <a:blip r:embed="rId1"/>
          <a:stretch/>
        </p:blipFill>
        <p:spPr>
          <a:xfrm>
            <a:off x="2730600" y="1752480"/>
            <a:ext cx="1322280" cy="2730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6"/>
          <p:cNvPicPr/>
          <p:nvPr/>
        </p:nvPicPr>
        <p:blipFill>
          <a:blip r:embed="rId2"/>
          <a:stretch/>
        </p:blipFill>
        <p:spPr>
          <a:xfrm>
            <a:off x="5549760" y="1960560"/>
            <a:ext cx="1613160" cy="26114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0"/>
          <p:cNvSpPr/>
          <p:nvPr/>
        </p:nvSpPr>
        <p:spPr>
          <a:xfrm>
            <a:off x="3874320" y="20876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873960" y="25146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g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627160" y="25146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"/>
          <p:cNvSpPr/>
          <p:nvPr/>
        </p:nvSpPr>
        <p:spPr>
          <a:xfrm>
            <a:off x="2882880" y="4191120"/>
            <a:ext cx="380880" cy="380880"/>
          </a:xfrm>
          <a:prstGeom prst="ellipse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3262320" y="426708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on 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5a"/>
          <p:cNvPicPr/>
          <p:nvPr/>
        </p:nvPicPr>
        <p:blipFill>
          <a:blip r:embed="rId3"/>
          <a:stretch/>
        </p:blipFill>
        <p:spPr>
          <a:xfrm>
            <a:off x="2552760" y="5470560"/>
            <a:ext cx="4838760" cy="320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6a"/>
          <p:cNvPicPr/>
          <p:nvPr/>
        </p:nvPicPr>
        <p:blipFill>
          <a:blip r:embed="rId4"/>
          <a:stretch/>
        </p:blipFill>
        <p:spPr>
          <a:xfrm>
            <a:off x="2590920" y="5029200"/>
            <a:ext cx="4572000" cy="2937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7"/>
          <p:cNvSpPr/>
          <p:nvPr/>
        </p:nvSpPr>
        <p:spPr>
          <a:xfrm>
            <a:off x="1221480" y="4967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/AgC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1233000" y="5424480"/>
            <a:ext cx="1252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g/H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947040" y="34830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Saturated (1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915840" y="5927760"/>
            <a:ext cx="72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Water soluble with high Cl</a:t>
            </a:r>
            <a:r>
              <a:rPr b="0" i="1" lang="en-US" sz="16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-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 solution, so they are compatible with biological 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7364160" y="3413160"/>
            <a:ext cx="101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lom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lectr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689760" y="2362320"/>
            <a:ext cx="1770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g/AgCl prov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ar better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erformance t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g especially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ow 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3"/>
          <p:cNvSpPr/>
          <p:nvPr/>
        </p:nvSpPr>
        <p:spPr>
          <a:xfrm>
            <a:off x="457200" y="5943600"/>
            <a:ext cx="152280" cy="304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33520" y="1219320"/>
            <a:ext cx="8153280" cy="63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/AgCl electr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 Composition:    Ag: metal – nonsolu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Cl: compound – slightly solu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solution/electrolyte with high [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 Rea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+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+ 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gCl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(eventually stabiliz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 Formation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 is inserted into the 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lution with 5V, i.e., Ag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+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cause of high [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, A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+ 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gCl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nd a film of Ag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formed. Of course, they are other ways to mak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ending on Ag doping, resistant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R can be vastly chang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4) Static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lubility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x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because of AgCl). For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ological applications, because of high [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, e.g., [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1-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us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, i.e., it is stable in a solution with s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[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.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This is why it can be used for biological measu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914400" y="5867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33520" y="1274760"/>
            <a:ext cx="815328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Nernst equ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electrode-electrolyte re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 one type of chemical reaction, electrolysis can be analyzed by Gibbs free energ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 = -nFE                                                   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n is number of valence electrons to be transferred, 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6.5kC/mol is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Fara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nstant, and E is voltage added or half-cell potent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 governs the direction and equilibrium of a chemical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G &l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free energy decreases, so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eaction will be procee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as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rnst equation is a log relationship derived from basic thermodynamic equations, e.g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 = -RTlnK                                                (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R=8.31J/mol·K is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gas cons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bining Eq.(3) and Eq.(4), we can get the generalized te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 = (RT/nF)ln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838080" y="5867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209680" y="4419720"/>
            <a:ext cx="4191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33520" y="1066680"/>
            <a:ext cx="601956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two half–cell loo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ionic solutions w/ different concentrations are separated by a ion-selective bridge, the measured potential can be derived from Nernst Eq.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re ionic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a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. In low concent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[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[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2"/>
          <p:cNvPicPr/>
          <p:nvPr/>
        </p:nvPicPr>
        <p:blipFill>
          <a:blip r:embed="rId1"/>
          <a:stretch/>
        </p:blipFill>
        <p:spPr>
          <a:xfrm>
            <a:off x="6172200" y="1163520"/>
            <a:ext cx="2438280" cy="223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1" name="Object 12"/>
              <p:cNvSpPr txBox="1"/>
              <p:nvPr/>
            </p:nvSpPr>
            <p:spPr>
              <a:xfrm>
                <a:off x="2362320" y="2230560"/>
                <a:ext cx="16002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Text Box 13"/>
          <p:cNvSpPr/>
          <p:nvPr/>
        </p:nvSpPr>
        <p:spPr>
          <a:xfrm>
            <a:off x="533520" y="3508200"/>
            <a:ext cx="8153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oncentration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standard half-cell potential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determined with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1 (1M). If the activity is changed from 1, it will change and can be given by Nernst equation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4"/>
              <p:cNvSpPr txBox="1"/>
              <p:nvPr/>
            </p:nvSpPr>
            <p:spPr>
              <a:xfrm>
                <a:off x="2362320" y="4392720"/>
                <a:ext cx="402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Text Box 15"/>
          <p:cNvSpPr/>
          <p:nvPr/>
        </p:nvSpPr>
        <p:spPr>
          <a:xfrm>
            <a:off x="533520" y="5029200"/>
            <a:ext cx="8153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eneral term for oxidation-reduction rea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Nernst equation will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6"/>
              <p:cNvSpPr txBox="1"/>
              <p:nvPr/>
            </p:nvSpPr>
            <p:spPr>
              <a:xfrm>
                <a:off x="3209760" y="5334120"/>
                <a:ext cx="23320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A</m:t>
                    </m:r>
                    <m:r>
                      <m:t xml:space="preserve">+</m:t>
                    </m:r>
                    <m:r>
                      <m:t xml:space="preserve">βB</m:t>
                    </m:r>
                    <m:r>
                      <m:t xml:space="preserve">=</m:t>
                    </m:r>
                    <m:r>
                      <m:t xml:space="preserve">γC</m:t>
                    </m:r>
                    <m:r>
                      <m:t xml:space="preserve">+</m:t>
                    </m:r>
                    <m:r>
                      <m:t xml:space="preserve">δD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7"/>
              <p:cNvSpPr txBox="1"/>
              <p:nvPr/>
            </p:nvSpPr>
            <p:spPr>
              <a:xfrm>
                <a:off x="3135240" y="5900760"/>
                <a:ext cx="23511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δ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β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Line 18"/>
          <p:cNvSpPr/>
          <p:nvPr/>
        </p:nvSpPr>
        <p:spPr>
          <a:xfrm flipH="1">
            <a:off x="6553080" y="624852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9"/>
          <p:cNvSpPr/>
          <p:nvPr/>
        </p:nvSpPr>
        <p:spPr>
          <a:xfrm>
            <a:off x="228600" y="3581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7118640" y="4605480"/>
            <a:ext cx="179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lculate deviation from 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33520" y="1219320"/>
            <a:ext cx="8153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 Equivalent circuit of electrode-electrolyte inte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 electrode is a very complicated nonlinear circuit  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wh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8"/>
          <p:cNvGrpSpPr/>
          <p:nvPr/>
        </p:nvGrpSpPr>
        <p:grpSpPr>
          <a:xfrm>
            <a:off x="1752480" y="2101680"/>
            <a:ext cx="2133360" cy="1285200"/>
            <a:chOff x="1752480" y="2101680"/>
            <a:chExt cx="2133360" cy="1285200"/>
          </a:xfrm>
        </p:grpSpPr>
        <p:sp>
          <p:nvSpPr>
            <p:cNvPr id="267" name="Line 9"/>
            <p:cNvSpPr/>
            <p:nvPr/>
          </p:nvSpPr>
          <p:spPr>
            <a:xfrm>
              <a:off x="1752480" y="2743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0"/>
            <p:cNvSpPr/>
            <p:nvPr/>
          </p:nvSpPr>
          <p:spPr>
            <a:xfrm>
              <a:off x="2057040" y="2590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>
              <a:off x="213336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2"/>
            <p:cNvSpPr/>
            <p:nvPr/>
          </p:nvSpPr>
          <p:spPr>
            <a:xfrm>
              <a:off x="2133360" y="2743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2285640" y="2514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2285640" y="25146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2285640" y="2971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2742840" y="2895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2666880" y="2895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2742840" y="2971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>
              <a:off x="3124080" y="2514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0"/>
            <p:cNvSpPr/>
            <p:nvPr/>
          </p:nvSpPr>
          <p:spPr>
            <a:xfrm>
              <a:off x="2514240" y="2438280"/>
              <a:ext cx="3812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1"/>
            <p:cNvSpPr/>
            <p:nvPr/>
          </p:nvSpPr>
          <p:spPr>
            <a:xfrm>
              <a:off x="3124080" y="2743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"/>
            <p:cNvSpPr/>
            <p:nvPr/>
          </p:nvSpPr>
          <p:spPr>
            <a:xfrm>
              <a:off x="3276360" y="2666880"/>
              <a:ext cx="380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3"/>
            <p:cNvSpPr/>
            <p:nvPr/>
          </p:nvSpPr>
          <p:spPr>
            <a:xfrm>
              <a:off x="1905840" y="2286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4"/>
            <p:cNvSpPr/>
            <p:nvPr/>
          </p:nvSpPr>
          <p:spPr>
            <a:xfrm>
              <a:off x="2522160" y="210168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5"/>
            <p:cNvSpPr/>
            <p:nvPr/>
          </p:nvSpPr>
          <p:spPr>
            <a:xfrm>
              <a:off x="2522160" y="301608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6"/>
            <p:cNvSpPr/>
            <p:nvPr/>
          </p:nvSpPr>
          <p:spPr>
            <a:xfrm>
              <a:off x="3256200" y="2330280"/>
              <a:ext cx="386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Line 27"/>
          <p:cNvSpPr/>
          <p:nvPr/>
        </p:nvSpPr>
        <p:spPr>
          <a:xfrm>
            <a:off x="6553080" y="3059280"/>
            <a:ext cx="2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8"/>
          <p:cNvSpPr/>
          <p:nvPr/>
        </p:nvSpPr>
        <p:spPr>
          <a:xfrm>
            <a:off x="6759720" y="29541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9"/>
          <p:cNvSpPr/>
          <p:nvPr/>
        </p:nvSpPr>
        <p:spPr>
          <a:xfrm>
            <a:off x="6811920" y="300672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6811920" y="3059280"/>
            <a:ext cx="1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1"/>
          <p:cNvSpPr/>
          <p:nvPr/>
        </p:nvSpPr>
        <p:spPr>
          <a:xfrm>
            <a:off x="6915240" y="2903400"/>
            <a:ext cx="0" cy="31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2"/>
          <p:cNvSpPr/>
          <p:nvPr/>
        </p:nvSpPr>
        <p:spPr>
          <a:xfrm>
            <a:off x="6915240" y="2903400"/>
            <a:ext cx="56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3"/>
          <p:cNvSpPr/>
          <p:nvPr/>
        </p:nvSpPr>
        <p:spPr>
          <a:xfrm>
            <a:off x="6915240" y="321480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4"/>
          <p:cNvSpPr/>
          <p:nvPr/>
        </p:nvSpPr>
        <p:spPr>
          <a:xfrm>
            <a:off x="7224840" y="316224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5"/>
          <p:cNvSpPr/>
          <p:nvPr/>
        </p:nvSpPr>
        <p:spPr>
          <a:xfrm>
            <a:off x="7174080" y="316224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6"/>
          <p:cNvSpPr/>
          <p:nvPr/>
        </p:nvSpPr>
        <p:spPr>
          <a:xfrm>
            <a:off x="7224840" y="321480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7"/>
          <p:cNvSpPr/>
          <p:nvPr/>
        </p:nvSpPr>
        <p:spPr>
          <a:xfrm>
            <a:off x="7483320" y="2903400"/>
            <a:ext cx="0" cy="31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8"/>
          <p:cNvSpPr/>
          <p:nvPr/>
        </p:nvSpPr>
        <p:spPr>
          <a:xfrm>
            <a:off x="7070760" y="2851200"/>
            <a:ext cx="258840" cy="10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9"/>
          <p:cNvSpPr/>
          <p:nvPr/>
        </p:nvSpPr>
        <p:spPr>
          <a:xfrm>
            <a:off x="7483320" y="3059280"/>
            <a:ext cx="51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0"/>
          <p:cNvSpPr/>
          <p:nvPr/>
        </p:nvSpPr>
        <p:spPr>
          <a:xfrm>
            <a:off x="7586640" y="3006720"/>
            <a:ext cx="25884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1"/>
          <p:cNvSpPr/>
          <p:nvPr/>
        </p:nvSpPr>
        <p:spPr>
          <a:xfrm>
            <a:off x="6656040" y="2697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2"/>
          <p:cNvSpPr/>
          <p:nvPr/>
        </p:nvSpPr>
        <p:spPr>
          <a:xfrm>
            <a:off x="7016040" y="2590920"/>
            <a:ext cx="33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3"/>
          <p:cNvSpPr/>
          <p:nvPr/>
        </p:nvSpPr>
        <p:spPr>
          <a:xfrm>
            <a:off x="7046280" y="3230640"/>
            <a:ext cx="33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4"/>
          <p:cNvSpPr/>
          <p:nvPr/>
        </p:nvSpPr>
        <p:spPr>
          <a:xfrm>
            <a:off x="7548480" y="274320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5"/>
          <p:cNvSpPr/>
          <p:nvPr/>
        </p:nvSpPr>
        <p:spPr>
          <a:xfrm>
            <a:off x="6553080" y="2373480"/>
            <a:ext cx="2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6"/>
          <p:cNvSpPr/>
          <p:nvPr/>
        </p:nvSpPr>
        <p:spPr>
          <a:xfrm>
            <a:off x="6759720" y="22683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7"/>
          <p:cNvSpPr/>
          <p:nvPr/>
        </p:nvSpPr>
        <p:spPr>
          <a:xfrm>
            <a:off x="6858000" y="232092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8"/>
          <p:cNvSpPr/>
          <p:nvPr/>
        </p:nvSpPr>
        <p:spPr>
          <a:xfrm>
            <a:off x="6858000" y="2362320"/>
            <a:ext cx="11430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9"/>
          <p:cNvSpPr/>
          <p:nvPr/>
        </p:nvSpPr>
        <p:spPr>
          <a:xfrm>
            <a:off x="7238880" y="2320920"/>
            <a:ext cx="25884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0"/>
          <p:cNvSpPr/>
          <p:nvPr/>
        </p:nvSpPr>
        <p:spPr>
          <a:xfrm>
            <a:off x="6656040" y="20113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1"/>
          <p:cNvSpPr/>
          <p:nvPr/>
        </p:nvSpPr>
        <p:spPr>
          <a:xfrm>
            <a:off x="7203960" y="205740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2"/>
          <p:cNvSpPr/>
          <p:nvPr/>
        </p:nvSpPr>
        <p:spPr>
          <a:xfrm>
            <a:off x="6553080" y="3859200"/>
            <a:ext cx="2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3"/>
          <p:cNvSpPr/>
          <p:nvPr/>
        </p:nvSpPr>
        <p:spPr>
          <a:xfrm>
            <a:off x="6759720" y="3754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54"/>
          <p:cNvSpPr/>
          <p:nvPr/>
        </p:nvSpPr>
        <p:spPr>
          <a:xfrm>
            <a:off x="6858000" y="380700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5"/>
          <p:cNvSpPr/>
          <p:nvPr/>
        </p:nvSpPr>
        <p:spPr>
          <a:xfrm>
            <a:off x="6858000" y="3848040"/>
            <a:ext cx="11430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6"/>
          <p:cNvSpPr/>
          <p:nvPr/>
        </p:nvSpPr>
        <p:spPr>
          <a:xfrm>
            <a:off x="7238880" y="3807000"/>
            <a:ext cx="25884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7"/>
          <p:cNvSpPr/>
          <p:nvPr/>
        </p:nvSpPr>
        <p:spPr>
          <a:xfrm>
            <a:off x="6656040" y="3497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8"/>
          <p:cNvSpPr/>
          <p:nvPr/>
        </p:nvSpPr>
        <p:spPr>
          <a:xfrm>
            <a:off x="7095960" y="3543480"/>
            <a:ext cx="581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+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9"/>
          <p:cNvSpPr/>
          <p:nvPr/>
        </p:nvSpPr>
        <p:spPr>
          <a:xfrm>
            <a:off x="4955040" y="2201760"/>
            <a:ext cx="1271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F: 1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&lt;&lt;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0"/>
          <p:cNvSpPr/>
          <p:nvPr/>
        </p:nvSpPr>
        <p:spPr>
          <a:xfrm>
            <a:off x="4952880" y="289872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F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1"/>
          <p:cNvSpPr/>
          <p:nvPr/>
        </p:nvSpPr>
        <p:spPr>
          <a:xfrm>
            <a:off x="4954320" y="3657600"/>
            <a:ext cx="124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F: 1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&gt;&gt;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2"/>
          <p:cNvSpPr/>
          <p:nvPr/>
        </p:nvSpPr>
        <p:spPr>
          <a:xfrm>
            <a:off x="1202400" y="46483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eq.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3"/>
          <p:cNvSpPr/>
          <p:nvPr/>
        </p:nvSpPr>
        <p:spPr>
          <a:xfrm>
            <a:off x="781920" y="3384720"/>
            <a:ext cx="4184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leaky resistor at interface (double lay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concentration related capacitor at double lay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resistor in the electroly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4"/>
          <p:cNvSpPr/>
          <p:nvPr/>
        </p:nvSpPr>
        <p:spPr>
          <a:xfrm flipV="1">
            <a:off x="3962520" y="24382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5"/>
          <p:cNvSpPr/>
          <p:nvPr/>
        </p:nvSpPr>
        <p:spPr>
          <a:xfrm>
            <a:off x="4114800" y="27432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6"/>
          <p:cNvSpPr/>
          <p:nvPr/>
        </p:nvSpPr>
        <p:spPr>
          <a:xfrm>
            <a:off x="4038480" y="28954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7" descr="8"/>
          <p:cNvPicPr/>
          <p:nvPr/>
        </p:nvPicPr>
        <p:blipFill>
          <a:blip r:embed="rId1"/>
          <a:stretch/>
        </p:blipFill>
        <p:spPr>
          <a:xfrm>
            <a:off x="3886200" y="4267080"/>
            <a:ext cx="4419720" cy="23716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68"/>
          <p:cNvSpPr/>
          <p:nvPr/>
        </p:nvSpPr>
        <p:spPr>
          <a:xfrm>
            <a:off x="4650120" y="44956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9"/>
          <p:cNvSpPr/>
          <p:nvPr/>
        </p:nvSpPr>
        <p:spPr>
          <a:xfrm>
            <a:off x="6210720" y="484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0"/>
          <p:cNvSpPr/>
          <p:nvPr/>
        </p:nvSpPr>
        <p:spPr>
          <a:xfrm>
            <a:off x="7561440" y="54547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H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1"/>
          <p:cNvSpPr/>
          <p:nvPr/>
        </p:nvSpPr>
        <p:spPr>
          <a:xfrm>
            <a:off x="1523880" y="1981080"/>
            <a:ext cx="2438640" cy="1447920"/>
          </a:xfrm>
          <a:prstGeom prst="ellipse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72"/>
          <p:cNvSpPr/>
          <p:nvPr/>
        </p:nvSpPr>
        <p:spPr>
          <a:xfrm>
            <a:off x="380880" y="25146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053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533520" y="9907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kin-electrode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7"/>
          <p:cNvPicPr/>
          <p:nvPr/>
        </p:nvPicPr>
        <p:blipFill>
          <a:blip r:embed="rId1"/>
          <a:stretch/>
        </p:blipFill>
        <p:spPr>
          <a:xfrm>
            <a:off x="533520" y="1523880"/>
            <a:ext cx="4572000" cy="3872160"/>
          </a:xfrm>
          <a:prstGeom prst="rect">
            <a:avLst/>
          </a:prstGeom>
          <a:ln w="0">
            <a:noFill/>
          </a:ln>
        </p:spPr>
      </p:pic>
      <p:sp>
        <p:nvSpPr>
          <p:cNvPr id="338" name="Oval 9"/>
          <p:cNvSpPr/>
          <p:nvPr/>
        </p:nvSpPr>
        <p:spPr>
          <a:xfrm>
            <a:off x="2514600" y="1738440"/>
            <a:ext cx="1523880" cy="1447560"/>
          </a:xfrm>
          <a:prstGeom prst="ellipse">
            <a:avLst/>
          </a:prstGeom>
          <a:noFill/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3963960" y="19670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lectr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844200" y="2652840"/>
            <a:ext cx="1344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ssume 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e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2209680" y="280512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5110920" y="1219320"/>
            <a:ext cx="37911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pidermis: behaves like a membr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or ion transfer w/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k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 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and 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epidermis imped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strongly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-dependent, e.g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arying from 200k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Hz to 2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t 1MHz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 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electr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major role is the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stra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corne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4"/>
          <p:cNvSpPr/>
          <p:nvPr/>
        </p:nvSpPr>
        <p:spPr>
          <a:xfrm flipH="1">
            <a:off x="4267080" y="4100400"/>
            <a:ext cx="152640" cy="7621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3662640" y="4835520"/>
            <a:ext cx="154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Selective to Na</a:t>
            </a:r>
            <a:r>
              <a:rPr b="0" lang="en-US" sz="12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+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, K</a:t>
            </a:r>
            <a:r>
              <a:rPr b="0" lang="en-US" sz="12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+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and Cl</a:t>
            </a:r>
            <a:r>
              <a:rPr b="0" lang="en-US" sz="12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-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 chann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Mostly neg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4191120" y="2805120"/>
            <a:ext cx="685800" cy="228600"/>
          </a:xfrm>
          <a:prstGeom prst="ellipse">
            <a:avLst/>
          </a:prstGeom>
          <a:noFill/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7"/>
          <p:cNvSpPr/>
          <p:nvPr/>
        </p:nvSpPr>
        <p:spPr>
          <a:xfrm>
            <a:off x="2514600" y="3186000"/>
            <a:ext cx="1523880" cy="1371600"/>
          </a:xfrm>
          <a:prstGeom prst="ellipse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8"/>
          <p:cNvSpPr/>
          <p:nvPr/>
        </p:nvSpPr>
        <p:spPr>
          <a:xfrm>
            <a:off x="2971800" y="4633920"/>
            <a:ext cx="685800" cy="380880"/>
          </a:xfrm>
          <a:prstGeom prst="ellipse">
            <a:avLst/>
          </a:prstGeom>
          <a:noFill/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5209560" y="3762360"/>
            <a:ext cx="32090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rmis:    behaves like a resis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ayer w/ 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5246280" y="4343400"/>
            <a:ext cx="358704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Usually, the </a:t>
            </a:r>
            <a:r>
              <a:rPr b="0" i="1" lang="en-US" sz="14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stratum corneum is removed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by mechanical abrasion or chemical way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mprove conductivity –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critical to redu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noise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. In this case, E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kin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=0, C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ep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=0,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R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= R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ep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+ R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G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+ R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1"/>
          <p:cNvSpPr/>
          <p:nvPr/>
        </p:nvSpPr>
        <p:spPr>
          <a:xfrm>
            <a:off x="457200" y="5562720"/>
            <a:ext cx="8305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Also, if the electrode is moved w/ respect to electrolyte, local ionic charge distribution will be disturbed, resulting in a momentary change in E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skin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,. Because a </a:t>
            </a:r>
            <a:r>
              <a:rPr b="0" i="1" lang="en-US" sz="1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nonpolarizable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 electrode, e.g., Ag/AgCl has low overpotential E</a:t>
            </a:r>
            <a:r>
              <a:rPr b="0" i="1" lang="en-US" sz="14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0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, this does not pose a problem. However, in precise sensing, </a:t>
            </a:r>
            <a:r>
              <a:rPr b="0" i="1" lang="en-US" sz="1400" spc="-1" strike="noStrike">
                <a:solidFill>
                  <a:srgbClr val="0066ff"/>
                </a:solidFill>
                <a:latin typeface="Arial"/>
                <a:ea typeface="宋体"/>
              </a:rPr>
              <a:t>motion-artifact btw gel and skin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 E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skin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, may cause a major artifact. This can be removed by removal of stratum corneum. Side effec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2"/>
          <p:cNvSpPr/>
          <p:nvPr/>
        </p:nvSpPr>
        <p:spPr>
          <a:xfrm>
            <a:off x="5791320" y="2057400"/>
            <a:ext cx="152280" cy="16002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3"/>
          <p:cNvSpPr/>
          <p:nvPr/>
        </p:nvSpPr>
        <p:spPr>
          <a:xfrm>
            <a:off x="228600" y="3049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1122480"/>
            <a:ext cx="84582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Polarization of electr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Ohmic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istance R in the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electroly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auses a voltage drop along the pa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rrent I in the electrolyte (especially in low-concentration electrolyte)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t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-dependent and does not necessarily follow ohm’s la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oncent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≠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xidation and reduction reaction equilibriums are broken, i.e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ing in a different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Activ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y chemical reaction needs to overcome an energy barrier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c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ener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governing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kine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the reaction to occ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xidation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+n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re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+n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 not necess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ave the same energy barrier. If I is applied, either oxidation or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action predominates; hence, the energy barrier is direction depen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barrier difference at the interface appears as difference in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 the interface. This difference is activation potential btw solid/lqd ph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0"/>
              <p:cNvSpPr txBox="1"/>
              <p:nvPr/>
            </p:nvSpPr>
            <p:spPr>
              <a:xfrm>
                <a:off x="1981080" y="3478320"/>
                <a:ext cx="17686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</m:sup>
                    </m:sSup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</m:sup>
                    </m:sSup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Rectangle 11"/>
          <p:cNvSpPr/>
          <p:nvPr/>
        </p:nvSpPr>
        <p:spPr>
          <a:xfrm>
            <a:off x="3651480" y="35838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2"/>
              <p:cNvSpPr txBox="1"/>
              <p:nvPr/>
            </p:nvSpPr>
            <p:spPr>
              <a:xfrm>
                <a:off x="3809880" y="3478320"/>
                <a:ext cx="1787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</m:sup>
                    </m:sSup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</m:sup>
                    </m:sSup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lectrodes: half-cell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3716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mmary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1868400"/>
            <a:ext cx="8229600" cy="47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Electrolys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ia electrochemical reactions to allow charge transfer across the interfac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Half-cell potent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epends 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ype of material C of the electrode (e.g.,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[A</a:t>
            </a:r>
            <a:r>
              <a:rPr b="0" lang="en-US" sz="16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m-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], [C</a:t>
            </a:r>
            <a:r>
              <a:rPr b="0" lang="en-US" sz="16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n+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rface condition at the interfac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Why called half cel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floated, therefore a seco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nee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 form a full cell to measure 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There are two types of electro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tentiome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y measuring voltage V (no need for polarization, </a:t>
            </a:r>
            <a:r>
              <a:rPr b="0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I</a:t>
            </a:r>
            <a:r>
              <a:rPr b="0" lang="en-US" sz="1600" spc="-1" strike="noStrike">
                <a:solidFill>
                  <a:srgbClr val="00b0f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mperome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  by measuring current  I  (need polarization 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I</a:t>
            </a:r>
            <a:r>
              <a:rPr b="0" lang="en-US" sz="1600" spc="-1" strike="noStrike">
                <a:solidFill>
                  <a:srgbClr val="00b0f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533520" y="5486400"/>
            <a:ext cx="152280" cy="304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033560" y="2590920"/>
            <a:ext cx="5330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Polarizable &amp; nonpolarizable electr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Measurement of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Nern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q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Electrode equivalent circuits &amp; ski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 ECG, EKG &amp; E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 Noise reduction in ECG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3816360" y="1447920"/>
            <a:ext cx="172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l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27476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Polarizable electr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classification depends on what happens at the interface when an electrical current I is applied to the electr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Polariz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Perfectly) polarizable electrode refers to those having no actual or very minute charge Q across the electrode-electrolyte interface, i.e.,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finitely there will be I across the interface to form a close loop, but this I is a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displacement current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I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behaving like a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capac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st likely, those composed of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  <a:ea typeface="宋体"/>
              </a:rPr>
              <a:t>no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metals, e.g., Pt, Au, which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very difficult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oxidiz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and disso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elates to [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at the interface; therefore, it has a larg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ed overpotentia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0"/>
              <p:cNvSpPr txBox="1"/>
              <p:nvPr/>
            </p:nvSpPr>
            <p:spPr>
              <a:xfrm>
                <a:off x="3168720" y="5486400"/>
                <a:ext cx="11746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≈</m:t>
                    </m:r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2" name="Text Box 11"/>
          <p:cNvSpPr/>
          <p:nvPr/>
        </p:nvSpPr>
        <p:spPr>
          <a:xfrm>
            <a:off x="1911240" y="5891040"/>
            <a:ext cx="54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crease or decrease of charges at the interfaces resul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ocal ionic concentration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7238880" y="3505320"/>
            <a:ext cx="914400" cy="304560"/>
          </a:xfrm>
          <a:prstGeom prst="ellipse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3520" y="1274760"/>
            <a:ext cx="807696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Nonpolarizable electr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Nonpolariz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Perfectly) nonpolarizable electrode refers to those having charge or current across the electrode-electrolyte inter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e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I</a:t>
            </a:r>
            <a:r>
              <a:rPr b="1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equiring no energy to make the transition, i.e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typical example i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Ag/Ag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lectrode, which will be discussed in more detail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st likely, those composed of a metal C coated with a layer of slightly soluble ionic compound of same metal,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ha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these electrode, the electrolyte solution has to have a highly soluble anion and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has to be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satur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 order to be stabl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4419720" y="2743200"/>
                <a:ext cx="8380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Oval 10"/>
          <p:cNvSpPr/>
          <p:nvPr/>
        </p:nvSpPr>
        <p:spPr>
          <a:xfrm>
            <a:off x="533520" y="4800600"/>
            <a:ext cx="15228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520" y="1219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 Measurement of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2"/>
          <p:cNvPicPr/>
          <p:nvPr/>
        </p:nvPicPr>
        <p:blipFill>
          <a:blip r:embed="rId1"/>
          <a:stretch/>
        </p:blipFill>
        <p:spPr>
          <a:xfrm>
            <a:off x="1217520" y="1676520"/>
            <a:ext cx="2286000" cy="2100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3a"/>
          <p:cNvPicPr/>
          <p:nvPr/>
        </p:nvPicPr>
        <p:blipFill>
          <a:blip r:embed="rId2"/>
          <a:stretch/>
        </p:blipFill>
        <p:spPr>
          <a:xfrm>
            <a:off x="5292720" y="1676520"/>
            <a:ext cx="1868400" cy="2133360"/>
          </a:xfrm>
          <a:prstGeom prst="rect">
            <a:avLst/>
          </a:prstGeom>
          <a:ln w="0">
            <a:noFill/>
          </a:ln>
        </p:spPr>
      </p:pic>
      <p:sp>
        <p:nvSpPr>
          <p:cNvPr id="152" name="Line 11"/>
          <p:cNvSpPr/>
          <p:nvPr/>
        </p:nvSpPr>
        <p:spPr>
          <a:xfrm>
            <a:off x="3884760" y="2666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574800" y="236232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re practical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2055960" y="2362320"/>
            <a:ext cx="533160" cy="30456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6323040" y="3276720"/>
            <a:ext cx="380880" cy="30456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5" descr="3b"/>
          <p:cNvPicPr/>
          <p:nvPr/>
        </p:nvPicPr>
        <p:blipFill>
          <a:blip r:embed="rId3"/>
          <a:stretch/>
        </p:blipFill>
        <p:spPr>
          <a:xfrm>
            <a:off x="2378160" y="3962520"/>
            <a:ext cx="1508040" cy="55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3c"/>
          <p:cNvPicPr/>
          <p:nvPr/>
        </p:nvPicPr>
        <p:blipFill>
          <a:blip r:embed="rId4"/>
          <a:stretch/>
        </p:blipFill>
        <p:spPr>
          <a:xfrm>
            <a:off x="6553080" y="4114800"/>
            <a:ext cx="1981440" cy="257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7"/>
          <p:cNvSpPr/>
          <p:nvPr/>
        </p:nvSpPr>
        <p:spPr>
          <a:xfrm>
            <a:off x="4890600" y="3962520"/>
            <a:ext cx="15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lete re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2578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569160" y="388620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 half-cell reac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6487200" y="358128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batt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1"/>
          <p:cNvSpPr/>
          <p:nvPr/>
        </p:nvSpPr>
        <p:spPr>
          <a:xfrm>
            <a:off x="6703920" y="2819520"/>
            <a:ext cx="228600" cy="2286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2"/>
          <p:cNvSpPr/>
          <p:nvPr/>
        </p:nvSpPr>
        <p:spPr>
          <a:xfrm>
            <a:off x="5256360" y="2971800"/>
            <a:ext cx="228600" cy="2286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3946320" y="39164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=0.3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3939840" y="4221000"/>
            <a:ext cx="11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=- 0.76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6712560" y="4343400"/>
            <a:ext cx="156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宋体"/>
              </a:rPr>
              <a:t>(E</a:t>
            </a:r>
            <a:r>
              <a:rPr b="0" lang="en-US" sz="12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0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宋体"/>
              </a:rPr>
              <a:t>= E</a:t>
            </a:r>
            <a:r>
              <a:rPr b="0" lang="en-US" sz="12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01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宋体"/>
              </a:rPr>
              <a:t> - E</a:t>
            </a:r>
            <a:r>
              <a:rPr b="0" lang="en-US" sz="12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02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宋体"/>
              </a:rPr>
              <a:t>:=1.1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6023880" y="3073320"/>
            <a:ext cx="447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-S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6023880" y="3454560"/>
            <a:ext cx="447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-S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8"/>
          <p:cNvSpPr/>
          <p:nvPr/>
        </p:nvSpPr>
        <p:spPr>
          <a:xfrm>
            <a:off x="6084360" y="295128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Zn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5800320" y="34290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u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689400" y="4784760"/>
            <a:ext cx="781740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ppose the internal resistance R of the full cell is 1kohm, then the current is 1.1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owever, depending on the type of electrodes (polarizable or not), R can be v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fferent, e.g.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-10</a:t>
            </a:r>
            <a:r>
              <a:rPr b="0" lang="en-US" sz="1600" spc="-1" strike="noStrike" u="sng" baseline="30000">
                <a:solidFill>
                  <a:srgbClr val="000000"/>
                </a:solidFill>
                <a:uFillTx/>
                <a:latin typeface="Arial"/>
                <a:ea typeface="宋体"/>
              </a:rPr>
              <a:t>12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ohm, thus the measurement in some cases can be challeng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eep in mind that these measurements are performed at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宋体"/>
              </a:rPr>
              <a:t>1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on concentration.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alf cell potential in this case is defined as 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standard half-cell potentia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r>
              <a:rPr b="0" i="1" lang="en-US" sz="16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Ø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7315560" y="2635200"/>
            <a:ext cx="176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Ion brid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Junction 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2"/>
          <p:cNvSpPr/>
          <p:nvPr/>
        </p:nvSpPr>
        <p:spPr>
          <a:xfrm>
            <a:off x="457200" y="5334120"/>
            <a:ext cx="15228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33520" y="1219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 Measurement of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25360" y="1600200"/>
            <a:ext cx="398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asurement of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can be done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electrode (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=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4a"/>
          <p:cNvPicPr/>
          <p:nvPr/>
        </p:nvPicPr>
        <p:blipFill>
          <a:blip r:embed="rId1"/>
          <a:stretch/>
        </p:blipFill>
        <p:spPr>
          <a:xfrm>
            <a:off x="5334120" y="1143000"/>
            <a:ext cx="252396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"/>
          <p:cNvSpPr/>
          <p:nvPr/>
        </p:nvSpPr>
        <p:spPr>
          <a:xfrm>
            <a:off x="7652160" y="251460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 = Cu or 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4b"/>
          <p:cNvPicPr/>
          <p:nvPr/>
        </p:nvPicPr>
        <p:blipFill>
          <a:blip r:embed="rId2"/>
          <a:stretch/>
        </p:blipFill>
        <p:spPr>
          <a:xfrm>
            <a:off x="1447920" y="2286000"/>
            <a:ext cx="3047760" cy="723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4c"/>
          <p:cNvPicPr/>
          <p:nvPr/>
        </p:nvPicPr>
        <p:blipFill>
          <a:blip r:embed="rId3"/>
          <a:stretch/>
        </p:blipFill>
        <p:spPr>
          <a:xfrm>
            <a:off x="1447920" y="3314880"/>
            <a:ext cx="2286000" cy="266400"/>
          </a:xfrm>
          <a:prstGeom prst="rect">
            <a:avLst/>
          </a:prstGeom>
          <a:ln w="0">
            <a:noFill/>
          </a:ln>
        </p:spPr>
      </p:pic>
      <p:sp>
        <p:nvSpPr>
          <p:cNvPr id="185" name="Line 1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25360" y="3608280"/>
            <a:ext cx="7561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A H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2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electrode is an irreversible and almost no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consumable electrode. It needs H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2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bubbling, which is potentially explosiv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measured potent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 = 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- 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= 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= 0.34V     for M = C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imilar measurements can be performed for most metallic electrodes by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electrode.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This is because most metals can be dissolved in an acidic sol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387720" y="990720"/>
            <a:ext cx="80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alt Brid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 contains an electrolyte that connects the 2 compartments of a voltaic cel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llowing ion flow w/o extensive mixing of the different solutions, e.g., KC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zncu"/>
          <p:cNvPicPr/>
          <p:nvPr/>
        </p:nvPicPr>
        <p:blipFill>
          <a:blip r:embed="rId1"/>
          <a:stretch/>
        </p:blipFill>
        <p:spPr>
          <a:xfrm>
            <a:off x="228600" y="1523880"/>
            <a:ext cx="4495680" cy="3581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596520" y="5987160"/>
            <a:ext cx="33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mooni.fccj.org/~ethall/2046/ch18/galvanic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496440" y="5180040"/>
            <a:ext cx="343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salt bridge is necessary to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circuit and maintain charge neutr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stable and slow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Electrochemical_element_with_salt_bridge"/>
          <p:cNvPicPr/>
          <p:nvPr/>
        </p:nvPicPr>
        <p:blipFill>
          <a:blip r:embed="rId3"/>
          <a:stretch/>
        </p:blipFill>
        <p:spPr>
          <a:xfrm>
            <a:off x="5410080" y="1585800"/>
            <a:ext cx="2438640" cy="2148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4"/>
          <p:cNvSpPr/>
          <p:nvPr/>
        </p:nvSpPr>
        <p:spPr>
          <a:xfrm>
            <a:off x="4894560" y="365688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commons.wikimedia.org/wiki/Image:Electrochemi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5" descr="Electrochemical cells are formed by linking two half cells with one another, usually by platinum electrodes and/or a salt bridge."/>
          <p:cNvPicPr/>
          <p:nvPr/>
        </p:nvPicPr>
        <p:blipFill>
          <a:blip r:embed="rId6"/>
          <a:stretch/>
        </p:blipFill>
        <p:spPr>
          <a:xfrm>
            <a:off x="4724280" y="4038480"/>
            <a:ext cx="4114800" cy="23590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6"/>
          <p:cNvSpPr/>
          <p:nvPr/>
        </p:nvSpPr>
        <p:spPr>
          <a:xfrm>
            <a:off x="4841640" y="6354000"/>
            <a:ext cx="35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www.steve.gb.com/science/thermodynamics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63262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4:26:49Z</dcterms:created>
  <dc:creator>Yingtian Pan</dc:creator>
  <dc:description/>
  <dc:language>en-US</dc:language>
  <cp:lastModifiedBy>User</cp:lastModifiedBy>
  <dcterms:modified xsi:type="dcterms:W3CDTF">2013-02-10T18:36:15Z</dcterms:modified>
  <cp:revision>50</cp:revision>
  <dc:subject/>
  <dc:title>Electrodes for Biosensors</dc:title>
</cp:coreProperties>
</file>