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BF107-0E40-414C-AD6A-0BC28B0B2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CE6B6-0B5C-41C5-B606-9F8CACBA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AEB081-700F-4E6D-9C66-2744F6B43A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D344A-AC75-453E-A282-1E0E974F1B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F9E1DE-AFE7-4259-95F9-B656621DBD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E676B-2EB7-44A2-A642-E8A6C63E2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6C5F0-84D9-4BD3-A246-529043BA2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F5471-63F8-4DF7-913A-5BAEA830B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881656-E78F-4773-915E-4EFC4A0CFC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AB4D30-4050-4F9D-8B6A-42BB3A2E4E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581A13-8226-4430-8647-B0E0A743FC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88E6526-64A8-4F58-A19B-451B6EE33F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41472-70C5-41AC-9800-7160F887C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E6BEB36-BFF0-4809-BACC-4EC56EB8E5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B58B276-AC14-44FD-9AF4-2EAE194059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CBB9FF5-AF24-4712-ADA8-74F071D032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BFA941D-C842-403C-85CB-D4B353A6E8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E2B65CD-F555-4F79-A124-9541392101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10AC7EE-9D6D-4785-B537-384D4FB61A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22D7AFD-1013-4B4A-A190-F9BF4EE77D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6FA83FE-5432-4913-99E1-9DBD095CCB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7EA4024-1CA2-4BA3-AFE1-42CFF4A795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7082866-0C87-48F8-AB91-213A3BF8C3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91970-E8DE-4904-BFD0-1ED8C8196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156E905-A87A-44E3-8567-A16DC5973C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A44976-D758-49DC-882C-19636FF03A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E6C3C8-D6E6-499E-90AC-EFD8B966D3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B8AD9E-1682-4F94-881A-4A77A01FAC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472235-A4FD-4ADA-8E9F-DDCE02CF3D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7426F5-C6E5-4AB2-81DD-B255FB54A7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7C4F12-22D7-4C85-A67E-94F39F20F4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1AE9F7-B9F5-44E2-AA88-33E0F6E107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B836DE-2F96-4636-8F8B-3E589DC33E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3DAA85-7EBD-4B25-8E38-E9CFB6596F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2FCCA-4892-4392-A556-0E376EE16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B75FD0-8233-4577-8BE9-48913F0922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A79457-C3D1-4832-90F3-80B9AA1C55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7F6FBD-883F-4D43-8A2F-E466381F3D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153D5C-3BAF-4856-BAEF-3F5DF0B4FA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7A23CD-D9BF-4DA4-AE09-791D2E576A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227E0E-2FA3-45C4-9D2A-CC2463A902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4072B2-8EFC-4C56-A8BB-11F43CAAFB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DB438D-EA08-4969-8C3A-2DE86E7491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4709FD-7B3E-4FF9-9AB9-6526F3782D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E35778-4F11-4740-BE25-EAE9E3E858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29690-8E17-4D6F-B63B-F178DC570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10514C-DF8F-4E76-BE76-33B1739BB2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CB9DFC-115F-4F5A-B1C6-3057479F30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C81CFE-40D5-453A-AB9F-8587591F6A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B17E14-37C9-43B6-A1D9-76A4000F64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39F575-DB6F-4F41-833E-C4223F0800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40CE97-B1F2-460B-B4D9-C6C07AF785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85D516-23E7-45DB-8599-E8F7059C05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8BE02E-EF56-4309-8084-97BE70C2CF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CDF3D0-3BA1-4128-9E3D-F04EB74ADB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A31F0B-2F89-4583-8AFE-14B703D9A1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CD4BD-CC88-427D-BAF3-56091EBFF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EDF814-AA91-41AC-999A-60F9519FF8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CC2DB2-7524-41E2-9E59-F2F02445BB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D1EFD4-E7C2-4C2B-A495-69C92051DF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304825-093A-45A4-8F0B-4D15B4BE3B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E9E484-BEAF-47DC-B42D-A73CF3440B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42CB0F-9981-45EA-86E9-B9CC23287DA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1687A21-B848-4A40-8025-93E41EA8ED5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7F2ACA-A512-4A20-BC70-9D018D235A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271945-AAD0-4EED-B471-723DFF6249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5BBF47-2F0A-47A2-B561-5177AA1DD1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E6400-5310-4CDC-9EA3-125EB515E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196896-30EA-45C9-8B08-B24196A7D2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0D42DD-E63A-4391-A116-3C9A7BBE3F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4D3ADB-90F9-4F56-AA3C-5260235253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017D29-CE23-4463-A562-506BE111A7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09B149-C0BB-4E79-A277-65B4923BED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067295-2917-436C-894D-DDF8366E5C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1CC875-7D2C-4E18-944B-4C745E1CFB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1B97AE-2622-45DB-AF49-8D900109620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C57C5BB-23EC-4895-9E70-2281F93ADD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C1DCC6F-BFAD-4469-A452-2DC22FDBD78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D7477-07D9-4F28-9933-6D7131EE9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5E2624-28FE-45EC-91BF-30CCA23222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C7A029-D7BF-4805-95A0-6702D45672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AC8BD7-45D7-4FF5-AEC6-C952E737C14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4ECB10-1AAD-492F-9230-008334AC94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148295-2710-4982-B840-64E390A72DF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98935B-3BA1-4E8E-BD49-A1E5E65003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906ACF-97F9-4C6A-9AC3-DBC4E0797E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2E6090-C405-4E60-8971-30B471DEAD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309113-2962-4929-909B-063D6BCB5C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36BBD0-389F-48DB-B951-792E08C8AF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F0D0C-F5EA-4819-B676-A9A5D1F4E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602DBF5-25FA-4A78-B2B6-8EA2C777CA6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5245A77-1A63-4E0E-8F32-BCFAFE39ABF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1EFEB3-0EB4-4290-A108-61BAF3478E9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026B04-B972-49A1-B373-52365B4AA9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079280-E336-4B64-961F-928986A3E7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BCAA6E-ABA9-4288-8CE9-37010D31E7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AF31A3-01BA-4FA6-A5BD-68603DE0C5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BDDC75-2250-477D-A98D-91A63B7798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77D58B-4713-4E1C-8592-FF540717B9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5129A8-A566-4AD3-945E-FFFF1F4D52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4078D-CD40-45ED-B8A2-308927ADF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00672B-C253-4D49-8691-C97AFB146EA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450CC0D-D992-4295-AE4A-F461520D528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2E395A5-6EED-4439-A8A6-7772CD03BC0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1DCF26E-0897-44A6-88EF-39F360DB6DE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CA342C-F099-4F4A-B39B-D2EB357F9A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4E0B95-328C-41B2-BB6D-E71E389571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BB557B-C98A-4BD2-93B7-31E3066BAF5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3CFC15-DE0D-4562-8139-3DE8B95F37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B1034D-F60A-4981-8C5E-D415165393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9BBEFF-5754-45B9-BDF3-2A8C57DBF5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1F306-5C12-4417-B3E2-6D7B3969C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89448-BF9D-4622-883C-C6E2D6CB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A1FDDE-F6B3-4CB3-BA93-FC6D5560E2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925047-E24A-412B-873F-C95644C2E01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3C521C-4FF4-4031-9CC6-53A0096F080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5804C0C-449E-4F39-8B90-6927070F298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317A0EE-C6BF-48D4-9DFA-1C485FD5936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546716C-1ED4-455D-8279-956E253A0A0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29EDDFD-7CC2-4BF1-B7A5-CE5E457163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6449176-4EE5-4687-B4D3-5A68EEE7D5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840C08-6266-45B9-8266-74E2ED7DC6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33E1956-3C76-47DC-8973-55ECD4B24B0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AE487-80DD-441D-B539-9D6F412FE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DA0101-5455-485F-8C1C-750B35633B3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2DC4D2-0B97-45F8-9AE8-874137D5BD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037ABE-5983-4B4B-8A1B-6C4FED6464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126444-401D-494C-97B2-DDC12069D3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96F238-5318-4655-925B-59B71B33150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A329A7C-2BA9-4B96-B616-104A3877ADD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BBE31F9-0473-4BF3-BBC9-B672CF2C467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946835D-72C8-45F6-B5D5-8E4810756B53}"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6564D13-4CA5-4B3C-A4AF-913EEADAF1E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7083471-6A7C-44E5-8F55-EDA0E3EBA11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9AC61-1CE4-4088-BDB3-617DE96EA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5E292B3-8A7B-4BAB-9329-E2E006891D1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1F981BC-C3CA-4EBB-A4A2-DB4FCC181A0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BA46788-0C40-4DB3-BDA9-57CD7A7360D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DB58A8C-454A-458D-A391-BB7984DD208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3C5EDAE-362B-4571-8EE7-9C46C66F7C7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FFAE90B-AB03-45CC-8A59-B27F4084C0A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B94D1DA-3DE3-4C6D-A28E-C838F1EACA8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71D39FC-ED66-4DD0-9859-F67E8297727D}"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5323FC33-8166-4774-9DF6-FCBC9C09270C}"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221D7F5-023E-4C7C-BA00-81EC3B7ED52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AFCEB-9993-4035-91AE-F01BA6FA2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4DF6C4B-594B-48BE-802E-423DF61CA7F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4E73730-3586-4269-B6ED-53E0569D8AD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9054B2-8680-4B2C-B3F6-BCCA7F7B081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3C0C7FC-1AA8-4845-A741-6FBF27AA70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5FE2B15-CDC9-4D6D-8FE9-660064C5E50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6B2FFE-5F28-40E3-9BEE-CA48BBCB71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E88066E-5642-4B77-9D5F-1992391E92A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4A37505-8A25-4A52-83A2-0075BF1E856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83502F-A8D9-4092-AD07-12E9FAE8F4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11996D6-80F3-499D-9357-B057BBB78BC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E5F63-05FA-4812-B972-8268910D4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9476D73-1820-457A-94F0-830FC8574D8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2ADF8B-2C3C-4DFA-AC81-15EA41C11F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DC1B5-8016-4F93-BF3E-C21B4ACB4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21432-6B0D-4FF0-B410-E46887DCD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A8530-E005-4987-8622-78F2ABFFE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0DB03-2430-498F-B83C-A6C4F63BE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C4199-E0F5-4F99-93A1-1166D9E7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FC934-53CE-4EDE-9967-1D48E6E26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5AE00-0381-4182-90A0-766BE4399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F26D2-D8F6-4FE8-8184-BCC223A19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0B2C2-275F-47F8-B60F-CF4E7BC5C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D68B4D-58DF-4CC7-A601-743CCE3C3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BCE6C9-3FD5-4645-97A4-D8550FA2E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AA233B-02B6-4340-AF2C-1EEC6C4B0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A9C0A6-C7DD-4EEA-9835-F5A3503F1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3F911-0060-4A1F-85BD-36C0CC15B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383DB-33AC-4534-AA11-C3AE9162A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C7D4-974B-4292-AAAC-147193DE4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28322-0686-45AB-8506-6F572C8BC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C9954-014B-4ADD-924F-0229DA110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E170BF-0DF7-4DCC-AF80-6A4D183BB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D6D55-B585-4B15-B339-D0398A445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38467-21B4-4D44-A13C-A32D32627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99844-A4B4-44BE-BA79-DCB04E5B5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32174-43B2-45AE-841C-D109DD4C5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9629BC-1A49-4186-A059-F810040877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518EB2-C828-41F3-8893-0B8BC2BDC5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B95DDA-D7C9-41EE-9151-BEAE41934F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960F5-1DFC-4AB8-81F4-4A15B61F1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8E6D24-DBD1-4D2B-9786-261671BE5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EFCD51-5EFE-45E9-B170-08E1D471A8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908DA-B495-461F-BF2B-7A4C38230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B41A4-EF0D-49BD-B589-A9792B7411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34D876-86CD-4665-A4B2-B04B48C7F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4B944-951B-47E2-A837-E967F4CE7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BFB73-3AC6-4378-8527-705475757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60598-BF3C-4C99-8462-5B7E14B49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5A49B-0571-4A56-BBC7-F81600CB9B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ECBD77-619A-4DC5-8B26-65559BC534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9363B-94F0-4C20-9CDA-5D0B07099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9DDEC-6DED-4531-9D4E-0D1D018CD1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34B999-8342-4335-9B9C-66B6F3B7D9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1730EA-F9F4-4272-A74C-3FBBE55B8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33C972-E742-4634-9C2B-65AE4A5B6C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390BF1-6763-478D-A5CA-E84AC9984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630C2-C539-4504-B821-4DE435550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9701E-1EAC-4E68-AB87-127951CE8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BD7EF6-3FFF-499F-B3CD-CB31BF991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42A97-5787-4C7E-AEC9-08A88DA91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278AE-6C25-4CA2-A1EE-77E6E192C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C8EB-2608-4015-ACB4-7745A7FE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9452B-1FB2-490A-B7CC-8F54EA134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3ECEF-9BF7-4AD5-8EB2-A485F651B8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A813AE-921E-4E65-9C78-B000C1FB20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3A77F7-66D3-4261-BAA4-6A48C250F8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0E51EA-2A45-4240-98A2-6D5A0632A2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DDF81-4635-4A57-B3D4-09FA32704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50A021-D07F-4493-80B2-279C5D72A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BDEDE-B0D2-4B9C-B389-30EC0C8AF6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266393-4AFF-430C-A4FE-843B967A2F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68FC3-E41E-4E68-9549-63CE52FF1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A54A-C781-4A9F-B7D6-5E7F85CA6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8CEC2-C3FB-4E5F-BEFF-856F1039F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3D8DA-4CE9-4A33-8B38-661ED2D69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78DA9-6460-466E-BE06-133D41AC8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2EDBE1-D8EE-4DDA-8DD6-072148A97F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81B4AB-DAAC-4BB9-8A37-A9E51C24DF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8F4879-699D-4C2D-939A-E98588EFB5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AEF3E-D76D-4F5A-9501-70A53FD904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187AA8-669C-4E06-B080-E495ECF69B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368E2C-B64A-4B12-B917-DEF4821366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20F411-46B7-4383-9B77-0EF9474316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2A486-C8C3-4970-9DB2-6B0326B6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65D13-F672-469D-A221-F5F6A9F556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25FE1-D0A8-4307-9FE4-4B5EDD319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AFFB0-62A5-4E90-9E5C-218F43BED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14F69-5DAD-4006-B985-88DAADC20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A72B91-CA42-4B15-84C2-779D26EAA2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CD19D4-F781-406F-BB24-2CA4F6FEA7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E28050-20D7-4E11-8CDF-0C02790F98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912A67-828A-4193-A48B-A6B9FAABA2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B5358-FBD9-4237-A9A2-013B15AAE9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8BAC0E-B4FF-4482-A0FE-A1E0B22A38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9BE3-AC20-41FF-9A9E-18DF8D314F6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08" name=""/>
          <p:cNvGrpSpPr/>
          <p:nvPr/>
        </p:nvGrpSpPr>
        <p:grpSpPr>
          <a:xfrm>
            <a:off x="-6480" y="20520"/>
            <a:ext cx="9144000" cy="6858000"/>
            <a:chOff x="-6480" y="20520"/>
            <a:chExt cx="9144000" cy="6858000"/>
          </a:xfrm>
        </p:grpSpPr>
        <p:sp>
          <p:nvSpPr>
            <p:cNvPr id="50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 name=""/>
          <p:cNvGrpSpPr/>
          <p:nvPr/>
        </p:nvGrpSpPr>
        <p:grpSpPr>
          <a:xfrm>
            <a:off x="-1440" y="6033960"/>
            <a:ext cx="7844400" cy="850680"/>
            <a:chOff x="-1440" y="6033960"/>
            <a:chExt cx="7844400" cy="850680"/>
          </a:xfrm>
        </p:grpSpPr>
        <p:sp>
          <p:nvSpPr>
            <p:cNvPr id="51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4" name=""/>
            <p:cNvGrpSpPr/>
            <p:nvPr/>
          </p:nvGrpSpPr>
          <p:grpSpPr>
            <a:xfrm>
              <a:off x="3944880" y="6033960"/>
              <a:ext cx="3898080" cy="850680"/>
              <a:chOff x="3944880" y="6033960"/>
              <a:chExt cx="3898080" cy="850680"/>
            </a:xfrm>
          </p:grpSpPr>
          <p:sp>
            <p:nvSpPr>
              <p:cNvPr id="51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 name=""/>
          <p:cNvGrpSpPr/>
          <p:nvPr/>
        </p:nvGrpSpPr>
        <p:grpSpPr>
          <a:xfrm>
            <a:off x="627120" y="6021360"/>
            <a:ext cx="5684760" cy="849240"/>
            <a:chOff x="627120" y="6021360"/>
            <a:chExt cx="5684760" cy="849240"/>
          </a:xfrm>
        </p:grpSpPr>
        <p:sp>
          <p:nvSpPr>
            <p:cNvPr id="5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529"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30"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E259-64C0-47F7-A677-043F8C3EA0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1"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68" name=""/>
          <p:cNvGrpSpPr/>
          <p:nvPr/>
        </p:nvGrpSpPr>
        <p:grpSpPr>
          <a:xfrm>
            <a:off x="0" y="2438280"/>
            <a:ext cx="9144000" cy="4046760"/>
            <a:chOff x="0" y="2438280"/>
            <a:chExt cx="9144000" cy="4046760"/>
          </a:xfrm>
        </p:grpSpPr>
        <p:sp>
          <p:nvSpPr>
            <p:cNvPr id="56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585"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86"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87"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07C7-1F02-4018-8F84-52916A6DA44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88"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5" name=""/>
          <p:cNvGrpSpPr/>
          <p:nvPr/>
        </p:nvGrpSpPr>
        <p:grpSpPr>
          <a:xfrm>
            <a:off x="0" y="2438280"/>
            <a:ext cx="9144000" cy="4046760"/>
            <a:chOff x="0" y="2438280"/>
            <a:chExt cx="9144000" cy="4046760"/>
          </a:xfrm>
        </p:grpSpPr>
        <p:sp>
          <p:nvSpPr>
            <p:cNvPr id="62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642"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643"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644"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E20A-4CBF-4091-BF41-26340080DDE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90" name="PlaceHolder 3"/>
          <p:cNvSpPr>
            <a:spLocks noGrp="1"/>
          </p:cNvSpPr>
          <p:nvPr>
            <p:ph type="dt" idx="3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91" name="PlaceHolder 4"/>
          <p:cNvSpPr>
            <a:spLocks noGrp="1"/>
          </p:cNvSpPr>
          <p:nvPr>
            <p:ph type="ftr" idx="38"/>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92" name="PlaceHolder 5"/>
          <p:cNvSpPr>
            <a:spLocks noGrp="1"/>
          </p:cNvSpPr>
          <p:nvPr>
            <p:ph type="sldNum" idx="3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8820-0397-4BBB-B017-69D915C094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2438280"/>
            <a:ext cx="9009000" cy="1052640"/>
            <a:chOff x="0" y="2438280"/>
            <a:chExt cx="9009000" cy="1052640"/>
          </a:xfrm>
        </p:grpSpPr>
        <p:grpSp>
          <p:nvGrpSpPr>
            <p:cNvPr id="730" name=""/>
            <p:cNvGrpSpPr/>
            <p:nvPr/>
          </p:nvGrpSpPr>
          <p:grpSpPr>
            <a:xfrm>
              <a:off x="290520" y="2546280"/>
              <a:ext cx="711360" cy="474840"/>
              <a:chOff x="290520" y="2546280"/>
              <a:chExt cx="711360" cy="474840"/>
            </a:xfrm>
          </p:grpSpPr>
          <p:sp>
            <p:nvSpPr>
              <p:cNvPr id="73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3" name=""/>
            <p:cNvGrpSpPr/>
            <p:nvPr/>
          </p:nvGrpSpPr>
          <p:grpSpPr>
            <a:xfrm>
              <a:off x="414360" y="2968560"/>
              <a:ext cx="737640" cy="474840"/>
              <a:chOff x="414360" y="2968560"/>
              <a:chExt cx="737640" cy="474840"/>
            </a:xfrm>
          </p:grpSpPr>
          <p:sp>
            <p:nvSpPr>
              <p:cNvPr id="73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40" name="PlaceHolder 2"/>
          <p:cNvSpPr>
            <a:spLocks noGrp="1"/>
          </p:cNvSpPr>
          <p:nvPr>
            <p:ph type="dt" idx="4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741" name="PlaceHolder 3"/>
          <p:cNvSpPr>
            <a:spLocks noGrp="1"/>
          </p:cNvSpPr>
          <p:nvPr>
            <p:ph type="ftr" idx="4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742" name="PlaceHolder 4"/>
          <p:cNvSpPr>
            <a:spLocks noGrp="1"/>
          </p:cNvSpPr>
          <p:nvPr>
            <p:ph type="sldNum" idx="4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6D8C-5559-4970-A8FD-AD1997A09AF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9" name=""/>
          <p:cNvGrpSpPr/>
          <p:nvPr/>
        </p:nvGrpSpPr>
        <p:grpSpPr>
          <a:xfrm>
            <a:off x="0" y="0"/>
            <a:ext cx="8686800" cy="4876920"/>
            <a:chOff x="0" y="0"/>
            <a:chExt cx="8686800" cy="4876920"/>
          </a:xfrm>
        </p:grpSpPr>
        <p:sp>
          <p:nvSpPr>
            <p:cNvPr id="78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1" name=""/>
            <p:cNvGrpSpPr/>
            <p:nvPr/>
          </p:nvGrpSpPr>
          <p:grpSpPr>
            <a:xfrm>
              <a:off x="380880" y="1417680"/>
              <a:ext cx="8305920" cy="182520"/>
              <a:chOff x="380880" y="1417680"/>
              <a:chExt cx="8305920" cy="182520"/>
            </a:xfrm>
          </p:grpSpPr>
          <p:sp>
            <p:nvSpPr>
              <p:cNvPr id="782"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8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86" name="PlaceHolder 3"/>
          <p:cNvSpPr>
            <a:spLocks noGrp="1"/>
          </p:cNvSpPr>
          <p:nvPr>
            <p:ph type="dt" idx="43"/>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7" name="PlaceHolder 4"/>
          <p:cNvSpPr>
            <a:spLocks noGrp="1"/>
          </p:cNvSpPr>
          <p:nvPr>
            <p:ph type="ftr" idx="4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8" name="PlaceHolder 5"/>
          <p:cNvSpPr>
            <a:spLocks noGrp="1"/>
          </p:cNvSpPr>
          <p:nvPr>
            <p:ph type="sldNum" idx="4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CC32-1774-47F1-AE30-2D5DDC9F3B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9"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26" name=""/>
          <p:cNvGrpSpPr/>
          <p:nvPr/>
        </p:nvGrpSpPr>
        <p:grpSpPr>
          <a:xfrm>
            <a:off x="0" y="0"/>
            <a:ext cx="8763120" cy="5943600"/>
            <a:chOff x="0" y="0"/>
            <a:chExt cx="8763120" cy="5943600"/>
          </a:xfrm>
        </p:grpSpPr>
        <p:sp>
          <p:nvSpPr>
            <p:cNvPr id="827"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8" name=""/>
            <p:cNvGrpSpPr/>
            <p:nvPr/>
          </p:nvGrpSpPr>
          <p:grpSpPr>
            <a:xfrm>
              <a:off x="0" y="3505320"/>
              <a:ext cx="8763120" cy="2438280"/>
              <a:chOff x="0" y="3505320"/>
              <a:chExt cx="8763120" cy="2438280"/>
            </a:xfrm>
          </p:grpSpPr>
          <p:sp>
            <p:nvSpPr>
              <p:cNvPr id="829"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635040" y="533520"/>
              <a:ext cx="8077320" cy="304560"/>
              <a:chOff x="635040" y="533520"/>
              <a:chExt cx="8077320" cy="304560"/>
            </a:xfrm>
          </p:grpSpPr>
          <p:sp>
            <p:nvSpPr>
              <p:cNvPr id="833"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836" name="PlaceHolder 2"/>
          <p:cNvSpPr>
            <a:spLocks noGrp="1"/>
          </p:cNvSpPr>
          <p:nvPr>
            <p:ph type="dt" idx="46"/>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37" name="PlaceHolder 3"/>
          <p:cNvSpPr>
            <a:spLocks noGrp="1"/>
          </p:cNvSpPr>
          <p:nvPr>
            <p:ph type="ftr" idx="47"/>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8" name="PlaceHolder 4"/>
          <p:cNvSpPr>
            <a:spLocks noGrp="1"/>
          </p:cNvSpPr>
          <p:nvPr>
            <p:ph type="sldNum" idx="4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CAD7-3741-44A5-BE32-91319035E1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75" name=""/>
          <p:cNvGrpSpPr/>
          <p:nvPr/>
        </p:nvGrpSpPr>
        <p:grpSpPr>
          <a:xfrm>
            <a:off x="0" y="0"/>
            <a:ext cx="7242120" cy="1981080"/>
            <a:chOff x="0" y="0"/>
            <a:chExt cx="7242120" cy="1981080"/>
          </a:xfrm>
        </p:grpSpPr>
        <p:sp>
          <p:nvSpPr>
            <p:cNvPr id="876"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7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8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8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8791-D236-452D-8660-4844922DF49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19" name=""/>
          <p:cNvGrpSpPr/>
          <p:nvPr/>
        </p:nvGrpSpPr>
        <p:grpSpPr>
          <a:xfrm>
            <a:off x="0" y="0"/>
            <a:ext cx="8458200" cy="5943600"/>
            <a:chOff x="0" y="0"/>
            <a:chExt cx="8458200" cy="5943600"/>
          </a:xfrm>
        </p:grpSpPr>
        <p:sp>
          <p:nvSpPr>
            <p:cNvPr id="920"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2" name="PlaceHolder 1"/>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923"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924" name="PlaceHolder 3"/>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E086-C616-4D9D-AE40-BBD7F717F59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92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62" name=""/>
          <p:cNvGrpSpPr/>
          <p:nvPr/>
        </p:nvGrpSpPr>
        <p:grpSpPr>
          <a:xfrm>
            <a:off x="0" y="0"/>
            <a:ext cx="9159840" cy="6858000"/>
            <a:chOff x="0" y="0"/>
            <a:chExt cx="9159840" cy="6858000"/>
          </a:xfrm>
        </p:grpSpPr>
        <p:sp>
          <p:nvSpPr>
            <p:cNvPr id="96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9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6" name="PlaceHolder 3"/>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87" name="PlaceHolder 4"/>
          <p:cNvSpPr>
            <a:spLocks noGrp="1"/>
          </p:cNvSpPr>
          <p:nvPr>
            <p:ph type="sldNum" idx="5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19D0-EB2E-4395-AB8E-86E4E76CB1F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88" name="PlaceHolder 5"/>
          <p:cNvSpPr>
            <a:spLocks noGrp="1"/>
          </p:cNvSpPr>
          <p:nvPr>
            <p:ph type="dt" idx="5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F953-61F3-4B04-8412-D44EECB630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25" name=""/>
          <p:cNvGrpSpPr/>
          <p:nvPr/>
        </p:nvGrpSpPr>
        <p:grpSpPr>
          <a:xfrm>
            <a:off x="0" y="0"/>
            <a:ext cx="9159840" cy="6858000"/>
            <a:chOff x="0" y="0"/>
            <a:chExt cx="9159840" cy="6858000"/>
          </a:xfrm>
        </p:grpSpPr>
        <p:sp>
          <p:nvSpPr>
            <p:cNvPr id="102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048" name="PlaceHolder 2"/>
          <p:cNvSpPr>
            <a:spLocks noGrp="1"/>
          </p:cNvSpPr>
          <p:nvPr>
            <p:ph type="dt" idx="5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49"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50" name="PlaceHolder 4"/>
          <p:cNvSpPr>
            <a:spLocks noGrp="1"/>
          </p:cNvSpPr>
          <p:nvPr>
            <p:ph type="sldNum" idx="6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D8A4-2C37-4125-93B9-202B6AA369E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4716360" y="5345280"/>
            <a:ext cx="4427640" cy="1512720"/>
            <a:chOff x="4716360" y="5345280"/>
            <a:chExt cx="4427640" cy="1512720"/>
          </a:xfrm>
        </p:grpSpPr>
        <p:sp>
          <p:nvSpPr>
            <p:cNvPr id="15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6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6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6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DCE9-9642-4264-AC17-B878E656430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7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07" name=""/>
          <p:cNvGrpSpPr/>
          <p:nvPr/>
        </p:nvGrpSpPr>
        <p:grpSpPr>
          <a:xfrm>
            <a:off x="4716360" y="5345280"/>
            <a:ext cx="4427640" cy="1512720"/>
            <a:chOff x="4716360" y="5345280"/>
            <a:chExt cx="4427640" cy="1512720"/>
          </a:xfrm>
        </p:grpSpPr>
        <p:sp>
          <p:nvSpPr>
            <p:cNvPr id="20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24"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26"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E6F2-D820-4916-BB12-A0165985F63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1071720" y="304920"/>
            <a:ext cx="7614720" cy="1106280"/>
            <a:chOff x="1071720" y="304920"/>
            <a:chExt cx="7614720" cy="1106280"/>
          </a:xfrm>
        </p:grpSpPr>
        <p:sp>
          <p:nvSpPr>
            <p:cNvPr id="26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0"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2"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C043-0D02-44FF-A8A2-4D91FB4627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1658520" y="1600200"/>
            <a:ext cx="6837480" cy="3200400"/>
            <a:chOff x="1658520" y="1600200"/>
            <a:chExt cx="6837480" cy="3200400"/>
          </a:xfrm>
        </p:grpSpPr>
        <p:sp>
          <p:nvSpPr>
            <p:cNvPr id="31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8"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12C9-0926-49E6-989C-262B63C086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
          <p:cNvGrpSpPr/>
          <p:nvPr/>
        </p:nvGrpSpPr>
        <p:grpSpPr>
          <a:xfrm>
            <a:off x="0" y="152280"/>
            <a:ext cx="8686800" cy="6096240"/>
            <a:chOff x="0" y="152280"/>
            <a:chExt cx="8686800" cy="6096240"/>
          </a:xfrm>
        </p:grpSpPr>
        <p:sp>
          <p:nvSpPr>
            <p:cNvPr id="358"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62"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3"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BF7E-835F-4391-BB90-6943933CA6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
          <p:cNvGrpSpPr/>
          <p:nvPr/>
        </p:nvGrpSpPr>
        <p:grpSpPr>
          <a:xfrm>
            <a:off x="0" y="927000"/>
            <a:ext cx="8991720" cy="4496040"/>
            <a:chOff x="0" y="927000"/>
            <a:chExt cx="8991720" cy="4496040"/>
          </a:xfrm>
        </p:grpSpPr>
        <p:sp>
          <p:nvSpPr>
            <p:cNvPr id="403"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08" name="PlaceHolder 2"/>
          <p:cNvSpPr>
            <a:spLocks noGrp="1"/>
          </p:cNvSpPr>
          <p:nvPr>
            <p:ph type="dt" idx="22"/>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3"/>
          <p:cNvSpPr>
            <a:spLocks noGrp="1"/>
          </p:cNvSpPr>
          <p:nvPr>
            <p:ph type="ftr" idx="23"/>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PlaceHolder 4"/>
          <p:cNvSpPr>
            <a:spLocks noGrp="1"/>
          </p:cNvSpPr>
          <p:nvPr>
            <p:ph type="sldNum" idx="24"/>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2E08-B7A3-4BF3-990A-8BBBA9F8B0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47" name=""/>
          <p:cNvGrpSpPr/>
          <p:nvPr/>
        </p:nvGrpSpPr>
        <p:grpSpPr>
          <a:xfrm>
            <a:off x="0" y="0"/>
            <a:ext cx="9144000" cy="6858000"/>
            <a:chOff x="0" y="0"/>
            <a:chExt cx="9144000" cy="6858000"/>
          </a:xfrm>
        </p:grpSpPr>
        <p:sp>
          <p:nvSpPr>
            <p:cNvPr id="44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0" y="6019920"/>
            <a:ext cx="7848720" cy="857160"/>
            <a:chOff x="0" y="6019920"/>
            <a:chExt cx="7848720" cy="857160"/>
          </a:xfrm>
        </p:grpSpPr>
        <p:sp>
          <p:nvSpPr>
            <p:cNvPr id="45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3946680" y="6019920"/>
              <a:ext cx="3902040" cy="857160"/>
              <a:chOff x="3946680" y="6019920"/>
              <a:chExt cx="3902040" cy="857160"/>
            </a:xfrm>
          </p:grpSpPr>
          <p:sp>
            <p:nvSpPr>
              <p:cNvPr id="45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627120" y="6021360"/>
            <a:ext cx="5684760" cy="849240"/>
            <a:chOff x="627120" y="6021360"/>
            <a:chExt cx="5684760" cy="849240"/>
          </a:xfrm>
        </p:grpSpPr>
        <p:sp>
          <p:nvSpPr>
            <p:cNvPr id="46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6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7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CE7F-55A0-4E57-9396-71DD400E70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304920" y="685800"/>
            <a:ext cx="8534160" cy="31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sv-SE" sz="4000" spc="-1" strike="noStrike">
                <a:solidFill>
                  <a:srgbClr val="ffffcc"/>
                </a:solidFill>
                <a:latin typeface="Tahoma"/>
              </a:rPr>
              <a:t>Upaya Peningkatan Aktivitas Dan Hasil Belajar Listrik Arus Searah Dalam Pelajaran Fisika Menggunakan Media Pesona Fisika Siswa Kelas XII TKRB SMKN 1 Gombong Semester 1 Tahun 2010 / 2011</a:t>
            </a:r>
            <a:br>
              <a:rPr sz="4800"/>
            </a:br>
            <a:endParaRPr b="0" lang="en-US" sz="4000" spc="-1" strike="noStrike">
              <a:solidFill>
                <a:srgbClr val="ffffcc"/>
              </a:solidFill>
              <a:latin typeface="Tahoma"/>
            </a:endParaRPr>
          </a:p>
        </p:txBody>
      </p:sp>
      <p:sp>
        <p:nvSpPr>
          <p:cNvPr id="1088" name="PlaceHolder 2"/>
          <p:cNvSpPr>
            <a:spLocks noGrp="1"/>
          </p:cNvSpPr>
          <p:nvPr>
            <p:ph type="subTitle"/>
          </p:nvPr>
        </p:nvSpPr>
        <p:spPr>
          <a:xfrm>
            <a:off x="0" y="4724280"/>
            <a:ext cx="9144000" cy="9144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Tahoma"/>
              </a:rPr>
              <a:t>Oleh :  Gunarso, S.Pd</a:t>
            </a:r>
            <a:br>
              <a:rPr sz="2800"/>
            </a:br>
            <a:r>
              <a:rPr b="0" lang="sv-SE" sz="2800" spc="-1" strike="noStrike">
                <a:solidFill>
                  <a:srgbClr val="ffffff"/>
                </a:solidFill>
                <a:latin typeface="Tahoma"/>
              </a:rPr>
              <a:t>(SMK Negeri 1 Gombong  Kab. Kebum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734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06" name="PlaceHolder 2"/>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3.Apakah  dengan menggunakan media Pesona Fisika dapat meningkatkan aktivitas  dan hasi belajar listrik arus searah  dalam pelajaran fisika  siswa kelas XII TKRB SMK N 1 Gombong semester 1 tahun 2010 /2011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920"/>
            <a:ext cx="8229600" cy="63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cc"/>
                </a:solidFill>
                <a:latin typeface="Arial"/>
              </a:rPr>
              <a:t>Tujuan penelitian</a:t>
            </a:r>
            <a:endParaRPr b="0" lang="en-US" sz="3200" spc="-1" strike="noStrike">
              <a:solidFill>
                <a:srgbClr val="ffffcc"/>
              </a:solidFill>
              <a:latin typeface="Arial"/>
            </a:endParaRPr>
          </a:p>
        </p:txBody>
      </p:sp>
      <p:sp>
        <p:nvSpPr>
          <p:cNvPr id="1108"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Verdana"/>
              </a:rPr>
              <a:t>1.Meningkatkan  aktivitas  belajar fisika siswa pada materi listrik arus searah</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Verdana"/>
              </a:rPr>
              <a:t>2.Meningkatkan  hasil   belajar fisika siswa. pada materi listrik arus searah</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Verdana"/>
              </a:rPr>
              <a:t>3.Meningkatkan aktivitas  dan hasi belajar fisika siswa pada materi listrik arus searah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cc"/>
                </a:solidFill>
                <a:latin typeface="Tahoma"/>
              </a:rPr>
              <a:t>KAJIAN TEORI</a:t>
            </a:r>
            <a:endParaRPr b="0" lang="en-US" sz="3200" spc="-1" strike="noStrike">
              <a:solidFill>
                <a:srgbClr val="ffffcc"/>
              </a:solidFill>
              <a:latin typeface="Tahoma"/>
            </a:endParaRPr>
          </a:p>
        </p:txBody>
      </p:sp>
      <p:sp>
        <p:nvSpPr>
          <p:cNvPr id="1110"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Tahoma"/>
              </a:rPr>
              <a:t>Hakikat Aktifit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Tahoma"/>
              </a:rPr>
              <a:t>Menurut Melvin L. Silberman .(2006 : 9–14)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Tahoma"/>
              </a:rPr>
              <a:t>Belajar aktif adalah suasana belajar dimana siswa harus gesit, menyenangkan, bersemangat dan penuh gairah bahkan siswa sering meninggalkan tempat duduk mereka, bergerak dengan leluasa dan berfikir keras.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112"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Tahoma"/>
              </a:rPr>
              <a:t>Hakikat Belaj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Menurut Slameto </a:t>
            </a:r>
            <a:r>
              <a:rPr b="0" lang="sv-SE" sz="3200" spc="-1" strike="noStrike">
                <a:solidFill>
                  <a:srgbClr val="ffffff"/>
                </a:solidFill>
                <a:latin typeface="Tahoma"/>
              </a:rPr>
              <a:t>(2003 : 2) belajar adalah suatu proses usaha yang dilakukan seseorang untuk memperoleh suatu perubahan tingkah laku yang baru secara keseluruhan, sebagai hasil pengalamannya sendiri dalam interaksi dengan lingkunganny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15372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14" name="PlaceHolder 2"/>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rPr>
              <a:t>Hakikat Listrik Arus Searah</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Kata arus berarti aliran atau gerakan sedangkan arus listrik berarti aliran partikel-partikel bermuatan listrik. Partikel bermuatan listrik terdiri dari proton (bermuatan positip) dan elektron (bermuatan negatif).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uatan listrik yang dapat bergerak melalui konduktor adalah elektron. Arah arus listrik berlawanan dengan arah gerak elektron.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Arus listrik mengalir dalam rangkaian tertutup dari potensial tinggi ke potensial rendah.</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0" y="-114300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6"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Aktifitas Belajar Listrik Arus Searah</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ktifitas belajar listrik arus searah  adalah upaya secara mental maupun fisik untuk terjadinya perubahan pada tingkat pengetahuan, sikap / perilaku dan katrampilan  tentang materi listrik arus seara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Hakikat Hasil Belaja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enurut Oemar Hamalik hasil belajar adalah bila seseorang telah belajar akan terjadi perubahan tingkah laku pada orang tersebut, misalnya dari tidak tahu menjadi tahu, dan dari tidak mengerti menjadi menger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14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8"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Hasil Belajar Listrik Arus Seara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Hasil belajar </a:t>
            </a:r>
            <a:r>
              <a:rPr b="0" lang="sv-SE" sz="2800" spc="-1" strike="noStrike">
                <a:solidFill>
                  <a:srgbClr val="000000"/>
                </a:solidFill>
                <a:latin typeface="Arial"/>
              </a:rPr>
              <a:t>listrik arus searah  </a:t>
            </a:r>
            <a:r>
              <a:rPr b="0" lang="id-ID" sz="2800" spc="-1" strike="noStrike">
                <a:solidFill>
                  <a:srgbClr val="000000"/>
                </a:solidFill>
                <a:latin typeface="Arial"/>
              </a:rPr>
              <a:t>pada ranah kognitif yakni pemahaman dan penguasaan konsep listrik arus searah semakin meningkat, pada ranah afektif adalah perubahan tingkah laku yakni aktifitas belajar semakin dinamis dan pada ranah psikomotor yaitu mampu merangkai listrik arus searah dan dapat membaca tegangan maupun kuat arus menggunakan volt meter dan ampere met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520" y="-114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0" name="PlaceHolder 2"/>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Arial"/>
              </a:rPr>
              <a:t>Hakekat Media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Menurut Azhar  Arsyad ( 2009:3) media berasal dari bahasa Latin medius yang secara harfiah berarti tengah, perantara atau penganta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Secara lebih khusus, pengertian media dalam proses belajar mengajar cenderung diartikan sebagai alat-alat grafis, photografis, atau elektronis untuk menangkap, memproses dan menyusun kembali informasi visual atau verb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533520" y="-114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2"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rPr>
              <a:t>Hakikat  Pesona Fisika</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Pesona fisika adalah media pembelajaran interaktif jadi / komersial  berbasis komputer yang diproduksi oleh PT. Pesona Edukasi Jakarta.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edia Pesona Fisika dapat menampilkan gambaranimasi, suara yang sesuai dengan gerakan gambar serta dapat mendemonstrasikan praktikum secara interaktif sehingga dapat menarik perhatian siswa dan mendorong siswa untuk berpartisipasi aktif dalam proses pembelajaran interaktif untuk mengembangkan kemampuannya dalam berpikir logis, kritis dan bernalar serta lebih mudah dan lebih cepat dalam memahami konsep – konsep fisik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914400" y="-299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124" name="PlaceHolder 2"/>
          <p:cNvSpPr>
            <a:spLocks noGrp="1"/>
          </p:cNvSpPr>
          <p:nvPr>
            <p:ph/>
          </p:nvPr>
        </p:nvSpPr>
        <p:spPr>
          <a:xfrm>
            <a:off x="457200" y="380880"/>
            <a:ext cx="8229600" cy="647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Garamond"/>
              </a:rPr>
              <a:t>Hipotesis Tindakan</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Garamond"/>
              </a:rPr>
              <a:t>1.</a:t>
            </a:r>
            <a:r>
              <a:rPr b="0" lang="id-ID" sz="2800" spc="-1" strike="noStrike">
                <a:solidFill>
                  <a:srgbClr val="ffffff"/>
                </a:solidFill>
                <a:latin typeface="Garamond"/>
              </a:rPr>
              <a:t>	</a:t>
            </a:r>
            <a:r>
              <a:rPr b="0" lang="id-ID" sz="2800" spc="-1" strike="noStrike">
                <a:solidFill>
                  <a:srgbClr val="ffffff"/>
                </a:solidFill>
                <a:latin typeface="Garamond"/>
              </a:rPr>
              <a:t>Dengan menggunakan media Pesona Fisika dapat meningkatkan aktivitas belajar listrik arus searah dalam pelajaran fisika siswa kelas XII TKRB SMK Negeri 1 Gombong  Semester 1  tahun 2010/2011.</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Garamond"/>
              </a:rPr>
              <a:t>2.</a:t>
            </a:r>
            <a:r>
              <a:rPr b="0" lang="id-ID" sz="2800" spc="-1" strike="noStrike">
                <a:solidFill>
                  <a:srgbClr val="ffffff"/>
                </a:solidFill>
                <a:latin typeface="Garamond"/>
              </a:rPr>
              <a:t>	</a:t>
            </a:r>
            <a:r>
              <a:rPr b="0" lang="id-ID" sz="2800" spc="-1" strike="noStrike">
                <a:solidFill>
                  <a:srgbClr val="ffffff"/>
                </a:solidFill>
                <a:latin typeface="Garamond"/>
              </a:rPr>
              <a:t>Dengan menggunakan media Pesona Fisika dapat meningkatkan hasil belajar listrik arus searah dalam pelajaran fisika  siswa kelas XII TKRB SMK Negeri 1 Gombong  Semester 1  tahun 2010/2011.</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Garamond"/>
              </a:rPr>
              <a:t>3.</a:t>
            </a:r>
            <a:r>
              <a:rPr b="0" lang="id-ID" sz="2800" spc="-1" strike="noStrike">
                <a:solidFill>
                  <a:srgbClr val="ffffff"/>
                </a:solidFill>
                <a:latin typeface="Garamond"/>
              </a:rPr>
              <a:t>	</a:t>
            </a:r>
            <a:r>
              <a:rPr b="0" lang="id-ID" sz="2800" spc="-1" strike="noStrike">
                <a:solidFill>
                  <a:srgbClr val="ffffff"/>
                </a:solidFill>
                <a:latin typeface="Garamond"/>
              </a:rPr>
              <a:t>Dengan menggunakan media Pesona Fisika dapat meningkatkan aktivitas dan hasil belajar listrik arus searah dalam pelajaran fisika  siswa kelas XII TKRB SMK Negeri 1 Gombong  Semester 1  tahun  2010/201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533160" y="0"/>
            <a:ext cx="7924680" cy="632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cc"/>
                </a:solidFill>
                <a:latin typeface="Tahoma"/>
              </a:rPr>
              <a:t>PERSONALIA PENELITI</a:t>
            </a:r>
            <a:br>
              <a:rPr sz="2800"/>
            </a:br>
            <a:r>
              <a:rPr b="0" lang="sv-SE" sz="2800" spc="-1" strike="noStrike">
                <a:solidFill>
                  <a:srgbClr val="ffffcc"/>
                </a:solidFill>
                <a:latin typeface="Tahoma"/>
              </a:rPr>
              <a:t>Nama Peneliti :  Gunarso, S.Pd</a:t>
            </a:r>
            <a:br>
              <a:rPr sz="2800"/>
            </a:br>
            <a:r>
              <a:rPr b="0" lang="sv-SE" sz="2800" spc="-1" strike="noStrike">
                <a:solidFill>
                  <a:srgbClr val="ffffcc"/>
                </a:solidFill>
                <a:latin typeface="Tahoma"/>
              </a:rPr>
              <a:t>NIP :  19690819 199802 1 004</a:t>
            </a:r>
            <a:br>
              <a:rPr sz="2800"/>
            </a:br>
            <a:r>
              <a:rPr b="0" lang="sv-SE" sz="2800" spc="-1" strike="noStrike">
                <a:solidFill>
                  <a:srgbClr val="ffffcc"/>
                </a:solidFill>
                <a:latin typeface="Tahoma"/>
              </a:rPr>
              <a:t>Jenis Kelamin :   Laki-laki</a:t>
            </a:r>
            <a:br>
              <a:rPr sz="2800"/>
            </a:br>
            <a:r>
              <a:rPr b="0" lang="sv-SE" sz="2800" spc="-1" strike="noStrike">
                <a:solidFill>
                  <a:srgbClr val="ffffcc"/>
                </a:solidFill>
                <a:latin typeface="Tahoma"/>
              </a:rPr>
              <a:t>Golongan/Pangkat :  IVa / Pembina</a:t>
            </a:r>
            <a:br>
              <a:rPr sz="2800"/>
            </a:br>
            <a:r>
              <a:rPr b="0" lang="sv-SE" sz="2800" spc="-1" strike="noStrike">
                <a:solidFill>
                  <a:srgbClr val="ffffcc"/>
                </a:solidFill>
                <a:latin typeface="Tahoma"/>
              </a:rPr>
              <a:t>Jabatan  :  Guru Pembina</a:t>
            </a:r>
            <a:br>
              <a:rPr sz="2800"/>
            </a:br>
            <a:r>
              <a:rPr b="0" lang="sv-SE" sz="2800" spc="-1" strike="noStrike">
                <a:solidFill>
                  <a:srgbClr val="ffffcc"/>
                </a:solidFill>
                <a:latin typeface="Tahoma"/>
              </a:rPr>
              <a:t>Mengampu Mapel :  Fisika</a:t>
            </a:r>
            <a:br>
              <a:rPr sz="2800"/>
            </a:br>
            <a:r>
              <a:rPr b="0" lang="fi-FI" sz="2800" spc="-1" strike="noStrike">
                <a:solidFill>
                  <a:srgbClr val="ffffcc"/>
                </a:solidFill>
                <a:latin typeface="Tahoma"/>
              </a:rPr>
              <a:t>Unit Kerja :  SMK Negeri 1 Gombong</a:t>
            </a:r>
            <a:br>
              <a:rPr sz="2800"/>
            </a:br>
            <a:r>
              <a:rPr b="0" lang="fi-FI" sz="2800" spc="-1" strike="noStrike">
                <a:solidFill>
                  <a:srgbClr val="ffffcc"/>
                </a:solidFill>
                <a:latin typeface="Tahoma"/>
              </a:rPr>
              <a:t>Alamat : Jln.Wilis No.15 Wero Gombong Kab.Kebumen 54416             </a:t>
            </a:r>
            <a:br>
              <a:rPr sz="2800"/>
            </a:br>
            <a:r>
              <a:rPr b="0" lang="fi-FI" sz="2800" spc="-1" strike="noStrike">
                <a:solidFill>
                  <a:srgbClr val="ffffcc"/>
                </a:solidFill>
                <a:latin typeface="Tahoma"/>
              </a:rPr>
              <a:t>Telp. 0287-472828, Fax. 0287-473886</a:t>
            </a:r>
            <a:br>
              <a:rPr sz="2800"/>
            </a:br>
            <a:r>
              <a:rPr b="0" lang="fi-FI" sz="2800" spc="-1" strike="noStrike">
                <a:solidFill>
                  <a:srgbClr val="ffffcc"/>
                </a:solidFill>
                <a:latin typeface="Tahoma"/>
              </a:rPr>
              <a:t>Lokasi Penelitian</a:t>
            </a:r>
            <a:r>
              <a:rPr b="0" lang="fi-FI" sz="2800" spc="-1" strike="noStrike">
                <a:solidFill>
                  <a:srgbClr val="ffffcc"/>
                </a:solidFill>
                <a:latin typeface="Tahoma"/>
              </a:rPr>
              <a:t>	</a:t>
            </a:r>
            <a:r>
              <a:rPr b="0" lang="fi-FI" sz="2800" spc="-1" strike="noStrike">
                <a:solidFill>
                  <a:srgbClr val="ffffcc"/>
                </a:solidFill>
                <a:latin typeface="Tahoma"/>
              </a:rPr>
              <a:t> :  SMK Negeri 1 Gombong</a:t>
            </a:r>
            <a:endParaRPr b="0" lang="en-US" sz="2800" spc="-1" strike="noStrike">
              <a:solidFill>
                <a:srgbClr val="ffffcc"/>
              </a:solidFill>
              <a:latin typeface="Tahoma"/>
            </a:endParaRPr>
          </a:p>
        </p:txBody>
      </p:sp>
      <p:sp>
        <p:nvSpPr>
          <p:cNvPr id="1090" name="PlaceHolder 2"/>
          <p:cNvSpPr>
            <a:spLocks noGrp="1"/>
          </p:cNvSpPr>
          <p:nvPr>
            <p:ph/>
          </p:nvPr>
        </p:nvSpPr>
        <p:spPr>
          <a:xfrm>
            <a:off x="0" y="7238880"/>
            <a:ext cx="8229600" cy="94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94760" y="228240"/>
            <a:ext cx="8015400" cy="3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800" spc="-1" strike="noStrike">
                <a:solidFill>
                  <a:srgbClr val="ffffff"/>
                </a:solidFill>
                <a:latin typeface="Arial"/>
              </a:rPr>
              <a:t>METODOLOGI  PENELITIAN </a:t>
            </a:r>
            <a:endParaRPr b="0" lang="en-US" sz="3800" spc="-1" strike="noStrike">
              <a:solidFill>
                <a:srgbClr val="ffffff"/>
              </a:solidFill>
              <a:latin typeface="Arial"/>
            </a:endParaRPr>
          </a:p>
        </p:txBody>
      </p:sp>
      <p:sp>
        <p:nvSpPr>
          <p:cNvPr id="1126"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Setting dan Subyek Peneliti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Penelitian tindakan kelas ini dilaksanakan selama 7 bulan yaitu dari bulan April sampai dengan bulan Oktober tahun 2010 dengan tahap-tahap sebagai berikut (1) penyusunan proposal penelitian, (2) penyusunan instrumen  penelitian, (3) pengumpulan data penelitian, (4) menganalisis data penelitian, (5) pembahasan data penelitian, (6) penyusunan laporan hasil penelitia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Tempat penelitian di SMK Negeri 1 Gombong dengan subjek penelitian pada siswa kelas XII TKRB SMKN 1 Gombong Semester 1 tahun 2010 / 2011 dengan jumlah 35 siswa.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44316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28" name="PlaceHolder 2"/>
          <p:cNvSpPr>
            <a:spLocks noGrp="1"/>
          </p:cNvSpPr>
          <p:nvPr>
            <p:ph/>
          </p:nvPr>
        </p:nvSpPr>
        <p:spPr>
          <a:xfrm>
            <a:off x="457200" y="457200"/>
            <a:ext cx="8686800" cy="6400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Teknik dan Alat Pengumpulan Data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eknik pengumpulan data teknik tes dan non tes.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Pada kegiatan pra siklus digunakan teknik dokumentasi yaitu mengambil daftar nilai ulangan harian listrik arus searah KD 1  untuk mengetahui hasil belajar pada kondisi awal. Sedangkan untuk mengetahui aktifitas siswa pada kondisi awal digunakan data observasi catatan personal siswa.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Pada siklus 1 dan siklus 2, untuk mengetahui hasil belajar siswa pada  kemampuan kognitif digunakan teknik tes dengan alat tes berupa butir soal. Sedangkan untuk mengetahui aktifitas siswa yang ditinjau dari aspek afektif dan psikomotor digunakan teknik observasi dengan alat berupa lembar observasi.</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Setiap akhir siklus, siswa mengisi angket  respon siswa atau jurnal sisw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9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130"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Tahoma"/>
              </a:rPr>
              <a:t>Validasi Data dan Analisis Data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rPr>
              <a:t>Proses validasi yaitu (1) data kuantitatif divalidasi dengan kisi-kisi soal dan instrumen / alat evauasi / butir soal tes, (2) data kualitatif divalidasi melalui trianggulasi sumber yaitu hasil observasi guru kolaborasi, jurnal guru, dan jurnal siswa atau angket respon  sisw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rPr>
              <a:t>Analisis data yang digunakan dalam penelitian ini adalah analisis data deskriptif komparatif dilanjutkan refleksi yakni dengan membandingkan data  pra siklus dengan siklus 1 selanjutnya data siklus 1 dengan data siklus 2 dan diambil kesimpula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33520" y="-405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132" name="PlaceHolder 2"/>
          <p:cNvSpPr>
            <a:spLocks noGrp="1"/>
          </p:cNvSpPr>
          <p:nvPr>
            <p:ph/>
          </p:nvPr>
        </p:nvSpPr>
        <p:spPr>
          <a:xfrm>
            <a:off x="457200" y="457200"/>
            <a:ext cx="8305920" cy="6019920"/>
          </a:xfrm>
          <a:prstGeom prst="rect">
            <a:avLst/>
          </a:prstGeom>
          <a:noFill/>
          <a:ln w="0">
            <a:noFill/>
          </a:ln>
        </p:spPr>
        <p:txBody>
          <a:bodyPr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Tahoma"/>
              </a:rPr>
              <a:t>Data yang diperoleh dalam penelitian ini berupa hasil tes kemampuan kognitif siswa, dan data pengamatan tentang aktivitas siswa ditinjau dari ranah afektif dan psikomotorik siswa. Untuk mengetahui respon siswa tentang pembelajaran dengan menggunakan media Pesona Fisika digunakan lembar angket respon siswa atau jurnal siswa.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Tahoma"/>
              </a:rPr>
              <a:t>Indikator Kinerja</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Tahoma"/>
              </a:rPr>
              <a:t>Ditargetkan setelah pelaksanaan 2 siklus tindakan kelas rata-rata nilai 63,428 dapat naik menjadi rata-rata ≥ 75.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694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134" name="PlaceHolder 2"/>
          <p:cNvSpPr>
            <a:spLocks noGrp="1"/>
          </p:cNvSpPr>
          <p:nvPr>
            <p:ph/>
          </p:nvPr>
        </p:nvSpPr>
        <p:spPr>
          <a:xfrm>
            <a:off x="457200" y="380880"/>
            <a:ext cx="8229600" cy="609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rPr>
              <a:t>Prosedur Peneliti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Arial"/>
              </a:rPr>
              <a:t>Prosedur penelitian ini dilakikan dalam dua siklus. Siklus pertama dengan kelompok besar satu kelompok (5-6 siswa) dan siklus kedua dengan kelompok kecil, satu kelompok (3-4 siswa). Dengan tahapan tiap siklusnya melalui empat langkah utama yaitu (1) perencanaan, (2) tindakan, (3) observasi dan (4) refleksi. Empat langkah utama yang saling berkaitan itu disebut satu sikl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0" y="-360"/>
            <a:ext cx="9522000" cy="1436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pperplate Gothic Light"/>
              </a:rPr>
              <a:t>Hasil tindakan</a:t>
            </a:r>
            <a:br>
              <a:rPr sz="3200"/>
            </a:br>
            <a:r>
              <a:rPr b="1" lang="en-US" sz="3200" spc="-1" strike="noStrike">
                <a:solidFill>
                  <a:srgbClr val="ffffcc"/>
                </a:solidFill>
                <a:latin typeface="Copperplate Gothic Light"/>
              </a:rPr>
              <a:t>aktivitas belajar listrik arus searah </a:t>
            </a:r>
            <a:endParaRPr b="0" lang="en-US" sz="3200" spc="-1" strike="noStrike">
              <a:solidFill>
                <a:srgbClr val="ffffcc"/>
              </a:solidFill>
              <a:latin typeface="Tahoma"/>
            </a:endParaRPr>
          </a:p>
        </p:txBody>
      </p:sp>
      <p:graphicFrame>
        <p:nvGraphicFramePr>
          <p:cNvPr id="1136" name=""/>
          <p:cNvGraphicFramePr/>
          <p:nvPr/>
        </p:nvGraphicFramePr>
        <p:xfrm>
          <a:off x="609480" y="1397160"/>
          <a:ext cx="7543800" cy="5157720"/>
        </p:xfrm>
        <a:graphic>
          <a:graphicData uri="http://schemas.openxmlformats.org/drawingml/2006/table">
            <a:tbl>
              <a:tblPr/>
              <a:tblGrid>
                <a:gridCol w="416160"/>
                <a:gridCol w="4498920"/>
                <a:gridCol w="1314360"/>
                <a:gridCol w="1314360"/>
              </a:tblGrid>
              <a:tr h="734760">
                <a:tc>
                  <a:txBody>
                    <a:bodyPr lIns="65520" rIns="65520" tIns="0" bIns="0" anchor="ctr">
                      <a:noAutofit/>
                    </a:bodyPr>
                    <a:p>
                      <a:pPr marL="104760" indent="-1047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ea typeface="Times New Roman"/>
                        </a:rPr>
                        <a:t> </a:t>
                      </a:r>
                      <a:r>
                        <a:rPr b="1" lang="id-ID" sz="1400" spc="-1" strike="noStrike">
                          <a:solidFill>
                            <a:srgbClr val="ffffff"/>
                          </a:solidFill>
                          <a:latin typeface="Times New Roman"/>
                          <a:ea typeface="Times New Roman"/>
                        </a:rPr>
                        <a:t>No</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Times New Roman"/>
                          <a:ea typeface="Times New Roman"/>
                        </a:rPr>
                        <a:t>Aspek yang dinila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Times New Roman"/>
                          <a:ea typeface="Times New Roman"/>
                        </a:rPr>
                        <a:t>Prosentase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Times New Roman"/>
                          <a:ea typeface="Times New Roman"/>
                        </a:rPr>
                        <a:t>(%) siswa Siklus 1</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Times New Roman"/>
                          <a:ea typeface="Times New Roman"/>
                        </a:rPr>
                        <a:t>Prosentase</a:t>
                      </a:r>
                      <a:r>
                        <a:rPr b="1" lang="id-ID" sz="1000" spc="-1" strike="noStrike">
                          <a:solidFill>
                            <a:srgbClr val="ffffff"/>
                          </a:solidFill>
                          <a:latin typeface="Times New Roman"/>
                          <a:ea typeface="Times New Roman"/>
                        </a:rPr>
                        <a:t>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Times New Roman"/>
                          <a:ea typeface="Times New Roman"/>
                        </a:rPr>
                        <a:t>(%) siswa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Times New Roman"/>
                          <a:ea typeface="Times New Roman"/>
                        </a:rPr>
                        <a:t>Siklus</a:t>
                      </a:r>
                      <a:r>
                        <a:rPr b="1" lang="en-US" sz="1400" spc="-1" strike="noStrike">
                          <a:solidFill>
                            <a:srgbClr val="ffffff"/>
                          </a:solidFill>
                          <a:latin typeface="Times New Roman"/>
                          <a:ea typeface="Times New Roman"/>
                        </a:rPr>
                        <a:t>2</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30420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pek Afektif</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1</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memperhatikan materi pembelajaran, merespon dengan antusias, membuat catatan, mengerjakan LKS</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88,57 </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1,43</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2</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aktif menjawab dan selalu bertanya bila menemui kesulitan</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1,43</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7,14</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3</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ceria, semangat, sopan dan bersungguh-sungguh</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88,57</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4,29</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4</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berpartisipasi aktif dalam diskusi kelompok (bertanya, menanggap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1,43</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7,14</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5</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merespon positif (senang) terhadap pembelajaran menggunakan media Pesona Fisi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7,14</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6</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percaya diri saat mengerjakan post tes</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pek Psikomotorik</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7</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mampu mengoperasikan media Pesona Fisi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7,14</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8</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swa mampu mengoperasikan peraga interaktif </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ea typeface="Times New Roman"/>
                        </a:rPr>
                        <a:t>94,29</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ea typeface="Times New Roman"/>
                        </a:rPr>
                        <a:t>9</a:t>
                      </a:r>
                      <a:endParaRPr b="0" lang="en-US" sz="1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ea typeface="Times New Roman"/>
                        </a:rPr>
                        <a:t>Siswa dapat menentukan hasil pengukuran</a:t>
                      </a:r>
                      <a:endParaRPr b="0" lang="en-US" sz="14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ea typeface="Times New Roman"/>
                        </a:rPr>
                        <a:t>91,43</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7" name="Rectangle 4"/>
          <p:cNvSpPr/>
          <p:nvPr/>
        </p:nvSpPr>
        <p:spPr>
          <a:xfrm>
            <a:off x="4460040" y="9036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Dari kondisi awal ke kondisi akhir terdapat peningkatan</a:t>
            </a:r>
            <a:r>
              <a:rPr b="0" lang="en-US" sz="2800" spc="-1" strike="noStrike">
                <a:solidFill>
                  <a:srgbClr val="ffffff"/>
                </a:solidFill>
                <a:latin typeface="Arial"/>
              </a:rPr>
              <a:t> </a:t>
            </a:r>
            <a:r>
              <a:rPr b="0" lang="id-ID" sz="2800" spc="-1" strike="noStrike">
                <a:solidFill>
                  <a:srgbClr val="ffffff"/>
                </a:solidFill>
                <a:latin typeface="Arial"/>
              </a:rPr>
              <a:t>aktifitas belajar listrik arus searah menjad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1.</a:t>
            </a:r>
            <a:r>
              <a:rPr b="0" lang="en-US" sz="2800" spc="-1" strike="noStrike">
                <a:solidFill>
                  <a:srgbClr val="ffffff"/>
                </a:solidFill>
                <a:latin typeface="Arial"/>
              </a:rPr>
              <a:t>S</a:t>
            </a:r>
            <a:r>
              <a:rPr b="0" lang="id-ID" sz="2800" spc="-1" strike="noStrike">
                <a:solidFill>
                  <a:srgbClr val="ffffff"/>
                </a:solidFill>
                <a:latin typeface="Arial"/>
              </a:rPr>
              <a:t>angat banyak s</a:t>
            </a:r>
            <a:r>
              <a:rPr b="0" lang="sv-SE" sz="2800" spc="-1" strike="noStrike">
                <a:solidFill>
                  <a:srgbClr val="ffffff"/>
                </a:solidFill>
                <a:latin typeface="Arial"/>
              </a:rPr>
              <a:t>iswa yang memperhatikan materi pembelajaran, merespon dengan antusias, membuat catatan dan mengerjakan LK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2.</a:t>
            </a:r>
            <a:r>
              <a:rPr b="0" lang="sv-SE" sz="2800" spc="-1" strike="noStrike">
                <a:solidFill>
                  <a:srgbClr val="ffffff"/>
                </a:solidFill>
                <a:latin typeface="Arial"/>
              </a:rPr>
              <a:t>	</a:t>
            </a:r>
            <a:r>
              <a:rPr b="0" lang="sv-SE" sz="2800" spc="-1" strike="noStrike">
                <a:solidFill>
                  <a:srgbClr val="ffffff"/>
                </a:solidFill>
                <a:latin typeface="Arial"/>
              </a:rPr>
              <a:t>Sangat banyak siswa yang aktif menjawab dan selalu bertanya bila menemui kesulitan.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3.</a:t>
            </a:r>
            <a:r>
              <a:rPr b="0" lang="sv-SE" sz="2800" spc="-1" strike="noStrike">
                <a:solidFill>
                  <a:srgbClr val="ffffff"/>
                </a:solidFill>
                <a:latin typeface="Arial"/>
              </a:rPr>
              <a:t>	</a:t>
            </a:r>
            <a:r>
              <a:rPr b="0" lang="sv-SE" sz="2800" spc="-1" strike="noStrike">
                <a:solidFill>
                  <a:srgbClr val="ffffff"/>
                </a:solidFill>
                <a:latin typeface="Arial"/>
              </a:rPr>
              <a:t>Sangat banyak siswa yang ceria, semangat, sopan dan bersungguh-sungguh.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4.Sangat banyak siswa yang berpartisipasi aktif dalam diskusi kelompok (bertanya, menanggap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5.Semua siswa merespon positif (senang) terhadap pembelajaran menggunakan media Pesona Fisika.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6.</a:t>
            </a:r>
            <a:r>
              <a:rPr b="0" lang="sv-SE" sz="3200" spc="-1" strike="noStrike">
                <a:solidFill>
                  <a:srgbClr val="ffffff"/>
                </a:solidFill>
                <a:latin typeface="Arial"/>
              </a:rPr>
              <a:t>	</a:t>
            </a:r>
            <a:r>
              <a:rPr b="0" lang="sv-SE" sz="3200" spc="-1" strike="noStrike">
                <a:solidFill>
                  <a:srgbClr val="ffffff"/>
                </a:solidFill>
                <a:latin typeface="Arial"/>
              </a:rPr>
              <a:t>Semua siswa percaya diri saat mengerja-kan post t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7.</a:t>
            </a:r>
            <a:r>
              <a:rPr b="0" lang="sv-SE" sz="3200" spc="-1" strike="noStrike">
                <a:solidFill>
                  <a:srgbClr val="ffffff"/>
                </a:solidFill>
                <a:latin typeface="Arial"/>
              </a:rPr>
              <a:t>	</a:t>
            </a:r>
            <a:r>
              <a:rPr b="0" lang="sv-SE" sz="3200" spc="-1" strike="noStrike">
                <a:solidFill>
                  <a:srgbClr val="ffffff"/>
                </a:solidFill>
                <a:latin typeface="Arial"/>
              </a:rPr>
              <a:t>Semua siswa mampu mengoperasikan media Pesona Fisika.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8.</a:t>
            </a:r>
            <a:r>
              <a:rPr b="0" lang="sv-SE" sz="3200" spc="-1" strike="noStrike">
                <a:solidFill>
                  <a:srgbClr val="ffffff"/>
                </a:solidFill>
                <a:latin typeface="Arial"/>
              </a:rPr>
              <a:t>	</a:t>
            </a:r>
            <a:r>
              <a:rPr b="0" lang="sv-SE" sz="3200" spc="-1" strike="noStrike">
                <a:solidFill>
                  <a:srgbClr val="ffffff"/>
                </a:solidFill>
                <a:latin typeface="Arial"/>
              </a:rPr>
              <a:t>Semua siswa mampu mengoperasikan peraga interaktif.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9.</a:t>
            </a:r>
            <a:r>
              <a:rPr b="0" lang="sv-SE" sz="3200" spc="-1" strike="noStrike">
                <a:solidFill>
                  <a:srgbClr val="ffffff"/>
                </a:solidFill>
                <a:latin typeface="Arial"/>
              </a:rPr>
              <a:t>	</a:t>
            </a:r>
            <a:r>
              <a:rPr b="0" lang="sv-SE" sz="3200" spc="-1" strike="noStrike">
                <a:solidFill>
                  <a:srgbClr val="ffffff"/>
                </a:solidFill>
                <a:latin typeface="Arial"/>
              </a:rPr>
              <a:t>Semua s</a:t>
            </a:r>
            <a:r>
              <a:rPr b="0" lang="id-ID" sz="3200" spc="-1" strike="noStrike">
                <a:solidFill>
                  <a:srgbClr val="ffffff"/>
                </a:solidFill>
                <a:latin typeface="Arial"/>
              </a:rPr>
              <a:t>iswa dapat menentukan hasil pengukur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Arial"/>
              </a:rPr>
              <a:t>Dari uraian tersebut diatas dapat disimpulkan bahwa aktivitas belajar siswa meningkat setelah dilakukan tindak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761760"/>
            <a:ext cx="830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omic Sans MS"/>
              </a:rPr>
              <a:t>Hasil belajar listrik arus searah</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graphicFrame>
        <p:nvGraphicFramePr>
          <p:cNvPr id="1142" name=""/>
          <p:cNvGraphicFramePr/>
          <p:nvPr/>
        </p:nvGraphicFramePr>
        <p:xfrm>
          <a:off x="685800" y="1676520"/>
          <a:ext cx="7696080" cy="4724280"/>
        </p:xfrm>
        <a:graphic>
          <a:graphicData uri="http://schemas.openxmlformats.org/drawingml/2006/table">
            <a:tbl>
              <a:tblPr/>
              <a:tblGrid>
                <a:gridCol w="547560"/>
                <a:gridCol w="1567080"/>
                <a:gridCol w="1501560"/>
                <a:gridCol w="935280"/>
                <a:gridCol w="961920"/>
                <a:gridCol w="2182680"/>
              </a:tblGrid>
              <a:tr h="1404000">
                <a:tc>
                  <a:txBody>
                    <a:bodyPr lIns="68760" rIns="68760" tIns="0" bIns="0" anchor="ctr">
                      <a:noAutofit/>
                    </a:bodyPr>
                    <a:p>
                      <a:pPr algn="ctr">
                        <a:lnSpc>
                          <a:spcPct val="115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 </a:t>
                      </a:r>
                      <a:r>
                        <a:rPr b="0" lang="id-ID" sz="2000" spc="-1" strike="noStrike">
                          <a:solidFill>
                            <a:srgbClr val="000000"/>
                          </a:solidFill>
                          <a:latin typeface="Times New Roman"/>
                          <a:ea typeface="Times New Roman"/>
                        </a:rPr>
                        <a:t>.    </a:t>
                      </a:r>
                      <a:r>
                        <a:rPr b="1" lang="id-ID"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Times New Roman"/>
                          <a:ea typeface="Times New Roman"/>
                        </a:rPr>
                        <a:t>Urai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Times New Roman"/>
                          <a:ea typeface="Times New Roman"/>
                        </a:rPr>
                        <a:t>Kondisi Awal </a:t>
                      </a:r>
                      <a:r>
                        <a:rPr b="1" lang="en-US" sz="2000" spc="-1" strike="noStrike">
                          <a:solidFill>
                            <a:srgbClr val="000000"/>
                          </a:solidFill>
                          <a:latin typeface="Times New Roman"/>
                          <a:ea typeface="Times New Roman"/>
                        </a:rPr>
                        <a:t>     </a:t>
                      </a:r>
                      <a:r>
                        <a:rPr b="1" lang="id-ID" sz="2000" spc="-1" strike="noStrike">
                          <a:solidFill>
                            <a:srgbClr val="000000"/>
                          </a:solidFill>
                          <a:latin typeface="Times New Roman"/>
                          <a:ea typeface="Times New Roman"/>
                        </a:rPr>
                        <a:t>(Pra Siklu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58680" indent="-58680" algn="ctr">
                        <a:lnSpc>
                          <a:spcPct val="115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Times New Roman"/>
                          <a:ea typeface="Times New Roman"/>
                        </a:rPr>
                        <a:t>Siklus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Times New Roman"/>
                          <a:ea typeface="Times New Roman"/>
                        </a:rPr>
                        <a:t>Siklus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77760" indent="-77760" algn="ctr">
                        <a:lnSpc>
                          <a:spcPct val="115000"/>
                        </a:lnSpc>
                        <a:tabLst>
                          <a:tab algn="l" pos="0"/>
                          <a:tab algn="l" pos="1366920"/>
                          <a:tab algn="l" pos="145728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Times New Roman"/>
                          <a:ea typeface="Times New Roman"/>
                        </a:rPr>
                        <a:t>Dari Kondisi awal ke Kondisi akhir terdapat peningkatan nilai dan penurunan rentang nilai sebesa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Nilai Tertinggi</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9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1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Nilai Terenda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4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5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6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2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Nilai Rata-r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63,42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77,62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90,02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26,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Times New Roman"/>
                        </a:rPr>
                        <a:t>Rentang Nilai</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3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4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3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380880" y="274320"/>
            <a:ext cx="838224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cc"/>
                </a:solidFill>
                <a:latin typeface="Tahoma"/>
              </a:rPr>
              <a:t> </a:t>
            </a:r>
            <a:r>
              <a:rPr b="1" lang="fi-FI" sz="1400" spc="-1" strike="noStrike">
                <a:solidFill>
                  <a:srgbClr val="ffffcc"/>
                </a:solidFill>
                <a:latin typeface="Tahoma"/>
              </a:rPr>
              <a:t>ABSTRAK</a:t>
            </a:r>
            <a:br>
              <a:rPr sz="1400"/>
            </a:br>
            <a:r>
              <a:rPr b="0" lang="fi-FI" sz="1400" spc="-1" strike="noStrike">
                <a:solidFill>
                  <a:srgbClr val="ffffcc"/>
                </a:solidFill>
                <a:latin typeface="Tahoma"/>
              </a:rPr>
              <a:t>Penelitian tindakan kelas ini bertujuan untuk mengetahui apakah ada peningkatan aktivitas dan hasil belajar listrik arus searah dalam pelajaran fisika, dimana dalam proses pembelajaran menggunakan media pesona fisika. Penelitian dilakukan di kelas XII TKRB  SMK Negeri 1 Gombong semester 1 tahun pelajaran 2010/2011. Jumlah siswa di kelas tersebut sebanyak 35 siswa yang terdiri atas 35 siswa laki-laki dan tidak terdapat siswa perempuan. </a:t>
            </a:r>
            <a:br>
              <a:rPr sz="1400"/>
            </a:br>
            <a:r>
              <a:rPr b="0" lang="sv-SE" sz="1400" spc="-1" strike="noStrike">
                <a:solidFill>
                  <a:srgbClr val="ffffcc"/>
                </a:solidFill>
                <a:latin typeface="Tahoma"/>
              </a:rPr>
              <a:t>Penelitian berlangsung selama dua siklus dan tiap siklus terdiri atas dua kali pertemuan dan setiap pertemuan berlangsung selama 3X45 menit. Pada t</a:t>
            </a:r>
            <a:r>
              <a:rPr b="0" lang="fi-FI" sz="1400" spc="-1" strike="noStrike">
                <a:solidFill>
                  <a:srgbClr val="ffffcc"/>
                </a:solidFill>
                <a:latin typeface="Tahoma"/>
              </a:rPr>
              <a:t>iap siklus terdiri atas kegiatan perencanaan, pelaksanaan, pengamatan, dan refleksi. </a:t>
            </a:r>
            <a:r>
              <a:rPr b="0" lang="sv-SE" sz="1400" spc="-1" strike="noStrike">
                <a:solidFill>
                  <a:srgbClr val="ffffcc"/>
                </a:solidFill>
                <a:latin typeface="Tahoma"/>
              </a:rPr>
              <a:t>Pada siklus I pertemuan kesatu, siswa dibawa ke laboratorium komputer untuk mempelajari materi KD 2 yakni hubungan antara tegangan, hambatan dan arus listrik, guru menerangkan sekilas kemudian siswa menggali sendiri materi dari media pesona fisika secara interaktif disertai mengisi LKS. Pada Siklus 1 pertemuan ke dua  siswa dibagi dalam enam kelompok besar (tiap kelompok enam siswa) untuk berdiskusi materi yang telah dipelajari. Diskusi dilaksanakan diruang kelas dan pertemuan diakhiri dengan tes siklus 1. Untuk siklus 2 pertemuan kesatu, siswa juga dibawa ke laboratorium komputer untuk mempelajari materi KD 3 yaitu menghitung energi dan daya listrik, guru menerangkan sekilas kemudian siswa menggali sendiri materi dari media pesona fisika secara interaktif dilanjutkan mengisi LKS. Pada Siklus 2 pertemuan ke dua  siswa dibagi dalam sebelas kelompok kecil (tiap kelompok tiga atau empat siswa) untuk berdiskusi materi yang telah dipelajari dan pertemuan diakhiri dengan tes siklus 2. </a:t>
            </a:r>
            <a:br>
              <a:rPr sz="1400"/>
            </a:br>
            <a:r>
              <a:rPr b="0" lang="sv-SE" sz="1400" spc="-1" strike="noStrike">
                <a:solidFill>
                  <a:srgbClr val="ffffcc"/>
                </a:solidFill>
                <a:latin typeface="Tahoma"/>
              </a:rPr>
              <a:t>Data-data dalam penelitian ini berupa data kuantitatif yang diperoleh melalui tes tiap akhir siklus. Selain itu juga berupa data kualitatif yang diperoleh melalui hasil observasi, jurnal guru kolaborasi, dan jurnal siswa. Berdasarkan analisis data diketahui bahwa telah terjadi peningkatan </a:t>
            </a:r>
            <a:r>
              <a:rPr b="0" lang="fi-FI" sz="1400" spc="-1" strike="noStrike">
                <a:solidFill>
                  <a:srgbClr val="ffffcc"/>
                </a:solidFill>
                <a:latin typeface="Tahoma"/>
              </a:rPr>
              <a:t>aktivitas dan hasil belajar listrik arus searah dalam pelajaran fisika.</a:t>
            </a:r>
            <a:r>
              <a:rPr b="0" lang="sv-SE" sz="1400" spc="-1" strike="noStrike">
                <a:solidFill>
                  <a:srgbClr val="ffffcc"/>
                </a:solidFill>
                <a:latin typeface="Tahoma"/>
              </a:rPr>
              <a:t> Hal ini terbukti dari nilai rata-rata siswa pada kondisi awal 63,428 meningkat menjadi 77,628 pada siklus 1 dan semakin meningkat menjadi 90,028 pada siklus 2. Pembelajaran menggunakan media pesona fisika juga menyenangkan dan meningkatkan aktivitas siswa. Hal ini dapat diketahui dari hasil observasi, jurnal guru, dan khususnya pendapat siswa melalui jurnal siswa.</a:t>
            </a:r>
            <a:br>
              <a:rPr sz="1400"/>
            </a:br>
            <a:r>
              <a:rPr b="0" lang="es-MX" sz="1400" spc="-1" strike="noStrike">
                <a:solidFill>
                  <a:srgbClr val="ffffcc"/>
                </a:solidFill>
                <a:latin typeface="Tahoma"/>
              </a:rPr>
              <a:t>Kata kunci : Media Pembelajaran, aktivitas belajar, hasil belajar.</a:t>
            </a:r>
            <a:endParaRPr b="0" lang="en-US" sz="1400" spc="-1" strike="noStrike">
              <a:solidFill>
                <a:srgbClr val="ffffcc"/>
              </a:solidFill>
              <a:latin typeface="Tahoma"/>
            </a:endParaRPr>
          </a:p>
        </p:txBody>
      </p:sp>
      <p:sp>
        <p:nvSpPr>
          <p:cNvPr id="1092" name="PlaceHolder 2"/>
          <p:cNvSpPr>
            <a:spLocks noGrp="1"/>
          </p:cNvSpPr>
          <p:nvPr>
            <p:ph/>
          </p:nvPr>
        </p:nvSpPr>
        <p:spPr>
          <a:xfrm>
            <a:off x="914400" y="7314840"/>
            <a:ext cx="8229600" cy="6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omic Sans MS"/>
              </a:rPr>
              <a:t>Sebelum dilakukan tindakan dan setelah dilakukan tindakan siklus pertama nilai rata-rata naik sebesar 14,2 poin dari 63,428 menjadi 77,628 dan dari siklus 1 ke siklus 2 naik sebesar 12,4 poin dari 77,628 menjadi 90,028. Ini berarti bahwa setelah dilakukan tindakan ada peningkatan hasil belajar dan target atau  indikator kinerja nilai rata-rata diatas 75 tercapai.</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cc"/>
                </a:solidFill>
                <a:latin typeface="Tahoma"/>
              </a:rPr>
              <a:t>PENUTUP</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1145"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Tahoma"/>
              </a:rPr>
              <a:t>Simpulan</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Tahoma"/>
              </a:rPr>
              <a:t>Jadi, berdasarkan teori dan kenyataan, dapat disimpulkan bahwa pembelajaran fisika menggunakan media pesona fisika, dapat meningkatkan aktivitas dan hasil belajar listrik arus searah dalam pelajaran fisika  siswa kelas XII TKRB  SMK Negeri 1 Gombong semester 1 tahun 2010/2011</a:t>
            </a:r>
            <a:r>
              <a:rPr b="0" lang="id-ID"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Tahoma"/>
              </a:rPr>
              <a:t>Saran</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rPr>
              <a:t>Bagi siswa, untuk lebih memahami kompetensi-kompetensi dasar pada mata pelajaran fisika, disamping rajin meminjam buku di perpustakaan juga sering mencari kompetensi yang ada di internet maupun media lainnya.</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rPr>
              <a:t>Bagi guru, penelitian ini memberikan wawasan untuk memilih media pembelajaran yang dapat meningkatkan aktivitas dan hasil belajar siswa. </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rPr>
              <a:t>Bagi sekolah, untuk lebih meningkatkan jumlah guru yang melaksanakan penelitian tindakan kelas. Bila banyak guru yang melakukan penelitian tindakan kelas, mutu sekolah akan meningkat karena memiliki banyak guru yang profesional.  </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ERIMA   KASIH</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533520" y="274320"/>
            <a:ext cx="81532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b9efee"/>
                </a:solidFill>
                <a:latin typeface="Garamond"/>
              </a:rPr>
              <a:t>PENDAHULUAN</a:t>
            </a:r>
            <a:br>
              <a:rPr sz="4000"/>
            </a:br>
            <a:endParaRPr b="1" lang="en-US" sz="3600" spc="-1" strike="noStrike">
              <a:solidFill>
                <a:srgbClr val="b9efee"/>
              </a:solidFill>
              <a:latin typeface="Garamond"/>
            </a:endParaRPr>
          </a:p>
        </p:txBody>
      </p:sp>
      <p:sp>
        <p:nvSpPr>
          <p:cNvPr id="1094" name="PlaceHolder 2"/>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tar Belakang Masalah</a:t>
            </a:r>
            <a:br>
              <a:rPr sz="2800"/>
            </a:br>
            <a:r>
              <a:rPr b="0" lang="es-MX" sz="2800" spc="-1" strike="noStrike">
                <a:solidFill>
                  <a:srgbClr val="ffffff"/>
                </a:solidFill>
                <a:latin typeface="Garamond"/>
              </a:rPr>
              <a:t>Penelitian ini dilakukan</a:t>
            </a:r>
            <a:r>
              <a:rPr b="1" lang="es-MX" sz="2800" spc="-1" strike="noStrike">
                <a:solidFill>
                  <a:srgbClr val="ffffff"/>
                </a:solidFill>
                <a:latin typeface="Garamond"/>
              </a:rPr>
              <a:t> </a:t>
            </a:r>
            <a:r>
              <a:rPr b="0" lang="es-MX" sz="2800" spc="-1" strike="noStrike">
                <a:solidFill>
                  <a:srgbClr val="ffffff"/>
                </a:solidFill>
                <a:latin typeface="Garamond"/>
              </a:rPr>
              <a:t>berdasarkan :</a:t>
            </a:r>
            <a:br>
              <a:rPr sz="2800"/>
            </a:br>
            <a:r>
              <a:rPr b="0" lang="es-MX" sz="2800" spc="-1" strike="noStrike">
                <a:solidFill>
                  <a:srgbClr val="ffffff"/>
                </a:solidFill>
                <a:latin typeface="Garamond"/>
              </a:rPr>
              <a:t>Nilai ulangan harian  siswa kelas XII TKRB SMK Negeri 1 Gombong Semester 1 Tahun 2010 / 2011 materi </a:t>
            </a:r>
            <a:r>
              <a:rPr b="0" i="1" lang="es-MX" sz="2800" spc="-1" strike="noStrike">
                <a:solidFill>
                  <a:srgbClr val="ffffff"/>
                </a:solidFill>
                <a:latin typeface="Garamond"/>
              </a:rPr>
              <a:t>listrik arus searah </a:t>
            </a:r>
            <a:r>
              <a:rPr b="0" lang="es-MX" sz="2800" spc="-1" strike="noStrike">
                <a:solidFill>
                  <a:srgbClr val="ffffff"/>
                </a:solidFill>
                <a:latin typeface="Garamond"/>
              </a:rPr>
              <a:t>pada kondisi awal  masih rendah. </a:t>
            </a:r>
            <a:endParaRPr b="0" lang="en-US" sz="28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ari 35 siswa,nilai tertinggi 80 sejumlah 1 siswa dan nilai terendah 45  sejumlah  1 siswa dengan nilai rata-rata 63,428 </a:t>
            </a:r>
            <a:r>
              <a:rPr b="0" lang="fi-FI" sz="2800" spc="-1" strike="noStrike">
                <a:solidFill>
                  <a:srgbClr val="ffffff"/>
                </a:solidFill>
                <a:latin typeface="Garamond"/>
              </a:rPr>
              <a:t>Nilai diatas batas KKM (75) sejumlah 2 siswa atau 5,71 %. dan nilai di bawah batas KKM sejumlah 33 siswa atau 94,29 %.</a:t>
            </a:r>
            <a:r>
              <a:rPr b="0" lang="fi-FI"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38088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6" name="PlaceHolder 2"/>
          <p:cNvSpPr>
            <a:spLocks noGrp="1"/>
          </p:cNvSpPr>
          <p:nvPr>
            <p:ph/>
          </p:nvPr>
        </p:nvSpPr>
        <p:spPr>
          <a:xfrm>
            <a:off x="457200" y="457200"/>
            <a:ext cx="8229600" cy="5943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Hal ini menunjukan  adanya masalah pada proses maupun hasil belajar fisika materi listrik arus searah.</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Nilai rendah yang dicapai siswa tidak terlepas dari beberapa permasalaha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eralatan praktikum yang ada di laboratorium sangat kurang dan tidak lengkap.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tidak tersedianya alat praktikum  KIT Listrik)</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533520" y="-114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8" name="PlaceHolder 2"/>
          <p:cNvSpPr>
            <a:spLocks noGrp="1"/>
          </p:cNvSpPr>
          <p:nvPr>
            <p:ph/>
          </p:nvPr>
        </p:nvSpPr>
        <p:spPr>
          <a:xfrm>
            <a:off x="533520" y="731520"/>
            <a:ext cx="8229600" cy="5592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ahoma"/>
              </a:rPr>
              <a:t>Peneliti  melaksanakan  PBM  hanya dengan  metode ceramah dilanjutkan tanya jawab dan latihan so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ahoma"/>
              </a:rPr>
              <a:t>Ternyata hasil belajar tidak memuaskan karena pembelajaram berpusat pada guru dan proses PBM tidak menarik / membosankan terbukti banyak siswa yang tidak memperhatikan atau tidak berpartisipasi aktif dalam proses pembelajar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0" y="-114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0" name="PlaceHolder 2"/>
          <p:cNvSpPr>
            <a:spLocks noGrp="1"/>
          </p:cNvSpPr>
          <p:nvPr>
            <p:ph/>
          </p:nvPr>
        </p:nvSpPr>
        <p:spPr>
          <a:xfrm>
            <a:off x="457200" y="380880"/>
            <a:ext cx="8229600" cy="609624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ahoma"/>
              </a:rPr>
              <a:t>Peneliti tidak melakukan kegiatan pembelajaran yang dapat mengaktifkan siswa atau merangsang siswa untuk berpikir dan bekerja sama guna merumuskan suatu pendap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ahoma"/>
              </a:rPr>
              <a:t>Dengan tidak adanya alat praktikum tersebut, pemahaman konsep listrik arus searah yang diterima siswa bersifat abstr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ahoma"/>
              </a:rPr>
              <a:t>Berdasarkan permasalahan tersebut diatas, perlu adanya media yang dapat menggantikan alat praktikum (media interaktif).</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80820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p:nvPr>
        </p:nvSpPr>
        <p:spPr>
          <a:xfrm>
            <a:off x="457200" y="380520"/>
            <a:ext cx="8229600" cy="574524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Peneliti menggunakan media Pesona Fisika dimana media tersebut dapat mendemonstrasikan alat peraga praktikum listrik atus searah dan latihan soal secara interaktif seperti rangkaian listrik beserta alat ukur ampere meter dan voltmeternya.  </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Media Pesona Fisika diharapkan dapat membantu mengatasi problem kekurangan alat praktikum di laboratorium.dan menambah variasi pembelajaran sehingga dapat mengurangi kebosanan sisw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2280"/>
            <a:ext cx="6870600" cy="89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00"/>
                </a:solidFill>
                <a:latin typeface="Comic Sans MS"/>
              </a:rPr>
              <a:t>Rumusan Masalah</a:t>
            </a:r>
            <a:endParaRPr b="0" lang="en-US" sz="3200" spc="-1" strike="noStrike">
              <a:solidFill>
                <a:srgbClr val="000000"/>
              </a:solidFill>
              <a:latin typeface="Comic Sans MS"/>
            </a:endParaRPr>
          </a:p>
        </p:txBody>
      </p:sp>
      <p:sp>
        <p:nvSpPr>
          <p:cNvPr id="1104" name="PlaceHolder 2"/>
          <p:cNvSpPr>
            <a:spLocks noGrp="1"/>
          </p:cNvSpPr>
          <p:nvPr>
            <p:ph/>
          </p:nvPr>
        </p:nvSpPr>
        <p:spPr>
          <a:xfrm>
            <a:off x="457200" y="837720"/>
            <a:ext cx="8229600" cy="528804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1.</a:t>
            </a:r>
            <a:r>
              <a:rPr b="0" lang="sv-SE" sz="3200" spc="-1" strike="noStrike">
                <a:solidFill>
                  <a:srgbClr val="000000"/>
                </a:solidFill>
                <a:latin typeface="Comic Sans MS"/>
              </a:rPr>
              <a:t>	</a:t>
            </a:r>
            <a:r>
              <a:rPr b="0" lang="sv-SE" sz="3200" spc="-1" strike="noStrike">
                <a:solidFill>
                  <a:srgbClr val="000000"/>
                </a:solidFill>
                <a:latin typeface="Comic Sans MS"/>
              </a:rPr>
              <a:t>Apakah  dengan menggunakan media Pesona Fisika dapat meningkatkan aktivitas  belajar listrik arus searah dalam pelajaran fisika siswa kelas XII TKRB SMK N 1 Gombong semester 1 tahun 2010 /2011 </a:t>
            </a:r>
            <a:endParaRPr b="0" lang="en-US" sz="3200" spc="-1" strike="noStrike">
              <a:solidFill>
                <a:srgbClr val="000000"/>
              </a:solidFill>
              <a:latin typeface="Comic Sans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2.Apakah  dengan menggunakan media Pesona Fisika dapat meningkatkan hasil   belajar listrik arus searah  dalam pelajaran fisika  siswa kelas XII TKRB SMK N 1 Gombong semester 1 tahun 2010 /2011.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2:55:00Z</dcterms:created>
  <dc:creator>'</dc:creator>
  <dc:description/>
  <dc:language>en-US</dc:language>
  <cp:lastModifiedBy>'</cp:lastModifiedBy>
  <dcterms:modified xsi:type="dcterms:W3CDTF">2010-10-14T15:00:52Z</dcterms:modified>
  <cp:revision>9</cp:revision>
  <dc:subject/>
  <dc:title> Upaya Peningkatan Aktivitas Dan Hasil Belajar Listrik Arus Searah Dalam Pelajaran Fisika Menggunakan Media Pesona Fisika Siswa Kelas XII TKRB SMKN 1 Gombong Semester 1 Tahun 2010 / 2011 </dc:title>
</cp:coreProperties>
</file>