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_rels/notesSlide1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29.wmf" ContentType="image/x-wmf"/>
  <Override PartName="/ppt/media/image7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35.jpeg" ContentType="image/jpeg"/>
  <Override PartName="/ppt/media/image12.wmf" ContentType="image/x-wmf"/>
  <Override PartName="/ppt/media/image30.wmf" ContentType="image/x-wmf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5.png" ContentType="image/png"/>
  <Override PartName="/ppt/media/image16.wmf" ContentType="image/x-wmf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75C346-D7F7-4918-8993-26AB8CBD3B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58840" y="72360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8219D5-C5D5-4647-A35E-40EBCB10D7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EF1371-995A-47AE-B73F-44F53F0BFB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88764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7640" y="876132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0" y="876132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609480" y="4377960"/>
            <a:ext cx="56390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388620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88620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-4680" y="8774280"/>
            <a:ext cx="2976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-4680" y="-1440"/>
            <a:ext cx="297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133640" y="698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335FD7-E5C0-4892-8C4F-EB6A425EEC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E4A5B3-2F42-461A-9D76-874FDE134F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36B0D9-7E35-482D-9CAA-B159FAAAA5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04840" y="71604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40532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/>
          <p:nvPr/>
        </p:nvSpPr>
        <p:spPr>
          <a:xfrm>
            <a:off x="3948120" y="-81000"/>
            <a:ext cx="304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-12600" y="-81000"/>
            <a:ext cx="304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98440" y="7444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29880" y="4430520"/>
            <a:ext cx="51181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3954600" y="-3240"/>
            <a:ext cx="3030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-6480" y="-3240"/>
            <a:ext cx="3030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954600" y="-3240"/>
            <a:ext cx="3030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-6480" y="-3240"/>
            <a:ext cx="3030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214280" y="74448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919080" y="4384440"/>
            <a:ext cx="501984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79CE1B-E288-4C91-BE3E-D1A8F745A3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64" name=""/>
          <p:cNvSpPr/>
          <p:nvPr/>
        </p:nvSpPr>
        <p:spPr>
          <a:xfrm>
            <a:off x="1066680" y="4532400"/>
            <a:ext cx="50292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ADB3CC-5510-417A-803D-823D945744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A244D5-A28B-4927-A6A5-EA22203B6E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388620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F3B814-420B-4FDC-B757-B477F2AC85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4680" y="8775360"/>
            <a:ext cx="2976480" cy="4474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-468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3886200" y="-3240"/>
            <a:ext cx="2976480" cy="447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D604-F9B7-48F9-882E-98B841C05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0275-C6F6-4223-BB60-70415A50D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387C-ABAA-44ED-A8DA-E3716AF70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AD97-75BA-4999-B4DF-9DFBA468E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D17E-9EBF-4A36-BBCF-31F5F34E1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DE7D-7868-4E96-B5C1-9D171EA9F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AA86-FF01-42A7-862D-908612241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69CB-815F-4DE3-891B-53208A697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153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F5F4-7FE6-4DB9-8F18-89986839B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E7AA-B382-4F89-B43A-5A054D9B9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E860-5867-448C-BBB7-C999CA54B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2DBF-7E37-4639-AB7B-5A0295F3F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82800" y="646128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y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D840-E696-40BB-9CC5-E004BF721C3B}" type="slidenum"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2800" y="1295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29.wmf"/><Relationship Id="rId10" Type="http://schemas.openxmlformats.org/officeDocument/2006/relationships/image" Target="../media/image29.wmf"/><Relationship Id="rId11" Type="http://schemas.openxmlformats.org/officeDocument/2006/relationships/image" Target="../media/image29.wmf"/><Relationship Id="rId12" Type="http://schemas.openxmlformats.org/officeDocument/2006/relationships/image" Target="../media/image29.wmf"/><Relationship Id="rId13" Type="http://schemas.openxmlformats.org/officeDocument/2006/relationships/image" Target="../media/image29.wmf"/><Relationship Id="rId14" Type="http://schemas.openxmlformats.org/officeDocument/2006/relationships/image" Target="../media/image29.wmf"/><Relationship Id="rId15" Type="http://schemas.openxmlformats.org/officeDocument/2006/relationships/image" Target="../media/image29.wmf"/><Relationship Id="rId16" Type="http://schemas.openxmlformats.org/officeDocument/2006/relationships/image" Target="../media/image29.wmf"/><Relationship Id="rId17" Type="http://schemas.openxmlformats.org/officeDocument/2006/relationships/image" Target="../media/image29.wmf"/><Relationship Id="rId18" Type="http://schemas.openxmlformats.org/officeDocument/2006/relationships/image" Target="../media/image29.wmf"/><Relationship Id="rId19" Type="http://schemas.openxmlformats.org/officeDocument/2006/relationships/image" Target="../media/image29.wmf"/><Relationship Id="rId20" Type="http://schemas.openxmlformats.org/officeDocument/2006/relationships/image" Target="../media/image29.wmf"/><Relationship Id="rId21" Type="http://schemas.openxmlformats.org/officeDocument/2006/relationships/image" Target="../media/image29.wmf"/><Relationship Id="rId22" Type="http://schemas.openxmlformats.org/officeDocument/2006/relationships/image" Target="../media/image29.wmf"/><Relationship Id="rId23" Type="http://schemas.openxmlformats.org/officeDocument/2006/relationships/image" Target="../media/image29.wmf"/><Relationship Id="rId24" Type="http://schemas.openxmlformats.org/officeDocument/2006/relationships/image" Target="../media/image29.wmf"/><Relationship Id="rId25" Type="http://schemas.openxmlformats.org/officeDocument/2006/relationships/image" Target="../media/image30.wmf"/><Relationship Id="rId26" Type="http://schemas.openxmlformats.org/officeDocument/2006/relationships/image" Target="../media/image31.wmf"/><Relationship Id="rId27" Type="http://schemas.openxmlformats.org/officeDocument/2006/relationships/image" Target="../media/image30.wmf"/><Relationship Id="rId28" Type="http://schemas.openxmlformats.org/officeDocument/2006/relationships/image" Target="../media/image30.wmf"/><Relationship Id="rId29" Type="http://schemas.openxmlformats.org/officeDocument/2006/relationships/image" Target="../media/image30.wmf"/><Relationship Id="rId30" Type="http://schemas.openxmlformats.org/officeDocument/2006/relationships/image" Target="../media/image30.wmf"/><Relationship Id="rId31" Type="http://schemas.openxmlformats.org/officeDocument/2006/relationships/image" Target="../media/image30.wmf"/><Relationship Id="rId32" Type="http://schemas.openxmlformats.org/officeDocument/2006/relationships/image" Target="../media/image30.wmf"/><Relationship Id="rId33" Type="http://schemas.openxmlformats.org/officeDocument/2006/relationships/image" Target="../media/image30.wmf"/><Relationship Id="rId34" Type="http://schemas.openxmlformats.org/officeDocument/2006/relationships/image" Target="../media/image30.wmf"/><Relationship Id="rId35" Type="http://schemas.openxmlformats.org/officeDocument/2006/relationships/image" Target="../media/image30.wmf"/><Relationship Id="rId36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2004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sodium oxybate) o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ipheral and Central Nervous System Drugs Advisory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6, 2001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phan Medical 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FDF3-5039-4413-882E-4BFB252952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100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arcolepsy - Cataple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14520" y="1814040"/>
            <a:ext cx="35463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cessive daytime sleep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taplex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pnagogic halluci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eep par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turbed nocturnal 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96960" y="146952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9320" y="2133720"/>
            <a:ext cx="4394160" cy="3220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6158-9987-44E1-8E9D-9F82EBB15F0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 Taken for AE of Con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69800" y="1627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change in dosage in 37 ev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justment in dosage in 4 ev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mporary discontinu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4 ev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manent discontinu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of 3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B4B9-ACED-4380-9953-3C6A42EFA17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ed Trial: OMC-GHB-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usion as 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704520" y="4136760"/>
            <a:ext cx="793116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incidence at 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10 developed during 1st week (4 at 9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10 were age &gt;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ncidence may reflect fixed dosage without t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2" name=""/>
          <p:cNvGraphicFramePr/>
          <p:nvPr/>
        </p:nvGraphicFramePr>
        <p:xfrm>
          <a:off x="307800" y="1584360"/>
          <a:ext cx="8502840" cy="2317680"/>
        </p:xfrm>
        <a:graphic>
          <a:graphicData uri="http://schemas.openxmlformats.org/drawingml/2006/table">
            <a:tbl>
              <a:tblPr/>
              <a:tblGrid>
                <a:gridCol w="2276640"/>
                <a:gridCol w="1323720"/>
                <a:gridCol w="1322640"/>
                <a:gridCol w="1263600"/>
                <a:gridCol w="1226880"/>
                <a:gridCol w="1089360"/>
              </a:tblGrid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red 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adverse ev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3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5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4.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C8DC-0B4C-4BA8-BE2C-09D403495D9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51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recorded was symptoms 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contemporaneous, formal mental status examinations for patients with “confus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reported “confusion” and other associated symptoms (e.g. unsteadiness) are not unexpected with sedating med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incidence may result without dose ti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0948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title"/>
          </p:nvPr>
        </p:nvSpPr>
        <p:spPr>
          <a:xfrm>
            <a:off x="298440" y="26172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usion --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49FE-5842-4736-AD27-ACAFFF0263A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psychiatric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F6E0-0DDE-4837-BE45-152B06F44FE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psychiatric 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89640" y="1150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arf Open-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3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 (29%)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(1%) patients dis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9120" y="122184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I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2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 (13%)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(3%) patients dis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B632-5F20-4A08-8B34-5A0113FDEA0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Neuropsychiatric Ev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822240" y="1425600"/>
          <a:ext cx="7858080" cy="4854600"/>
        </p:xfrm>
        <a:graphic>
          <a:graphicData uri="http://schemas.openxmlformats.org/drawingml/2006/table">
            <a:tbl>
              <a:tblPr/>
              <a:tblGrid>
                <a:gridCol w="4079880"/>
                <a:gridCol w="37782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7 Events in 52 Patient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  <a:tab algn="l" pos="240048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lucination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p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cide Attem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oid Reac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i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 Depressive Reac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ty Disorder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888E-6048-4599-AE8A-4E80C9E5745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arf Open-Label Tr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Neuropsychiatric Ev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3" name=""/>
          <p:cNvGraphicFramePr/>
          <p:nvPr/>
        </p:nvGraphicFramePr>
        <p:xfrm>
          <a:off x="393840" y="1397160"/>
          <a:ext cx="8242200" cy="4819320"/>
        </p:xfrm>
        <a:graphic>
          <a:graphicData uri="http://schemas.openxmlformats.org/drawingml/2006/table">
            <a:tbl>
              <a:tblPr/>
              <a:tblGrid>
                <a:gridCol w="2746080"/>
                <a:gridCol w="2749680"/>
                <a:gridCol w="274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  <a:tab algn="l" pos="24004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 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ing Ab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rson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cide Attem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luc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oid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71DA-8A75-47BB-9151-0A43F97EE67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psychiatry and Con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patients with major events had a pre-existing psychiatric disor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ny events do not qualify as neuropsychiatric sympto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ignment of causality is difficul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colepsy – depression, psych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nt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study screening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E4C6-22E0-469F-A265-CD0C6CD41EB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250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 Disorder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 (Somnambulis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DDDB-358C-4B27-9E8E-569E2F236C2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0720" y="15987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grated Tri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/402 (7%) patients reporte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harf Tr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/143 (31.5%) patients reporte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ed primarily in 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34D1-E70F-406C-AF12-5E3C348239E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arcolepsy - A Disabling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84360" y="1203480"/>
            <a:ext cx="7788240" cy="288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19040" y="1533600"/>
          <a:ext cx="8290080" cy="46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533600"/>
                    <a:ext cx="8290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16200000">
            <a:off x="-525960" y="326124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F-36 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1800" y="612144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apted from Beusterien et al.  SLEEP 1999;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91880" y="170640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ality of Life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2ACF-F80B-48A8-A643-CE5931394D8D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ial Diagn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s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EM parasomn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 parasomn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al complex seiz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longed absence seiz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bate-induced confusion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behavior in narcole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0D1A-4B86-4710-8E99-697DFF4C8FB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95360" y="3794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 in Controlled T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2" name=""/>
          <p:cNvGraphicFramePr/>
          <p:nvPr/>
        </p:nvGraphicFramePr>
        <p:xfrm>
          <a:off x="355680" y="1587600"/>
          <a:ext cx="8307360" cy="3690720"/>
        </p:xfrm>
        <a:graphic>
          <a:graphicData uri="http://schemas.openxmlformats.org/drawingml/2006/table">
            <a:tbl>
              <a:tblPr/>
              <a:tblGrid>
                <a:gridCol w="2097000"/>
                <a:gridCol w="900000"/>
                <a:gridCol w="2027520"/>
                <a:gridCol w="1204920"/>
                <a:gridCol w="207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wal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wal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SXB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0.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.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FDDD-1A64-48F1-97F9-76A56373E23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walking --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idence in integrated safety database trials (7%) is similar to the range reported in the literature (4-10%) [Mahowald 1998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ry recording without medical classification possibly represents an increased reporting as sleepwalking events in the Scharf t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ght increase in incidence over the general population may be representative o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rem effects – increase in slow wave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 behavior disorder, common in narcole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D923-5A33-445C-A00E-877D0366F1D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 to date: 60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24 excluding Schar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se: 3-9 g/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adverse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ache, unspecified pain, nausea, dizz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common adverse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miting, confusion, restlessness, agitation, sleepwalking, and enu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990C-E602-4BBE-9FFF-4537DC0D625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l events have been reversib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significant changes in lab values or vital signs identifi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of organ toxi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consumption by other family memb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Xyrem diver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D422-FC44-45E2-AC6F-FDD2A51F668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 is generally well-tole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EB79-0074-4600-8AA5-64748782893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Houghton, M.D.</a:t>
            </a:r>
            <a:br>
              <a:rPr sz="40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Operating Officer &amp; Medical Offic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Summ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Benefits and Ris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0A1B-EC0D-4172-96E4-2B49F1F543DA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Xyre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Courier New"/>
              </a:rPr>
              <a:t>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 (sodium oxybate) oral solution is indicated to reduce the incidence of cataplexy and to improve the symptom of daytime sleepines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in patients with narcolep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-Risk Assess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Ind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E5BE-88EE-405B-BFF4-47DCEA53643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rcolepsy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re disease with an incidence of approximately 0.0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urrently approved treatment for cataplex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DA priority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-label use of TCAs, SSRIs inadequ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mulants used to treat daytime sleep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reat catap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4E20-689B-4EEB-87F6-47FA075ED48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stablished by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iary recor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 rating of overall clinical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measures of change in sleep architecture and daytim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1102-7C52-43A8-98DC-2223E02D1D78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riving Effects and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20640" y="1114560"/>
            <a:ext cx="7788240" cy="288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177804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Do you drive?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48%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6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Fall asleep driving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66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Cataplexy driving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29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Sleep paralysis driving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12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Frequent near accidents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67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Led to accidents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37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Higher insuranc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16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Suspended licens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7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ＭＳ Ｐゴシック"/>
              </a:rPr>
              <a:t>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49120" y="1251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Narcoleps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2080" y="6110280"/>
            <a:ext cx="80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: Broughton et al.  Psychophysiological aspects of slee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k Ridge, NJ: Noyes Medical Publ, 198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136A-5B17-455B-98BB-008496443540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al Benefits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ort and long-term control of cataple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bjective and objective improvements in daytime sleepin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neficial changes in sleep architec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all benefit of therapy indicated by investigator and patient eval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9F8E-D73A-4144-8B5F-C2F2201101BC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well tol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symptom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, dizziness, headaches, pain and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common, but important are enuresis and sleep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ose relationship is suggested for nausea, confusion, enu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eaths associated with the drug in 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ECC5-FC75-455E-880B-E90A671D4320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nambu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59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ossible associ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y be associated with therapeutic do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299880" y="1227240"/>
            <a:ext cx="8656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A9B5-264F-42B2-9C90-E3EA24049EB2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r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298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 definite association with the drug that may have a dose-relation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iable association with seiz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ul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no reliable link in seizure causality with Xy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atients with know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atients with confounding factors (concomitant alcohol, benzodiazepine withdraw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99880" y="1138320"/>
            <a:ext cx="8656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52E1-26ED-40C6-BB11-F4C022D5FF29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es seen were small, not clinically significant and comparable across treatment grou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of organ toxicity at therapeutic do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622B-3004-488D-8DBF-A65599964700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of kinetic or dynamic tole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drug-drug interactions obser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2015-B770-4F71-AD8A-B24B0E789D4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drawal Phenome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ious syndrome in abuse population, relating to escalated dose and frequ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in patients in clinical tri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5C5C-1AA6-4D73-968D-86E3A2B9147C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ll-recognized public health iss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in patients with narcolepsy, treated with Xyr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ny commitmen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federal and state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ed distribu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and physicia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8209-AC27-42B0-BCB2-16F8C70C21F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established statistically and clinically significant evidence for the reduction in cataplexy, and improvement in daytime sleepiness when used concomitantly with stimulant med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rem is generally well tolerated, with a safety profile well characterized in this orphan population with long-term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dical benefits clearly outweigh the r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A429-F155-437C-9680-3045F091EA72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280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ert Balster, Ph.D.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College of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use Liability and Overdo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89EA-678C-460E-9043-8A3D6AE2713B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944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bjective Measurement of 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96960" y="130464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41520" y="1852200"/>
            <a:ext cx="1440" cy="355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1520" y="5403960"/>
            <a:ext cx="6118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8000" y="2668680"/>
            <a:ext cx="4880160" cy="1074600"/>
          </a:xfrm>
          <a:custGeom>
            <a:avLst/>
            <a:gdLst/>
            <a:ahLst/>
            <a:rect l="l" t="t" r="r" b="b"/>
            <a:pathLst>
              <a:path w="3074" h="677">
                <a:moveTo>
                  <a:pt x="0" y="0"/>
                </a:moveTo>
                <a:lnTo>
                  <a:pt x="769" y="115"/>
                </a:lnTo>
                <a:lnTo>
                  <a:pt x="769" y="115"/>
                </a:lnTo>
                <a:lnTo>
                  <a:pt x="1537" y="448"/>
                </a:lnTo>
                <a:lnTo>
                  <a:pt x="1537" y="448"/>
                </a:lnTo>
                <a:lnTo>
                  <a:pt x="2306" y="677"/>
                </a:lnTo>
                <a:lnTo>
                  <a:pt x="2306" y="677"/>
                </a:lnTo>
                <a:lnTo>
                  <a:pt x="3074" y="344"/>
                </a:lnTo>
                <a:lnTo>
                  <a:pt x="3074" y="344"/>
                </a:lnTo>
              </a:path>
            </a:pathLst>
          </a:cu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78000" y="2651040"/>
            <a:ext cx="4898880" cy="1109520"/>
            <a:chOff x="2178000" y="2651040"/>
            <a:chExt cx="4898880" cy="1109520"/>
          </a:xfrm>
        </p:grpSpPr>
        <p:sp>
          <p:nvSpPr>
            <p:cNvPr id="100" name=""/>
            <p:cNvSpPr/>
            <p:nvPr/>
          </p:nvSpPr>
          <p:spPr>
            <a:xfrm>
              <a:off x="2178000" y="2651040"/>
              <a:ext cx="19080" cy="540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0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14360" y="266832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1080" y="266832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7440" y="2668320"/>
              <a:ext cx="19080" cy="558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23800" y="268740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0520" y="2687400"/>
              <a:ext cx="172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96880" y="2687400"/>
              <a:ext cx="1764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33600" y="2705040"/>
              <a:ext cx="172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9960" y="270504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06680" y="2705040"/>
              <a:ext cx="172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43040" y="2705040"/>
              <a:ext cx="1728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79400" y="272412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6120" y="2724120"/>
              <a:ext cx="172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52480" y="272412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87400" y="274140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4120" y="274140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60480" y="274140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7200" y="2741400"/>
              <a:ext cx="18720" cy="558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33560" y="276048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69920" y="276048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6640" y="2760480"/>
              <a:ext cx="190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43000" y="277812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9720" y="2778120"/>
              <a:ext cx="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7000" y="277812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3720" y="277812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0080" y="279720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6440" y="279720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43160" y="279720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9520" y="281448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16240" y="281448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52600" y="281448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89320" y="2814480"/>
              <a:ext cx="1728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25680" y="2833560"/>
              <a:ext cx="17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62040" y="2833560"/>
              <a:ext cx="1764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79680" y="28335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2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6040" y="285084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2760" y="28684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89120" y="28875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25840" y="29048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62200" y="290484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9840" y="292392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16200" y="29415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2560" y="29606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9280" y="29779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25640" y="2977920"/>
              <a:ext cx="3672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2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2360" y="299700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8720" y="301464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17800" y="30337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52720" y="30510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9080" y="3051000"/>
              <a:ext cx="3672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2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5800" y="3070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160" y="30877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98880" y="3106440"/>
              <a:ext cx="19080" cy="34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0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17960" y="31240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54320" y="3124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0680" y="3141360"/>
              <a:ext cx="3672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27400" y="31604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62320" y="31780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8680" y="319716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17760" y="319716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54480" y="321444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90840" y="32335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27560" y="32511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3920" y="327024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00280" y="3270240"/>
              <a:ext cx="1764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1" y="0"/>
                  </a:moveTo>
                  <a:lnTo>
                    <a:pt x="0" y="23"/>
                  </a:lnTo>
                  <a:lnTo>
                    <a:pt x="0" y="34"/>
                  </a:lnTo>
                  <a:lnTo>
                    <a:pt x="11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7920" y="328752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2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54280" y="33066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1000" y="332424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27360" y="3342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64080" y="33429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00440" y="3360600"/>
              <a:ext cx="1728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11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11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17720" y="33796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54440" y="33796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0800" y="3396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7520" y="33969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3880" y="34160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0"/>
                  </a:moveTo>
                  <a:lnTo>
                    <a:pt x="0" y="22"/>
                  </a:lnTo>
                  <a:lnTo>
                    <a:pt x="11" y="22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34336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36960" y="34336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73320" y="3450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10040" y="345096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6400" y="347004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64040" y="34700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00400" y="34876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37120" y="348768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73480" y="35067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10200" y="35240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6560" y="35240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82920" y="35431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19640" y="35431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6000" y="35607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2720" y="356076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29080" y="35798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64000" y="3579840"/>
              <a:ext cx="36360" cy="5364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0"/>
                  </a:moveTo>
                  <a:lnTo>
                    <a:pt x="0" y="23"/>
                  </a:lnTo>
                  <a:lnTo>
                    <a:pt x="12" y="34"/>
                  </a:lnTo>
                  <a:lnTo>
                    <a:pt x="23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00360" y="359712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9440" y="3616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56160" y="361620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92520" y="363348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29240" y="363348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1" y="0"/>
                  </a:moveTo>
                  <a:lnTo>
                    <a:pt x="0" y="23"/>
                  </a:lnTo>
                  <a:lnTo>
                    <a:pt x="11" y="35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5600" y="36525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02320" y="36525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8680" y="367020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73600" y="367020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2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09960" y="36892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46680" y="370656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83040" y="37065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0"/>
                  </a:moveTo>
                  <a:lnTo>
                    <a:pt x="0" y="23"/>
                  </a:lnTo>
                  <a:lnTo>
                    <a:pt x="12" y="23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19760" y="3725640"/>
              <a:ext cx="19080" cy="34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0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19760" y="372564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56120" y="370656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2"/>
                  </a:moveTo>
                  <a:lnTo>
                    <a:pt x="12" y="34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92840" y="36892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2" y="34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11560" y="368928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11" y="23"/>
                  </a:lnTo>
                  <a:lnTo>
                    <a:pt x="22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6480" y="3670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83200" y="365256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560" y="3633480"/>
              <a:ext cx="3672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2" y="35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56280" y="361620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2" y="34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2640" y="3616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1720" y="359712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48080" y="35798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4800" y="356076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1" y="35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1160" y="354312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11"/>
                  </a:moveTo>
                  <a:lnTo>
                    <a:pt x="11" y="34"/>
                  </a:lnTo>
                  <a:lnTo>
                    <a:pt x="22" y="23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56080" y="35431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2800" y="35240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1880" y="35067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48240" y="3487680"/>
              <a:ext cx="3672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1" y="35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84960" y="34700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1" y="34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21320" y="34700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7680" y="3450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4400" y="34336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11680" y="341604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2" y="34"/>
                  </a:lnTo>
                  <a:lnTo>
                    <a:pt x="23" y="22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48400" y="33969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2"/>
                  </a:moveTo>
                  <a:lnTo>
                    <a:pt x="11" y="34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84760" y="339696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21480" y="33796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57840" y="336060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94200" y="334296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1" y="34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11840" y="332424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2" y="35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48200" y="33242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4920" y="330660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21280" y="32875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23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0" y="32702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1" y="34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94360" y="325116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12"/>
                  </a:moveTo>
                  <a:lnTo>
                    <a:pt x="11" y="35"/>
                  </a:lnTo>
                  <a:lnTo>
                    <a:pt x="23" y="23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12000" y="32511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8360" y="32335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84720" y="321444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2" y="23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21440" y="31971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1"/>
                  </a:moveTo>
                  <a:lnTo>
                    <a:pt x="12" y="34"/>
                  </a:lnTo>
                  <a:lnTo>
                    <a:pt x="23" y="23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57800" y="319716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12" y="23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087640" y="2577960"/>
            <a:ext cx="182520" cy="18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87640" y="2577960"/>
            <a:ext cx="199800" cy="200160"/>
          </a:xfrm>
          <a:prstGeom prst="ellipse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06600" y="2760840"/>
            <a:ext cx="1828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06600" y="2760840"/>
            <a:ext cx="201600" cy="199800"/>
          </a:xfrm>
          <a:prstGeom prst="ellipse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46680" y="3652920"/>
            <a:ext cx="18252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46680" y="3652920"/>
            <a:ext cx="200160" cy="199800"/>
          </a:xfrm>
          <a:prstGeom prst="ellipse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67440" y="3124080"/>
            <a:ext cx="181080" cy="18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67440" y="3124080"/>
            <a:ext cx="200160" cy="200160"/>
          </a:xfrm>
          <a:prstGeom prst="ellipse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60720" y="4675320"/>
            <a:ext cx="4879800" cy="145800"/>
          </a:xfrm>
          <a:custGeom>
            <a:avLst/>
            <a:gdLst/>
            <a:ahLst/>
            <a:rect l="l" t="t" r="r" b="b"/>
            <a:pathLst>
              <a:path w="3074" h="92">
                <a:moveTo>
                  <a:pt x="0" y="12"/>
                </a:moveTo>
                <a:lnTo>
                  <a:pt x="768" y="34"/>
                </a:lnTo>
                <a:lnTo>
                  <a:pt x="1537" y="92"/>
                </a:lnTo>
                <a:lnTo>
                  <a:pt x="2305" y="12"/>
                </a:lnTo>
                <a:lnTo>
                  <a:pt x="3074" y="0"/>
                </a:lnTo>
              </a:path>
            </a:pathLst>
          </a:custGeom>
          <a:noFill/>
          <a:ln w="44280">
            <a:solidFill>
              <a:srgbClr val="fcf3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4920" y="4638600"/>
            <a:ext cx="146160" cy="14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4920" y="4638600"/>
            <a:ext cx="165240" cy="16344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25680" y="4675320"/>
            <a:ext cx="146160" cy="14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25680" y="4675320"/>
            <a:ext cx="163800" cy="163440"/>
          </a:xfrm>
          <a:prstGeom prst="rect">
            <a:avLst/>
          </a:prstGeom>
          <a:solidFill>
            <a:srgbClr val="ffff00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45000" y="4765680"/>
            <a:ext cx="14616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45000" y="4765680"/>
            <a:ext cx="165240" cy="165240"/>
          </a:xfrm>
          <a:prstGeom prst="rect">
            <a:avLst/>
          </a:prstGeom>
          <a:solidFill>
            <a:srgbClr val="ffff00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65760" y="4638600"/>
            <a:ext cx="14616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5760" y="4638600"/>
            <a:ext cx="163440" cy="163440"/>
          </a:xfrm>
          <a:prstGeom prst="rect">
            <a:avLst/>
          </a:prstGeom>
          <a:solidFill>
            <a:srgbClr val="ffff00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85080" y="4621320"/>
            <a:ext cx="1458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85080" y="4621320"/>
            <a:ext cx="163440" cy="163440"/>
          </a:xfrm>
          <a:prstGeom prst="rect">
            <a:avLst/>
          </a:prstGeom>
          <a:solidFill>
            <a:srgbClr val="ffff00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34400" y="566748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am       12 am      2 pm       4 pm     6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1040" y="1847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36720" y="3483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8120" y="2657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90800" y="527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5600" y="435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31040" y="48420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rcolep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284328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49600" y="3255840"/>
            <a:ext cx="201600" cy="20016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6720" y="4527720"/>
            <a:ext cx="611820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41520" y="3994200"/>
            <a:ext cx="611820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0E3A-9A81-40D6-B3F4-7504A5CB19B1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Liability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urrent abuse of GHB-like substances probably reflects their ready availability more than their pharmac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approved, Xyrem will not contribute to the public health problem of abuse of GHB-like substanc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784F-C8D9-4246-9F80-E041D0FC435C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HB and GHB-like Sub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amma hydroxybutyrate (GHB)(SCH III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curs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 butyrolactone (GB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4-butanediol (1,4-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rahydrofuran (TH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 hydroxyvalerate (GH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564B-8A84-4E19-933A-3BC344EB9D02}" type="slidenum">
              <a:t>131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of GHB-like Substances Resul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ily From Avail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tail s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HB and precursors were readily available through internet 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cursors have wide commercial u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y of these precursors can easily be converted to GHB by any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se precursors themselves are now widely abus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75F4-BBF1-4F61-95B3-432C42ACDE48}" type="slidenum">
              <a:t>132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/>
          </p:nvPr>
        </p:nvSpPr>
        <p:spPr>
          <a:xfrm>
            <a:off x="304560" y="25909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cientific laboratory studies of GHB suggest low inherent abuse potentia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AE8F-C50D-463D-B4D0-A12426DA719D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tific Data on the Abus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of GH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Unique Pharmac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Drug Discrimin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lack  of equivalence to abused depress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Self-Administr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weak reinforcing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Physical Dependen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more difficult to produce than with abused depress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FB71-1F71-4E13-9E30-8572A852F377}" type="slidenum">
              <a:t>134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 From Abus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HB has abuse potential generally consistent with Schedule IV drug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ilar conclusion reached by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recommended Schedule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Commission places GHB in Schedule IV under the Psychotropic 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FC56-55AE-4287-AD22-D30F0A957448}" type="slidenum">
              <a:t>135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Sources of Abuse 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use or misuse among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version for illicit u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1069-57CE-4E3C-BD1F-F7654DC9A55A}" type="slidenum">
              <a:t>13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Among Patients is Unlik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substances given as therapeutic treatment rarely are abused by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orts of abuse in Xyrem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colepsy patients already being treated with medications with abuse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duration of action requires multiple daily administrations to maintain elevated levels in the body necessary for physical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F6F2-A7B8-4DBC-864A-797E48EFDBFB}" type="slidenum">
              <a:t>137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icit Diversion of Xyrem Unlik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evidence of diversion of Xyre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tient Success Program for distribution should prevent diver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yrem would be an insignificant source of GHB-like substances to the general publ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070D-26FD-403E-A446-B6AEFC61366C}" type="slidenum">
              <a:t>138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HB, GBL and 1,4- Butanedi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of Production Qua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0" name=""/>
          <p:cNvGraphicFramePr/>
          <p:nvPr/>
        </p:nvGraphicFramePr>
        <p:xfrm>
          <a:off x="493560" y="1627200"/>
          <a:ext cx="81568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627200"/>
                    <a:ext cx="8156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2" name=""/>
          <p:cNvSpPr/>
          <p:nvPr/>
        </p:nvSpPr>
        <p:spPr>
          <a:xfrm rot="16200000">
            <a:off x="-1033920" y="3335760"/>
            <a:ext cx="29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roduction (k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260440" y="5641920"/>
            <a:ext cx="1686240" cy="3373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377,000,000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312800" y="5614920"/>
            <a:ext cx="1488240" cy="3373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83,000,000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141240" y="5614920"/>
            <a:ext cx="1093680" cy="3373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82,125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3518-B6E2-4218-A28B-1A986FAE16F9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bnormal Regulation of REM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52560" y="5753160"/>
            <a:ext cx="7353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≥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 SOREMPs is typical for narcoleps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43000" y="1828800"/>
            <a:ext cx="8237520" cy="3768840"/>
            <a:chOff x="243000" y="1828800"/>
            <a:chExt cx="8237520" cy="3768840"/>
          </a:xfrm>
        </p:grpSpPr>
        <p:pic>
          <p:nvPicPr>
            <p:cNvPr id="281" name="SORP" descr=""/>
            <p:cNvPicPr/>
            <p:nvPr/>
          </p:nvPicPr>
          <p:blipFill>
            <a:blip r:embed="rId1"/>
            <a:stretch/>
          </p:blipFill>
          <p:spPr>
            <a:xfrm>
              <a:off x="1776960" y="1828800"/>
              <a:ext cx="6703560" cy="3768840"/>
            </a:xfrm>
            <a:prstGeom prst="rect">
              <a:avLst/>
            </a:prstGeom>
            <a:ln w="19080">
              <a:solidFill>
                <a:srgbClr val="00dfca"/>
              </a:solidFill>
              <a:miter/>
            </a:ln>
          </p:spPr>
        </p:pic>
        <p:grpSp>
          <p:nvGrpSpPr>
            <p:cNvPr id="282" name=""/>
            <p:cNvGrpSpPr/>
            <p:nvPr/>
          </p:nvGrpSpPr>
          <p:grpSpPr>
            <a:xfrm>
              <a:off x="243000" y="1896120"/>
              <a:ext cx="1524600" cy="3677040"/>
              <a:chOff x="243000" y="1896120"/>
              <a:chExt cx="1524600" cy="3677040"/>
            </a:xfrm>
          </p:grpSpPr>
          <p:sp>
            <p:nvSpPr>
              <p:cNvPr id="283" name=""/>
              <p:cNvSpPr/>
              <p:nvPr/>
            </p:nvSpPr>
            <p:spPr>
              <a:xfrm>
                <a:off x="332640" y="1896120"/>
                <a:ext cx="127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entral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E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017360" y="2722320"/>
                <a:ext cx="58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O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9560" y="2298600"/>
                <a:ext cx="13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ccipital EE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94320" y="3173040"/>
                <a:ext cx="60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O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6600" y="3581280"/>
                <a:ext cx="107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hin EM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43000" y="4016880"/>
                <a:ext cx="152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. + L. AT EM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122120" y="4884120"/>
                <a:ext cx="46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06560" y="4449960"/>
                <a:ext cx="59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C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44720" y="5266080"/>
                <a:ext cx="55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Vt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R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774720" y="1270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udden transition from wakefulness to REM slee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96960" y="107604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1697-CD76-4046-8C1E-2923AD748E92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use Liability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demic of abuse of GHB-like substances has resulted primarily from ready availabi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ientific studies of GHB show modest abuse potent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yrem abuse unlikely in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ibution of Xyrem to public health problem of GHB-like substance abuse will be insignifican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BC34-6018-4F68-A174-DF51FBDA9C40}" type="slidenum">
              <a:t>140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0" y="16524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 Management Through Responsible Distribu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ppropriate Education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rem Succ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ti Engel, R.N., BSN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 President of Marketing &amp; Sa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0248-2AF2-4436-8032-32A9485E3869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rehensive system design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ensure responsible distribution and use of Xy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ccess to Xyrem for patients who ne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yrem inaccessible to those who would use it inappropr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Success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770F-8520-404D-ABE3-D5C61F37EBDF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41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d by Orphan Medical and developed after extensive consultation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rcolepsy pati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xicolog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/Family support group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ensics exper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 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ians who tre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ug divers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rcoleps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investig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 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y medici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eld law enfor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hysici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ate controlled sub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 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son control center direct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auth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 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rmaceutical distrib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ahoma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g abuse trend expert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per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Success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7A7B-6491-4191-A9C4-9143B004FF13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4" name="riskmanagement009" descr=""/>
          <p:cNvPicPr/>
          <p:nvPr/>
        </p:nvPicPr>
        <p:blipFill>
          <a:blip r:embed="rId1"/>
          <a:srcRect l="0" t="18123" r="445" b="0"/>
          <a:stretch/>
        </p:blipFill>
        <p:spPr>
          <a:xfrm>
            <a:off x="1257480" y="1433520"/>
            <a:ext cx="6624360" cy="5241960"/>
          </a:xfrm>
          <a:prstGeom prst="rect">
            <a:avLst/>
          </a:prstGeom>
          <a:ln w="0">
            <a:noFill/>
          </a:ln>
        </p:spPr>
      </p:pic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nagement Through Risk Confro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409B-C53C-4F7F-BA3E-CA9A7B296BE6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Pharmaceutical Distrib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978520" y="14112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8" name="j0238407" descr=""/>
          <p:cNvPicPr/>
          <p:nvPr/>
        </p:nvPicPr>
        <p:blipFill>
          <a:blip r:embed="rId1"/>
          <a:stretch/>
        </p:blipFill>
        <p:spPr>
          <a:xfrm>
            <a:off x="6751800" y="60372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49" name="j0238407" descr=""/>
          <p:cNvPicPr/>
          <p:nvPr/>
        </p:nvPicPr>
        <p:blipFill>
          <a:blip r:embed="rId2"/>
          <a:stretch/>
        </p:blipFill>
        <p:spPr>
          <a:xfrm>
            <a:off x="6218280" y="470376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0" name="j0238407" descr=""/>
          <p:cNvPicPr/>
          <p:nvPr/>
        </p:nvPicPr>
        <p:blipFill>
          <a:blip r:embed="rId3"/>
          <a:stretch/>
        </p:blipFill>
        <p:spPr>
          <a:xfrm>
            <a:off x="7399440" y="554184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1" name="j0238407" descr=""/>
          <p:cNvPicPr/>
          <p:nvPr/>
        </p:nvPicPr>
        <p:blipFill>
          <a:blip r:embed="rId4"/>
          <a:stretch/>
        </p:blipFill>
        <p:spPr>
          <a:xfrm>
            <a:off x="6218280" y="565632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2" name="j0238407" descr=""/>
          <p:cNvPicPr/>
          <p:nvPr/>
        </p:nvPicPr>
        <p:blipFill>
          <a:blip r:embed="rId5"/>
          <a:stretch/>
        </p:blipFill>
        <p:spPr>
          <a:xfrm>
            <a:off x="6904080" y="519912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3" name="j0238407" descr=""/>
          <p:cNvPicPr/>
          <p:nvPr/>
        </p:nvPicPr>
        <p:blipFill>
          <a:blip r:embed="rId6"/>
          <a:stretch/>
        </p:blipFill>
        <p:spPr>
          <a:xfrm>
            <a:off x="4187880" y="622764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4" name="j0238407" descr=""/>
          <p:cNvPicPr/>
          <p:nvPr/>
        </p:nvPicPr>
        <p:blipFill>
          <a:blip r:embed="rId7"/>
          <a:stretch/>
        </p:blipFill>
        <p:spPr>
          <a:xfrm>
            <a:off x="4960800" y="5961240"/>
            <a:ext cx="373320" cy="363240"/>
          </a:xfrm>
          <a:prstGeom prst="rect">
            <a:avLst/>
          </a:prstGeom>
          <a:ln w="0">
            <a:noFill/>
          </a:ln>
        </p:spPr>
      </p:pic>
      <p:pic>
        <p:nvPicPr>
          <p:cNvPr id="1855" name="j0238407" descr=""/>
          <p:cNvPicPr/>
          <p:nvPr/>
        </p:nvPicPr>
        <p:blipFill>
          <a:blip r:embed="rId8"/>
          <a:stretch/>
        </p:blipFill>
        <p:spPr>
          <a:xfrm>
            <a:off x="7399440" y="62658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6" name="j0238407" descr=""/>
          <p:cNvPicPr/>
          <p:nvPr/>
        </p:nvPicPr>
        <p:blipFill>
          <a:blip r:embed="rId9"/>
          <a:stretch/>
        </p:blipFill>
        <p:spPr>
          <a:xfrm>
            <a:off x="5532480" y="569448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7" name="j0238407" descr=""/>
          <p:cNvPicPr/>
          <p:nvPr/>
        </p:nvPicPr>
        <p:blipFill>
          <a:blip r:embed="rId10"/>
          <a:stretch/>
        </p:blipFill>
        <p:spPr>
          <a:xfrm>
            <a:off x="4373640" y="569448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8" name="j0238407" descr=""/>
          <p:cNvPicPr/>
          <p:nvPr/>
        </p:nvPicPr>
        <p:blipFill>
          <a:blip r:embed="rId11"/>
          <a:stretch/>
        </p:blipFill>
        <p:spPr>
          <a:xfrm>
            <a:off x="3056040" y="62658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59" name="j0238407" descr=""/>
          <p:cNvPicPr/>
          <p:nvPr/>
        </p:nvPicPr>
        <p:blipFill>
          <a:blip r:embed="rId12"/>
          <a:stretch/>
        </p:blipFill>
        <p:spPr>
          <a:xfrm>
            <a:off x="198360" y="5923080"/>
            <a:ext cx="373320" cy="363600"/>
          </a:xfrm>
          <a:prstGeom prst="rect">
            <a:avLst/>
          </a:prstGeom>
          <a:ln w="0">
            <a:noFill/>
          </a:ln>
        </p:spPr>
      </p:pic>
      <p:pic>
        <p:nvPicPr>
          <p:cNvPr id="1860" name="j0238407" descr=""/>
          <p:cNvPicPr/>
          <p:nvPr/>
        </p:nvPicPr>
        <p:blipFill>
          <a:blip r:embed="rId13"/>
          <a:stretch/>
        </p:blipFill>
        <p:spPr>
          <a:xfrm>
            <a:off x="579600" y="542772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1" name="j0238407" descr=""/>
          <p:cNvPicPr/>
          <p:nvPr/>
        </p:nvPicPr>
        <p:blipFill>
          <a:blip r:embed="rId14"/>
          <a:stretch/>
        </p:blipFill>
        <p:spPr>
          <a:xfrm>
            <a:off x="2598840" y="577044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2" name="j0238407" descr=""/>
          <p:cNvPicPr/>
          <p:nvPr/>
        </p:nvPicPr>
        <p:blipFill>
          <a:blip r:embed="rId15"/>
          <a:stretch/>
        </p:blipFill>
        <p:spPr>
          <a:xfrm>
            <a:off x="1189080" y="584676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3" name="j0238407" descr=""/>
          <p:cNvPicPr/>
          <p:nvPr/>
        </p:nvPicPr>
        <p:blipFill>
          <a:blip r:embed="rId16"/>
          <a:stretch/>
        </p:blipFill>
        <p:spPr>
          <a:xfrm>
            <a:off x="152280" y="4894200"/>
            <a:ext cx="373320" cy="363600"/>
          </a:xfrm>
          <a:prstGeom prst="rect">
            <a:avLst/>
          </a:prstGeom>
          <a:ln w="0">
            <a:noFill/>
          </a:ln>
        </p:spPr>
      </p:pic>
      <p:pic>
        <p:nvPicPr>
          <p:cNvPr id="1864" name="j0238407" descr=""/>
          <p:cNvPicPr/>
          <p:nvPr/>
        </p:nvPicPr>
        <p:blipFill>
          <a:blip r:embed="rId17"/>
          <a:stretch/>
        </p:blipFill>
        <p:spPr>
          <a:xfrm>
            <a:off x="2674800" y="4741920"/>
            <a:ext cx="373320" cy="363600"/>
          </a:xfrm>
          <a:prstGeom prst="rect">
            <a:avLst/>
          </a:prstGeom>
          <a:ln w="0">
            <a:noFill/>
          </a:ln>
        </p:spPr>
      </p:pic>
      <p:pic>
        <p:nvPicPr>
          <p:cNvPr id="1865" name="j0238407" descr=""/>
          <p:cNvPicPr/>
          <p:nvPr/>
        </p:nvPicPr>
        <p:blipFill>
          <a:blip r:embed="rId18"/>
          <a:stretch/>
        </p:blipFill>
        <p:spPr>
          <a:xfrm>
            <a:off x="1874880" y="538956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6" name="j0238407" descr=""/>
          <p:cNvPicPr/>
          <p:nvPr/>
        </p:nvPicPr>
        <p:blipFill>
          <a:blip r:embed="rId19"/>
          <a:stretch/>
        </p:blipFill>
        <p:spPr>
          <a:xfrm>
            <a:off x="7818480" y="493236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7" name="j0238407" descr=""/>
          <p:cNvPicPr/>
          <p:nvPr/>
        </p:nvPicPr>
        <p:blipFill>
          <a:blip r:embed="rId20"/>
          <a:stretch/>
        </p:blipFill>
        <p:spPr>
          <a:xfrm>
            <a:off x="3513240" y="58086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8" name="j0238407" descr=""/>
          <p:cNvPicPr/>
          <p:nvPr/>
        </p:nvPicPr>
        <p:blipFill>
          <a:blip r:embed="rId21"/>
          <a:stretch/>
        </p:blipFill>
        <p:spPr>
          <a:xfrm>
            <a:off x="6180120" y="626580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69" name="j0238407" descr=""/>
          <p:cNvPicPr/>
          <p:nvPr/>
        </p:nvPicPr>
        <p:blipFill>
          <a:blip r:embed="rId22"/>
          <a:stretch/>
        </p:blipFill>
        <p:spPr>
          <a:xfrm>
            <a:off x="8466120" y="5313240"/>
            <a:ext cx="372960" cy="363600"/>
          </a:xfrm>
          <a:prstGeom prst="rect">
            <a:avLst/>
          </a:prstGeom>
          <a:ln w="0">
            <a:noFill/>
          </a:ln>
        </p:spPr>
      </p:pic>
      <p:pic>
        <p:nvPicPr>
          <p:cNvPr id="1870" name="j0238407" descr=""/>
          <p:cNvPicPr/>
          <p:nvPr/>
        </p:nvPicPr>
        <p:blipFill>
          <a:blip r:embed="rId23"/>
          <a:stretch/>
        </p:blipFill>
        <p:spPr>
          <a:xfrm>
            <a:off x="7970760" y="5846760"/>
            <a:ext cx="373320" cy="363600"/>
          </a:xfrm>
          <a:prstGeom prst="rect">
            <a:avLst/>
          </a:prstGeom>
          <a:ln w="0">
            <a:noFill/>
          </a:ln>
        </p:spPr>
      </p:pic>
      <p:pic>
        <p:nvPicPr>
          <p:cNvPr id="1871" name="j0238407" descr=""/>
          <p:cNvPicPr/>
          <p:nvPr/>
        </p:nvPicPr>
        <p:blipFill>
          <a:blip r:embed="rId24"/>
          <a:stretch/>
        </p:blipFill>
        <p:spPr>
          <a:xfrm>
            <a:off x="1836720" y="6189840"/>
            <a:ext cx="372960" cy="363240"/>
          </a:xfrm>
          <a:prstGeom prst="rect">
            <a:avLst/>
          </a:prstGeom>
          <a:ln w="0">
            <a:noFill/>
          </a:ln>
        </p:spPr>
      </p:pic>
      <p:pic>
        <p:nvPicPr>
          <p:cNvPr id="1872" name="BS01120_" descr=""/>
          <p:cNvPicPr/>
          <p:nvPr/>
        </p:nvPicPr>
        <p:blipFill>
          <a:blip r:embed="rId25"/>
          <a:stretch/>
        </p:blipFill>
        <p:spPr>
          <a:xfrm>
            <a:off x="6811920" y="284652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73" name="j0149720" descr=""/>
          <p:cNvPicPr/>
          <p:nvPr/>
        </p:nvPicPr>
        <p:blipFill>
          <a:blip r:embed="rId26"/>
          <a:stretch/>
        </p:blipFill>
        <p:spPr>
          <a:xfrm>
            <a:off x="3890880" y="1414440"/>
            <a:ext cx="1338480" cy="1249560"/>
          </a:xfrm>
          <a:prstGeom prst="rect">
            <a:avLst/>
          </a:prstGeom>
          <a:ln w="0">
            <a:noFill/>
          </a:ln>
        </p:spPr>
      </p:pic>
      <p:sp>
        <p:nvSpPr>
          <p:cNvPr id="1874" name=""/>
          <p:cNvSpPr/>
          <p:nvPr/>
        </p:nvSpPr>
        <p:spPr>
          <a:xfrm>
            <a:off x="1447920" y="1450800"/>
            <a:ext cx="25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400480" y="307512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saler     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228760" y="514656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3,000 retail pharm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rot="7200">
            <a:off x="4387320" y="2693880"/>
            <a:ext cx="370080" cy="776520"/>
          </a:xfrm>
          <a:prstGeom prst="downArrow">
            <a:avLst>
              <a:gd name="adj1" fmla="val 50000"/>
              <a:gd name="adj2" fmla="val 52456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rot="17455200">
            <a:off x="5837040" y="2062440"/>
            <a:ext cx="371520" cy="1501560"/>
          </a:xfrm>
          <a:prstGeom prst="downArrow">
            <a:avLst>
              <a:gd name="adj1" fmla="val 50000"/>
              <a:gd name="adj2" fmla="val 101042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 rot="4144800">
            <a:off x="2902680" y="2061720"/>
            <a:ext cx="371520" cy="1501920"/>
          </a:xfrm>
          <a:prstGeom prst="downArrow">
            <a:avLst>
              <a:gd name="adj1" fmla="val 50000"/>
              <a:gd name="adj2" fmla="val 101066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0" name="BS01120_" descr=""/>
          <p:cNvPicPr/>
          <p:nvPr/>
        </p:nvPicPr>
        <p:blipFill>
          <a:blip r:embed="rId27"/>
          <a:stretch/>
        </p:blipFill>
        <p:spPr>
          <a:xfrm>
            <a:off x="7364520" y="3075120"/>
            <a:ext cx="549000" cy="677880"/>
          </a:xfrm>
          <a:prstGeom prst="rect">
            <a:avLst/>
          </a:prstGeom>
          <a:ln w="0">
            <a:noFill/>
          </a:ln>
        </p:spPr>
      </p:pic>
      <p:pic>
        <p:nvPicPr>
          <p:cNvPr id="1881" name="BS01120_" descr=""/>
          <p:cNvPicPr/>
          <p:nvPr/>
        </p:nvPicPr>
        <p:blipFill>
          <a:blip r:embed="rId28"/>
          <a:stretch/>
        </p:blipFill>
        <p:spPr>
          <a:xfrm>
            <a:off x="7799400" y="269388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2" name="BS01120_" descr=""/>
          <p:cNvPicPr/>
          <p:nvPr/>
        </p:nvPicPr>
        <p:blipFill>
          <a:blip r:embed="rId29"/>
          <a:stretch/>
        </p:blipFill>
        <p:spPr>
          <a:xfrm>
            <a:off x="677880" y="273528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3" name="BS01120_" descr=""/>
          <p:cNvPicPr/>
          <p:nvPr/>
        </p:nvPicPr>
        <p:blipFill>
          <a:blip r:embed="rId30"/>
          <a:stretch/>
        </p:blipFill>
        <p:spPr>
          <a:xfrm>
            <a:off x="1246320" y="2735280"/>
            <a:ext cx="549000" cy="677880"/>
          </a:xfrm>
          <a:prstGeom prst="rect">
            <a:avLst/>
          </a:prstGeom>
          <a:ln w="0">
            <a:noFill/>
          </a:ln>
        </p:spPr>
      </p:pic>
      <p:pic>
        <p:nvPicPr>
          <p:cNvPr id="1884" name="BS01120_" descr=""/>
          <p:cNvPicPr/>
          <p:nvPr/>
        </p:nvPicPr>
        <p:blipFill>
          <a:blip r:embed="rId31"/>
          <a:stretch/>
        </p:blipFill>
        <p:spPr>
          <a:xfrm>
            <a:off x="3798720" y="349416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5" name="BS01120_" descr=""/>
          <p:cNvPicPr/>
          <p:nvPr/>
        </p:nvPicPr>
        <p:blipFill>
          <a:blip r:embed="rId32"/>
          <a:stretch/>
        </p:blipFill>
        <p:spPr>
          <a:xfrm>
            <a:off x="8028000" y="307512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6" name="BS01120_" descr=""/>
          <p:cNvPicPr/>
          <p:nvPr/>
        </p:nvPicPr>
        <p:blipFill>
          <a:blip r:embed="rId33"/>
          <a:stretch/>
        </p:blipFill>
        <p:spPr>
          <a:xfrm>
            <a:off x="4560840" y="3456000"/>
            <a:ext cx="549360" cy="677880"/>
          </a:xfrm>
          <a:prstGeom prst="rect">
            <a:avLst/>
          </a:prstGeom>
          <a:ln w="0">
            <a:noFill/>
          </a:ln>
        </p:spPr>
      </p:pic>
      <p:pic>
        <p:nvPicPr>
          <p:cNvPr id="1887" name="BS01120_" descr=""/>
          <p:cNvPicPr/>
          <p:nvPr/>
        </p:nvPicPr>
        <p:blipFill>
          <a:blip r:embed="rId34"/>
          <a:stretch/>
        </p:blipFill>
        <p:spPr>
          <a:xfrm>
            <a:off x="4286160" y="3684600"/>
            <a:ext cx="549360" cy="67788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 flipH="1" rot="1246800">
            <a:off x="398880" y="3479760"/>
            <a:ext cx="206280" cy="1406520"/>
          </a:xfrm>
          <a:prstGeom prst="downArrow">
            <a:avLst>
              <a:gd name="adj1" fmla="val 50000"/>
              <a:gd name="adj2" fmla="val 170462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rot="20287200">
            <a:off x="1654560" y="3898800"/>
            <a:ext cx="206640" cy="1406160"/>
          </a:xfrm>
          <a:prstGeom prst="downArrow">
            <a:avLst>
              <a:gd name="adj1" fmla="val 50000"/>
              <a:gd name="adj2" fmla="val 170122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H="1" rot="1246800">
            <a:off x="856080" y="3936960"/>
            <a:ext cx="206280" cy="1406520"/>
          </a:xfrm>
          <a:prstGeom prst="downArrow">
            <a:avLst>
              <a:gd name="adj1" fmla="val 50000"/>
              <a:gd name="adj2" fmla="val 170462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 rot="19533600">
            <a:off x="2112120" y="3441240"/>
            <a:ext cx="206640" cy="1406520"/>
          </a:xfrm>
          <a:prstGeom prst="downArrow">
            <a:avLst>
              <a:gd name="adj1" fmla="val 50000"/>
              <a:gd name="adj2" fmla="val 170166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flipH="1" rot="50400">
            <a:off x="7066080" y="3669840"/>
            <a:ext cx="206280" cy="1406160"/>
          </a:xfrm>
          <a:prstGeom prst="downArrow">
            <a:avLst>
              <a:gd name="adj1" fmla="val 50000"/>
              <a:gd name="adj2" fmla="val 170419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 rot="1246800">
            <a:off x="6557760" y="3522240"/>
            <a:ext cx="230040" cy="1128600"/>
          </a:xfrm>
          <a:prstGeom prst="downArrow">
            <a:avLst>
              <a:gd name="adj1" fmla="val 50000"/>
              <a:gd name="adj2" fmla="val 122653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rot="20902200">
            <a:off x="8437680" y="3822480"/>
            <a:ext cx="206280" cy="1406160"/>
          </a:xfrm>
          <a:prstGeom prst="downArrow">
            <a:avLst>
              <a:gd name="adj1" fmla="val 50000"/>
              <a:gd name="adj2" fmla="val 170419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 rot="20735400">
            <a:off x="7728480" y="3785760"/>
            <a:ext cx="249120" cy="1057320"/>
          </a:xfrm>
          <a:prstGeom prst="downArrow">
            <a:avLst>
              <a:gd name="adj1" fmla="val 50000"/>
              <a:gd name="adj2" fmla="val 106105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rot="18633600">
            <a:off x="5406120" y="4051800"/>
            <a:ext cx="249120" cy="1057320"/>
          </a:xfrm>
          <a:prstGeom prst="downArrow">
            <a:avLst>
              <a:gd name="adj1" fmla="val 50000"/>
              <a:gd name="adj2" fmla="val 106105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H="1" rot="2617200">
            <a:off x="3464640" y="4138560"/>
            <a:ext cx="243000" cy="920880"/>
          </a:xfrm>
          <a:prstGeom prst="downArrow">
            <a:avLst>
              <a:gd name="adj1" fmla="val 50000"/>
              <a:gd name="adj2" fmla="val 94741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rot="7200">
            <a:off x="4398480" y="4406400"/>
            <a:ext cx="322560" cy="776520"/>
          </a:xfrm>
          <a:prstGeom prst="downArrow">
            <a:avLst>
              <a:gd name="adj1" fmla="val 50000"/>
              <a:gd name="adj2" fmla="val 60184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9" name="BS01120_" descr=""/>
          <p:cNvPicPr/>
          <p:nvPr/>
        </p:nvPicPr>
        <p:blipFill>
          <a:blip r:embed="rId35"/>
          <a:stretch/>
        </p:blipFill>
        <p:spPr>
          <a:xfrm>
            <a:off x="963720" y="3227400"/>
            <a:ext cx="549000" cy="67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A72B-5F41-45DE-8826-F599C658A70E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Closed 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6718320" y="3940200"/>
            <a:ext cx="1440" cy="14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450200" y="3708360"/>
            <a:ext cx="144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237440" y="44449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0" y="1494000"/>
            <a:ext cx="2224080" cy="2519640"/>
            <a:chOff x="0" y="1494000"/>
            <a:chExt cx="2224080" cy="2519640"/>
          </a:xfrm>
        </p:grpSpPr>
        <p:pic>
          <p:nvPicPr>
            <p:cNvPr id="1905" name="j0149720" descr=""/>
            <p:cNvPicPr/>
            <p:nvPr/>
          </p:nvPicPr>
          <p:blipFill>
            <a:blip r:embed="rId1"/>
            <a:stretch/>
          </p:blipFill>
          <p:spPr>
            <a:xfrm>
              <a:off x="239760" y="1494000"/>
              <a:ext cx="1452600" cy="13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6" name=""/>
            <p:cNvSpPr/>
            <p:nvPr/>
          </p:nvSpPr>
          <p:spPr>
            <a:xfrm>
              <a:off x="0" y="2822400"/>
              <a:ext cx="22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ufacturing Fac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7" name=""/>
          <p:cNvGrpSpPr/>
          <p:nvPr/>
        </p:nvGrpSpPr>
        <p:grpSpPr>
          <a:xfrm>
            <a:off x="2549520" y="2414520"/>
            <a:ext cx="1660680" cy="2639160"/>
            <a:chOff x="2549520" y="2414520"/>
            <a:chExt cx="1660680" cy="2639160"/>
          </a:xfrm>
        </p:grpSpPr>
        <p:pic>
          <p:nvPicPr>
            <p:cNvPr id="1908" name="j0195396" descr=""/>
            <p:cNvPicPr/>
            <p:nvPr/>
          </p:nvPicPr>
          <p:blipFill>
            <a:blip r:embed="rId2"/>
            <a:stretch/>
          </p:blipFill>
          <p:spPr>
            <a:xfrm>
              <a:off x="2809800" y="2414520"/>
              <a:ext cx="1139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9" name=""/>
            <p:cNvSpPr/>
            <p:nvPr/>
          </p:nvSpPr>
          <p:spPr>
            <a:xfrm>
              <a:off x="2549520" y="3862440"/>
              <a:ext cx="166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ecialty Phar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797360" y="2620800"/>
            <a:ext cx="1584000" cy="2127240"/>
            <a:chOff x="4797360" y="2620800"/>
            <a:chExt cx="1584000" cy="2127240"/>
          </a:xfrm>
        </p:grpSpPr>
        <p:pic>
          <p:nvPicPr>
            <p:cNvPr id="1911" name="j0199849" descr=""/>
            <p:cNvPicPr/>
            <p:nvPr/>
          </p:nvPicPr>
          <p:blipFill>
            <a:blip r:embed="rId3"/>
            <a:stretch/>
          </p:blipFill>
          <p:spPr>
            <a:xfrm>
              <a:off x="4959000" y="3403440"/>
              <a:ext cx="125892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>
              <a:off x="4797360" y="2620800"/>
              <a:ext cx="158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n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r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6912000" y="57783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rot="1644000">
            <a:off x="2031480" y="261792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rot="1644000">
            <a:off x="4127040" y="360828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44000">
            <a:off x="6222600" y="456084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7" name="PE03620_" descr=""/>
          <p:cNvPicPr/>
          <p:nvPr/>
        </p:nvPicPr>
        <p:blipFill>
          <a:blip r:embed="rId4"/>
          <a:stretch/>
        </p:blipFill>
        <p:spPr>
          <a:xfrm>
            <a:off x="6996240" y="4398840"/>
            <a:ext cx="1606320" cy="129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FD5D-7F56-4324-9D97-48960A04B960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’s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Specialty Phar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rem distributed from a singl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09BB-DF8C-45DE-B835-A29C52E9A089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Promotion and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7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rem promotional and educational efforts will focus on potential physician prescr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pecialti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r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monary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ia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eep medicine (includes several primary special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FD94-3BA5-48FA-829E-2E436960E9EC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Promotion and Educ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roximately 35 sales representatives will call on physicians and their clinical staff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e clinical benefits of Xy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 Xyrem Physician Success Program</a:t>
            </a:r>
            <a:r>
              <a:rPr b="0" lang="en-US" sz="1800" spc="-1" strike="noStrike" baseline="5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signature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No physician sampl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CE2A-011C-403A-8204-C57DE8443EC8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320840" y="901800"/>
            <a:ext cx="7243200" cy="5319360"/>
            <a:chOff x="1320840" y="901800"/>
            <a:chExt cx="7243200" cy="5319360"/>
          </a:xfrm>
        </p:grpSpPr>
        <p:grpSp>
          <p:nvGrpSpPr>
            <p:cNvPr id="296" name=""/>
            <p:cNvGrpSpPr/>
            <p:nvPr/>
          </p:nvGrpSpPr>
          <p:grpSpPr>
            <a:xfrm>
              <a:off x="1456200" y="1989720"/>
              <a:ext cx="6168240" cy="3390480"/>
              <a:chOff x="1456200" y="1989720"/>
              <a:chExt cx="6168240" cy="3390480"/>
            </a:xfrm>
          </p:grpSpPr>
          <p:sp>
            <p:nvSpPr>
              <p:cNvPr id="297" name=""/>
              <p:cNvSpPr/>
              <p:nvPr/>
            </p:nvSpPr>
            <p:spPr>
              <a:xfrm>
                <a:off x="6323040" y="4143960"/>
                <a:ext cx="1301400" cy="37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56920" y="19897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17480" y="19897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3560" y="19897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826280" y="198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888200" y="19897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02536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8840" y="19897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89960" y="19897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7240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49804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2224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74932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71000" y="19897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005640" y="19897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80520" y="198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06520" y="198972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5620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1776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79680" y="227268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5924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2260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85240" y="22726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98000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4192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80160" y="227268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65840" y="2272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90040" y="22726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9056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5464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86400" y="2272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0952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71800" y="2272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668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548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02280" y="2272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77880" y="227268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63560" y="2272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86680" y="22726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2492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86840" y="22726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48040" y="227268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12920" y="2272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88160" y="227268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5620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51776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79680" y="255636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5924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23320" y="25563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8064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4400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079360" y="255636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7736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33964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480760" y="25563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63560" y="2556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87040" y="255636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88648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840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83760" y="2556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0724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69520" y="25563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45840" y="25563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0568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643200" y="2556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64160" y="25563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39760" y="25563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28680" y="2556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50360" y="25563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8644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48360" y="2556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09920" y="255636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475520" y="25563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48240" y="255636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5620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1776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579680" y="283932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65924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23320" y="2839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69120" y="28393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58040" y="2839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9124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166120" y="28393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5360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376360" y="2839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1316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59056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65392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1260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74880" y="2839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1024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3372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09564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72320" y="2839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31560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7752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50244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627720" y="283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4976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2392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5840" y="2839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48480" y="283932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12280" y="2839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87160" y="283932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5620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1776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79680" y="312480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5924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2260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5580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1772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5416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9564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1516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438640" y="3124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1280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57508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1332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3536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97280" y="3124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72520" y="31248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22640" y="312480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207240" y="3124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345480" y="312480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5888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81640" y="3124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02240" y="312480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868920" y="3124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43440" y="3124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06080" y="31248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56920" y="340596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56920" y="36892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56920" y="39722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56920" y="425556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56200" y="45370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05240" y="45370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79760" y="4537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742400" y="45370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44000" y="45370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75760" y="4537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137680" y="453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62600" y="45370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01200" y="45370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73560" y="453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97400" y="453708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45620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1776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79680" y="482220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5924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22960" y="482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0620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29680" y="4822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10384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4388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69520" y="482220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6284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0036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3608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59560" y="4822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03444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59720" y="482220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5592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41820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5500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79920" y="4822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41840" y="4822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17080" y="48222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97836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10184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2280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36104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83080" y="482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08720" y="4822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43360" y="482220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10040" y="4822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85280" y="48222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5620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51776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79680" y="510552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5924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23320" y="5105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8136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0772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134080" y="5105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203560" y="51055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28960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42712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550600" y="510552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74860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8648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2184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45320" y="5105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22200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345480" y="510552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54204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0396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4256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6568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927960" y="5105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01400" y="5105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1320840" y="901800"/>
              <a:ext cx="7243200" cy="5319360"/>
              <a:chOff x="1320840" y="901800"/>
              <a:chExt cx="7243200" cy="5319360"/>
            </a:xfrm>
          </p:grpSpPr>
          <p:sp>
            <p:nvSpPr>
              <p:cNvPr id="498" name=""/>
              <p:cNvSpPr/>
              <p:nvPr/>
            </p:nvSpPr>
            <p:spPr>
              <a:xfrm>
                <a:off x="416196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8544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41072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3564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671360" y="51055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758840" y="5105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21120" y="5105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959360" y="51055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82120" y="510552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45560" y="5105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22240" y="510552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45620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51812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80040" y="538884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65780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20080" y="5388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0656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02968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0384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24100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36448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2676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56284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70000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2312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95956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2148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6008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8212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5700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8012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4240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617280" y="538884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7784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83976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916440" y="5388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3848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00040" y="53888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61960" y="5388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98040" y="538884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462920" y="53888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38160" y="53888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45620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51812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580040" y="5672160"/>
                <a:ext cx="8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65780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719720" y="56721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69120" y="5672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992960" y="567216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90960" y="56721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32704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8932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1240" y="56721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588400" y="5672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152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773440" y="56721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48680" y="56721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09960" y="5672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33080" y="56721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96080" y="5672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319560" y="56721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405960" y="56721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80480" y="5672160"/>
                <a:ext cx="16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44640" y="5672160"/>
                <a:ext cx="770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44400" y="17067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04600" y="1706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39600" y="1706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76040" y="1706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38320" y="1706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99880" y="1706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3704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860880" y="17067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948720" y="1706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3720" y="1706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4600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70920" y="1706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33200" y="17067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48260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0644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29920" y="17067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0336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29000" y="170676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127000" y="1706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cc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06240" y="312264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76160" y="31226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32040" y="312264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0080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23920" y="31226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66252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05080" y="312264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871320" y="31226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40160" y="31226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7148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23040" y="31226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45000" y="31226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40664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3048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684920" y="31226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72740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815600" y="312264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051040" y="31226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238960" y="3122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20200" y="3406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8292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27280" y="34063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94600" y="3406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62360" y="3406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04840" y="3406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40560" y="3406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7736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921360" y="340632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89040" y="34063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155000" y="3406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8812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342200" y="3406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360920" y="3406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2292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676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99400" y="3406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4656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30080" y="340632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167320" y="3406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95520" y="495648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52840" y="49564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389280" y="49564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2608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651720" y="49564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0800" y="4956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13080" y="49564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4844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72280" y="495648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260120" y="49564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395120" y="4956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45740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580880" y="4956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43160" y="49564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9256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91640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39880" y="49564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11656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238960" y="495648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436960" y="495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59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573160" y="9018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75136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74480" y="901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030360" y="90180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098400" y="901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65080" y="901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27720" y="90180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9612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519600" y="9018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65676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43160" y="90180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009200" y="901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71120" y="901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46000" y="901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8956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32120" y="90180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30760" y="901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49480" y="9018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1112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73532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890840" y="9018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93260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021520" y="901800"/>
                <a:ext cx="20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255880" y="901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411760" y="901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443440" y="9018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9240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2372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6088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08544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5140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28308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0836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3184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69924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76116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79212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95952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78240" y="118476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15176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294320" y="11847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36344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8620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653960" y="11847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68564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809120" y="11847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94592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69760" y="118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33"/>
                    </a:solidFill>
                    <a:latin typeface="Arial"/>
                    <a:ea typeface="ＭＳ Ｐゴシック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2084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8032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40880" y="12445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77320" y="12445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838880" y="1244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91412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07468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3668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397240" y="1244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558520" y="1244520"/>
                <a:ext cx="17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2731680" y="12445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6812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1716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6656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31452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2400" y="1244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26920" y="1244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88560" y="1244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49120" y="1244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10760" y="124452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83920" y="124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  <a:ea typeface="ＭＳ Ｐゴシック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10800" y="2370240"/>
              <a:ext cx="1301400" cy="37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40120" y="2467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6396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60440" y="2467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1912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14880" y="2467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2072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7004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6508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62280" y="24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77560" y="4241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99960" y="4241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50720" y="42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46840" y="42411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13080" y="4241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971400" y="4241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77600" y="42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3360" y="42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71640" y="42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4761360" y="2951640"/>
              <a:ext cx="1065240" cy="446760"/>
              <a:chOff x="4761360" y="2951640"/>
              <a:chExt cx="1065240" cy="446760"/>
            </a:xfrm>
          </p:grpSpPr>
          <p:sp>
            <p:nvSpPr>
              <p:cNvPr id="729" name=""/>
              <p:cNvSpPr/>
              <p:nvPr/>
            </p:nvSpPr>
            <p:spPr>
              <a:xfrm>
                <a:off x="5616360" y="3264120"/>
                <a:ext cx="210240" cy="134280"/>
              </a:xfrm>
              <a:custGeom>
                <a:avLst/>
                <a:gdLst/>
                <a:ahLst/>
                <a:rect l="l" t="t" r="r" b="b"/>
                <a:pathLst>
                  <a:path w="136" h="72">
                    <a:moveTo>
                      <a:pt x="136" y="72"/>
                    </a:moveTo>
                    <a:lnTo>
                      <a:pt x="0" y="64"/>
                    </a:lnTo>
                    <a:lnTo>
                      <a:pt x="8" y="32"/>
                    </a:lnTo>
                    <a:lnTo>
                      <a:pt x="16" y="0"/>
                    </a:lnTo>
                    <a:lnTo>
                      <a:pt x="136" y="72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761360" y="2951640"/>
                <a:ext cx="855000" cy="35712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4897800" y="5232600"/>
              <a:ext cx="1040760" cy="550800"/>
              <a:chOff x="4897800" y="5232600"/>
              <a:chExt cx="1040760" cy="550800"/>
            </a:xfrm>
          </p:grpSpPr>
          <p:sp>
            <p:nvSpPr>
              <p:cNvPr id="732" name=""/>
              <p:cNvSpPr/>
              <p:nvPr/>
            </p:nvSpPr>
            <p:spPr>
              <a:xfrm>
                <a:off x="5727960" y="5232600"/>
                <a:ext cx="210600" cy="16380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136" y="0"/>
                    </a:moveTo>
                    <a:lnTo>
                      <a:pt x="24" y="88"/>
                    </a:lnTo>
                    <a:lnTo>
                      <a:pt x="16" y="56"/>
                    </a:lnTo>
                    <a:lnTo>
                      <a:pt x="0" y="24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4897800" y="5321880"/>
                <a:ext cx="842760" cy="46152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6881040" y="1967400"/>
              <a:ext cx="99000" cy="416880"/>
              <a:chOff x="6881040" y="1967400"/>
              <a:chExt cx="99000" cy="416880"/>
            </a:xfrm>
          </p:grpSpPr>
          <p:sp>
            <p:nvSpPr>
              <p:cNvPr id="735" name=""/>
              <p:cNvSpPr/>
              <p:nvPr/>
            </p:nvSpPr>
            <p:spPr>
              <a:xfrm>
                <a:off x="6881040" y="2175840"/>
                <a:ext cx="99000" cy="208440"/>
              </a:xfrm>
              <a:custGeom>
                <a:avLst/>
                <a:gdLst/>
                <a:ahLst/>
                <a:rect l="l" t="t" r="r" b="b"/>
                <a:pathLst>
                  <a:path w="64" h="112">
                    <a:moveTo>
                      <a:pt x="32" y="112"/>
                    </a:moveTo>
                    <a:lnTo>
                      <a:pt x="0" y="0"/>
                    </a:lnTo>
                    <a:lnTo>
                      <a:pt x="32" y="0"/>
                    </a:lnTo>
                    <a:lnTo>
                      <a:pt x="64" y="0"/>
                    </a:lnTo>
                    <a:lnTo>
                      <a:pt x="32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930360" y="1967400"/>
                <a:ext cx="1440" cy="20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6906240" y="3652560"/>
              <a:ext cx="99000" cy="416520"/>
              <a:chOff x="6906240" y="3652560"/>
              <a:chExt cx="99000" cy="416520"/>
            </a:xfrm>
          </p:grpSpPr>
          <p:sp>
            <p:nvSpPr>
              <p:cNvPr id="738" name=""/>
              <p:cNvSpPr/>
              <p:nvPr/>
            </p:nvSpPr>
            <p:spPr>
              <a:xfrm>
                <a:off x="6906240" y="3861000"/>
                <a:ext cx="99000" cy="208080"/>
              </a:xfrm>
              <a:custGeom>
                <a:avLst/>
                <a:gdLst/>
                <a:ahLst/>
                <a:rect l="l" t="t" r="r" b="b"/>
                <a:pathLst>
                  <a:path w="64" h="112">
                    <a:moveTo>
                      <a:pt x="32" y="112"/>
                    </a:moveTo>
                    <a:lnTo>
                      <a:pt x="0" y="0"/>
                    </a:lnTo>
                    <a:lnTo>
                      <a:pt x="32" y="0"/>
                    </a:lnTo>
                    <a:lnTo>
                      <a:pt x="64" y="0"/>
                    </a:lnTo>
                    <a:lnTo>
                      <a:pt x="32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955560" y="3652560"/>
                <a:ext cx="1080" cy="20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6881040" y="2757960"/>
              <a:ext cx="99000" cy="327240"/>
              <a:chOff x="6881040" y="2757960"/>
              <a:chExt cx="99000" cy="327240"/>
            </a:xfrm>
          </p:grpSpPr>
          <p:sp>
            <p:nvSpPr>
              <p:cNvPr id="741" name=""/>
              <p:cNvSpPr/>
              <p:nvPr/>
            </p:nvSpPr>
            <p:spPr>
              <a:xfrm>
                <a:off x="6881040" y="2757960"/>
                <a:ext cx="99000" cy="208440"/>
              </a:xfrm>
              <a:custGeom>
                <a:avLst/>
                <a:gdLst/>
                <a:ahLst/>
                <a:rect l="l" t="t" r="r" b="b"/>
                <a:pathLst>
                  <a:path w="64" h="112">
                    <a:moveTo>
                      <a:pt x="32" y="0"/>
                    </a:moveTo>
                    <a:lnTo>
                      <a:pt x="64" y="112"/>
                    </a:lnTo>
                    <a:lnTo>
                      <a:pt x="32" y="112"/>
                    </a:lnTo>
                    <a:lnTo>
                      <a:pt x="0" y="1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930360" y="2966400"/>
                <a:ext cx="144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6942960" y="4576680"/>
              <a:ext cx="99360" cy="327240"/>
              <a:chOff x="6942960" y="4576680"/>
              <a:chExt cx="99360" cy="327240"/>
            </a:xfrm>
          </p:grpSpPr>
          <p:sp>
            <p:nvSpPr>
              <p:cNvPr id="744" name=""/>
              <p:cNvSpPr/>
              <p:nvPr/>
            </p:nvSpPr>
            <p:spPr>
              <a:xfrm>
                <a:off x="6942960" y="4576680"/>
                <a:ext cx="99360" cy="208440"/>
              </a:xfrm>
              <a:custGeom>
                <a:avLst/>
                <a:gdLst/>
                <a:ahLst/>
                <a:rect l="l" t="t" r="r" b="b"/>
                <a:pathLst>
                  <a:path w="64" h="112">
                    <a:moveTo>
                      <a:pt x="32" y="0"/>
                    </a:moveTo>
                    <a:lnTo>
                      <a:pt x="64" y="112"/>
                    </a:lnTo>
                    <a:lnTo>
                      <a:pt x="32" y="112"/>
                    </a:lnTo>
                    <a:lnTo>
                      <a:pt x="0" y="1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6992640" y="4785120"/>
                <a:ext cx="108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"/>
          <p:cNvSpPr/>
          <p:nvPr/>
        </p:nvSpPr>
        <p:spPr>
          <a:xfrm>
            <a:off x="1483920" y="588960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afinil (Provigil®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624040" y="448956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ll are scheduled dru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4B6F-1CE8-42AF-AED0-4EE594A55301}" type="slidenum">
              <a:t>15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Success Program Materi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faceted educatio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proc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rem dosing and adminis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storage and secure hand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tor be wary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prescrip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formation at Specialty Pharm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642B-F8A0-49F2-B091-95C2161AB27D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crip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454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decides to prescribe Xyr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faxes a special Rx to Specialty Phar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ty Pharmacy assigns patient to dedicated pharmacy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36F4-C676-42C7-B88A-CA0C87E30D3D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ian Verific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ty Pharmacy verifies physician is “eligible” to prescribe Xyr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A’s NTIS datab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 licen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CIII prescribing privile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 medical boa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9B33-6BDE-4707-890A-6B36CF65C9FC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 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ty Pharmacy calls prescribing physician’s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the 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4FE9-9B66-4AD3-B168-50376AD842AE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-Shipment Patient Couns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501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ty Pharmacy contacts pati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etermine patient/designee location and availability for receipt of Rx shi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xplain contents of shi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57F2-A73C-4039-A3FF-4BA1D5632395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Tra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Detailed, real-time tra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Delivered ONLY by authorized 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If patient/designee unavailable, package returned to Specialty Pharmacy after o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re-delivery attem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If lost, investigation begins regarding shipment’s whereab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9193-7981-4BCD-A851-7AEFB27C6ADE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Patient Success Program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faceted education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rem dosing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storage and secure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 and civil penalties for illicit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ct information at Specialty Phar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mbursement inform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1B1A-A53D-473A-BE0A-43C82B5D69B0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t-receipt 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 received, Specialty Pharmacist contacts patient within 24 hours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irm receipt of pack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cuss with pati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alties for illicit 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rem dosing and adminis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storage and secure hand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cuss child resistant packag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F2E6-8ED3-4037-A32E-68F8831844BD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 of Central Data Reposi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ication o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uplicate prescrip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-prescrib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-use by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i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filling 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priate pharmacist inter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5A08-CECC-40C1-A207-1A0BC7005BC0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Success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rehensive program that ensures the responsible distribution of Xyrem, resulting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of Xyrem to patients who ne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ccessibility to those who would use it il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1579-5320-4247-A3EC-E70F61F7E298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19280" y="6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artial Efficacy of Treatments:  MW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735120" y="1063800"/>
            <a:ext cx="7788240" cy="288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499760" y="1539720"/>
            <a:ext cx="6348600" cy="4590720"/>
            <a:chOff x="1499760" y="1539720"/>
            <a:chExt cx="6348600" cy="4590720"/>
          </a:xfrm>
        </p:grpSpPr>
        <p:sp>
          <p:nvSpPr>
            <p:cNvPr id="753" name=""/>
            <p:cNvSpPr/>
            <p:nvPr/>
          </p:nvSpPr>
          <p:spPr>
            <a:xfrm>
              <a:off x="1804680" y="1539720"/>
              <a:ext cx="6004080" cy="403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931760" y="4278240"/>
              <a:ext cx="301680" cy="7452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233440" y="4352760"/>
              <a:ext cx="304560" cy="11772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538000" y="4374720"/>
              <a:ext cx="298800" cy="9540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44480" y="4425840"/>
              <a:ext cx="303480" cy="2700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47960" y="4452840"/>
              <a:ext cx="303120" cy="4140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4051080" y="4390560"/>
              <a:ext cx="304920" cy="10332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55760" y="4425840"/>
              <a:ext cx="304920" cy="7308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5260680" y="4459320"/>
              <a:ext cx="303120" cy="3960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563800" y="4193640"/>
              <a:ext cx="304920" cy="26532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76760" y="4441680"/>
              <a:ext cx="297000" cy="8604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6773760" y="4481640"/>
              <a:ext cx="304560" cy="4608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078320" y="4441320"/>
              <a:ext cx="304920" cy="39960"/>
            </a:xfrm>
            <a:prstGeom prst="line">
              <a:avLst/>
            </a:prstGeom>
            <a:ln w="23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31760" y="4125960"/>
              <a:ext cx="301680" cy="2761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33440" y="4402080"/>
              <a:ext cx="304560" cy="349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38000" y="4437000"/>
              <a:ext cx="298800" cy="334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3444480" y="3781080"/>
              <a:ext cx="303480" cy="4237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47960" y="3781440"/>
              <a:ext cx="303120" cy="144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51080" y="3781440"/>
              <a:ext cx="304920" cy="64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955760" y="3613320"/>
              <a:ext cx="304920" cy="5983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60680" y="3613320"/>
              <a:ext cx="303120" cy="2314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5563800" y="3769920"/>
              <a:ext cx="304920" cy="745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6476760" y="3760920"/>
              <a:ext cx="297000" cy="3427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73760" y="3760920"/>
              <a:ext cx="304560" cy="20772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078320" y="3968640"/>
              <a:ext cx="304920" cy="3348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31760" y="4086360"/>
              <a:ext cx="301680" cy="29988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33440" y="4386240"/>
              <a:ext cx="304560" cy="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538000" y="4352400"/>
              <a:ext cx="298800" cy="3348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444480" y="3544560"/>
              <a:ext cx="303480" cy="51444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47960" y="3544920"/>
              <a:ext cx="303120" cy="16524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4051080" y="3681360"/>
              <a:ext cx="304920" cy="2880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955760" y="3511440"/>
              <a:ext cx="304920" cy="67176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60680" y="3511440"/>
              <a:ext cx="303120" cy="25416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563800" y="3760560"/>
              <a:ext cx="304920" cy="468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476760" y="3664080"/>
              <a:ext cx="297000" cy="55872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773760" y="3664080"/>
              <a:ext cx="304560" cy="24264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078320" y="3849840"/>
              <a:ext cx="304920" cy="56880"/>
            </a:xfrm>
            <a:prstGeom prst="line">
              <a:avLst/>
            </a:prstGeom>
            <a:ln w="23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31760" y="1932120"/>
              <a:ext cx="301680" cy="18576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233440" y="2061720"/>
              <a:ext cx="304560" cy="5580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538000" y="1909440"/>
              <a:ext cx="298800" cy="15228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44480" y="1932120"/>
              <a:ext cx="303480" cy="18576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3747960" y="2061720"/>
              <a:ext cx="303120" cy="5580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051080" y="1909440"/>
              <a:ext cx="304920" cy="15228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55760" y="1932120"/>
              <a:ext cx="304920" cy="18576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5260680" y="2061720"/>
              <a:ext cx="303120" cy="5580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563800" y="1909440"/>
              <a:ext cx="304920" cy="15228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76760" y="1932120"/>
              <a:ext cx="297000" cy="18576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773760" y="2061720"/>
              <a:ext cx="304560" cy="5580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078320" y="1909440"/>
              <a:ext cx="304920" cy="152280"/>
            </a:xfrm>
            <a:prstGeom prst="line">
              <a:avLst/>
            </a:prstGeom>
            <a:ln w="23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31760" y="2496960"/>
              <a:ext cx="301680" cy="42876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2233440" y="2778120"/>
              <a:ext cx="304560" cy="14760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538000" y="2501640"/>
              <a:ext cx="298800" cy="27612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44480" y="2496960"/>
              <a:ext cx="303480" cy="42876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747960" y="2778120"/>
              <a:ext cx="303120" cy="14760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051080" y="2501640"/>
              <a:ext cx="304920" cy="27612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55760" y="2496960"/>
              <a:ext cx="304920" cy="42876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260680" y="2778120"/>
              <a:ext cx="303120" cy="14760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5563800" y="2501640"/>
              <a:ext cx="304920" cy="27612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76760" y="2496960"/>
              <a:ext cx="297000" cy="42876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773760" y="2778120"/>
              <a:ext cx="304560" cy="14760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078320" y="2501640"/>
              <a:ext cx="304920" cy="276120"/>
            </a:xfrm>
            <a:prstGeom prst="line">
              <a:avLst/>
            </a:prstGeom>
            <a:ln w="23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82440" y="4233960"/>
              <a:ext cx="90720" cy="838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87360" y="4307040"/>
              <a:ext cx="88920" cy="838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90480" y="4425840"/>
              <a:ext cx="9072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88920" y="4329000"/>
              <a:ext cx="9072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395520" y="4379760"/>
              <a:ext cx="91800" cy="860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98640" y="4408560"/>
              <a:ext cx="90360" cy="856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03560" y="4448160"/>
              <a:ext cx="90360" cy="856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306680" y="4346640"/>
              <a:ext cx="903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08240" y="4379760"/>
              <a:ext cx="92160" cy="860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211360" y="4452840"/>
              <a:ext cx="921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16280" y="4413240"/>
              <a:ext cx="90360" cy="856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19400" y="4149720"/>
              <a:ext cx="921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27440" y="4397400"/>
              <a:ext cx="921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25880" y="4481640"/>
              <a:ext cx="90720" cy="8388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29360" y="4437000"/>
              <a:ext cx="903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32480" y="4397400"/>
              <a:ext cx="92160" cy="84240"/>
            </a:xfrm>
            <a:prstGeom prst="ellipse">
              <a:avLst/>
            </a:pr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82440" y="4081320"/>
              <a:ext cx="9072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87360" y="4357800"/>
              <a:ext cx="88920" cy="838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90480" y="4390920"/>
              <a:ext cx="90720" cy="856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88920" y="4425840"/>
              <a:ext cx="9072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95520" y="4160880"/>
              <a:ext cx="9180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98640" y="3736800"/>
              <a:ext cx="903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03560" y="3736800"/>
              <a:ext cx="903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06680" y="3743280"/>
              <a:ext cx="903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08240" y="4165560"/>
              <a:ext cx="921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11360" y="3568680"/>
              <a:ext cx="921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16280" y="3798720"/>
              <a:ext cx="90360" cy="860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819400" y="3726000"/>
              <a:ext cx="92160" cy="838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427440" y="4059360"/>
              <a:ext cx="92160" cy="838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25880" y="3714840"/>
              <a:ext cx="90720" cy="8388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29360" y="3922560"/>
              <a:ext cx="90360" cy="860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32480" y="3957480"/>
              <a:ext cx="92160" cy="84240"/>
            </a:xfrm>
            <a:prstGeom prst="ellipse">
              <a:avLst/>
            </a:prstGeom>
            <a:solidFill>
              <a:srgbClr val="0000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82440" y="4041720"/>
              <a:ext cx="9072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87360" y="4341960"/>
              <a:ext cx="8892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90480" y="4341960"/>
              <a:ext cx="9072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88920" y="4307040"/>
              <a:ext cx="9072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95520" y="4013280"/>
              <a:ext cx="9180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98640" y="3500280"/>
              <a:ext cx="903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03560" y="3664080"/>
              <a:ext cx="90360" cy="856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06680" y="3635280"/>
              <a:ext cx="90360" cy="856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08240" y="4137120"/>
              <a:ext cx="92160" cy="856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11360" y="3465360"/>
              <a:ext cx="92160" cy="860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516280" y="3720960"/>
              <a:ext cx="903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19400" y="3714840"/>
              <a:ext cx="92160" cy="838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27440" y="4176720"/>
              <a:ext cx="921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25880" y="3618000"/>
              <a:ext cx="90720" cy="8568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29360" y="3860640"/>
              <a:ext cx="903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32480" y="3805200"/>
              <a:ext cx="92160" cy="84240"/>
            </a:xfrm>
            <a:prstGeom prst="ellipse">
              <a:avLst/>
            </a:prstGeom>
            <a:solidFill>
              <a:srgbClr val="ff6600"/>
            </a:solidFill>
            <a:ln w="7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882440" y="1887480"/>
              <a:ext cx="9072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87360" y="2073240"/>
              <a:ext cx="8892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490480" y="2017800"/>
              <a:ext cx="90720" cy="8388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88920" y="1865160"/>
              <a:ext cx="9072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95520" y="1887480"/>
              <a:ext cx="9180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98640" y="2073240"/>
              <a:ext cx="903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03560" y="2017800"/>
              <a:ext cx="90360" cy="8388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06680" y="1865160"/>
              <a:ext cx="903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908240" y="188748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11360" y="207324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16280" y="2017800"/>
              <a:ext cx="90360" cy="8388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19400" y="186516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27440" y="188748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725880" y="2073240"/>
              <a:ext cx="9072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29360" y="2017800"/>
              <a:ext cx="90360" cy="8388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2480" y="1865160"/>
              <a:ext cx="92160" cy="84240"/>
            </a:xfrm>
            <a:prstGeom prst="ellipse">
              <a:avLst/>
            </a:prstGeom>
            <a:solidFill>
              <a:srgbClr val="008000"/>
            </a:solidFill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06200" y="2473200"/>
              <a:ext cx="428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09680" y="290196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14240" y="2755800"/>
              <a:ext cx="428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11240" y="247968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19280" y="2473200"/>
              <a:ext cx="428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24200" y="290196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028760" y="2755800"/>
              <a:ext cx="4140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331880" y="2479680"/>
              <a:ext cx="4140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33800" y="2473200"/>
              <a:ext cx="410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36920" y="290196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541840" y="2755800"/>
              <a:ext cx="4284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44960" y="247968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53000" y="2473200"/>
              <a:ext cx="4140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49640" y="2901960"/>
              <a:ext cx="4320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53120" y="2755800"/>
              <a:ext cx="44280" cy="3996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57680" y="2479680"/>
              <a:ext cx="42840" cy="39600"/>
            </a:xfrm>
            <a:prstGeom prst="ellipse">
              <a:avLst/>
            </a:prstGeom>
            <a:solidFill>
              <a:srgbClr val="969696"/>
            </a:solidFill>
            <a:ln w="7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75720" y="533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575720" y="4965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75720" y="4594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75720" y="4226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75720" y="3854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99760" y="3486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99760" y="3116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99760" y="2747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99760" y="237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99760" y="200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99760" y="1636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04760" y="3218040"/>
              <a:ext cx="5815080" cy="6120"/>
            </a:xfrm>
            <a:prstGeom prst="line">
              <a:avLst/>
            </a:prstGeom>
            <a:ln w="39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56160" y="5549760"/>
              <a:ext cx="123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WTs 1 -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BA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96160" y="5530680"/>
              <a:ext cx="123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WTs 1 -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WEEK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56760" y="5549760"/>
              <a:ext cx="123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WTs 1 -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WEEK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93240" y="5548320"/>
              <a:ext cx="123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WTs 1 -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WEEK 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334560" y="2128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474747"/>
                  </a:solidFill>
                  <a:latin typeface="Arial"/>
                  <a:ea typeface="ＭＳ Ｐゴシック"/>
                </a:rPr>
                <a:t>1 </a:t>
              </a:r>
              <a:r>
                <a:rPr b="1" lang="en-US" sz="1200" spc="-1" strike="noStrike">
                  <a:solidFill>
                    <a:srgbClr val="474747"/>
                  </a:solidFill>
                  <a:latin typeface="Arial"/>
                  <a:ea typeface="ＭＳ Ｐゴシック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66920" y="2181240"/>
              <a:ext cx="1355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NORMALS</a:t>
              </a:r>
              <a:r>
                <a:rPr b="1" lang="en-US" sz="12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• </a:t>
              </a: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N = 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24160" y="4635360"/>
              <a:ext cx="165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RCOLEPT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ff6600"/>
                  </a:solidFill>
                  <a:latin typeface="Arial"/>
                  <a:ea typeface="ＭＳ Ｐゴシック"/>
                </a:rPr>
                <a:t>400 mg N = 17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200 mg N = 1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lacebo N = 1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906960" y="3273480"/>
              <a:ext cx="941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474747"/>
                  </a:solidFill>
                  <a:latin typeface="Arial"/>
                  <a:ea typeface="ＭＳ Ｐゴシック"/>
                </a:rPr>
                <a:t>5</a:t>
              </a:r>
              <a:r>
                <a:rPr b="1" lang="en-US" sz="1200" spc="-1" strike="noStrike">
                  <a:solidFill>
                    <a:srgbClr val="474747"/>
                  </a:solidFill>
                  <a:latin typeface="Arial"/>
                  <a:ea typeface="ＭＳ Ｐゴシック"/>
                </a:rPr>
                <a:t>th percent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35640" y="1963800"/>
              <a:ext cx="0" cy="546120"/>
            </a:xfrm>
            <a:prstGeom prst="line">
              <a:avLst/>
            </a:prstGeom>
            <a:ln w="1908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647640" y="632772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 Modafinil in Narcolepsy Multicenter Study Group.  Ann Neurol 1998;43 and Neurology 2000;5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rot="16200000">
            <a:off x="-587520" y="339732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W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lee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tency (m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6974-5E4E-4851-A235-D9ABA3EDC70C}" type="slidenum">
              <a:t>1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Closed 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718320" y="3940200"/>
            <a:ext cx="1440" cy="14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7450200" y="3708360"/>
            <a:ext cx="144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237440" y="44449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0" y="1494000"/>
            <a:ext cx="2224080" cy="2154240"/>
            <a:chOff x="0" y="1494000"/>
            <a:chExt cx="2224080" cy="2154240"/>
          </a:xfrm>
        </p:grpSpPr>
        <p:pic>
          <p:nvPicPr>
            <p:cNvPr id="1949" name="j0149720" descr=""/>
            <p:cNvPicPr/>
            <p:nvPr/>
          </p:nvPicPr>
          <p:blipFill>
            <a:blip r:embed="rId1"/>
            <a:stretch/>
          </p:blipFill>
          <p:spPr>
            <a:xfrm>
              <a:off x="239760" y="1494000"/>
              <a:ext cx="14526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0" name=""/>
            <p:cNvSpPr/>
            <p:nvPr/>
          </p:nvSpPr>
          <p:spPr>
            <a:xfrm>
              <a:off x="0" y="2822760"/>
              <a:ext cx="22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ufacturing fac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2549520" y="2414520"/>
            <a:ext cx="1660680" cy="2273400"/>
            <a:chOff x="2549520" y="2414520"/>
            <a:chExt cx="1660680" cy="2273400"/>
          </a:xfrm>
        </p:grpSpPr>
        <p:pic>
          <p:nvPicPr>
            <p:cNvPr id="1952" name="j0195396" descr=""/>
            <p:cNvPicPr/>
            <p:nvPr/>
          </p:nvPicPr>
          <p:blipFill>
            <a:blip r:embed="rId2"/>
            <a:stretch/>
          </p:blipFill>
          <p:spPr>
            <a:xfrm>
              <a:off x="2809800" y="2414520"/>
              <a:ext cx="1139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"/>
            <p:cNvSpPr/>
            <p:nvPr/>
          </p:nvSpPr>
          <p:spPr>
            <a:xfrm>
              <a:off x="2549520" y="3862440"/>
              <a:ext cx="166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ecialty phar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4797360" y="2620800"/>
            <a:ext cx="1584000" cy="2127240"/>
            <a:chOff x="4797360" y="2620800"/>
            <a:chExt cx="1584000" cy="2127240"/>
          </a:xfrm>
        </p:grpSpPr>
        <p:pic>
          <p:nvPicPr>
            <p:cNvPr id="1955" name="j0199849" descr=""/>
            <p:cNvPicPr/>
            <p:nvPr/>
          </p:nvPicPr>
          <p:blipFill>
            <a:blip r:embed="rId3"/>
            <a:stretch/>
          </p:blipFill>
          <p:spPr>
            <a:xfrm>
              <a:off x="4959000" y="3403440"/>
              <a:ext cx="125892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6" name=""/>
            <p:cNvSpPr/>
            <p:nvPr/>
          </p:nvSpPr>
          <p:spPr>
            <a:xfrm>
              <a:off x="4797360" y="2620800"/>
              <a:ext cx="158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n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r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7" name=""/>
          <p:cNvSpPr/>
          <p:nvPr/>
        </p:nvSpPr>
        <p:spPr>
          <a:xfrm>
            <a:off x="6912000" y="57783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44000">
            <a:off x="2031480" y="261792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44000">
            <a:off x="4127040" y="360828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44000">
            <a:off x="6222600" y="4560840"/>
            <a:ext cx="723960" cy="457200"/>
          </a:xfrm>
          <a:prstGeom prst="rightArrow">
            <a:avLst>
              <a:gd name="adj1" fmla="val 50000"/>
              <a:gd name="adj2" fmla="val 39587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1" name="PE03620_" descr=""/>
          <p:cNvPicPr/>
          <p:nvPr/>
        </p:nvPicPr>
        <p:blipFill>
          <a:blip r:embed="rId4"/>
          <a:stretch/>
        </p:blipFill>
        <p:spPr>
          <a:xfrm>
            <a:off x="6996240" y="4398840"/>
            <a:ext cx="1606320" cy="129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A56B-80EC-4CE2-BDD6-BD76EB62C5B7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/>
          <p:nvPr/>
        </p:nvSpPr>
        <p:spPr>
          <a:xfrm>
            <a:off x="380880" y="32004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ck-up Slides Displayed 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ipheral and Central Nervous System Drugs Advisory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6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5264-0335-4A4B-B539-762751F73590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/>
          <p:nvPr/>
        </p:nvSpPr>
        <p:spPr>
          <a:xfrm>
            <a:off x="812880" y="201780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3600" spc="-1" strike="noStrike" baseline="44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odium Oxybate) oral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652640" y="1371600"/>
            <a:ext cx="4033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oxybate 500 m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c acid 1.3 m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7.5 in purified water U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age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resistant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In Bottle Adapter (PI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ringe for measuring each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resistant dosing cup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6" name="MVC-004F" descr=""/>
          <p:cNvPicPr/>
          <p:nvPr/>
        </p:nvPicPr>
        <p:blipFill>
          <a:blip r:embed="rId1"/>
          <a:srcRect l="18343" t="0" r="13435" b="3291"/>
          <a:stretch/>
        </p:blipFill>
        <p:spPr>
          <a:xfrm>
            <a:off x="457200" y="1409760"/>
            <a:ext cx="4033800" cy="48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E50A-461C-434C-8C18-72CB3FBC929E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368280" y="1904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Change In Cataplexy Attacks by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844080" y="570708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e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9" name=""/>
          <p:cNvGrpSpPr/>
          <p:nvPr/>
        </p:nvGrpSpPr>
        <p:grpSpPr>
          <a:xfrm>
            <a:off x="863640" y="1568880"/>
            <a:ext cx="7686720" cy="4284720"/>
            <a:chOff x="863640" y="1568880"/>
            <a:chExt cx="7686720" cy="4284720"/>
          </a:xfrm>
        </p:grpSpPr>
        <p:sp>
          <p:nvSpPr>
            <p:cNvPr id="1970" name=""/>
            <p:cNvSpPr/>
            <p:nvPr/>
          </p:nvSpPr>
          <p:spPr>
            <a:xfrm>
              <a:off x="2135160" y="1982880"/>
              <a:ext cx="1440" cy="372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052720" y="5709240"/>
              <a:ext cx="82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78160" y="5563800"/>
              <a:ext cx="416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462400" y="540324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/4.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890880" y="54032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989960" y="540324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318360" y="54032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7" name=""/>
            <p:cNvGrpSpPr/>
            <p:nvPr/>
          </p:nvGrpSpPr>
          <p:grpSpPr>
            <a:xfrm>
              <a:off x="863640" y="1568880"/>
              <a:ext cx="7686720" cy="3752280"/>
              <a:chOff x="863640" y="1568880"/>
              <a:chExt cx="7686720" cy="3752280"/>
            </a:xfrm>
          </p:grpSpPr>
          <p:sp>
            <p:nvSpPr>
              <p:cNvPr id="1978" name=""/>
              <p:cNvSpPr/>
              <p:nvPr/>
            </p:nvSpPr>
            <p:spPr>
              <a:xfrm>
                <a:off x="2397240" y="5176440"/>
                <a:ext cx="344520" cy="97560"/>
              </a:xfrm>
              <a:prstGeom prst="rect">
                <a:avLst/>
              </a:prstGeom>
              <a:solidFill>
                <a:srgbClr val="00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826160" y="5063760"/>
                <a:ext cx="344160" cy="112680"/>
              </a:xfrm>
              <a:prstGeom prst="rect">
                <a:avLst/>
              </a:prstGeom>
              <a:solidFill>
                <a:srgbClr val="00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741760" y="5128920"/>
                <a:ext cx="344520" cy="4752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956040" y="3515040"/>
                <a:ext cx="344520" cy="16614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170320" y="3321360"/>
                <a:ext cx="344520" cy="185508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384960" y="2628000"/>
                <a:ext cx="344520" cy="254844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052720" y="5176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052720" y="4644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052720" y="411228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052720" y="35798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052720" y="30477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052720" y="251496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052720" y="198288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135160" y="5176440"/>
                <a:ext cx="4856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2135160" y="5176440"/>
                <a:ext cx="144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V="1">
                <a:off x="3348000" y="5176440"/>
                <a:ext cx="180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4562640" y="5176440"/>
                <a:ext cx="144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5776920" y="5176440"/>
                <a:ext cx="144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6991200" y="5176440"/>
                <a:ext cx="180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560960" y="503136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560960" y="45025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5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413360" y="396684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413360" y="343440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5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13360" y="290376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0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413360" y="236988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5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413360" y="183744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0.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188120" y="3466800"/>
                <a:ext cx="1362240" cy="775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286760" y="3612240"/>
                <a:ext cx="147600" cy="145440"/>
              </a:xfrm>
              <a:prstGeom prst="rect">
                <a:avLst/>
              </a:prstGeom>
              <a:solidFill>
                <a:srgbClr val="00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517160" y="3533760"/>
                <a:ext cx="6973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Xyrem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286760" y="3999240"/>
                <a:ext cx="147600" cy="14508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518600" y="3920400"/>
                <a:ext cx="870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lacebo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151000" y="4509360"/>
                <a:ext cx="495360" cy="24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737800" y="4509360"/>
                <a:ext cx="415440" cy="246240"/>
              </a:xfrm>
              <a:prstGeom prst="rect">
                <a:avLst/>
              </a:prstGeom>
              <a:solidFill>
                <a:srgbClr val="96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466440" y="4509360"/>
                <a:ext cx="415440" cy="24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918960" y="2159280"/>
                <a:ext cx="415440" cy="246240"/>
              </a:xfrm>
              <a:prstGeom prst="rect">
                <a:avLst/>
              </a:prstGeom>
              <a:solidFill>
                <a:srgbClr val="96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4619160" y="4509360"/>
                <a:ext cx="415440" cy="24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127120" y="2159280"/>
                <a:ext cx="415440" cy="246240"/>
              </a:xfrm>
              <a:prstGeom prst="rect">
                <a:avLst/>
              </a:prstGeom>
              <a:solidFill>
                <a:srgbClr val="96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52520" y="4509360"/>
                <a:ext cx="415440" cy="24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346080" y="2159280"/>
                <a:ext cx="415440" cy="246240"/>
              </a:xfrm>
              <a:prstGeom prst="rect">
                <a:avLst/>
              </a:prstGeom>
              <a:solidFill>
                <a:srgbClr val="96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=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6200000">
                <a:off x="-774720" y="3207240"/>
                <a:ext cx="36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dian change in cataplexy attac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975280" y="5166360"/>
                <a:ext cx="30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9" name=""/>
          <p:cNvSpPr/>
          <p:nvPr/>
        </p:nvSpPr>
        <p:spPr>
          <a:xfrm>
            <a:off x="1452600" y="1496880"/>
            <a:ext cx="5788080" cy="2764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-values =      0.0628                   0.0039                   0.0444                  0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2279-D2A3-409D-A790-8BAA603FA0C8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Patient Exposure by D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1" name=""/>
          <p:cNvGraphicFramePr/>
          <p:nvPr/>
        </p:nvGraphicFramePr>
        <p:xfrm>
          <a:off x="496800" y="1995480"/>
          <a:ext cx="8118360" cy="3324240"/>
        </p:xfrm>
        <a:graphic>
          <a:graphicData uri="http://schemas.openxmlformats.org/drawingml/2006/table">
            <a:tbl>
              <a:tblPr/>
              <a:tblGrid>
                <a:gridCol w="2447640"/>
                <a:gridCol w="1054080"/>
                <a:gridCol w="816120"/>
                <a:gridCol w="957240"/>
                <a:gridCol w="957240"/>
                <a:gridCol w="928800"/>
                <a:gridCol w="957240"/>
              </a:tblGrid>
              <a:tr h="531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Dosage (g/d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79FC-2B17-446F-AEAE-F71322C7250E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ISS Database with Schar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atient Exposure by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3" name=""/>
          <p:cNvGraphicFramePr/>
          <p:nvPr/>
        </p:nvGraphicFramePr>
        <p:xfrm>
          <a:off x="496800" y="1995480"/>
          <a:ext cx="8118360" cy="3324240"/>
        </p:xfrm>
        <a:graphic>
          <a:graphicData uri="http://schemas.openxmlformats.org/drawingml/2006/table">
            <a:tbl>
              <a:tblPr/>
              <a:tblGrid>
                <a:gridCol w="2447640"/>
                <a:gridCol w="1054080"/>
                <a:gridCol w="816120"/>
                <a:gridCol w="957240"/>
                <a:gridCol w="957240"/>
                <a:gridCol w="928800"/>
                <a:gridCol w="957240"/>
              </a:tblGrid>
              <a:tr h="531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Dosage (g/d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03F1-CF84-4C3A-BC3E-1DC7FAC7D752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ntegrated Summary of Safet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ummary of 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nfusion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graphic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:  9 males; 21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:  25.7 – 73.8 years (67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 at Onse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g –   4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g – 10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g – 12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g –   8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g – 13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bo – 1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2207-D9F5-42C6-8606-88997526159B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380880" y="32004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sodium oxybate) o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ipheral and Central Nervous System Drugs Advisory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6, 2001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phan Medical 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4667-6722-495A-84B1-D5F4418137E3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4720" y="13932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ypocretin Deficiency in Narcolep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4267080" y="2525760"/>
            <a:ext cx="2005200" cy="255888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2"/>
          <a:stretch/>
        </p:blipFill>
        <p:spPr>
          <a:xfrm>
            <a:off x="6481800" y="2517840"/>
            <a:ext cx="2041560" cy="253512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4195800" y="5629320"/>
            <a:ext cx="212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rcolep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08760" y="5605560"/>
            <a:ext cx="11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732200" y="499752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43800" y="5208480"/>
            <a:ext cx="66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; for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387320" y="52084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614280" y="520056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660600" y="1828800"/>
            <a:ext cx="324360" cy="3707640"/>
            <a:chOff x="660600" y="1828800"/>
            <a:chExt cx="324360" cy="3707640"/>
          </a:xfrm>
        </p:grpSpPr>
        <p:sp>
          <p:nvSpPr>
            <p:cNvPr id="929" name=""/>
            <p:cNvSpPr/>
            <p:nvPr/>
          </p:nvSpPr>
          <p:spPr>
            <a:xfrm>
              <a:off x="897480" y="53535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0600" y="44719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enev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0600" y="359244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enev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0600" y="270936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eneva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0920" y="18288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1000080" y="2230560"/>
            <a:ext cx="2695680" cy="31654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2335320" y="4122720"/>
            <a:ext cx="66600" cy="69480"/>
            <a:chOff x="2335320" y="4122720"/>
            <a:chExt cx="66600" cy="69480"/>
          </a:xfrm>
        </p:grpSpPr>
        <p:sp>
          <p:nvSpPr>
            <p:cNvPr id="936" name=""/>
            <p:cNvSpPr/>
            <p:nvPr/>
          </p:nvSpPr>
          <p:spPr>
            <a:xfrm>
              <a:off x="2343960" y="4130640"/>
              <a:ext cx="57960" cy="6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35320" y="412272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052800" y="4105440"/>
            <a:ext cx="66600" cy="69480"/>
            <a:chOff x="3052800" y="4105440"/>
            <a:chExt cx="66600" cy="69480"/>
          </a:xfrm>
        </p:grpSpPr>
        <p:sp>
          <p:nvSpPr>
            <p:cNvPr id="939" name=""/>
            <p:cNvSpPr/>
            <p:nvPr/>
          </p:nvSpPr>
          <p:spPr>
            <a:xfrm>
              <a:off x="3061440" y="4114080"/>
              <a:ext cx="57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52800" y="4105440"/>
              <a:ext cx="57960" cy="60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335320" y="4255920"/>
            <a:ext cx="66600" cy="71280"/>
            <a:chOff x="2335320" y="4255920"/>
            <a:chExt cx="66600" cy="71280"/>
          </a:xfrm>
        </p:grpSpPr>
        <p:sp>
          <p:nvSpPr>
            <p:cNvPr id="942" name=""/>
            <p:cNvSpPr/>
            <p:nvPr/>
          </p:nvSpPr>
          <p:spPr>
            <a:xfrm>
              <a:off x="2343960" y="4263480"/>
              <a:ext cx="57960" cy="6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35320" y="425592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3052800" y="4122720"/>
            <a:ext cx="66600" cy="69480"/>
            <a:chOff x="3052800" y="4122720"/>
            <a:chExt cx="66600" cy="69480"/>
          </a:xfrm>
        </p:grpSpPr>
        <p:sp>
          <p:nvSpPr>
            <p:cNvPr id="945" name=""/>
            <p:cNvSpPr/>
            <p:nvPr/>
          </p:nvSpPr>
          <p:spPr>
            <a:xfrm>
              <a:off x="3061440" y="4130640"/>
              <a:ext cx="57960" cy="6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52800" y="412272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636560" y="4238640"/>
            <a:ext cx="66600" cy="69480"/>
            <a:chOff x="1636560" y="4238640"/>
            <a:chExt cx="66600" cy="69480"/>
          </a:xfrm>
        </p:grpSpPr>
        <p:sp>
          <p:nvSpPr>
            <p:cNvPr id="948" name=""/>
            <p:cNvSpPr/>
            <p:nvPr/>
          </p:nvSpPr>
          <p:spPr>
            <a:xfrm>
              <a:off x="1645200" y="4247640"/>
              <a:ext cx="57960" cy="6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36560" y="4238640"/>
              <a:ext cx="57960" cy="60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2335320" y="4211640"/>
            <a:ext cx="66600" cy="70920"/>
            <a:chOff x="2335320" y="4211640"/>
            <a:chExt cx="66600" cy="70920"/>
          </a:xfrm>
        </p:grpSpPr>
        <p:sp>
          <p:nvSpPr>
            <p:cNvPr id="951" name=""/>
            <p:cNvSpPr/>
            <p:nvPr/>
          </p:nvSpPr>
          <p:spPr>
            <a:xfrm>
              <a:off x="2343960" y="422064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35320" y="421164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052800" y="4255920"/>
            <a:ext cx="66600" cy="71280"/>
            <a:chOff x="3052800" y="4255920"/>
            <a:chExt cx="66600" cy="71280"/>
          </a:xfrm>
        </p:grpSpPr>
        <p:sp>
          <p:nvSpPr>
            <p:cNvPr id="954" name=""/>
            <p:cNvSpPr/>
            <p:nvPr/>
          </p:nvSpPr>
          <p:spPr>
            <a:xfrm>
              <a:off x="3061440" y="4263480"/>
              <a:ext cx="57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052800" y="4255920"/>
              <a:ext cx="57960" cy="62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335320" y="4308480"/>
            <a:ext cx="66600" cy="70920"/>
            <a:chOff x="2335320" y="4308480"/>
            <a:chExt cx="66600" cy="70920"/>
          </a:xfrm>
        </p:grpSpPr>
        <p:sp>
          <p:nvSpPr>
            <p:cNvPr id="957" name=""/>
            <p:cNvSpPr/>
            <p:nvPr/>
          </p:nvSpPr>
          <p:spPr>
            <a:xfrm>
              <a:off x="2343960" y="431748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5320" y="430848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3052800" y="4105440"/>
            <a:ext cx="66600" cy="69480"/>
            <a:chOff x="3052800" y="4105440"/>
            <a:chExt cx="66600" cy="69480"/>
          </a:xfrm>
        </p:grpSpPr>
        <p:sp>
          <p:nvSpPr>
            <p:cNvPr id="960" name=""/>
            <p:cNvSpPr/>
            <p:nvPr/>
          </p:nvSpPr>
          <p:spPr>
            <a:xfrm>
              <a:off x="3061440" y="4114080"/>
              <a:ext cx="57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52800" y="4105440"/>
              <a:ext cx="57960" cy="60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2335320" y="4255920"/>
            <a:ext cx="66600" cy="71280"/>
            <a:chOff x="2335320" y="4255920"/>
            <a:chExt cx="66600" cy="71280"/>
          </a:xfrm>
        </p:grpSpPr>
        <p:sp>
          <p:nvSpPr>
            <p:cNvPr id="963" name=""/>
            <p:cNvSpPr/>
            <p:nvPr/>
          </p:nvSpPr>
          <p:spPr>
            <a:xfrm>
              <a:off x="2343960" y="4263480"/>
              <a:ext cx="57960" cy="6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35320" y="425592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3052800" y="4105440"/>
            <a:ext cx="66600" cy="69480"/>
            <a:chOff x="3052800" y="4105440"/>
            <a:chExt cx="66600" cy="69480"/>
          </a:xfrm>
        </p:grpSpPr>
        <p:sp>
          <p:nvSpPr>
            <p:cNvPr id="966" name=""/>
            <p:cNvSpPr/>
            <p:nvPr/>
          </p:nvSpPr>
          <p:spPr>
            <a:xfrm>
              <a:off x="3061440" y="4114080"/>
              <a:ext cx="57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052800" y="4105440"/>
              <a:ext cx="57960" cy="60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2335320" y="4167360"/>
            <a:ext cx="66600" cy="70920"/>
            <a:chOff x="2335320" y="4167360"/>
            <a:chExt cx="66600" cy="70920"/>
          </a:xfrm>
        </p:grpSpPr>
        <p:sp>
          <p:nvSpPr>
            <p:cNvPr id="969" name=""/>
            <p:cNvSpPr/>
            <p:nvPr/>
          </p:nvSpPr>
          <p:spPr>
            <a:xfrm>
              <a:off x="2343960" y="417636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35320" y="416736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3052800" y="4105440"/>
            <a:ext cx="66600" cy="69480"/>
            <a:chOff x="3052800" y="4105440"/>
            <a:chExt cx="66600" cy="69480"/>
          </a:xfrm>
        </p:grpSpPr>
        <p:sp>
          <p:nvSpPr>
            <p:cNvPr id="972" name=""/>
            <p:cNvSpPr/>
            <p:nvPr/>
          </p:nvSpPr>
          <p:spPr>
            <a:xfrm>
              <a:off x="3061440" y="4114080"/>
              <a:ext cx="57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52800" y="4105440"/>
              <a:ext cx="57960" cy="60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335320" y="3952800"/>
            <a:ext cx="66600" cy="71280"/>
            <a:chOff x="2335320" y="3952800"/>
            <a:chExt cx="66600" cy="71280"/>
          </a:xfrm>
        </p:grpSpPr>
        <p:sp>
          <p:nvSpPr>
            <p:cNvPr id="975" name=""/>
            <p:cNvSpPr/>
            <p:nvPr/>
          </p:nvSpPr>
          <p:spPr>
            <a:xfrm>
              <a:off x="2343960" y="396180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35320" y="3952800"/>
              <a:ext cx="59040" cy="6336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052800" y="4122720"/>
            <a:ext cx="66600" cy="69480"/>
            <a:chOff x="3052800" y="4122720"/>
            <a:chExt cx="66600" cy="69480"/>
          </a:xfrm>
        </p:grpSpPr>
        <p:sp>
          <p:nvSpPr>
            <p:cNvPr id="978" name=""/>
            <p:cNvSpPr/>
            <p:nvPr/>
          </p:nvSpPr>
          <p:spPr>
            <a:xfrm>
              <a:off x="3061440" y="4130640"/>
              <a:ext cx="57960" cy="6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052800" y="412272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636560" y="2556000"/>
            <a:ext cx="66600" cy="70920"/>
            <a:chOff x="1636560" y="2556000"/>
            <a:chExt cx="66600" cy="70920"/>
          </a:xfrm>
        </p:grpSpPr>
        <p:sp>
          <p:nvSpPr>
            <p:cNvPr id="981" name=""/>
            <p:cNvSpPr/>
            <p:nvPr/>
          </p:nvSpPr>
          <p:spPr>
            <a:xfrm>
              <a:off x="1645200" y="2565000"/>
              <a:ext cx="5796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36560" y="2556000"/>
              <a:ext cx="57960" cy="61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335320" y="4043520"/>
            <a:ext cx="66600" cy="69480"/>
            <a:chOff x="2335320" y="4043520"/>
            <a:chExt cx="66600" cy="69480"/>
          </a:xfrm>
        </p:grpSpPr>
        <p:sp>
          <p:nvSpPr>
            <p:cNvPr id="984" name=""/>
            <p:cNvSpPr/>
            <p:nvPr/>
          </p:nvSpPr>
          <p:spPr>
            <a:xfrm>
              <a:off x="2343960" y="4052520"/>
              <a:ext cx="5796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35320" y="4043520"/>
              <a:ext cx="59040" cy="6084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3052800" y="4122720"/>
            <a:ext cx="66600" cy="69480"/>
            <a:chOff x="3052800" y="4122720"/>
            <a:chExt cx="66600" cy="69480"/>
          </a:xfrm>
        </p:grpSpPr>
        <p:sp>
          <p:nvSpPr>
            <p:cNvPr id="987" name=""/>
            <p:cNvSpPr/>
            <p:nvPr/>
          </p:nvSpPr>
          <p:spPr>
            <a:xfrm>
              <a:off x="3061440" y="4130640"/>
              <a:ext cx="57960" cy="6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052800" y="412272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335320" y="3997440"/>
            <a:ext cx="66600" cy="70920"/>
            <a:chOff x="2335320" y="3997440"/>
            <a:chExt cx="66600" cy="70920"/>
          </a:xfrm>
        </p:grpSpPr>
        <p:sp>
          <p:nvSpPr>
            <p:cNvPr id="990" name=""/>
            <p:cNvSpPr/>
            <p:nvPr/>
          </p:nvSpPr>
          <p:spPr>
            <a:xfrm>
              <a:off x="2343960" y="400644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35320" y="399744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3052800" y="4344840"/>
            <a:ext cx="66600" cy="71280"/>
            <a:chOff x="3052800" y="4344840"/>
            <a:chExt cx="66600" cy="71280"/>
          </a:xfrm>
        </p:grpSpPr>
        <p:sp>
          <p:nvSpPr>
            <p:cNvPr id="993" name=""/>
            <p:cNvSpPr/>
            <p:nvPr/>
          </p:nvSpPr>
          <p:spPr>
            <a:xfrm>
              <a:off x="3061440" y="4353840"/>
              <a:ext cx="57960" cy="6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52800" y="4344840"/>
              <a:ext cx="57960" cy="62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335320" y="4149720"/>
            <a:ext cx="66600" cy="70920"/>
            <a:chOff x="2335320" y="4149720"/>
            <a:chExt cx="66600" cy="70920"/>
          </a:xfrm>
        </p:grpSpPr>
        <p:sp>
          <p:nvSpPr>
            <p:cNvPr id="996" name=""/>
            <p:cNvSpPr/>
            <p:nvPr/>
          </p:nvSpPr>
          <p:spPr>
            <a:xfrm>
              <a:off x="2343960" y="415836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35320" y="414972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3052800" y="4140360"/>
            <a:ext cx="66600" cy="70920"/>
            <a:chOff x="3052800" y="4140360"/>
            <a:chExt cx="66600" cy="70920"/>
          </a:xfrm>
        </p:grpSpPr>
        <p:sp>
          <p:nvSpPr>
            <p:cNvPr id="999" name=""/>
            <p:cNvSpPr/>
            <p:nvPr/>
          </p:nvSpPr>
          <p:spPr>
            <a:xfrm>
              <a:off x="3061440" y="4149360"/>
              <a:ext cx="579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052800" y="414036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2335320" y="4105440"/>
            <a:ext cx="66600" cy="69480"/>
            <a:chOff x="2335320" y="4105440"/>
            <a:chExt cx="66600" cy="69480"/>
          </a:xfrm>
        </p:grpSpPr>
        <p:sp>
          <p:nvSpPr>
            <p:cNvPr id="1002" name=""/>
            <p:cNvSpPr/>
            <p:nvPr/>
          </p:nvSpPr>
          <p:spPr>
            <a:xfrm>
              <a:off x="2343960" y="4114080"/>
              <a:ext cx="57960" cy="6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35320" y="4105440"/>
              <a:ext cx="59040" cy="604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052800" y="4043520"/>
            <a:ext cx="66600" cy="69480"/>
            <a:chOff x="3052800" y="4043520"/>
            <a:chExt cx="66600" cy="69480"/>
          </a:xfrm>
        </p:grpSpPr>
        <p:sp>
          <p:nvSpPr>
            <p:cNvPr id="1005" name=""/>
            <p:cNvSpPr/>
            <p:nvPr/>
          </p:nvSpPr>
          <p:spPr>
            <a:xfrm>
              <a:off x="3061440" y="4052520"/>
              <a:ext cx="57960" cy="6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52800" y="4043520"/>
              <a:ext cx="57960" cy="60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35320" y="4130640"/>
            <a:ext cx="66600" cy="71280"/>
            <a:chOff x="2335320" y="4130640"/>
            <a:chExt cx="66600" cy="71280"/>
          </a:xfrm>
        </p:grpSpPr>
        <p:sp>
          <p:nvSpPr>
            <p:cNvPr id="1008" name=""/>
            <p:cNvSpPr/>
            <p:nvPr/>
          </p:nvSpPr>
          <p:spPr>
            <a:xfrm>
              <a:off x="2343960" y="413964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35320" y="413064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3052800" y="3705120"/>
            <a:ext cx="66600" cy="71280"/>
            <a:chOff x="3052800" y="3705120"/>
            <a:chExt cx="66600" cy="71280"/>
          </a:xfrm>
        </p:grpSpPr>
        <p:sp>
          <p:nvSpPr>
            <p:cNvPr id="1011" name=""/>
            <p:cNvSpPr/>
            <p:nvPr/>
          </p:nvSpPr>
          <p:spPr>
            <a:xfrm>
              <a:off x="3061440" y="3713040"/>
              <a:ext cx="57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052800" y="3705120"/>
              <a:ext cx="57960" cy="62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335320" y="4175280"/>
            <a:ext cx="66600" cy="70920"/>
            <a:chOff x="2335320" y="4175280"/>
            <a:chExt cx="66600" cy="70920"/>
          </a:xfrm>
        </p:grpSpPr>
        <p:sp>
          <p:nvSpPr>
            <p:cNvPr id="1014" name=""/>
            <p:cNvSpPr/>
            <p:nvPr/>
          </p:nvSpPr>
          <p:spPr>
            <a:xfrm>
              <a:off x="2343960" y="4184280"/>
              <a:ext cx="57960" cy="6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175280"/>
              <a:ext cx="59040" cy="619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3052800" y="4078440"/>
            <a:ext cx="66600" cy="70920"/>
            <a:chOff x="3052800" y="4078440"/>
            <a:chExt cx="66600" cy="70920"/>
          </a:xfrm>
        </p:grpSpPr>
        <p:sp>
          <p:nvSpPr>
            <p:cNvPr id="1017" name=""/>
            <p:cNvSpPr/>
            <p:nvPr/>
          </p:nvSpPr>
          <p:spPr>
            <a:xfrm>
              <a:off x="3061440" y="4087440"/>
              <a:ext cx="579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52800" y="407844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2335320" y="4522680"/>
            <a:ext cx="66600" cy="71280"/>
            <a:chOff x="2335320" y="4522680"/>
            <a:chExt cx="66600" cy="71280"/>
          </a:xfrm>
        </p:grpSpPr>
        <p:sp>
          <p:nvSpPr>
            <p:cNvPr id="1020" name=""/>
            <p:cNvSpPr/>
            <p:nvPr/>
          </p:nvSpPr>
          <p:spPr>
            <a:xfrm>
              <a:off x="2343960" y="453168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35320" y="452268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052800" y="4308480"/>
            <a:ext cx="66600" cy="70920"/>
            <a:chOff x="3052800" y="4308480"/>
            <a:chExt cx="66600" cy="70920"/>
          </a:xfrm>
        </p:grpSpPr>
        <p:sp>
          <p:nvSpPr>
            <p:cNvPr id="1023" name=""/>
            <p:cNvSpPr/>
            <p:nvPr/>
          </p:nvSpPr>
          <p:spPr>
            <a:xfrm>
              <a:off x="3061440" y="4317480"/>
              <a:ext cx="579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052800" y="430848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335320" y="4344840"/>
            <a:ext cx="66600" cy="71280"/>
            <a:chOff x="2335320" y="4344840"/>
            <a:chExt cx="66600" cy="71280"/>
          </a:xfrm>
        </p:grpSpPr>
        <p:sp>
          <p:nvSpPr>
            <p:cNvPr id="1026" name=""/>
            <p:cNvSpPr/>
            <p:nvPr/>
          </p:nvSpPr>
          <p:spPr>
            <a:xfrm>
              <a:off x="2343960" y="435384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35320" y="434484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3052800" y="4202280"/>
            <a:ext cx="66600" cy="70920"/>
            <a:chOff x="3052800" y="4202280"/>
            <a:chExt cx="66600" cy="70920"/>
          </a:xfrm>
        </p:grpSpPr>
        <p:sp>
          <p:nvSpPr>
            <p:cNvPr id="1029" name=""/>
            <p:cNvSpPr/>
            <p:nvPr/>
          </p:nvSpPr>
          <p:spPr>
            <a:xfrm>
              <a:off x="3061440" y="4211280"/>
              <a:ext cx="579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52800" y="4202280"/>
              <a:ext cx="57960" cy="61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2335320" y="4238640"/>
            <a:ext cx="66600" cy="69480"/>
            <a:chOff x="2335320" y="4238640"/>
            <a:chExt cx="66600" cy="69480"/>
          </a:xfrm>
        </p:grpSpPr>
        <p:sp>
          <p:nvSpPr>
            <p:cNvPr id="1032" name=""/>
            <p:cNvSpPr/>
            <p:nvPr/>
          </p:nvSpPr>
          <p:spPr>
            <a:xfrm>
              <a:off x="2343960" y="4247640"/>
              <a:ext cx="5796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35320" y="4238640"/>
              <a:ext cx="59040" cy="604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2335320" y="4282920"/>
            <a:ext cx="66600" cy="71280"/>
            <a:chOff x="2335320" y="4282920"/>
            <a:chExt cx="66600" cy="71280"/>
          </a:xfrm>
        </p:grpSpPr>
        <p:sp>
          <p:nvSpPr>
            <p:cNvPr id="1035" name=""/>
            <p:cNvSpPr/>
            <p:nvPr/>
          </p:nvSpPr>
          <p:spPr>
            <a:xfrm>
              <a:off x="2343960" y="429192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335320" y="428292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335320" y="4611600"/>
            <a:ext cx="66600" cy="71280"/>
            <a:chOff x="2335320" y="4611600"/>
            <a:chExt cx="66600" cy="71280"/>
          </a:xfrm>
        </p:grpSpPr>
        <p:sp>
          <p:nvSpPr>
            <p:cNvPr id="1038" name=""/>
            <p:cNvSpPr/>
            <p:nvPr/>
          </p:nvSpPr>
          <p:spPr>
            <a:xfrm>
              <a:off x="2343960" y="462060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35320" y="4611600"/>
              <a:ext cx="59040" cy="6372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2335320" y="4130640"/>
            <a:ext cx="66600" cy="71280"/>
            <a:chOff x="2335320" y="4130640"/>
            <a:chExt cx="66600" cy="71280"/>
          </a:xfrm>
        </p:grpSpPr>
        <p:sp>
          <p:nvSpPr>
            <p:cNvPr id="1041" name=""/>
            <p:cNvSpPr/>
            <p:nvPr/>
          </p:nvSpPr>
          <p:spPr>
            <a:xfrm>
              <a:off x="2343960" y="4139640"/>
              <a:ext cx="57960" cy="6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35320" y="4130640"/>
              <a:ext cx="59040" cy="62280"/>
            </a:xfrm>
            <a:prstGeom prst="ellipse">
              <a:avLst/>
            </a:prstGeom>
            <a:solidFill>
              <a:srgbClr val="ffff00"/>
            </a:solidFill>
            <a:ln cap="rnd"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1644480" y="5013360"/>
            <a:ext cx="59040" cy="61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36560" y="5003640"/>
            <a:ext cx="59040" cy="637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636560" y="4016520"/>
            <a:ext cx="66600" cy="70920"/>
            <a:chOff x="1636560" y="4016520"/>
            <a:chExt cx="66600" cy="70920"/>
          </a:xfrm>
        </p:grpSpPr>
        <p:sp>
          <p:nvSpPr>
            <p:cNvPr id="1046" name=""/>
            <p:cNvSpPr/>
            <p:nvPr/>
          </p:nvSpPr>
          <p:spPr>
            <a:xfrm>
              <a:off x="1645200" y="4024440"/>
              <a:ext cx="57960" cy="63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36560" y="4016520"/>
              <a:ext cx="57960" cy="61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1644480" y="2701800"/>
            <a:ext cx="59040" cy="61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636560" y="2692440"/>
            <a:ext cx="59040" cy="619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44480" y="4059360"/>
            <a:ext cx="59040" cy="63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636560" y="4089240"/>
            <a:ext cx="59040" cy="619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1636560" y="4227480"/>
            <a:ext cx="66600" cy="71280"/>
            <a:chOff x="1636560" y="4227480"/>
            <a:chExt cx="66600" cy="71280"/>
          </a:xfrm>
        </p:grpSpPr>
        <p:sp>
          <p:nvSpPr>
            <p:cNvPr id="1053" name=""/>
            <p:cNvSpPr/>
            <p:nvPr/>
          </p:nvSpPr>
          <p:spPr>
            <a:xfrm>
              <a:off x="1645200" y="4236480"/>
              <a:ext cx="57960" cy="6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636560" y="4227480"/>
              <a:ext cx="57960" cy="622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119700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4632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0"/>
                </a:moveTo>
                <a:lnTo>
                  <a:pt x="21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1" y="0"/>
                </a:lnTo>
                <a:lnTo>
                  <a:pt x="21" y="0"/>
                </a:lnTo>
                <a:lnTo>
                  <a:pt x="41" y="41"/>
                </a:lnTo>
                <a:lnTo>
                  <a:pt x="0" y="4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8736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46040" y="5208480"/>
            <a:ext cx="4932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0"/>
                </a:moveTo>
                <a:lnTo>
                  <a:pt x="20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1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395360" y="5208480"/>
            <a:ext cx="5076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446120" y="5208480"/>
            <a:ext cx="4932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0"/>
                </a:moveTo>
                <a:lnTo>
                  <a:pt x="20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1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48752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53684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0"/>
                </a:moveTo>
                <a:lnTo>
                  <a:pt x="21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1" y="0"/>
                </a:lnTo>
                <a:lnTo>
                  <a:pt x="21" y="0"/>
                </a:lnTo>
                <a:lnTo>
                  <a:pt x="41" y="41"/>
                </a:lnTo>
                <a:lnTo>
                  <a:pt x="0" y="4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587600" y="5208480"/>
            <a:ext cx="4896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4448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687680" y="5208480"/>
            <a:ext cx="4896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73664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0"/>
                </a:moveTo>
                <a:lnTo>
                  <a:pt x="20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1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78740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4464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89396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0"/>
                </a:moveTo>
                <a:lnTo>
                  <a:pt x="20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1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3680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986120" y="5208480"/>
            <a:ext cx="50760" cy="54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0"/>
                </a:moveTo>
                <a:lnTo>
                  <a:pt x="21" y="0"/>
                </a:lnTo>
                <a:lnTo>
                  <a:pt x="41" y="41"/>
                </a:lnTo>
                <a:lnTo>
                  <a:pt x="41" y="41"/>
                </a:lnTo>
                <a:lnTo>
                  <a:pt x="0" y="41"/>
                </a:lnTo>
                <a:lnTo>
                  <a:pt x="0" y="41"/>
                </a:lnTo>
                <a:lnTo>
                  <a:pt x="21" y="0"/>
                </a:lnTo>
                <a:lnTo>
                  <a:pt x="21" y="0"/>
                </a:lnTo>
                <a:lnTo>
                  <a:pt x="41" y="41"/>
                </a:lnTo>
                <a:lnTo>
                  <a:pt x="0" y="4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036880" y="5208480"/>
            <a:ext cx="4896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07792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6600" y="5208480"/>
            <a:ext cx="49320" cy="5400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0"/>
                </a:moveTo>
                <a:lnTo>
                  <a:pt x="20" y="0"/>
                </a:lnTo>
                <a:lnTo>
                  <a:pt x="40" y="41"/>
                </a:lnTo>
                <a:lnTo>
                  <a:pt x="40" y="41"/>
                </a:lnTo>
                <a:lnTo>
                  <a:pt x="0" y="41"/>
                </a:lnTo>
                <a:lnTo>
                  <a:pt x="0" y="41"/>
                </a:lnTo>
                <a:lnTo>
                  <a:pt x="20" y="0"/>
                </a:lnTo>
                <a:lnTo>
                  <a:pt x="20" y="0"/>
                </a:lnTo>
                <a:lnTo>
                  <a:pt x="40" y="41"/>
                </a:lnTo>
                <a:lnTo>
                  <a:pt x="0" y="4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38744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46120" y="5154480"/>
            <a:ext cx="4932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0" y="0"/>
                </a:moveTo>
                <a:lnTo>
                  <a:pt x="20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1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9544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544760" y="5154480"/>
            <a:ext cx="5076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0" y="0"/>
                </a:moveTo>
                <a:lnTo>
                  <a:pt x="20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1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87600" y="5154480"/>
            <a:ext cx="4896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65420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93800" y="5154480"/>
            <a:ext cx="5076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1" y="0"/>
                </a:moveTo>
                <a:lnTo>
                  <a:pt x="21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1" y="0"/>
                </a:lnTo>
                <a:lnTo>
                  <a:pt x="21" y="0"/>
                </a:lnTo>
                <a:lnTo>
                  <a:pt x="41" y="40"/>
                </a:lnTo>
                <a:lnTo>
                  <a:pt x="0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74456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793880" y="5154480"/>
            <a:ext cx="5076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1" y="0"/>
                </a:moveTo>
                <a:lnTo>
                  <a:pt x="21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1" y="0"/>
                </a:lnTo>
                <a:lnTo>
                  <a:pt x="21" y="0"/>
                </a:lnTo>
                <a:lnTo>
                  <a:pt x="41" y="40"/>
                </a:lnTo>
                <a:lnTo>
                  <a:pt x="0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836720" y="5154480"/>
            <a:ext cx="50760" cy="54000"/>
          </a:xfrm>
          <a:custGeom>
            <a:avLst/>
            <a:gdLst/>
            <a:ahLst/>
            <a:rect l="l" t="t" r="r" b="b"/>
            <a:pathLst>
              <a:path w="41" h="40">
                <a:moveTo>
                  <a:pt x="20" y="0"/>
                </a:moveTo>
                <a:lnTo>
                  <a:pt x="20" y="0"/>
                </a:lnTo>
                <a:lnTo>
                  <a:pt x="41" y="40"/>
                </a:lnTo>
                <a:lnTo>
                  <a:pt x="41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1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8748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44720" y="5154480"/>
            <a:ext cx="49320" cy="5400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20" y="0"/>
                </a:lnTo>
                <a:lnTo>
                  <a:pt x="40" y="40"/>
                </a:lnTo>
                <a:lnTo>
                  <a:pt x="40" y="40"/>
                </a:lnTo>
                <a:lnTo>
                  <a:pt x="0" y="40"/>
                </a:lnTo>
                <a:lnTo>
                  <a:pt x="0" y="40"/>
                </a:lnTo>
                <a:lnTo>
                  <a:pt x="20" y="0"/>
                </a:lnTo>
                <a:lnTo>
                  <a:pt x="20" y="0"/>
                </a:lnTo>
                <a:lnTo>
                  <a:pt x="40" y="40"/>
                </a:lnTo>
                <a:lnTo>
                  <a:pt x="0" y="4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976480" y="4184640"/>
            <a:ext cx="22536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244600" y="4264200"/>
            <a:ext cx="223920" cy="14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997360" y="5587920"/>
            <a:ext cx="685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neva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neva"/>
              </a:rPr>
              <a:t>(n=1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26360" y="5410080"/>
            <a:ext cx="115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eneva"/>
              </a:rPr>
              <a:t>Neurolog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eneva"/>
              </a:rPr>
              <a:t>Contro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eneva"/>
              </a:rPr>
              <a:t>(n=1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930600" y="553716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Geneva"/>
              </a:rPr>
              <a:t>Narcolepsy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Geneva"/>
              </a:rPr>
              <a:t>(n=3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835520" y="1387440"/>
            <a:ext cx="30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ral Hypothal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rain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33480" y="139392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025280" y="18478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g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696960" y="119016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6640" y="6148440"/>
            <a:ext cx="84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shino et al.  Lancet, 355:39-40, 2000; Peyron et al., Nature Med, 6: 991-7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D05C-6E7A-4F08-95C2-3F8B98A49E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eed for New Trea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9440" y="1409400"/>
            <a:ext cx="817884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arcolepsy 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i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ab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urr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eatm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satisfact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erm of side effects and effic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urr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eatm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ll have a similar mode of action 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 symptomat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Future treatments that may invol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ypocretin agonists are years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96960" y="122832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0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F543-83EA-4864-B955-73392EC4CC3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279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Houghton, M.D.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Operating Officer &amp; Medical Offic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linical Data:  Effi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42D1-2B70-4A4B-9B63-F26C54BD54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ton Reardan, Ph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of Regulatory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Ne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manuel Mignot, M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acy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Houghton, M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, Medical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somnographi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f Xy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 Black, M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Houghton, M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, Medical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Risk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us Benef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Houghton, M.D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, Medical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00 a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use  L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Balster, Ph.D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College of Virgi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61"/>
              </a:spcBef>
              <a:spcAft>
                <a:spcPts val="561"/>
              </a:spcAft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Managemen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i Engel, R.N., B.S.N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Marketing &amp;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1665-72F5-4469-84B0-862BAD73A3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55600" y="1062000"/>
            <a:ext cx="867240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167400" y="103320"/>
            <a:ext cx="8736840" cy="6304320"/>
            <a:chOff x="167400" y="103320"/>
            <a:chExt cx="8736840" cy="6304320"/>
          </a:xfrm>
        </p:grpSpPr>
        <p:sp>
          <p:nvSpPr>
            <p:cNvPr id="1109" name=""/>
            <p:cNvSpPr/>
            <p:nvPr/>
          </p:nvSpPr>
          <p:spPr>
            <a:xfrm>
              <a:off x="2854440" y="493560"/>
              <a:ext cx="0" cy="5667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7400" y="128520"/>
              <a:ext cx="25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Controlled Tri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960360" y="103320"/>
              <a:ext cx="290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Uncontrolled Tri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3200" y="4118040"/>
              <a:ext cx="2216160" cy="79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crima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0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 weeks of trea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6880" y="5370480"/>
              <a:ext cx="182880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mmers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5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 wee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26960" y="1625760"/>
              <a:ext cx="2192400" cy="79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GHB-2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36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 wee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6120" y="2921040"/>
              <a:ext cx="2468520" cy="79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21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55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week withdrawal t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032600" y="5187960"/>
              <a:ext cx="1828800" cy="10674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GHB-4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6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k stu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959200" y="1625760"/>
              <a:ext cx="202860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GHB-3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17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p to 24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075440" y="646200"/>
              <a:ext cx="1828800" cy="10674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10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3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k stu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956120" y="5184720"/>
              <a:ext cx="1828800" cy="79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charf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43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p to 16 ye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06880" y="2892600"/>
              <a:ext cx="190512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7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ng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ly N=2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79880" y="671400"/>
              <a:ext cx="182880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6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85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6 month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739960" y="3408480"/>
              <a:ext cx="2311560" cy="6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983120" y="2119320"/>
              <a:ext cx="684360" cy="798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5919480" y="1474560"/>
              <a:ext cx="2160" cy="145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5935680" y="3660480"/>
              <a:ext cx="4680" cy="153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60760" y="3206880"/>
              <a:ext cx="234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13320" y="1744560"/>
              <a:ext cx="1828800" cy="1037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MC-SXB-20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5 pat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0 wee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721560" y="5483160"/>
              <a:ext cx="309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81680" y="5688000"/>
              <a:ext cx="293760" cy="3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34120" y="4214880"/>
              <a:ext cx="1154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63 Pat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625840" y="2079720"/>
              <a:ext cx="428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719760" y="988920"/>
              <a:ext cx="355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10480" y="1117440"/>
              <a:ext cx="33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037280" y="4290840"/>
              <a:ext cx="1828800" cy="82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K Studies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25 Su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D476-CBBA-404D-A1BD-DB41D1AE38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, double-blind, placebo-controlled, parallel-group, multi-center trial comparing the effects of three doses (3g, 6g, 9g) of orally administered Xyrem with placebo for the treatment of narcolep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DB09-ACF6-4BC1-809E-5AA314E488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acy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efficacy para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umber of cataplexy attacks/week versus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ary efficacy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nd partial cataplexy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time sleepiness / Inadvertent n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nagogic halluc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par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GI—Clinical Global I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4C47-FF1D-4B20-9455-131309451A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of narcolep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somnography (PSG) and Multiple Sleep Latency Test (MSLT) within the last 5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luding sleep apnea or other causes of daytime sleep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of Excessive Daytime Sleepiness (EDS) and cataplexy for at least 6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urrent daytime naps that occur almost daily for at least 3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8920-6456-41DA-A164-E17711FCFD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138320" y="2203560"/>
            <a:ext cx="1454040" cy="311148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re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ay to       4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drawal of anti-cataple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-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575080" y="2203560"/>
            <a:ext cx="1455480" cy="311148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sh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da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plex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97440" y="2203560"/>
            <a:ext cx="1481040" cy="283716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plex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45000" y="2203560"/>
            <a:ext cx="1519200" cy="311148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uble-Bl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y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, 6g, 9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946920" y="2203560"/>
            <a:ext cx="1493640" cy="3111480"/>
          </a:xfrm>
          <a:prstGeom prst="rect">
            <a:avLst/>
          </a:prstGeom>
          <a:solidFill>
            <a:srgbClr val="e5ffe6"/>
          </a:solidFill>
          <a:ln w="12600">
            <a:solidFill>
              <a:srgbClr val="009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a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reat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plex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1668600"/>
            <a:ext cx="7312320" cy="520560"/>
          </a:xfrm>
          <a:prstGeom prst="rect">
            <a:avLst/>
          </a:prstGeom>
          <a:noFill/>
          <a:ln w="12600">
            <a:solidFill>
              <a:srgbClr val="002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C-GHB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9920" y="3308400"/>
            <a:ext cx="639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Vis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294760" y="3308400"/>
            <a:ext cx="274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97040" y="3498840"/>
            <a:ext cx="7511760" cy="0"/>
          </a:xfrm>
          <a:prstGeom prst="line">
            <a:avLst/>
          </a:prstGeom>
          <a:ln w="2844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67640" y="3308400"/>
            <a:ext cx="3380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48360" y="3308400"/>
            <a:ext cx="326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264280" y="3308400"/>
            <a:ext cx="339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38680" y="3292560"/>
            <a:ext cx="3031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432160" y="3292560"/>
            <a:ext cx="3031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41400" y="3308400"/>
            <a:ext cx="349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1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415960" y="531828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imulant medications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139760" y="5322960"/>
            <a:ext cx="7302600" cy="476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EBBF-284D-411C-A62C-A571108DAD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aplexy Attacks per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0" name=""/>
          <p:cNvGraphicFramePr/>
          <p:nvPr/>
        </p:nvGraphicFramePr>
        <p:xfrm>
          <a:off x="420840" y="1384200"/>
          <a:ext cx="8178480" cy="5114880"/>
        </p:xfrm>
        <a:graphic>
          <a:graphicData uri="http://schemas.openxmlformats.org/drawingml/2006/table">
            <a:tbl>
              <a:tblPr/>
              <a:tblGrid>
                <a:gridCol w="1056960"/>
                <a:gridCol w="1305000"/>
                <a:gridCol w="1438200"/>
                <a:gridCol w="1498680"/>
                <a:gridCol w="1400400"/>
                <a:gridCol w="14792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bser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(BL)   Endpoint(E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from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 to 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 with placebo             (p-valu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(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1 (47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(28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1 (27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(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 (30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 (27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1 (22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(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 (45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6 (62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2 (27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(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 (34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 (19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.3 (29.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5C36-364F-4848-866E-24439A2D91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GHB-2 Primary Effica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ataple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335400" y="6367320"/>
            <a:ext cx="2784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35400" y="6367320"/>
            <a:ext cx="2784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766880" y="5934240"/>
            <a:ext cx="6477120" cy="596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765440" y="2646360"/>
            <a:ext cx="6478560" cy="541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765440" y="3726000"/>
            <a:ext cx="647856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766880" y="5372280"/>
            <a:ext cx="6477120" cy="571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765440" y="1536840"/>
            <a:ext cx="6478560" cy="54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74720" y="1487520"/>
            <a:ext cx="87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765440" y="2085840"/>
            <a:ext cx="6478560" cy="560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765440" y="3187800"/>
            <a:ext cx="6478560" cy="538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765440" y="4276800"/>
            <a:ext cx="6478560" cy="560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765440" y="4836960"/>
            <a:ext cx="6478560" cy="540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3009960" y="1812960"/>
            <a:ext cx="97920" cy="1636200"/>
            <a:chOff x="3009960" y="1812960"/>
            <a:chExt cx="97920" cy="1636200"/>
          </a:xfrm>
        </p:grpSpPr>
        <p:sp>
          <p:nvSpPr>
            <p:cNvPr id="1175" name=""/>
            <p:cNvSpPr/>
            <p:nvPr/>
          </p:nvSpPr>
          <p:spPr>
            <a:xfrm flipH="1">
              <a:off x="3056400" y="1812960"/>
              <a:ext cx="1440" cy="1636200"/>
            </a:xfrm>
            <a:prstGeom prst="line">
              <a:avLst/>
            </a:prstGeom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09960" y="2543040"/>
              <a:ext cx="97920" cy="99720"/>
            </a:xfrm>
            <a:prstGeom prst="rect">
              <a:avLst/>
            </a:prstGeom>
            <a:solidFill>
              <a:srgbClr val="006633"/>
            </a:solidFill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4309920" y="2165400"/>
            <a:ext cx="96840" cy="1552320"/>
            <a:chOff x="4309920" y="2165400"/>
            <a:chExt cx="96840" cy="1552320"/>
          </a:xfrm>
        </p:grpSpPr>
        <p:sp>
          <p:nvSpPr>
            <p:cNvPr id="1178" name=""/>
            <p:cNvSpPr/>
            <p:nvPr/>
          </p:nvSpPr>
          <p:spPr>
            <a:xfrm>
              <a:off x="4309920" y="2909520"/>
              <a:ext cx="96840" cy="10044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358880" y="2165400"/>
              <a:ext cx="0" cy="155232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595840" y="2471760"/>
            <a:ext cx="98280" cy="1794960"/>
            <a:chOff x="5595840" y="2471760"/>
            <a:chExt cx="98280" cy="1794960"/>
          </a:xfrm>
        </p:grpSpPr>
        <p:sp>
          <p:nvSpPr>
            <p:cNvPr id="1181" name=""/>
            <p:cNvSpPr/>
            <p:nvPr/>
          </p:nvSpPr>
          <p:spPr>
            <a:xfrm>
              <a:off x="5595840" y="3142800"/>
              <a:ext cx="98280" cy="100080"/>
            </a:xfrm>
            <a:prstGeom prst="rect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645880" y="2471760"/>
              <a:ext cx="0" cy="1794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894360" y="2637000"/>
            <a:ext cx="99720" cy="3264840"/>
            <a:chOff x="6894360" y="2637000"/>
            <a:chExt cx="99720" cy="3264840"/>
          </a:xfrm>
        </p:grpSpPr>
        <p:sp>
          <p:nvSpPr>
            <p:cNvPr id="1184" name=""/>
            <p:cNvSpPr/>
            <p:nvPr/>
          </p:nvSpPr>
          <p:spPr>
            <a:xfrm>
              <a:off x="6894360" y="3733920"/>
              <a:ext cx="99720" cy="100440"/>
            </a:xfrm>
            <a:prstGeom prst="rect">
              <a:avLst/>
            </a:prstGeom>
            <a:solidFill>
              <a:srgbClr val="990066"/>
            </a:solidFill>
            <a:ln w="381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944760" y="2637000"/>
              <a:ext cx="0" cy="326484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4139640" y="146844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454000" y="146844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05080" y="146844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9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999480" y="5019840"/>
            <a:ext cx="1069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 0.0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37200" y="4435560"/>
            <a:ext cx="1012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 0.05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24600">
            <a:off x="-161640" y="2968200"/>
            <a:ext cx="16034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1st/3rd quarti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ks/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1425960" y="1446120"/>
            <a:ext cx="339480" cy="5147640"/>
            <a:chOff x="1425960" y="1446120"/>
            <a:chExt cx="339480" cy="5147640"/>
          </a:xfrm>
        </p:grpSpPr>
        <p:sp>
          <p:nvSpPr>
            <p:cNvPr id="1193" name=""/>
            <p:cNvSpPr/>
            <p:nvPr/>
          </p:nvSpPr>
          <p:spPr>
            <a:xfrm>
              <a:off x="1765440" y="1554120"/>
              <a:ext cx="0" cy="49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65440" y="1554120"/>
              <a:ext cx="0" cy="491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62040" y="199692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90120" y="1446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527840" y="25448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25960" y="30942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425960" y="361944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25960" y="41878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25960" y="47386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25960" y="528804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425960" y="58611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25960" y="6380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6D0B-0715-47CE-AC43-FEBE0FCF45E5}" type="slidenum">
              <a:t>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GHB-2 Primary Effica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plexy (Median Percent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936720" y="1209600"/>
            <a:ext cx="7791480" cy="552600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5114880" y="2789280"/>
            <a:ext cx="9702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05320" y="3490920"/>
            <a:ext cx="5889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021520" y="280980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2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021520" y="385128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4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021520" y="431640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4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010360" y="494820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6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308560" y="436716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9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02080" y="3957480"/>
            <a:ext cx="5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229400">
            <a:off x="-1543680" y="3699720"/>
            <a:ext cx="466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n Percent Change in Number of Cataplexy Attacks/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4406-AD8A-4E78-AAD2-D09836A781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Effica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worth Sleepiness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7" name=""/>
          <p:cNvGraphicFramePr/>
          <p:nvPr/>
        </p:nvGraphicFramePr>
        <p:xfrm>
          <a:off x="647640" y="1508040"/>
          <a:ext cx="7831080" cy="3322800"/>
        </p:xfrm>
        <a:graphic>
          <a:graphicData uri="http://schemas.openxmlformats.org/drawingml/2006/table">
            <a:tbl>
              <a:tblPr/>
              <a:tblGrid>
                <a:gridCol w="642960"/>
                <a:gridCol w="71881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ing and 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ing T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ing, inactive in a public place (e.g. a theater or a mee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a passenger in a car for an hour without a br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ing down to rest in the afternoon when circumstances per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ing and talking to some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ing quietly after lunch without 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car, while stopped for a few minutes in the traf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"/>
          <p:cNvSpPr/>
          <p:nvPr/>
        </p:nvSpPr>
        <p:spPr>
          <a:xfrm>
            <a:off x="649440" y="5057640"/>
            <a:ext cx="6146640" cy="13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e:                                                  Range: 0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would never do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slight chance of doz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= moderate chance of do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= high chance of do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CC38-4784-4BDC-AC98-6C171D9D3D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124080" y="612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837640" y="456084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GHB-2 Secondary Efficacy  Daytime Sleepi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d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23720" y="1461960"/>
            <a:ext cx="754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time Sleepin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lin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po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022480" y="4692600"/>
            <a:ext cx="6467400" cy="6969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16000" y="2575080"/>
            <a:ext cx="6473880" cy="211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016000" y="5367240"/>
            <a:ext cx="6473880" cy="1017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733640" y="20988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930320" y="581328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930320" y="536724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30320" y="491652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930320" y="4465800"/>
            <a:ext cx="61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930320" y="401940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30320" y="356544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930320" y="311940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930320" y="26686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930320" y="221760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82000" y="6197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782000" y="5748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59240" y="529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59240" y="4851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59240" y="43988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59240" y="3946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59240" y="350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59240" y="3051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659240" y="260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59240" y="2152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4692600" y="3107880"/>
            <a:ext cx="0" cy="1343160"/>
          </a:xfrm>
          <a:prstGeom prst="line">
            <a:avLst/>
          </a:prstGeom>
          <a:ln w="12600">
            <a:solidFill>
              <a:srgbClr val="dd0806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167440" y="3553920"/>
            <a:ext cx="0" cy="1582920"/>
          </a:xfrm>
          <a:prstGeom prst="line">
            <a:avLst/>
          </a:prstGeom>
          <a:ln w="12600">
            <a:solidFill>
              <a:srgbClr val="dd0806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699080" y="3797280"/>
            <a:ext cx="468360" cy="206280"/>
          </a:xfrm>
          <a:prstGeom prst="line">
            <a:avLst/>
          </a:prstGeom>
          <a:ln w="12600">
            <a:solidFill>
              <a:srgbClr val="dd080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6058080" y="3344760"/>
            <a:ext cx="0" cy="1106640"/>
          </a:xfrm>
          <a:prstGeom prst="line">
            <a:avLst/>
          </a:prstGeom>
          <a:ln w="12600">
            <a:solidFill>
              <a:srgbClr val="da401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 flipV="1">
            <a:off x="6535440" y="3348000"/>
            <a:ext cx="3240" cy="2016000"/>
          </a:xfrm>
          <a:prstGeom prst="line">
            <a:avLst/>
          </a:prstGeom>
          <a:ln w="12600">
            <a:solidFill>
              <a:srgbClr val="da401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062760" y="3679920"/>
            <a:ext cx="469800" cy="668160"/>
          </a:xfrm>
          <a:prstGeom prst="line">
            <a:avLst/>
          </a:prstGeom>
          <a:ln w="12600">
            <a:solidFill>
              <a:srgbClr val="da401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7362720" y="3344760"/>
            <a:ext cx="0" cy="889200"/>
          </a:xfrm>
          <a:prstGeom prst="line">
            <a:avLst/>
          </a:prstGeom>
          <a:ln w="12600">
            <a:solidFill>
              <a:srgbClr val="73000a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367760" y="3797280"/>
            <a:ext cx="469800" cy="1106640"/>
          </a:xfrm>
          <a:prstGeom prst="line">
            <a:avLst/>
          </a:prstGeom>
          <a:ln w="12600">
            <a:solidFill>
              <a:srgbClr val="73000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268760" y="5749920"/>
            <a:ext cx="85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0.0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364200" y="2055960"/>
            <a:ext cx="734040" cy="2177280"/>
            <a:chOff x="3364200" y="2055960"/>
            <a:chExt cx="734040" cy="2177280"/>
          </a:xfrm>
        </p:grpSpPr>
        <p:sp>
          <p:nvSpPr>
            <p:cNvPr id="1256" name=""/>
            <p:cNvSpPr/>
            <p:nvPr/>
          </p:nvSpPr>
          <p:spPr>
            <a:xfrm flipV="1">
              <a:off x="4014000" y="3108240"/>
              <a:ext cx="0" cy="1125000"/>
            </a:xfrm>
            <a:prstGeom prst="line">
              <a:avLst/>
            </a:prstGeom>
            <a:ln w="12600">
              <a:solidFill>
                <a:srgbClr val="008011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3522600" y="2894760"/>
              <a:ext cx="0" cy="893160"/>
            </a:xfrm>
            <a:prstGeom prst="line">
              <a:avLst/>
            </a:prstGeom>
            <a:ln w="12600">
              <a:solidFill>
                <a:srgbClr val="008011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27640" y="3352320"/>
              <a:ext cx="486360" cy="439200"/>
            </a:xfrm>
            <a:prstGeom prst="line">
              <a:avLst/>
            </a:prstGeom>
            <a:ln w="12600">
              <a:solidFill>
                <a:srgbClr val="008011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364200" y="2055960"/>
              <a:ext cx="7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492360" y="21009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____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91280" y="2356200"/>
              <a:ext cx="54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     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4800600" y="202572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0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893480" y="2055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983120" y="21826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732200" y="235584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    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94000" y="202572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0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009120" y="20988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008760" y="235584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    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349400" y="202572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0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331040" y="20988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328880" y="2355840"/>
            <a:ext cx="59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     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08600" y="5904000"/>
            <a:ext cx="2937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16000" y="2063880"/>
            <a:ext cx="0" cy="445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685600" y="2630520"/>
            <a:ext cx="3240" cy="2070000"/>
          </a:xfrm>
          <a:prstGeom prst="line">
            <a:avLst/>
          </a:prstGeom>
          <a:ln w="12600">
            <a:solidFill>
              <a:srgbClr val="0066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158200" y="3497400"/>
            <a:ext cx="1145160" cy="518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rcolep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2689200" y="5376600"/>
            <a:ext cx="1440" cy="135396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305440" y="5616720"/>
            <a:ext cx="799200" cy="51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7837560" y="4348080"/>
            <a:ext cx="0" cy="1239840"/>
          </a:xfrm>
          <a:prstGeom prst="line">
            <a:avLst/>
          </a:prstGeom>
          <a:ln w="12600">
            <a:solidFill>
              <a:srgbClr val="73000a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38240" y="625788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004840" y="5370480"/>
            <a:ext cx="648504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28960" y="4702320"/>
            <a:ext cx="6460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3198960"/>
            <a:ext cx="178596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w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ep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d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t/3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842120" y="4627440"/>
            <a:ext cx="198720" cy="213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4B55-EAC2-4320-A670-1D6B2AEBC25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449360"/>
            <a:ext cx="444816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ene Emsellem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Sleep and Wake Disord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vy Chase, MD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Hagaman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 Medicine 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 Thomas Hospital, Nashville, 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zica Ristanovic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 Disorders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ston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ston, Illin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94400" y="1447920"/>
            <a:ext cx="4360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Okerholm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okinetic and Drug Metabolism Consul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E. Reno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linical Toxicology Consul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Trout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 (Emerit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gers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ts Available for the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6478-1242-4955-92F2-1FD7451C00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 Other Daytime Sleepiness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5" name=""/>
          <p:cNvGraphicFramePr/>
          <p:nvPr/>
        </p:nvGraphicFramePr>
        <p:xfrm>
          <a:off x="469800" y="1989000"/>
          <a:ext cx="8229600" cy="2547720"/>
        </p:xfrm>
        <a:graphic>
          <a:graphicData uri="http://schemas.openxmlformats.org/drawingml/2006/table">
            <a:tbl>
              <a:tblPr/>
              <a:tblGrid>
                <a:gridCol w="4152960"/>
                <a:gridCol w="2028600"/>
                <a:gridCol w="2048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s. placeb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vertent Naps/Sleep Attack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time Sleep Attac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seline median = 1.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DEF1-80C4-4E54-84F2-70E37EBBBD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al Global Impression (CG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02280" cy="4952880"/>
          </a:xfrm>
          <a:prstGeom prst="rect">
            <a:avLst/>
          </a:prstGeom>
          <a:noFill/>
          <a:ln w="28440">
            <a:solidFill>
              <a:srgbClr val="00988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GI-Severity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(Baselin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1.   Normal – shows no signs of ill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orderline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lightly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oderately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arkedly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mong the m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tremely ill of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60640" y="1360440"/>
            <a:ext cx="4041720" cy="4952880"/>
          </a:xfrm>
          <a:prstGeom prst="rect">
            <a:avLst/>
          </a:prstGeom>
          <a:noFill/>
          <a:ln w="28440">
            <a:solidFill>
              <a:srgbClr val="00988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GI-Change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(End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1.   Very much 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uch 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inimally 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o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inimally w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uch w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Very much w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B4B6-D295-43E6-8995-6B8D14CD55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Global Impression of Change at Endpoint OMC-GHB-2 – By Dos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42920" y="1455840"/>
          <a:ext cx="879012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55840"/>
                    <a:ext cx="879012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2" name=""/>
          <p:cNvSpPr/>
          <p:nvPr/>
        </p:nvSpPr>
        <p:spPr>
          <a:xfrm rot="21579600">
            <a:off x="3672360" y="62384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 of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1AFD-FB2A-43C7-9989-D5B6022874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Ho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r/Non-Respond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22000" y="1371600"/>
            <a:ext cx="72644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much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Respo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w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w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much w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DEAA-7C1B-41BA-896E-916C7A4FE1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685800" y="5931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124080" y="5931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39960" y="1488960"/>
            <a:ext cx="76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or’s Clinical Global Impressions of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8080" y="24408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GHB-2 Secondary Effica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974880" y="2073240"/>
          <a:ext cx="753408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2073240"/>
                    <a:ext cx="753408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1" name=""/>
          <p:cNvGrpSpPr/>
          <p:nvPr/>
        </p:nvGrpSpPr>
        <p:grpSpPr>
          <a:xfrm>
            <a:off x="6590880" y="3510000"/>
            <a:ext cx="1267560" cy="335880"/>
            <a:chOff x="6590880" y="3510000"/>
            <a:chExt cx="1267560" cy="335880"/>
          </a:xfrm>
        </p:grpSpPr>
        <p:sp>
          <p:nvSpPr>
            <p:cNvPr id="1302" name=""/>
            <p:cNvSpPr/>
            <p:nvPr/>
          </p:nvSpPr>
          <p:spPr>
            <a:xfrm>
              <a:off x="6754320" y="3510000"/>
              <a:ext cx="1104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 = .0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6590880" y="3639960"/>
              <a:ext cx="2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C37B-4881-4098-907D-E33CD0D1B8F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2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5" name=""/>
          <p:cNvGraphicFramePr/>
          <p:nvPr/>
        </p:nvGraphicFramePr>
        <p:xfrm>
          <a:off x="563400" y="1766880"/>
          <a:ext cx="7890120" cy="4334040"/>
        </p:xfrm>
        <a:graphic>
          <a:graphicData uri="http://schemas.openxmlformats.org/drawingml/2006/table">
            <a:tbl>
              <a:tblPr/>
              <a:tblGrid>
                <a:gridCol w="3343320"/>
                <a:gridCol w="2279880"/>
                <a:gridCol w="2266920"/>
              </a:tblGrid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s. placeb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kenings at Nigh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median = 2.27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Paralysis Epis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median = 0.14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nagogic Halluc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median = 0.30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51A4-CACC-4265-B2B2-7264DC0B3D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linical Data:  Effi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440" y="2763360"/>
            <a:ext cx="7869240" cy="12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024F-87A5-4B5B-B64E-363E97BB34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 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vide evidence for the long-term efficacy of Xyrem based on the return of cataplexy symptoms upon cessation of a minimum of 6 months of open-label treatment with active dru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0144-CD02-4954-B9C2-7F77D0A9E3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546120" y="1781280"/>
            <a:ext cx="8153280" cy="4083840"/>
            <a:chOff x="546120" y="1781280"/>
            <a:chExt cx="8153280" cy="4083840"/>
          </a:xfrm>
        </p:grpSpPr>
        <p:sp>
          <p:nvSpPr>
            <p:cNvPr id="1312" name=""/>
            <p:cNvSpPr/>
            <p:nvPr/>
          </p:nvSpPr>
          <p:spPr>
            <a:xfrm>
              <a:off x="965160" y="2190600"/>
              <a:ext cx="7391520" cy="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65160" y="1962000"/>
              <a:ext cx="0" cy="53352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641680" y="1962000"/>
              <a:ext cx="0" cy="53352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591160" y="1962000"/>
              <a:ext cx="0" cy="53352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356680" y="1962000"/>
              <a:ext cx="0" cy="53352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717640" y="1781280"/>
              <a:ext cx="27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00600" y="1781280"/>
              <a:ext cx="25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uble-Bli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92840" y="2771640"/>
              <a:ext cx="210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y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939960" y="3790800"/>
              <a:ext cx="4647960" cy="0"/>
            </a:xfrm>
            <a:prstGeom prst="line">
              <a:avLst/>
            </a:prstGeom>
            <a:ln w="28440">
              <a:solidFill>
                <a:srgbClr val="4747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927000" y="3333600"/>
              <a:ext cx="0" cy="137160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603520" y="3333600"/>
              <a:ext cx="0" cy="137160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75320" y="3181320"/>
              <a:ext cx="0" cy="152388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318520" y="3029040"/>
              <a:ext cx="0" cy="1676160"/>
            </a:xfrm>
            <a:prstGeom prst="line">
              <a:avLst/>
            </a:prstGeom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75320" y="3181320"/>
              <a:ext cx="2743200" cy="0"/>
            </a:xfrm>
            <a:prstGeom prst="line">
              <a:avLst/>
            </a:prstGeom>
            <a:ln w="28440">
              <a:solidFill>
                <a:srgbClr val="4747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75320" y="4476600"/>
              <a:ext cx="2743200" cy="0"/>
            </a:xfrm>
            <a:prstGeom prst="line">
              <a:avLst/>
            </a:prstGeom>
            <a:ln w="28440">
              <a:solidFill>
                <a:srgbClr val="4747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05440" y="4073400"/>
              <a:ext cx="212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641680" y="3433680"/>
              <a:ext cx="29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ngle-Blind Xy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6120" y="4705200"/>
              <a:ext cx="762120" cy="58068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937640" y="4705200"/>
              <a:ext cx="761760" cy="58068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194440" y="4705200"/>
              <a:ext cx="761760" cy="58068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222640" y="4705200"/>
              <a:ext cx="761760" cy="58068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19080" y="5527800"/>
              <a:ext cx="1692360" cy="33732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– 5 D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611440" y="5527800"/>
              <a:ext cx="2979720" cy="33732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91160" y="5527800"/>
              <a:ext cx="2752920" cy="337320"/>
            </a:xfrm>
            <a:prstGeom prst="rect">
              <a:avLst/>
            </a:prstGeom>
            <a:noFill/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98640" y="182088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ree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898560" y="3795840"/>
              <a:ext cx="1703520" cy="1440"/>
            </a:xfrm>
            <a:prstGeom prst="line">
              <a:avLst/>
            </a:prstGeom>
            <a:ln w="28440">
              <a:solidFill>
                <a:srgbClr val="47474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>
            <a:off x="157320" y="1566720"/>
            <a:ext cx="2415960" cy="39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98840" y="1554120"/>
            <a:ext cx="295272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51560" y="1554120"/>
            <a:ext cx="32130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12D0-7210-481A-9A6E-96157195E4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SXB-21 Cataplex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an Change from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1811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422360" y="270504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371600" y="2705040"/>
            <a:ext cx="73152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54480" y="5618160"/>
            <a:ext cx="117468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983880" y="6054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317680" y="2090880"/>
            <a:ext cx="5048280" cy="35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1177920" y="1952640"/>
            <a:ext cx="1140840" cy="3886920"/>
            <a:chOff x="1177920" y="1952640"/>
            <a:chExt cx="1140840" cy="3886920"/>
          </a:xfrm>
        </p:grpSpPr>
        <p:sp>
          <p:nvSpPr>
            <p:cNvPr id="1349" name=""/>
            <p:cNvSpPr/>
            <p:nvPr/>
          </p:nvSpPr>
          <p:spPr>
            <a:xfrm rot="16200000">
              <a:off x="-147240" y="3911400"/>
              <a:ext cx="289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hange in Cataplexy Atta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0800000">
              <a:off x="1455480" y="2968200"/>
              <a:ext cx="243720" cy="186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Median/ 2 Wee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2317320" y="2159280"/>
              <a:ext cx="1440" cy="3589560"/>
            </a:xfrm>
            <a:prstGeom prst="line">
              <a:avLst/>
            </a:prstGeom>
            <a:ln w="79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2244240" y="2121480"/>
              <a:ext cx="72720" cy="3592080"/>
              <a:chOff x="2244240" y="2121480"/>
              <a:chExt cx="72720" cy="3592080"/>
            </a:xfrm>
          </p:grpSpPr>
          <p:sp>
            <p:nvSpPr>
              <p:cNvPr id="1353" name=""/>
              <p:cNvSpPr/>
              <p:nvPr/>
            </p:nvSpPr>
            <p:spPr>
              <a:xfrm>
                <a:off x="2244240" y="5711040"/>
                <a:ext cx="72720" cy="252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244240" y="4961880"/>
                <a:ext cx="72720" cy="180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244240" y="4243680"/>
                <a:ext cx="72720" cy="252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44240" y="3595320"/>
                <a:ext cx="72720" cy="252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244240" y="2838960"/>
                <a:ext cx="72720" cy="252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244240" y="2121480"/>
                <a:ext cx="72720" cy="1800"/>
              </a:xfrm>
              <a:prstGeom prst="line">
                <a:avLst/>
              </a:prstGeom>
              <a:ln w="792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2029320" y="562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29320" y="486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839600" y="4113000"/>
              <a:ext cx="38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839600" y="3465000"/>
              <a:ext cx="47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39600" y="2706480"/>
              <a:ext cx="47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839600" y="1952640"/>
              <a:ext cx="47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5951520" y="2709720"/>
            <a:ext cx="797040" cy="302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581280" y="58770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y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629320" y="5877000"/>
            <a:ext cx="139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08560" y="2378160"/>
            <a:ext cx="32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3832200" y="2230560"/>
            <a:ext cx="2324160" cy="1440"/>
          </a:xfrm>
          <a:prstGeom prst="line">
            <a:avLst/>
          </a:prstGeom>
          <a:ln w="23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656240" y="1827360"/>
            <a:ext cx="87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 &lt; 0.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70200" y="5315040"/>
            <a:ext cx="3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84520" y="5689440"/>
            <a:ext cx="495360" cy="4320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28840" y="5732640"/>
            <a:ext cx="495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5251-AA7A-45AF-AE89-8EBF5DA9064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381720" cy="176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2560" y="428148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oxy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3881-9454-48D0-AD48-822D29079B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SXB-21 Cataplex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Change from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9900"/>
                </a:solidFill>
                <a:latin typeface="Arial"/>
                <a:ea typeface="Courier New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689120" y="1898640"/>
            <a:ext cx="7029360" cy="3629160"/>
          </a:xfrm>
          <a:prstGeom prst="rect">
            <a:avLst/>
          </a:prstGeom>
          <a:solidFill>
            <a:srgbClr val="ffffff"/>
          </a:solidFill>
          <a:ln w="1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rot="16200000">
            <a:off x="-669600" y="3749400"/>
            <a:ext cx="289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ange in Cataplexy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rot="16200000">
            <a:off x="326520" y="366156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edian/ Week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1711440" y="1963800"/>
            <a:ext cx="1440" cy="362880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639800" y="5592600"/>
            <a:ext cx="71640" cy="32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39800" y="5073480"/>
            <a:ext cx="71640" cy="180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39800" y="4556160"/>
            <a:ext cx="71640" cy="14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639800" y="4038480"/>
            <a:ext cx="71640" cy="180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39800" y="3519360"/>
            <a:ext cx="71640" cy="32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39800" y="3002040"/>
            <a:ext cx="71640" cy="32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639800" y="2482920"/>
            <a:ext cx="71640" cy="14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39800" y="1963800"/>
            <a:ext cx="71640" cy="3240"/>
          </a:xfrm>
          <a:prstGeom prst="line">
            <a:avLst/>
          </a:prstGeom>
          <a:ln w="7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387440" y="5442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387440" y="4924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387440" y="44100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387440" y="3894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87440" y="3378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23000" y="287172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323000" y="23320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23000" y="189864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743280" y="4503600"/>
            <a:ext cx="390600" cy="1086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675480" y="2548080"/>
            <a:ext cx="403200" cy="3027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494080" y="4933800"/>
            <a:ext cx="75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Xy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21578400">
            <a:off x="3475080" y="3909600"/>
            <a:ext cx="941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21527400">
            <a:off x="5227200" y="49849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Xy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432480" y="1903320"/>
            <a:ext cx="9064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18160" y="52484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759120" y="4168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683400" y="2205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553360" y="52484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38920" y="5913360"/>
            <a:ext cx="207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uble Blind Wee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2722680" y="5531760"/>
            <a:ext cx="488880" cy="60120"/>
          </a:xfrm>
          <a:prstGeom prst="rect">
            <a:avLst/>
          </a:prstGeom>
          <a:solidFill>
            <a:srgbClr val="dc0081"/>
          </a:solidFill>
          <a:ln w="79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88080" y="2224080"/>
            <a:ext cx="0" cy="4006800"/>
          </a:xfrm>
          <a:prstGeom prst="line">
            <a:avLst/>
          </a:prstGeom>
          <a:ln w="9360">
            <a:solidFill>
              <a:srgbClr val="002a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226840" y="5915160"/>
            <a:ext cx="207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uble Blind Wee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5354640" y="5531760"/>
            <a:ext cx="488880" cy="60120"/>
          </a:xfrm>
          <a:prstGeom prst="rect">
            <a:avLst/>
          </a:prstGeom>
          <a:solidFill>
            <a:srgbClr val="dc0081"/>
          </a:solidFill>
          <a:ln w="79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720800" y="5592240"/>
            <a:ext cx="6137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C885-67F1-49AE-8597-2E5F5087857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linical Data:  Effi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35040" y="2776680"/>
            <a:ext cx="7869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Double-Bli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bo-Controlled Clinical Trial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rima Tri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mers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860C-267C-4399-850E-33A0EEB404B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rima Cross-over Tri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257040" y="1951200"/>
          <a:ext cx="8342280" cy="4005000"/>
        </p:xfrm>
        <a:graphic>
          <a:graphicData uri="http://schemas.openxmlformats.org/drawingml/2006/table">
            <a:tbl>
              <a:tblPr/>
              <a:tblGrid>
                <a:gridCol w="1347840"/>
                <a:gridCol w="1249560"/>
                <a:gridCol w="1587240"/>
                <a:gridCol w="1308240"/>
                <a:gridCol w="1598760"/>
                <a:gridCol w="1250640"/>
              </a:tblGrid>
              <a:tr h="113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drawal of Cataplexy M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o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 continued throughout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6" name=""/>
          <p:cNvSpPr/>
          <p:nvPr/>
        </p:nvSpPr>
        <p:spPr>
          <a:xfrm>
            <a:off x="4536360" y="14508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30F2-8B01-422F-A389-8C262024B02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Scrima Trial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umber of Cataplexy Attacks /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8" name=""/>
          <p:cNvGraphicFramePr/>
          <p:nvPr/>
        </p:nvGraphicFramePr>
        <p:xfrm>
          <a:off x="743040" y="1522440"/>
          <a:ext cx="766116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522440"/>
                    <a:ext cx="766116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187D-65AC-4C3D-A5C4-26FF7842A9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mers Trial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1" name=""/>
          <p:cNvGraphicFramePr/>
          <p:nvPr/>
        </p:nvGraphicFramePr>
        <p:xfrm>
          <a:off x="546120" y="1938240"/>
          <a:ext cx="8229600" cy="3441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0mg/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0 mg/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omitant treatment for cataplexy and EDS continued throug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2" name=""/>
          <p:cNvSpPr/>
          <p:nvPr/>
        </p:nvSpPr>
        <p:spPr>
          <a:xfrm>
            <a:off x="4239720" y="14508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3C3E-05DF-4423-9FE3-2194FAE8C9A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mers Trial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ple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1155600" y="1450800"/>
            <a:ext cx="6400800" cy="475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AE34-B943-462D-B671-4D39599673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mers Trial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6" name=""/>
          <p:cNvGraphicFramePr/>
          <p:nvPr/>
        </p:nvGraphicFramePr>
        <p:xfrm>
          <a:off x="938160" y="2076480"/>
          <a:ext cx="7574040" cy="2519280"/>
        </p:xfrm>
        <a:graphic>
          <a:graphicData uri="http://schemas.openxmlformats.org/drawingml/2006/table">
            <a:tbl>
              <a:tblPr/>
              <a:tblGrid>
                <a:gridCol w="2524320"/>
                <a:gridCol w="2525400"/>
                <a:gridCol w="2524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acy 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nagogic Halluc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fro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 to 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time Sleep Att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f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7 to 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1A13-5FC4-4F85-A3E2-D39646AAFF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yre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linical Data:  Effi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440" y="2763360"/>
            <a:ext cx="7869240" cy="12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D9A3-AB49-43F9-9FE3-ABF35C8782D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9" name=""/>
          <p:cNvGraphicFramePr/>
          <p:nvPr/>
        </p:nvGraphicFramePr>
        <p:xfrm>
          <a:off x="876240" y="1731960"/>
          <a:ext cx="8064720" cy="42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731960"/>
                    <a:ext cx="806472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1" name=""/>
          <p:cNvSpPr/>
          <p:nvPr/>
        </p:nvSpPr>
        <p:spPr>
          <a:xfrm rot="16200000">
            <a:off x="-1126440" y="367128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cent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Total Number of Cataplexy At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768320" y="2149560"/>
            <a:ext cx="441360" cy="312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152800" y="2143080"/>
            <a:ext cx="118800" cy="312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69920" y="349740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535040" y="201780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665360" y="2155680"/>
            <a:ext cx="109440" cy="10980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920960" y="3592440"/>
            <a:ext cx="96840" cy="9216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809720" y="371952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2d2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602360" y="2017800"/>
            <a:ext cx="23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2d2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85800" y="2017800"/>
            <a:ext cx="2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009880" y="285768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720800" y="2155680"/>
            <a:ext cx="249120" cy="825480"/>
          </a:xfrm>
          <a:prstGeom prst="line">
            <a:avLst/>
          </a:prstGeom>
          <a:ln w="12600">
            <a:solidFill>
              <a:srgbClr val="c74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720800" y="2155680"/>
            <a:ext cx="249120" cy="154332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720800" y="2155680"/>
            <a:ext cx="249120" cy="121284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65440" y="2130480"/>
            <a:ext cx="204480" cy="1714320"/>
          </a:xfrm>
          <a:prstGeom prst="line">
            <a:avLst/>
          </a:prstGeom>
          <a:ln w="12600">
            <a:solidFill>
              <a:srgbClr val="003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60800" y="284796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2c64"/>
                </a:solidFill>
                <a:latin typeface="Arial"/>
              </a:rPr>
              <a:t>Place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80920" y="4106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2d2"/>
                </a:solidFill>
                <a:latin typeface="Arial"/>
              </a:rPr>
              <a:t>9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238120" y="35416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38120" y="3309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</a:rPr>
              <a:t>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413000" y="150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MC-GHB-2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81600" y="1569960"/>
            <a:ext cx="1549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MC-GHB-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540400" y="1854360"/>
            <a:ext cx="542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3460320" y="1906560"/>
            <a:ext cx="528840" cy="9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958920" y="596736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 in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20320" y="228600"/>
            <a:ext cx="838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3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plexy – Median Percent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835280" y="282240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969920" y="2955960"/>
            <a:ext cx="200160" cy="38160"/>
          </a:xfrm>
          <a:prstGeom prst="line">
            <a:avLst/>
          </a:prstGeom>
          <a:ln w="12600">
            <a:solidFill>
              <a:srgbClr val="c74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751040" y="320832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969920" y="3406680"/>
            <a:ext cx="184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120760" y="3568680"/>
            <a:ext cx="96840" cy="10656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1969920" y="3634920"/>
            <a:ext cx="171720" cy="49320"/>
          </a:xfrm>
          <a:prstGeom prst="line">
            <a:avLst/>
          </a:prstGeom>
          <a:ln w="12600">
            <a:solidFill>
              <a:srgbClr val="b8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984320" y="413532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2d2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952640" y="3844800"/>
            <a:ext cx="192240" cy="428760"/>
          </a:xfrm>
          <a:prstGeom prst="line">
            <a:avLst/>
          </a:prstGeom>
          <a:ln w="12600">
            <a:solidFill>
              <a:srgbClr val="003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39F0-414A-4719-8362-30221354F39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4" name=""/>
          <p:cNvGraphicFramePr/>
          <p:nvPr/>
        </p:nvGraphicFramePr>
        <p:xfrm>
          <a:off x="939960" y="1689120"/>
          <a:ext cx="829296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89120"/>
                    <a:ext cx="829296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3 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ESS for All Dos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rot="16200000">
            <a:off x="480240" y="1836000"/>
            <a:ext cx="42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708200" y="2168640"/>
            <a:ext cx="5597640" cy="20350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806640" y="608652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 in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720800" y="4203720"/>
            <a:ext cx="5585040" cy="604800"/>
          </a:xfrm>
          <a:prstGeom prst="rect">
            <a:avLst/>
          </a:prstGeom>
          <a:solidFill>
            <a:srgbClr val="8d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01720" y="4775040"/>
            <a:ext cx="5604120" cy="7700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54200" y="4203720"/>
            <a:ext cx="5587920" cy="144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654200" y="4775040"/>
            <a:ext cx="5587920" cy="144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20760" y="2133720"/>
            <a:ext cx="117720" cy="3378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77960" y="2146320"/>
            <a:ext cx="460440" cy="3365640"/>
          </a:xfrm>
          <a:prstGeom prst="rect">
            <a:avLst/>
          </a:prstGeom>
          <a:solidFill>
            <a:srgbClr val="cef8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612800" y="3378240"/>
            <a:ext cx="96840" cy="10620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100240" y="3797280"/>
            <a:ext cx="96840" cy="10656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965240" y="371628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468440" y="326556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989000" y="431964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6a0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527120" y="331632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2d2"/>
                </a:solidFill>
                <a:latin typeface="Wingdings 2"/>
                <a:ea typeface="Wingdings 2"/>
              </a:rPr>
              <a:t>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504800" y="3011400"/>
            <a:ext cx="2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967040" y="3327480"/>
            <a:ext cx="3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4f96"/>
                </a:solidFill>
                <a:latin typeface="Wingdings 2"/>
                <a:ea typeface="Wingdings 2"/>
              </a:rPr>
              <a:t>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700280" y="3162240"/>
            <a:ext cx="449280" cy="31752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49520" y="3403440"/>
            <a:ext cx="51264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662120" y="3416400"/>
            <a:ext cx="487440" cy="520560"/>
          </a:xfrm>
          <a:prstGeom prst="line">
            <a:avLst/>
          </a:prstGeom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49520" y="3352680"/>
            <a:ext cx="500040" cy="1105200"/>
          </a:xfrm>
          <a:prstGeom prst="line">
            <a:avLst/>
          </a:prstGeom>
          <a:ln w="12600">
            <a:solidFill>
              <a:srgbClr val="002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681200" y="3095640"/>
            <a:ext cx="71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a2c64"/>
                </a:solidFill>
                <a:latin typeface="Arial"/>
              </a:rPr>
              <a:t>Placeb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795320" y="3424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</a:rPr>
              <a:t>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807920" y="3693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807920" y="4233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2d2"/>
                </a:solidFill>
                <a:latin typeface="Arial"/>
              </a:rPr>
              <a:t>9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73040" y="1511280"/>
            <a:ext cx="129564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MC-GHB-2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968640" y="1557360"/>
            <a:ext cx="1549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MC-GHB-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3441600" y="1892160"/>
            <a:ext cx="533520" cy="78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511960" y="1866960"/>
            <a:ext cx="495000" cy="81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rot="16200000">
            <a:off x="-491400" y="381888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worth Sleepiness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D2F0-7EFC-49B2-BF03-FB8DB90B1ED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tor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60s discovery of GHB, approval as an anesthetic in Fr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70s initial clinical narcolepsy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78 GHB was used as an example for the need of an Orphan Drug 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80s two independent controlled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4 FDA approached Orphan Medical to devel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5 pre-IND meeting with F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8 Treatment IND ap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0 Orphan Medical submitted this 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7A4E-A758-4E76-AA50-BBF38B7F4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1444680" y="1398600"/>
          <a:ext cx="7099200" cy="48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398600"/>
                    <a:ext cx="70992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GHB-3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Distribution – 6 &amp; 12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rot="21592200">
            <a:off x="95040" y="3238200"/>
            <a:ext cx="132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f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485520" y="6149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s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2584-78A1-4358-B5E8-A4E601D79E2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30120" y="139680"/>
            <a:ext cx="8462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C-SXB-21 Supports Efficacy in OMC-GHB-3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plexy Attacks / Week:  OMC-GHB-2/3 Patients in OMC-SXB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rot="16200000">
            <a:off x="-862200" y="3516480"/>
            <a:ext cx="23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plexy Attacks / 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4645080" y="1422360"/>
            <a:ext cx="4691160" cy="5033880"/>
            <a:chOff x="4645080" y="1422360"/>
            <a:chExt cx="4691160" cy="5033880"/>
          </a:xfrm>
        </p:grpSpPr>
        <p:graphicFrame>
          <p:nvGraphicFramePr>
            <p:cNvPr id="1505" name=""/>
            <p:cNvGraphicFramePr/>
            <p:nvPr/>
          </p:nvGraphicFramePr>
          <p:xfrm>
            <a:off x="4815000" y="1422360"/>
            <a:ext cx="4033800" cy="5033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15000" y="1422360"/>
                      <a:ext cx="4033800" cy="50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7" name=""/>
            <p:cNvSpPr/>
            <p:nvPr/>
          </p:nvSpPr>
          <p:spPr>
            <a:xfrm>
              <a:off x="6352560" y="148752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yre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=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45080" y="1521000"/>
              <a:ext cx="471600" cy="47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75400" y="6165720"/>
              <a:ext cx="456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11200"/>
                  <a:tab algn="ctr" pos="1827360"/>
                  <a:tab algn="ctr" pos="3141720"/>
                  <a:tab algn="ctr" pos="4911840"/>
                  <a:tab algn="ctr" pos="6170760"/>
                  <a:tab algn="ctr" pos="748512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HB-2 Baselin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  SXB-21 Baselin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 SXB-21 Endpoi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473040" y="1414440"/>
            <a:ext cx="4767120" cy="5049720"/>
            <a:chOff x="473040" y="1414440"/>
            <a:chExt cx="4767120" cy="5049720"/>
          </a:xfrm>
        </p:grpSpPr>
        <p:graphicFrame>
          <p:nvGraphicFramePr>
            <p:cNvPr id="1511" name=""/>
            <p:cNvGraphicFramePr/>
            <p:nvPr/>
          </p:nvGraphicFramePr>
          <p:xfrm>
            <a:off x="649080" y="1414440"/>
            <a:ext cx="4084560" cy="50497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9080" y="1414440"/>
                      <a:ext cx="4084560" cy="50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3" name=""/>
            <p:cNvSpPr/>
            <p:nvPr/>
          </p:nvSpPr>
          <p:spPr>
            <a:xfrm>
              <a:off x="2232000" y="1503360"/>
              <a:ext cx="105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=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79320" y="6165720"/>
              <a:ext cx="456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11200"/>
                  <a:tab algn="ctr" pos="1827360"/>
                  <a:tab algn="ctr" pos="3141720"/>
                  <a:tab algn="ctr" pos="4911840"/>
                  <a:tab algn="ctr" pos="6170760"/>
                  <a:tab algn="ctr" pos="748512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HB-2 Baselin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SXB-21 Baselin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 SXB-21 Endpoi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73040" y="1521000"/>
              <a:ext cx="471240" cy="47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4215960" y="2014560"/>
            <a:ext cx="1604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s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420C-369A-49E2-9318-95B81D666CD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900000" y="2217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Effic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8" name=""/>
          <p:cNvGraphicFramePr/>
          <p:nvPr/>
        </p:nvGraphicFramePr>
        <p:xfrm>
          <a:off x="727200" y="1665360"/>
          <a:ext cx="7383240" cy="4111560"/>
        </p:xfrm>
        <a:graphic>
          <a:graphicData uri="http://schemas.openxmlformats.org/drawingml/2006/table">
            <a:tbl>
              <a:tblPr/>
              <a:tblGrid>
                <a:gridCol w="3282840"/>
                <a:gridCol w="1990800"/>
                <a:gridCol w="210960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/D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Cataplex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time Sleep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SXB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IVE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MERS--60 mg/kg (4.75g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MA--50 mg/kg (3.5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69C0-8950-44D4-8F0E-778D4591A06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280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Houghton, M.D.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Operating Officer &amp; Medical Offic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63600" y="228600"/>
            <a:ext cx="8461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nical Pharmacokinetics, Drug Interactions, and Pharmacodynamic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D59A-F962-4742-97F5-7D4579CD2AD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rem Pharmacokinetic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7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Pilot PK study in narcoleptic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Acute versus chronic dosing i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tudy of gender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Dose proportionality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Food effect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8.  Three drug interac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lpidem, protriptyline, modafi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itro 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tochrome p450 study: 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1327-60AB-49EB-A15A-FB92516F99C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182080" cy="11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Plas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Concentrations of Oxybate (GHB) After</a:t>
            </a:r>
            <a:br>
              <a:rPr sz="2400"/>
            </a:b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 4.5 Grams (2x2.25) or 9.0 Grams (2x4.5) of Xyrem to Normal Volunteers (Mean, Standard Error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331920" y="1542960"/>
          <a:ext cx="8862840" cy="48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1542960"/>
                    <a:ext cx="886284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7" name=""/>
          <p:cNvSpPr/>
          <p:nvPr/>
        </p:nvSpPr>
        <p:spPr>
          <a:xfrm rot="16200000">
            <a:off x="-1039680" y="353988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tion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/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EBB9-4244-49C0-BFA8-A8EAE48A1AB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00040" y="3967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Plasma Oxybate (GHB) Concentration After an Oral Dos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 Grams of Xyrem</a:t>
            </a:r>
            <a:r>
              <a:rPr b="0" lang="en-US" sz="2400" spc="-1" strike="noStrike">
                <a:solidFill>
                  <a:srgbClr val="030000"/>
                </a:solidFill>
                <a:latin typeface="Arial"/>
              </a:rPr>
              <a:t> to Normal Volunteers Following a High Fat Meal or after an Overnight Fas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492120" y="1733400"/>
          <a:ext cx="858852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733400"/>
                    <a:ext cx="858852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 rot="16200000">
            <a:off x="-1251360" y="3264120"/>
            <a:ext cx="328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tion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/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92240" y="48848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213200" y="37735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46400" y="28782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530720" y="26748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727280" y="27892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127600" y="33861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514960" y="38052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889360" y="4192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276720" y="45100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664080" y="47070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057920" y="49230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445280" y="50943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832640" y="51703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207040" y="52149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600880" y="52401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88240" y="52592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382080" y="52592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743880" y="52531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124760" y="52466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931520" y="52531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699760" y="524664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870960" y="35830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Wingdings 2"/>
                <a:ea typeface="Wingdings 2"/>
              </a:rPr>
              <a:t>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51F3-9783-4E74-BA8F-1338580EA9C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0" y="7254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609480" y="-36360"/>
            <a:ext cx="7543800" cy="6818040"/>
            <a:chOff x="609480" y="-36360"/>
            <a:chExt cx="7543800" cy="6818040"/>
          </a:xfrm>
        </p:grpSpPr>
        <p:graphicFrame>
          <p:nvGraphicFramePr>
            <p:cNvPr id="1556" name=""/>
            <p:cNvGraphicFramePr/>
            <p:nvPr/>
          </p:nvGraphicFramePr>
          <p:xfrm>
            <a:off x="914400" y="3505320"/>
            <a:ext cx="7238880" cy="327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505320"/>
                      <a:ext cx="7238880" cy="32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8" name=""/>
            <p:cNvSpPr/>
            <p:nvPr/>
          </p:nvSpPr>
          <p:spPr>
            <a:xfrm rot="16200000">
              <a:off x="-198000" y="4677840"/>
              <a:ext cx="222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afini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centration (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/m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59" name=""/>
            <p:cNvGraphicFramePr/>
            <p:nvPr/>
          </p:nvGraphicFramePr>
          <p:xfrm>
            <a:off x="762120" y="380880"/>
            <a:ext cx="7315200" cy="3429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80880"/>
                      <a:ext cx="7315200" cy="342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1" name=""/>
            <p:cNvSpPr/>
            <p:nvPr/>
          </p:nvSpPr>
          <p:spPr>
            <a:xfrm rot="16200000">
              <a:off x="-87120" y="1436400"/>
              <a:ext cx="185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xyba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centration (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/m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50480" y="-36360"/>
              <a:ext cx="53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yrem – Modafinil Interaction Stu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EED8-D435-4124-B7B7-8E92078A866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Xyrem Pharmacokinetic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17600" y="1406520"/>
            <a:ext cx="84452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pid absorption (T</a:t>
            </a:r>
            <a:r>
              <a:rPr b="0" lang="en-US" sz="3400" spc="-1" strike="noStrike" baseline="-20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= 30-75 min)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elimination (T</a:t>
            </a:r>
            <a:r>
              <a:rPr b="0" lang="en-US" sz="3400" spc="-1" strike="noStrike" baseline="-2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= 40-60 min) from plas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-linear, dose-dependent kinet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pacity limited absorption &amp; elimin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gender differenc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difference between acute and chronic do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FC46-D07B-4337-BCA3-24C2D868A48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Xyrem Pharmacokinetic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17600" y="1406520"/>
            <a:ext cx="84452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dosing does not change kinet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od delays absorption and reduces systemic expos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kinetic interactions with 3 other classes of dru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cytochrome p450 effects fou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5909-17B1-4441-936A-9F25FDACD54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tion of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rem is not the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e of 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vailability of internet GHB ki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vailability of precursor GHB substitu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butyrolactone (GB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4-butanediol (1,4-B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deral legislation in 2000 controls only GH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9DDE-F63C-4F04-B496-2F85DBB67E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lysomnographic Effects of Xyr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d Black, M.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the Stanford Sleep Clin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C403-0228-4E1A-9D69-A3954E88C29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s of Sodium Oxybate on Quantitative EEG Parameters in Narcolep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research in narcolepsy (1977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ughton and Mamelak (197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melak (1981, 197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ified sleep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slow-wave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awak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ma (1989, PSG and MS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mers (1993, PSG and MS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C-SXB-20 (PSG and MW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1252-189E-4594-A602-D731687F9F6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rima and LammersTrial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turnal PS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2" name=""/>
          <p:cNvGraphicFramePr/>
          <p:nvPr/>
        </p:nvGraphicFramePr>
        <p:xfrm>
          <a:off x="487440" y="1720800"/>
          <a:ext cx="8277120" cy="3966840"/>
        </p:xfrm>
        <a:graphic>
          <a:graphicData uri="http://schemas.openxmlformats.org/drawingml/2006/table">
            <a:tbl>
              <a:tblPr/>
              <a:tblGrid>
                <a:gridCol w="2406600"/>
                <a:gridCol w="1806840"/>
                <a:gridCol w="1919160"/>
                <a:gridCol w="214452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ma 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mers 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1 Sle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s 3 &amp;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ken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wake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4A61-9881-4BC5-8DCA-E42621B5024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-label, dose-escalation (4.5 g – 9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mulants continued at stable d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week anti-cataplectic ta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week wash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weeks 4.5 g Xyr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weeks 6 g, 7.5 g, and 9 g e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G obtain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m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 g (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 g, 6 g, 7.5 g, 9 g (last n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WT obtained:  prior meds, baseline, 4.5 g (af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eeks),and 9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B38F-D8FC-44AB-B39D-F44DBB6D53A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344600"/>
            <a:ext cx="8367840" cy="51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lated increase in Stage 3 &amp; 4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lated increase in Delta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time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lated increase in daytime  aler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lated reduction in subjective slee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A84B-4CC4-413A-B4A3-A2D50E37521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7" name=""/>
          <p:cNvGraphicFramePr/>
          <p:nvPr/>
        </p:nvGraphicFramePr>
        <p:xfrm>
          <a:off x="838080" y="1349280"/>
          <a:ext cx="76201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49280"/>
                    <a:ext cx="7620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9" name=""/>
          <p:cNvSpPr/>
          <p:nvPr/>
        </p:nvSpPr>
        <p:spPr>
          <a:xfrm>
            <a:off x="3772080" y="6311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rot="16200000">
            <a:off x="-1562400" y="3365640"/>
            <a:ext cx="48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from Baseline (m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752480" y="5778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884320" y="579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924360" y="5765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952880" y="578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78360" y="5791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781680" y="5803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95360" y="215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in Slow Wave (Stages 3&amp;4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eep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316280" y="12492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333920" y="1635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479720" y="31892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461720" y="3755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462080" y="4322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487B-AB52-4BC0-AC83-329648E5308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Slow Wave (Stages 3&amp;4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eep 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4" name=""/>
          <p:cNvGraphicFramePr/>
          <p:nvPr/>
        </p:nvGraphicFramePr>
        <p:xfrm>
          <a:off x="1003320" y="1644480"/>
          <a:ext cx="7385040" cy="45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644480"/>
                    <a:ext cx="738504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6" name=""/>
          <p:cNvSpPr/>
          <p:nvPr/>
        </p:nvSpPr>
        <p:spPr>
          <a:xfrm>
            <a:off x="1193760" y="555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51080" y="5691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203640" y="5629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94000" y="5719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337000" y="571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175440" y="571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165800" y="5719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-1244160" y="350604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tages 3&amp;4 Sleep (m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CED3-513E-40B4-8339-BDDD80C06F0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4" name=""/>
          <p:cNvGraphicFramePr/>
          <p:nvPr/>
        </p:nvGraphicFramePr>
        <p:xfrm>
          <a:off x="152280" y="1378080"/>
          <a:ext cx="876780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8080"/>
                    <a:ext cx="876780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2028960" y="16365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&lt;0.05 relative to 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076640" y="2590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58080" y="25779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035840" y="22604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013600" y="187956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447920" y="5676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666880" y="5843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657600" y="5753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648320" y="5843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91320" y="5843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29400" y="5843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620120" y="5843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7720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514600" y="38088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rot="16200000">
            <a:off x="-798480" y="3122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95360" y="215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ta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0E93-C697-4D5C-A82E-58CC9761B83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2" name=""/>
          <p:cNvGraphicFramePr/>
          <p:nvPr/>
        </p:nvGraphicFramePr>
        <p:xfrm>
          <a:off x="762120" y="1355760"/>
          <a:ext cx="7929360" cy="45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55760"/>
                    <a:ext cx="79293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4" name=""/>
          <p:cNvSpPr/>
          <p:nvPr/>
        </p:nvSpPr>
        <p:spPr>
          <a:xfrm>
            <a:off x="5396760" y="2565360"/>
            <a:ext cx="2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674720" y="15526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&lt;0.05 relative to 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971400" y="1727280"/>
            <a:ext cx="2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76520" y="5689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352680" y="5689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800600" y="5689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400800" y="5689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rot="16200000">
            <a:off x="-810360" y="3247200"/>
            <a:ext cx="31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eep Latency (m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91000" y="6141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219320" y="22860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95360" y="215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WT Sleep Latency (Day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8FF2-6479-4791-8674-17232F80982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pworth Sleepiness Score (Day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1130400" y="5883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cat M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187720" y="602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139920" y="59594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130640" y="6049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273640" y="6049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111720" y="6049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5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02440" y="6049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3" name=""/>
          <p:cNvGraphicFramePr/>
          <p:nvPr/>
        </p:nvGraphicFramePr>
        <p:xfrm>
          <a:off x="0" y="1347840"/>
          <a:ext cx="8515440" cy="46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7840"/>
                    <a:ext cx="851544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C28D-55AC-466D-ACE6-DF677530264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Xyre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Courier New"/>
              </a:rPr>
              <a:t>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 (sodium oxybate) oral solution is indicated to reduce the incidence of cataplexy and to improve the symptom of daytime sleepines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in patients with narcolep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Ind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2A5F-0220-4003-BB3D-30B36601A2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lation Between Dayti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Nocturnal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927000" y="1871640"/>
          <a:ext cx="7510680" cy="3368520"/>
        </p:xfrm>
        <a:graphic>
          <a:graphicData uri="http://schemas.openxmlformats.org/drawingml/2006/table">
            <a:tbl>
              <a:tblPr/>
              <a:tblGrid>
                <a:gridCol w="2138400"/>
                <a:gridCol w="1617840"/>
                <a:gridCol w="1968480"/>
                <a:gridCol w="1785960"/>
              </a:tblGrid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ta Po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wor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ta Po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3&amp;4 Slee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wor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3&amp;4 Slee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A12D-A435-47C4-A118-7601128ECE2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verall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34460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G parameters modulated as a function of Xyrem trea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rem increases measures of restorative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3 &amp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ytime sleepiness de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WT and Ep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lation between daytime and nocturnal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novel neurological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D940-A5A2-4DAA-8232-F9AA7F2A91F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Houghton, M.D.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Operating Officer &amp; Medical Offic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Medical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Summary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1BA0-BE6F-42F3-AAF7-B2DFBC9DB0B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1031760" y="228600"/>
            <a:ext cx="765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0" y="1049400"/>
            <a:ext cx="894240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854440" y="493560"/>
            <a:ext cx="0" cy="5667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67400" y="12852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ntrolled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960360" y="10332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ncontrolled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200" y="4118040"/>
            <a:ext cx="2216160" cy="79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rima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weeks of 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96880" y="5370480"/>
            <a:ext cx="182880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mmers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5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wee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26960" y="1625760"/>
            <a:ext cx="2192400" cy="79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GHB-2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36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wee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76120" y="2921040"/>
            <a:ext cx="2468520" cy="79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21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5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 week withdrawal 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032600" y="5187960"/>
            <a:ext cx="1828800" cy="106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GHB-4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959200" y="1625760"/>
            <a:ext cx="202860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GHB-3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7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 to 24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075440" y="646200"/>
            <a:ext cx="1828800" cy="106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10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3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956120" y="5184720"/>
            <a:ext cx="1828800" cy="79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harf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43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 to 16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006880" y="2892600"/>
            <a:ext cx="190512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7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g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urrently N=2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979880" y="671400"/>
            <a:ext cx="182880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6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85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 month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2741760" y="3452400"/>
            <a:ext cx="231588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987800" y="2128680"/>
            <a:ext cx="684360" cy="798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5907240" y="1471320"/>
            <a:ext cx="4320" cy="14605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5921280" y="3646080"/>
            <a:ext cx="0" cy="1544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689200" y="3208320"/>
            <a:ext cx="2316240" cy="1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13320" y="1744560"/>
            <a:ext cx="1828800" cy="10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MC-SXB-20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5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 wee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6691320" y="5477040"/>
            <a:ext cx="339840" cy="1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81680" y="5689440"/>
            <a:ext cx="336600" cy="1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334120" y="4214880"/>
            <a:ext cx="1154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3 Pat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25840" y="2079720"/>
            <a:ext cx="385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777000" y="988920"/>
            <a:ext cx="2984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15160" y="113652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037280" y="4290840"/>
            <a:ext cx="18288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K Studies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25 Su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87F1-D2B4-4448-89BC-513933A1DAE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Oxybate Expos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Trials Including Scha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056960" y="1676520"/>
            <a:ext cx="745164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y Exposur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79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K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125 sub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0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60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2 month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86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tient-year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32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192B-78E0-43F2-A50C-7F07A52E80E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Oxybate Expos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Excluding Scha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055160" y="1652760"/>
            <a:ext cx="737244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y Exposur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99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K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125 sub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52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96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2 month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23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tient-year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4DA6-3C29-4E66-94B4-06513968B21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Patient Exposure by D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5" name=""/>
          <p:cNvGraphicFramePr/>
          <p:nvPr/>
        </p:nvGraphicFramePr>
        <p:xfrm>
          <a:off x="496800" y="1995480"/>
          <a:ext cx="8118360" cy="3324240"/>
        </p:xfrm>
        <a:graphic>
          <a:graphicData uri="http://schemas.openxmlformats.org/drawingml/2006/table">
            <a:tbl>
              <a:tblPr/>
              <a:tblGrid>
                <a:gridCol w="2447640"/>
                <a:gridCol w="1054080"/>
                <a:gridCol w="816120"/>
                <a:gridCol w="957240"/>
                <a:gridCol w="957240"/>
                <a:gridCol w="928800"/>
                <a:gridCol w="957240"/>
              </a:tblGrid>
              <a:tr h="531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Dosage (g/d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34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 mon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1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6615-4565-48A2-9303-4509FFDCF14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ed Patient Dis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7" name=""/>
          <p:cNvGraphicFramePr/>
          <p:nvPr/>
        </p:nvGraphicFramePr>
        <p:xfrm>
          <a:off x="1849320" y="1395360"/>
          <a:ext cx="5415120" cy="4746600"/>
        </p:xfrm>
        <a:graphic>
          <a:graphicData uri="http://schemas.openxmlformats.org/drawingml/2006/table">
            <a:tbl>
              <a:tblPr/>
              <a:tblGrid>
                <a:gridCol w="3462480"/>
                <a:gridCol w="195264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Disposition                   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                               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s Treated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 Treatment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( 12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 Treatment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 ( 52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ntinued Treatment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 ( 36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se event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( 13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 request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(  9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 non-compliance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  5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(  5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st to follow-up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  3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ck of efficacy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  2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ocol deviation/violation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&lt;1%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&lt;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8" name=""/>
          <p:cNvSpPr/>
          <p:nvPr/>
        </p:nvSpPr>
        <p:spPr>
          <a:xfrm>
            <a:off x="1415880" y="6243480"/>
            <a:ext cx="62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3 placebo patients did not proceed to active treatment t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1FE3-6DC7-4B86-A24B-1F4D1C8C4E1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0" name=""/>
          <p:cNvGraphicFramePr/>
          <p:nvPr/>
        </p:nvGraphicFramePr>
        <p:xfrm>
          <a:off x="324000" y="1633680"/>
          <a:ext cx="8545320" cy="4768560"/>
        </p:xfrm>
        <a:graphic>
          <a:graphicData uri="http://schemas.openxmlformats.org/drawingml/2006/table">
            <a:tbl>
              <a:tblPr/>
              <a:tblGrid>
                <a:gridCol w="2085840"/>
                <a:gridCol w="2120760"/>
                <a:gridCol w="2217960"/>
                <a:gridCol w="2120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402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4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99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1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/C due to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%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%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0345-6F77-4DCC-BBED-74483E6FA12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se Distribution of 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2" name=""/>
          <p:cNvGraphicFramePr/>
          <p:nvPr/>
        </p:nvGraphicFramePr>
        <p:xfrm>
          <a:off x="171360" y="1792440"/>
          <a:ext cx="8775360" cy="4220640"/>
        </p:xfrm>
        <a:graphic>
          <a:graphicData uri="http://schemas.openxmlformats.org/drawingml/2006/table">
            <a:tbl>
              <a:tblPr/>
              <a:tblGrid>
                <a:gridCol w="3122640"/>
                <a:gridCol w="909360"/>
                <a:gridCol w="1085040"/>
                <a:gridCol w="1221480"/>
                <a:gridCol w="1219320"/>
                <a:gridCol w="1217520"/>
              </a:tblGrid>
              <a:tr h="595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rem Dose (g/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atient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1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3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/C due to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 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6358-9E1E-4802-8A6D-7D0F8E080CD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alence of Narcolepsy in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rcolepsy is an orphan dise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demiology estimates 135,000 patient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55% are diagnosed (75,00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2% of those have cataplexy for which they seek treatment (24,00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5386-B5AA-4EAA-A7D9-47D5974342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206800" y="6410160"/>
            <a:ext cx="4709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217600" y="6138720"/>
            <a:ext cx="4710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192400" y="3827520"/>
            <a:ext cx="4709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192400" y="2392200"/>
            <a:ext cx="4709880" cy="56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 Databa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Frequent Adverse Events (n=39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8" name=""/>
          <p:cNvGraphicFramePr/>
          <p:nvPr/>
        </p:nvGraphicFramePr>
        <p:xfrm>
          <a:off x="2190600" y="1440000"/>
          <a:ext cx="4761000" cy="5268600"/>
        </p:xfrm>
        <a:graphic>
          <a:graphicData uri="http://schemas.openxmlformats.org/drawingml/2006/table">
            <a:tbl>
              <a:tblPr/>
              <a:tblGrid>
                <a:gridCol w="2592000"/>
                <a:gridCol w="1953360"/>
                <a:gridCol w="21600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Preferred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z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yng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al inj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h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ary Incontin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BA3C-F37A-4844-B8D6-9519DB47739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890640" y="587700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92080" y="551340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92080" y="4737240"/>
            <a:ext cx="7391520" cy="363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892080" y="438624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890640" y="4035600"/>
            <a:ext cx="7391520" cy="363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890640" y="367200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903240" y="293364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88840" y="2192400"/>
            <a:ext cx="7391520" cy="3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bo-Controlled Clinical Tria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Frequent 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8" name=""/>
          <p:cNvGraphicFramePr/>
          <p:nvPr/>
        </p:nvGraphicFramePr>
        <p:xfrm>
          <a:off x="893880" y="1400040"/>
          <a:ext cx="7416720" cy="5265720"/>
        </p:xfrm>
        <a:graphic>
          <a:graphicData uri="http://schemas.openxmlformats.org/drawingml/2006/table">
            <a:tbl>
              <a:tblPr/>
              <a:tblGrid>
                <a:gridCol w="2725560"/>
                <a:gridCol w="2344680"/>
                <a:gridCol w="2346480"/>
              </a:tblGrid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Oxyb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4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z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 (unspecifi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e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ary incontin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1BA5-07EB-4345-A359-6BEFD761D7D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17680" y="2712960"/>
          <a:ext cx="8150040" cy="2648160"/>
        </p:xfrm>
        <a:graphic>
          <a:graphicData uri="http://schemas.openxmlformats.org/drawingml/2006/table">
            <a:tbl>
              <a:tblPr/>
              <a:tblGrid>
                <a:gridCol w="3101760"/>
                <a:gridCol w="2643120"/>
                <a:gridCol w="24051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 (n=29)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rem (n=26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7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7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s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1" name=""/>
          <p:cNvSpPr/>
          <p:nvPr/>
        </p:nvSpPr>
        <p:spPr>
          <a:xfrm>
            <a:off x="1411200" y="1474920"/>
            <a:ext cx="66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* Adverse Ev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-Blind Treatment Peri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987840" y="550872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Es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2793-E8A9-4D8A-80F5-C63960F2F64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C-SXB-2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Withdrawal Associated A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4" name=""/>
          <p:cNvGraphicFramePr/>
          <p:nvPr/>
        </p:nvGraphicFramePr>
        <p:xfrm>
          <a:off x="434880" y="1911240"/>
          <a:ext cx="8229600" cy="3256200"/>
        </p:xfrm>
        <a:graphic>
          <a:graphicData uri="http://schemas.openxmlformats.org/drawingml/2006/table">
            <a:tbl>
              <a:tblPr/>
              <a:tblGrid>
                <a:gridCol w="2959200"/>
                <a:gridCol w="2771640"/>
                <a:gridCol w="2498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 (n=29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rem (n=2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7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zin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omni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*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olenc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5" name=""/>
          <p:cNvSpPr/>
          <p:nvPr/>
        </p:nvSpPr>
        <p:spPr>
          <a:xfrm>
            <a:off x="490680" y="5462640"/>
            <a:ext cx="47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Verbatim Term: Increased awaken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02DE-3A7B-4BB4-A583-3590D77BEDE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ar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ed under an Investigator IND without external monitoring prior to Orphan Medical 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s 16 years of clinical experience (rather than drug development research) without regulatory discip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s were located all over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ource primarily from diary recordings without medical review and interpre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k of patient compliance contributed to significant discontin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sing accountability and dose titration is less clearly def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defined entry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16B7-E8B7-4D89-BDB4-0486E98C9C7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harf open-label clinical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ing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is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 incidence (16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 incidenc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 mon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3E24-9758-4BF4-AB54-2C6AB133A55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0" name=""/>
          <p:cNvGraphicFramePr/>
          <p:nvPr/>
        </p:nvGraphicFramePr>
        <p:xfrm>
          <a:off x="1222200" y="1425600"/>
          <a:ext cx="6675480" cy="5249880"/>
        </p:xfrm>
        <a:graphic>
          <a:graphicData uri="http://schemas.openxmlformats.org/drawingml/2006/table">
            <a:tbl>
              <a:tblPr/>
              <a:tblGrid>
                <a:gridCol w="4451400"/>
                <a:gridCol w="222408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Patients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 (10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(5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erred to OMC-SXB-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 (4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d in Scharf 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(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ly Withdrawal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(5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Non-Complianc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(1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se Event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(1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(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Request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(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k of  Effica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col Deviation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&lt;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&lt;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een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&lt;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arf Trial (16 years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 Dis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C612-D719-4C06-81A0-87539818308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2" name=""/>
          <p:cNvGraphicFramePr/>
          <p:nvPr/>
        </p:nvGraphicFramePr>
        <p:xfrm>
          <a:off x="1131840" y="1422360"/>
          <a:ext cx="7007400" cy="5135760"/>
        </p:xfrm>
        <a:graphic>
          <a:graphicData uri="http://schemas.openxmlformats.org/drawingml/2006/table">
            <a:tbl>
              <a:tblPr/>
              <a:tblGrid>
                <a:gridCol w="4256280"/>
                <a:gridCol w="27511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Ev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inf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al Inju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yndr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yngit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init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cou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 (sleepwalkin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ary incontin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arf Trial (16 years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E Inc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62CC-7AE2-466F-9401-A5AC0BE9712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ison of Updated ISS Databas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arf Trial (First 6 mon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Frequent Adverse Event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5" name=""/>
          <p:cNvGraphicFramePr/>
          <p:nvPr/>
        </p:nvGraphicFramePr>
        <p:xfrm>
          <a:off x="795240" y="1308240"/>
          <a:ext cx="7586640" cy="5429160"/>
        </p:xfrm>
        <a:graphic>
          <a:graphicData uri="http://schemas.openxmlformats.org/drawingml/2006/table">
            <a:tbl>
              <a:tblPr/>
              <a:tblGrid>
                <a:gridCol w="3247920"/>
                <a:gridCol w="2314800"/>
                <a:gridCol w="2023920"/>
              </a:tblGrid>
              <a:tr h="6998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RT Preferred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rf Tr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z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 (unspecifi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yng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al inj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i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us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2BAE-C9CB-4345-8BB2-0140551E3B0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se Events of Special 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ontinence / convul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opsychiatric ev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eepwal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6742-CDA2-47F5-A717-B673412F5E7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6640" y="177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Narcolepsy - Medical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1120" y="1674720"/>
            <a:ext cx="3583080" cy="4297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16560" y="1631880"/>
            <a:ext cx="413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manuel Mig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D.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for Narcolep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hington, D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96960" y="1228320"/>
            <a:ext cx="7788240" cy="32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" y="6448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9A67-FBC6-42AF-A661-866AD150A70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nt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378D-A8C2-4B93-8A59-CF5EAD80783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nt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DA Issu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adverse events of incontinence in clinical trials with sodium oxybate associated with seiz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4CE2-B31D-44A1-80E9-C7A35EA9AFC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ntinen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lysis included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 to all affected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of safety databases for temporal association with CNS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overnight EEG in 6 patients with prior history of incontin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by indepen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123F-B393-464E-9977-A738A3C7EC2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inary Incont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4" name=""/>
          <p:cNvGraphicFramePr/>
          <p:nvPr/>
        </p:nvGraphicFramePr>
        <p:xfrm>
          <a:off x="250920" y="1498680"/>
          <a:ext cx="8637480" cy="4709880"/>
        </p:xfrm>
        <a:graphic>
          <a:graphicData uri="http://schemas.openxmlformats.org/drawingml/2006/table">
            <a:tbl>
              <a:tblPr/>
              <a:tblGrid>
                <a:gridCol w="1911240"/>
                <a:gridCol w="1713240"/>
                <a:gridCol w="1589040"/>
                <a:gridCol w="1751040"/>
                <a:gridCol w="1672920"/>
              </a:tblGrid>
              <a:tr h="860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ntinence Ev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Association With CNS Symptom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 Pati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</a:t>
                      </a:r>
                      <a:br>
                        <a:rPr sz="2300"/>
                      </a:b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v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</a:t>
                      </a:r>
                      <a:br>
                        <a:rPr sz="2300"/>
                      </a:b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</a:t>
                      </a:r>
                      <a:br>
                        <a:rPr sz="2300"/>
                      </a:b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v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6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.5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(11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.7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rf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4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(23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5%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CA32-9784-4BF8-8C06-C6342A19EB7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cal Incont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6" name=""/>
          <p:cNvGraphicFramePr/>
          <p:nvPr/>
        </p:nvGraphicFramePr>
        <p:xfrm>
          <a:off x="343080" y="1484280"/>
          <a:ext cx="8488080" cy="4665600"/>
        </p:xfrm>
        <a:graphic>
          <a:graphicData uri="http://schemas.openxmlformats.org/drawingml/2006/table">
            <a:tbl>
              <a:tblPr/>
              <a:tblGrid>
                <a:gridCol w="1989000"/>
                <a:gridCol w="1695240"/>
                <a:gridCol w="1535400"/>
                <a:gridCol w="1652400"/>
                <a:gridCol w="1616040"/>
              </a:tblGrid>
              <a:tr h="777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al Incontinence Ev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association with CNS symptom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Tri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 Pati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v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v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3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&lt;1 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GHB-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&lt;1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tt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r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4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&lt;1 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&lt;1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C-SXB-1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 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072E-0B83-44C2-9A31-4A13514EFD5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ntinen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re is limited support for a relationship between incontinence and seizures from clinical trials, prospective EEG studies, or the litera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2AF0-46B0-4387-96BF-EFC2686E5BD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ul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Integrated Clinical T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patients with events coded to “convul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of 14 patient events recorded as “cataplex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omplex case (“fugu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arf T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patients with events coded to “convul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f 9 patient events recorded as “cataplex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atient events attributable to pre-existing hi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other patients with seizure events associated with poly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9BC4-2470-45CB-A179-C8C6A7DD757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us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1437-FCE4-4D7B-9E81-5909D6D16A9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dverse Event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ART Coded as “Confus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89640" y="1150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arf Open-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3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(7%)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iscontin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s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519120" y="122184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I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2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(7%)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(&lt;1%) patients dis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dos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B29D-7649-4832-B3A1-B403A07915B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d I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erbatim Terms for 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nfus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6" name=""/>
          <p:cNvGraphicFramePr/>
          <p:nvPr/>
        </p:nvGraphicFramePr>
        <p:xfrm>
          <a:off x="1020600" y="1616040"/>
          <a:ext cx="7102800" cy="4149720"/>
        </p:xfrm>
        <a:graphic>
          <a:graphicData uri="http://schemas.openxmlformats.org/drawingml/2006/table">
            <a:tbl>
              <a:tblPr/>
              <a:tblGrid>
                <a:gridCol w="3786480"/>
                <a:gridCol w="1658880"/>
                <a:gridCol w="1657440"/>
              </a:tblGrid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t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, acute confusio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 on awa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oriented, disoriented upon awakening, dis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sion, dis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 ‘drunk’ after taking dru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zed fee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n’t compreh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zy fee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7" name=""/>
          <p:cNvSpPr/>
          <p:nvPr/>
        </p:nvSpPr>
        <p:spPr>
          <a:xfrm>
            <a:off x="1977480" y="5776920"/>
            <a:ext cx="480672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2 AEs of “confusion” prior to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48 events i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6D3F-DDA6-420A-9ECA-BD504436621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9T12:59:00Z</dcterms:created>
  <dc:creator/>
  <dc:description/>
  <dc:language>en-US</dc:language>
  <cp:lastModifiedBy>FDA.CDER</cp:lastModifiedBy>
  <cp:lastPrinted>1999-01-05T19:11:18Z</cp:lastPrinted>
  <dcterms:modified xsi:type="dcterms:W3CDTF">2001-06-20T18:21:07Z</dcterms:modified>
  <cp:revision>25036</cp:revision>
  <dc:subject/>
  <dc:title>Xyrem™ (GHB)</dc:title>
</cp:coreProperties>
</file>