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_rels/notesSlide13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6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18.wmf" ContentType="image/x-wmf"/>
  <Override PartName="/ppt/media/image10.wmf" ContentType="image/x-wmf"/>
  <Override PartName="/ppt/media/image25.png" ContentType="image/png"/>
  <Override PartName="/ppt/media/image11.png" ContentType="image/png"/>
  <Override PartName="/ppt/media/image29.wmf" ContentType="image/x-wmf"/>
  <Override PartName="/ppt/media/image7.png" ContentType="image/png"/>
  <Override PartName="/ppt/media/image17.wmf" ContentType="image/x-wmf"/>
  <Override PartName="/ppt/media/image9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35.jpeg" ContentType="image/jpeg"/>
  <Override PartName="/ppt/media/image12.wmf" ContentType="image/x-wmf"/>
  <Override PartName="/ppt/media/image30.wmf" ContentType="image/x-wmf"/>
  <Override PartName="/ppt/media/image6.png" ContentType="image/png"/>
  <Override PartName="/ppt/media/image14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31.wmf" ContentType="image/x-wmf"/>
  <Override PartName="/ppt/media/image1.wmf" ContentType="image/x-wmf"/>
  <Override PartName="/ppt/media/image15.png" ContentType="image/png"/>
  <Override PartName="/ppt/media/image16.wmf" ContentType="image/x-wmf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4680" y="-3240"/>
            <a:ext cx="2976480" cy="447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6200" y="-3240"/>
            <a:ext cx="2976480" cy="447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-4680" y="8775360"/>
            <a:ext cx="2976480" cy="4474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3886200" y="8775360"/>
            <a:ext cx="2976480" cy="4474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55E83FB-04E0-49DC-8FE8-89E6EA73C08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Img"/>
          </p:nvPr>
        </p:nvSpPr>
        <p:spPr>
          <a:xfrm>
            <a:off x="1158840" y="723600"/>
            <a:ext cx="4541760" cy="340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body"/>
          </p:nvPr>
        </p:nvSpPr>
        <p:spPr>
          <a:xfrm>
            <a:off x="919080" y="4384440"/>
            <a:ext cx="5019840" cy="4127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"/>
          <p:cNvSpPr txBox="1"/>
          <p:nvPr/>
        </p:nvSpPr>
        <p:spPr>
          <a:xfrm>
            <a:off x="3886200" y="8775360"/>
            <a:ext cx="2976480" cy="4474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19B76F8-27B7-4B93-BAE6-9AE92E6F0DE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 txBox="1"/>
          <p:nvPr/>
        </p:nvSpPr>
        <p:spPr>
          <a:xfrm>
            <a:off x="-4680" y="8775360"/>
            <a:ext cx="2976480" cy="4474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 txBox="1"/>
          <p:nvPr/>
        </p:nvSpPr>
        <p:spPr>
          <a:xfrm>
            <a:off x="-4680" y="-3240"/>
            <a:ext cx="2976480" cy="447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 txBox="1"/>
          <p:nvPr/>
        </p:nvSpPr>
        <p:spPr>
          <a:xfrm>
            <a:off x="3886200" y="-3240"/>
            <a:ext cx="2976480" cy="447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032" name="PlaceHolder 2"/>
          <p:cNvSpPr>
            <a:spLocks noGrp="1"/>
          </p:cNvSpPr>
          <p:nvPr>
            <p:ph type="body"/>
          </p:nvPr>
        </p:nvSpPr>
        <p:spPr>
          <a:xfrm>
            <a:off x="914400" y="4379400"/>
            <a:ext cx="502920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"/>
          <p:cNvSpPr/>
          <p:nvPr/>
        </p:nvSpPr>
        <p:spPr>
          <a:xfrm>
            <a:off x="3886200" y="-1440"/>
            <a:ext cx="2976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3886200" y="8774280"/>
            <a:ext cx="29764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-4680" y="8774280"/>
            <a:ext cx="29764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-4680" y="-1440"/>
            <a:ext cx="2976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PlaceHolder 1"/>
          <p:cNvSpPr>
            <a:spLocks noGrp="1"/>
          </p:cNvSpPr>
          <p:nvPr>
            <p:ph type="sldImg"/>
          </p:nvPr>
        </p:nvSpPr>
        <p:spPr>
          <a:xfrm>
            <a:off x="1133640" y="69840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088" name="PlaceHolder 2"/>
          <p:cNvSpPr>
            <a:spLocks noGrp="1"/>
          </p:cNvSpPr>
          <p:nvPr>
            <p:ph type="body"/>
          </p:nvPr>
        </p:nvSpPr>
        <p:spPr>
          <a:xfrm>
            <a:off x="919080" y="4384440"/>
            <a:ext cx="501984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"/>
          <p:cNvSpPr/>
          <p:nvPr/>
        </p:nvSpPr>
        <p:spPr>
          <a:xfrm>
            <a:off x="3886200" y="-1440"/>
            <a:ext cx="2976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886200" y="8774280"/>
            <a:ext cx="29764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-4680" y="8774280"/>
            <a:ext cx="29764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-4680" y="-1440"/>
            <a:ext cx="2976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PlaceHolder 1"/>
          <p:cNvSpPr>
            <a:spLocks noGrp="1"/>
          </p:cNvSpPr>
          <p:nvPr>
            <p:ph type="sldImg"/>
          </p:nvPr>
        </p:nvSpPr>
        <p:spPr>
          <a:xfrm>
            <a:off x="1133640" y="69840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094" name="PlaceHolder 2"/>
          <p:cNvSpPr>
            <a:spLocks noGrp="1"/>
          </p:cNvSpPr>
          <p:nvPr>
            <p:ph type="body"/>
          </p:nvPr>
        </p:nvSpPr>
        <p:spPr>
          <a:xfrm>
            <a:off x="919080" y="4384440"/>
            <a:ext cx="501984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"/>
          <p:cNvSpPr/>
          <p:nvPr/>
        </p:nvSpPr>
        <p:spPr>
          <a:xfrm>
            <a:off x="3886200" y="-1440"/>
            <a:ext cx="2976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886200" y="8774280"/>
            <a:ext cx="29764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-4680" y="8774280"/>
            <a:ext cx="29764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-4680" y="-1440"/>
            <a:ext cx="2976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PlaceHolder 1"/>
          <p:cNvSpPr>
            <a:spLocks noGrp="1"/>
          </p:cNvSpPr>
          <p:nvPr>
            <p:ph type="sldImg"/>
          </p:nvPr>
        </p:nvSpPr>
        <p:spPr>
          <a:xfrm>
            <a:off x="1133640" y="69840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100" name="PlaceHolder 2"/>
          <p:cNvSpPr>
            <a:spLocks noGrp="1"/>
          </p:cNvSpPr>
          <p:nvPr>
            <p:ph type="body"/>
          </p:nvPr>
        </p:nvSpPr>
        <p:spPr>
          <a:xfrm>
            <a:off x="919080" y="4384440"/>
            <a:ext cx="501984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"/>
          <p:cNvSpPr/>
          <p:nvPr/>
        </p:nvSpPr>
        <p:spPr>
          <a:xfrm>
            <a:off x="3886200" y="-1440"/>
            <a:ext cx="2976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886200" y="8774280"/>
            <a:ext cx="29764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-4680" y="8774280"/>
            <a:ext cx="29764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-4680" y="-1440"/>
            <a:ext cx="2976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PlaceHolder 1"/>
          <p:cNvSpPr>
            <a:spLocks noGrp="1"/>
          </p:cNvSpPr>
          <p:nvPr>
            <p:ph type="sldImg"/>
          </p:nvPr>
        </p:nvSpPr>
        <p:spPr>
          <a:xfrm>
            <a:off x="1133640" y="69840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106" name="PlaceHolder 2"/>
          <p:cNvSpPr>
            <a:spLocks noGrp="1"/>
          </p:cNvSpPr>
          <p:nvPr>
            <p:ph type="body"/>
          </p:nvPr>
        </p:nvSpPr>
        <p:spPr>
          <a:xfrm>
            <a:off x="919080" y="4384440"/>
            <a:ext cx="501984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"/>
          <p:cNvSpPr/>
          <p:nvPr/>
        </p:nvSpPr>
        <p:spPr>
          <a:xfrm>
            <a:off x="3886200" y="-1440"/>
            <a:ext cx="2976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886200" y="8774280"/>
            <a:ext cx="29764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-4680" y="8774280"/>
            <a:ext cx="29764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-4680" y="-1440"/>
            <a:ext cx="2976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PlaceHolder 1"/>
          <p:cNvSpPr>
            <a:spLocks noGrp="1"/>
          </p:cNvSpPr>
          <p:nvPr>
            <p:ph type="sldImg"/>
          </p:nvPr>
        </p:nvSpPr>
        <p:spPr>
          <a:xfrm>
            <a:off x="1133640" y="69840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112" name="PlaceHolder 2"/>
          <p:cNvSpPr>
            <a:spLocks noGrp="1"/>
          </p:cNvSpPr>
          <p:nvPr>
            <p:ph type="body"/>
          </p:nvPr>
        </p:nvSpPr>
        <p:spPr>
          <a:xfrm>
            <a:off x="919080" y="4384440"/>
            <a:ext cx="501984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"/>
          <p:cNvSpPr/>
          <p:nvPr/>
        </p:nvSpPr>
        <p:spPr>
          <a:xfrm>
            <a:off x="3886200" y="-1440"/>
            <a:ext cx="2976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3886200" y="8774280"/>
            <a:ext cx="29764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-4680" y="8774280"/>
            <a:ext cx="29764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-4680" y="-1440"/>
            <a:ext cx="2976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PlaceHolder 1"/>
          <p:cNvSpPr>
            <a:spLocks noGrp="1"/>
          </p:cNvSpPr>
          <p:nvPr>
            <p:ph type="sldImg"/>
          </p:nvPr>
        </p:nvSpPr>
        <p:spPr>
          <a:xfrm>
            <a:off x="1133640" y="69840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118" name="PlaceHolder 2"/>
          <p:cNvSpPr>
            <a:spLocks noGrp="1"/>
          </p:cNvSpPr>
          <p:nvPr>
            <p:ph type="body"/>
          </p:nvPr>
        </p:nvSpPr>
        <p:spPr>
          <a:xfrm>
            <a:off x="919080" y="4384440"/>
            <a:ext cx="501984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"/>
          <p:cNvSpPr/>
          <p:nvPr/>
        </p:nvSpPr>
        <p:spPr>
          <a:xfrm>
            <a:off x="3886200" y="-1440"/>
            <a:ext cx="2976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3886200" y="8774280"/>
            <a:ext cx="29764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-4680" y="8774280"/>
            <a:ext cx="29764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-4680" y="-1440"/>
            <a:ext cx="2976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PlaceHolder 1"/>
          <p:cNvSpPr>
            <a:spLocks noGrp="1"/>
          </p:cNvSpPr>
          <p:nvPr>
            <p:ph type="sldImg"/>
          </p:nvPr>
        </p:nvSpPr>
        <p:spPr>
          <a:xfrm>
            <a:off x="1133640" y="69840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124" name="PlaceHolder 2"/>
          <p:cNvSpPr>
            <a:spLocks noGrp="1"/>
          </p:cNvSpPr>
          <p:nvPr>
            <p:ph type="body"/>
          </p:nvPr>
        </p:nvSpPr>
        <p:spPr>
          <a:xfrm>
            <a:off x="919080" y="4384440"/>
            <a:ext cx="501984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"/>
          <p:cNvSpPr/>
          <p:nvPr/>
        </p:nvSpPr>
        <p:spPr>
          <a:xfrm>
            <a:off x="3886200" y="-1440"/>
            <a:ext cx="2976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3886200" y="8774280"/>
            <a:ext cx="29764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-4680" y="8774280"/>
            <a:ext cx="29764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-4680" y="-1440"/>
            <a:ext cx="2976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PlaceHolder 1"/>
          <p:cNvSpPr>
            <a:spLocks noGrp="1"/>
          </p:cNvSpPr>
          <p:nvPr>
            <p:ph type="sldImg"/>
          </p:nvPr>
        </p:nvSpPr>
        <p:spPr>
          <a:xfrm>
            <a:off x="1133640" y="69840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130" name="PlaceHolder 2"/>
          <p:cNvSpPr>
            <a:spLocks noGrp="1"/>
          </p:cNvSpPr>
          <p:nvPr>
            <p:ph type="body"/>
          </p:nvPr>
        </p:nvSpPr>
        <p:spPr>
          <a:xfrm>
            <a:off x="919080" y="4384440"/>
            <a:ext cx="501984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"/>
          <p:cNvSpPr txBox="1"/>
          <p:nvPr/>
        </p:nvSpPr>
        <p:spPr>
          <a:xfrm>
            <a:off x="3886200" y="8775360"/>
            <a:ext cx="2976480" cy="4474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68820FF-E7B2-4194-803C-7AE6DC850E2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 txBox="1"/>
          <p:nvPr/>
        </p:nvSpPr>
        <p:spPr>
          <a:xfrm>
            <a:off x="-4680" y="8775360"/>
            <a:ext cx="2976480" cy="4474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 txBox="1"/>
          <p:nvPr/>
        </p:nvSpPr>
        <p:spPr>
          <a:xfrm>
            <a:off x="-4680" y="-3240"/>
            <a:ext cx="2976480" cy="447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 txBox="1"/>
          <p:nvPr/>
        </p:nvSpPr>
        <p:spPr>
          <a:xfrm>
            <a:off x="3886200" y="-3240"/>
            <a:ext cx="2976480" cy="447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887640" y="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3887640" y="876132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0" y="876132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0" y="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609480" y="4377960"/>
            <a:ext cx="56390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"/>
          <p:cNvSpPr/>
          <p:nvPr/>
        </p:nvSpPr>
        <p:spPr>
          <a:xfrm>
            <a:off x="3886200" y="-1440"/>
            <a:ext cx="2976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3886200" y="8774280"/>
            <a:ext cx="29764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-4680" y="8774280"/>
            <a:ext cx="29764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-4680" y="-1440"/>
            <a:ext cx="2976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PlaceHolder 1"/>
          <p:cNvSpPr>
            <a:spLocks noGrp="1"/>
          </p:cNvSpPr>
          <p:nvPr>
            <p:ph type="sldImg"/>
          </p:nvPr>
        </p:nvSpPr>
        <p:spPr>
          <a:xfrm>
            <a:off x="1133640" y="69840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919080" y="4384440"/>
            <a:ext cx="501984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"/>
          <p:cNvSpPr txBox="1"/>
          <p:nvPr/>
        </p:nvSpPr>
        <p:spPr>
          <a:xfrm>
            <a:off x="3886200" y="8775360"/>
            <a:ext cx="2976480" cy="4474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EA1E0B7-5D92-4220-8376-B276867EE51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 txBox="1"/>
          <p:nvPr/>
        </p:nvSpPr>
        <p:spPr>
          <a:xfrm>
            <a:off x="-4680" y="8775360"/>
            <a:ext cx="2976480" cy="4474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 txBox="1"/>
          <p:nvPr/>
        </p:nvSpPr>
        <p:spPr>
          <a:xfrm>
            <a:off x="-4680" y="-3240"/>
            <a:ext cx="2976480" cy="447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 txBox="1"/>
          <p:nvPr/>
        </p:nvSpPr>
        <p:spPr>
          <a:xfrm>
            <a:off x="3886200" y="-3240"/>
            <a:ext cx="2976480" cy="447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"/>
          <p:cNvSpPr txBox="1"/>
          <p:nvPr/>
        </p:nvSpPr>
        <p:spPr>
          <a:xfrm>
            <a:off x="3886200" y="8775360"/>
            <a:ext cx="2976480" cy="4474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1C3D947-2326-4D1E-9C16-0B966635312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 txBox="1"/>
          <p:nvPr/>
        </p:nvSpPr>
        <p:spPr>
          <a:xfrm>
            <a:off x="-4680" y="8775360"/>
            <a:ext cx="2976480" cy="4474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 txBox="1"/>
          <p:nvPr/>
        </p:nvSpPr>
        <p:spPr>
          <a:xfrm>
            <a:off x="-4680" y="-3240"/>
            <a:ext cx="2976480" cy="447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 txBox="1"/>
          <p:nvPr/>
        </p:nvSpPr>
        <p:spPr>
          <a:xfrm>
            <a:off x="3886200" y="-3240"/>
            <a:ext cx="2976480" cy="447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"/>
          <p:cNvSpPr txBox="1"/>
          <p:nvPr/>
        </p:nvSpPr>
        <p:spPr>
          <a:xfrm>
            <a:off x="3886200" y="8775360"/>
            <a:ext cx="2976480" cy="4474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30CDABF-9D18-4700-A252-9F9F4C31904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 txBox="1"/>
          <p:nvPr/>
        </p:nvSpPr>
        <p:spPr>
          <a:xfrm>
            <a:off x="-4680" y="8775360"/>
            <a:ext cx="2976480" cy="4474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 txBox="1"/>
          <p:nvPr/>
        </p:nvSpPr>
        <p:spPr>
          <a:xfrm>
            <a:off x="-4680" y="-3240"/>
            <a:ext cx="2976480" cy="447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 txBox="1"/>
          <p:nvPr/>
        </p:nvSpPr>
        <p:spPr>
          <a:xfrm>
            <a:off x="3886200" y="-3240"/>
            <a:ext cx="2976480" cy="447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04840" y="71604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405320"/>
            <a:ext cx="5029200" cy="410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"/>
          <p:cNvSpPr/>
          <p:nvPr/>
        </p:nvSpPr>
        <p:spPr>
          <a:xfrm>
            <a:off x="3948120" y="-81000"/>
            <a:ext cx="30430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-12600" y="-81000"/>
            <a:ext cx="30430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PlaceHolder 1"/>
          <p:cNvSpPr>
            <a:spLocks noGrp="1"/>
          </p:cNvSpPr>
          <p:nvPr>
            <p:ph type="sldImg"/>
          </p:nvPr>
        </p:nvSpPr>
        <p:spPr>
          <a:xfrm>
            <a:off x="1198440" y="744480"/>
            <a:ext cx="4591080" cy="3443400"/>
          </a:xfrm>
          <a:prstGeom prst="rect">
            <a:avLst/>
          </a:prstGeom>
          <a:ln w="0">
            <a:noFill/>
          </a:ln>
        </p:spPr>
      </p:sp>
      <p:sp>
        <p:nvSpPr>
          <p:cNvPr id="2052" name="PlaceHolder 2"/>
          <p:cNvSpPr>
            <a:spLocks noGrp="1"/>
          </p:cNvSpPr>
          <p:nvPr>
            <p:ph type="body"/>
          </p:nvPr>
        </p:nvSpPr>
        <p:spPr>
          <a:xfrm>
            <a:off x="929880" y="4430520"/>
            <a:ext cx="51181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"/>
          <p:cNvSpPr/>
          <p:nvPr/>
        </p:nvSpPr>
        <p:spPr>
          <a:xfrm>
            <a:off x="3954600" y="-3240"/>
            <a:ext cx="30304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-6480" y="-3240"/>
            <a:ext cx="30308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954600" y="-3240"/>
            <a:ext cx="3030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-6480" y="-3240"/>
            <a:ext cx="30308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PlaceHolder 1"/>
          <p:cNvSpPr>
            <a:spLocks noGrp="1"/>
          </p:cNvSpPr>
          <p:nvPr>
            <p:ph type="sldImg"/>
          </p:nvPr>
        </p:nvSpPr>
        <p:spPr>
          <a:xfrm>
            <a:off x="1214280" y="74448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058" name="PlaceHolder 2"/>
          <p:cNvSpPr>
            <a:spLocks noGrp="1"/>
          </p:cNvSpPr>
          <p:nvPr>
            <p:ph type="body"/>
          </p:nvPr>
        </p:nvSpPr>
        <p:spPr>
          <a:xfrm>
            <a:off x="919080" y="4384440"/>
            <a:ext cx="501984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"/>
          <p:cNvSpPr txBox="1"/>
          <p:nvPr/>
        </p:nvSpPr>
        <p:spPr>
          <a:xfrm>
            <a:off x="3886200" y="8775360"/>
            <a:ext cx="2976480" cy="4474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435BFA6-15FC-4461-85D9-BE9E9252FE7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 txBox="1"/>
          <p:nvPr/>
        </p:nvSpPr>
        <p:spPr>
          <a:xfrm>
            <a:off x="-4680" y="8775360"/>
            <a:ext cx="2976480" cy="4474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 txBox="1"/>
          <p:nvPr/>
        </p:nvSpPr>
        <p:spPr>
          <a:xfrm>
            <a:off x="-4680" y="-3240"/>
            <a:ext cx="2976480" cy="447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 txBox="1"/>
          <p:nvPr/>
        </p:nvSpPr>
        <p:spPr>
          <a:xfrm>
            <a:off x="3886200" y="-3240"/>
            <a:ext cx="2976480" cy="447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PlaceHolder 1"/>
          <p:cNvSpPr>
            <a:spLocks noGrp="1"/>
          </p:cNvSpPr>
          <p:nvPr>
            <p:ph type="sldImg"/>
          </p:nvPr>
        </p:nvSpPr>
        <p:spPr>
          <a:xfrm>
            <a:off x="112536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064" name=""/>
          <p:cNvSpPr/>
          <p:nvPr/>
        </p:nvSpPr>
        <p:spPr>
          <a:xfrm>
            <a:off x="1066680" y="4532400"/>
            <a:ext cx="5029200" cy="41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"/>
          <p:cNvSpPr txBox="1"/>
          <p:nvPr/>
        </p:nvSpPr>
        <p:spPr>
          <a:xfrm>
            <a:off x="3886200" y="8775360"/>
            <a:ext cx="2976480" cy="4474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8AF0CCF-4A52-4CD5-B6CF-7322E3EEFAE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 txBox="1"/>
          <p:nvPr/>
        </p:nvSpPr>
        <p:spPr>
          <a:xfrm>
            <a:off x="-4680" y="8775360"/>
            <a:ext cx="2976480" cy="4474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 txBox="1"/>
          <p:nvPr/>
        </p:nvSpPr>
        <p:spPr>
          <a:xfrm>
            <a:off x="-4680" y="-3240"/>
            <a:ext cx="2976480" cy="447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 txBox="1"/>
          <p:nvPr/>
        </p:nvSpPr>
        <p:spPr>
          <a:xfrm>
            <a:off x="3886200" y="-3240"/>
            <a:ext cx="2976480" cy="447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PlaceHolder 1"/>
          <p:cNvSpPr>
            <a:spLocks noGrp="1"/>
          </p:cNvSpPr>
          <p:nvPr>
            <p:ph type="sldImg"/>
          </p:nvPr>
        </p:nvSpPr>
        <p:spPr>
          <a:xfrm>
            <a:off x="112536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070" name="PlaceHolder 2"/>
          <p:cNvSpPr>
            <a:spLocks noGrp="1"/>
          </p:cNvSpPr>
          <p:nvPr>
            <p:ph type="body"/>
          </p:nvPr>
        </p:nvSpPr>
        <p:spPr>
          <a:xfrm>
            <a:off x="914400" y="4379400"/>
            <a:ext cx="502920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"/>
          <p:cNvSpPr txBox="1"/>
          <p:nvPr/>
        </p:nvSpPr>
        <p:spPr>
          <a:xfrm>
            <a:off x="3886200" y="8775360"/>
            <a:ext cx="2976480" cy="4474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9D8E099-952F-4F97-8F47-DB88C333E42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 txBox="1"/>
          <p:nvPr/>
        </p:nvSpPr>
        <p:spPr>
          <a:xfrm>
            <a:off x="-4680" y="8775360"/>
            <a:ext cx="2976480" cy="4474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 txBox="1"/>
          <p:nvPr/>
        </p:nvSpPr>
        <p:spPr>
          <a:xfrm>
            <a:off x="-4680" y="-3240"/>
            <a:ext cx="2976480" cy="447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 txBox="1"/>
          <p:nvPr/>
        </p:nvSpPr>
        <p:spPr>
          <a:xfrm>
            <a:off x="3886200" y="-3240"/>
            <a:ext cx="2976480" cy="447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PlaceHolder 1"/>
          <p:cNvSpPr>
            <a:spLocks noGrp="1"/>
          </p:cNvSpPr>
          <p:nvPr>
            <p:ph type="sldImg"/>
          </p:nvPr>
        </p:nvSpPr>
        <p:spPr>
          <a:xfrm>
            <a:off x="112536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076" name="PlaceHolder 2"/>
          <p:cNvSpPr>
            <a:spLocks noGrp="1"/>
          </p:cNvSpPr>
          <p:nvPr>
            <p:ph type="body"/>
          </p:nvPr>
        </p:nvSpPr>
        <p:spPr>
          <a:xfrm>
            <a:off x="914400" y="4379400"/>
            <a:ext cx="502920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"/>
          <p:cNvSpPr txBox="1"/>
          <p:nvPr/>
        </p:nvSpPr>
        <p:spPr>
          <a:xfrm>
            <a:off x="3886200" y="8775360"/>
            <a:ext cx="2976480" cy="4474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E7D1BF4-CA40-4D5D-88C7-9314DFE030B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 txBox="1"/>
          <p:nvPr/>
        </p:nvSpPr>
        <p:spPr>
          <a:xfrm>
            <a:off x="-4680" y="8775360"/>
            <a:ext cx="2976480" cy="4474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 txBox="1"/>
          <p:nvPr/>
        </p:nvSpPr>
        <p:spPr>
          <a:xfrm>
            <a:off x="-4680" y="-3240"/>
            <a:ext cx="2976480" cy="447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 txBox="1"/>
          <p:nvPr/>
        </p:nvSpPr>
        <p:spPr>
          <a:xfrm>
            <a:off x="3886200" y="-3240"/>
            <a:ext cx="2976480" cy="447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1"/>
          <p:cNvSpPr>
            <a:spLocks noGrp="1"/>
          </p:cNvSpPr>
          <p:nvPr>
            <p:ph type="sldImg"/>
          </p:nvPr>
        </p:nvSpPr>
        <p:spPr>
          <a:xfrm>
            <a:off x="112536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082" name="PlaceHolder 2"/>
          <p:cNvSpPr>
            <a:spLocks noGrp="1"/>
          </p:cNvSpPr>
          <p:nvPr>
            <p:ph type="body"/>
          </p:nvPr>
        </p:nvSpPr>
        <p:spPr>
          <a:xfrm>
            <a:off x="914400" y="4379400"/>
            <a:ext cx="502920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48106-534A-4E3E-AFC0-3471A3176F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0F482-9299-465C-B3DF-E667EA3BA5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9B745-A21C-4DF3-BAB9-FB2A2530F1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025EF-301A-4618-B41B-6BE87F82DE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3641A-7ECA-41E2-8256-74EDD8BE6D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F1514-5047-4C8B-9B73-F84B5E8D9D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1B0C7-ECFA-4507-9997-6E21E6B4B5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5DD28-4893-4F74-88E7-7443D30E9A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153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C1AA7-8C10-4205-956D-11BA27508C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744B0-4C7D-4C89-975B-B61D102E14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F303B-B037-4ED1-B745-FACB57E2A9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BA74E-27C4-4603-A12C-D860A18BF0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50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850"/>
              </a:spcBef>
              <a:buClr>
                <a:srgbClr val="fafd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182800" y="6461280"/>
            <a:ext cx="962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y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B8A9-E327-4ABE-975C-D7CF2B251E31}" type="slidenum">
              <a:rPr b="1" i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42800" y="129528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9.wmf"/><Relationship Id="rId3" Type="http://schemas.openxmlformats.org/officeDocument/2006/relationships/image" Target="../media/image29.wmf"/><Relationship Id="rId4" Type="http://schemas.openxmlformats.org/officeDocument/2006/relationships/image" Target="../media/image29.wmf"/><Relationship Id="rId5" Type="http://schemas.openxmlformats.org/officeDocument/2006/relationships/image" Target="../media/image29.wmf"/><Relationship Id="rId6" Type="http://schemas.openxmlformats.org/officeDocument/2006/relationships/image" Target="../media/image29.wmf"/><Relationship Id="rId7" Type="http://schemas.openxmlformats.org/officeDocument/2006/relationships/image" Target="../media/image29.wmf"/><Relationship Id="rId8" Type="http://schemas.openxmlformats.org/officeDocument/2006/relationships/image" Target="../media/image29.wmf"/><Relationship Id="rId9" Type="http://schemas.openxmlformats.org/officeDocument/2006/relationships/image" Target="../media/image29.wmf"/><Relationship Id="rId10" Type="http://schemas.openxmlformats.org/officeDocument/2006/relationships/image" Target="../media/image29.wmf"/><Relationship Id="rId11" Type="http://schemas.openxmlformats.org/officeDocument/2006/relationships/image" Target="../media/image29.wmf"/><Relationship Id="rId12" Type="http://schemas.openxmlformats.org/officeDocument/2006/relationships/image" Target="../media/image29.wmf"/><Relationship Id="rId13" Type="http://schemas.openxmlformats.org/officeDocument/2006/relationships/image" Target="../media/image29.wmf"/><Relationship Id="rId14" Type="http://schemas.openxmlformats.org/officeDocument/2006/relationships/image" Target="../media/image29.wmf"/><Relationship Id="rId15" Type="http://schemas.openxmlformats.org/officeDocument/2006/relationships/image" Target="../media/image29.wmf"/><Relationship Id="rId16" Type="http://schemas.openxmlformats.org/officeDocument/2006/relationships/image" Target="../media/image29.wmf"/><Relationship Id="rId17" Type="http://schemas.openxmlformats.org/officeDocument/2006/relationships/image" Target="../media/image29.wmf"/><Relationship Id="rId18" Type="http://schemas.openxmlformats.org/officeDocument/2006/relationships/image" Target="../media/image29.wmf"/><Relationship Id="rId19" Type="http://schemas.openxmlformats.org/officeDocument/2006/relationships/image" Target="../media/image29.wmf"/><Relationship Id="rId20" Type="http://schemas.openxmlformats.org/officeDocument/2006/relationships/image" Target="../media/image29.wmf"/><Relationship Id="rId21" Type="http://schemas.openxmlformats.org/officeDocument/2006/relationships/image" Target="../media/image29.wmf"/><Relationship Id="rId22" Type="http://schemas.openxmlformats.org/officeDocument/2006/relationships/image" Target="../media/image29.wmf"/><Relationship Id="rId23" Type="http://schemas.openxmlformats.org/officeDocument/2006/relationships/image" Target="../media/image29.wmf"/><Relationship Id="rId24" Type="http://schemas.openxmlformats.org/officeDocument/2006/relationships/image" Target="../media/image29.wmf"/><Relationship Id="rId25" Type="http://schemas.openxmlformats.org/officeDocument/2006/relationships/image" Target="../media/image30.wmf"/><Relationship Id="rId26" Type="http://schemas.openxmlformats.org/officeDocument/2006/relationships/image" Target="../media/image31.wmf"/><Relationship Id="rId27" Type="http://schemas.openxmlformats.org/officeDocument/2006/relationships/image" Target="../media/image30.wmf"/><Relationship Id="rId28" Type="http://schemas.openxmlformats.org/officeDocument/2006/relationships/image" Target="../media/image30.wmf"/><Relationship Id="rId29" Type="http://schemas.openxmlformats.org/officeDocument/2006/relationships/image" Target="../media/image30.wmf"/><Relationship Id="rId30" Type="http://schemas.openxmlformats.org/officeDocument/2006/relationships/image" Target="../media/image30.wmf"/><Relationship Id="rId31" Type="http://schemas.openxmlformats.org/officeDocument/2006/relationships/image" Target="../media/image30.wmf"/><Relationship Id="rId32" Type="http://schemas.openxmlformats.org/officeDocument/2006/relationships/image" Target="../media/image30.wmf"/><Relationship Id="rId33" Type="http://schemas.openxmlformats.org/officeDocument/2006/relationships/image" Target="../media/image30.wmf"/><Relationship Id="rId34" Type="http://schemas.openxmlformats.org/officeDocument/2006/relationships/image" Target="../media/image30.wmf"/><Relationship Id="rId35" Type="http://schemas.openxmlformats.org/officeDocument/2006/relationships/image" Target="../media/image30.wmf"/><Relationship Id="rId36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5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5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320040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yre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sodium oxybate) oral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eripheral and Central Nervous System Drugs Advisory Committee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une 6, 2001</a:t>
            </a: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rphan Medical In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4B3AE-9A91-448E-A611-E89EC7CE407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1000" y="164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Narcolepsy - Cataplex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14520" y="1814040"/>
            <a:ext cx="354636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cessive daytime sleepin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taplex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ypnagogic hallucin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leep par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sturbed nocturnal sle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96960" y="1469520"/>
            <a:ext cx="7788240" cy="3240"/>
          </a:xfrm>
          <a:prstGeom prst="line">
            <a:avLst/>
          </a:prstGeom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79320" y="2133720"/>
            <a:ext cx="4394160" cy="3220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080" y="6448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C820D-A268-4214-97EE-9D9A764B2873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d IS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on Taken for AE of Conf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69800" y="1627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 change in dosage in 37 ev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djustment in dosage in 4 ev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emporary discontinuatio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in 4 ev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ermanent discontinuatio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of 3 pati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D8606-18A2-4170-BD8F-D9ADF18E2180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olled Trial: OMC-GHB-2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usion as A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704520" y="4136760"/>
            <a:ext cx="7931160" cy="21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st incidence at 9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/10 developed during 1st week (4 at 9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/10 were age &gt;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incidence may reflect fixed dosage without ti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2" name=""/>
          <p:cNvGraphicFramePr/>
          <p:nvPr/>
        </p:nvGraphicFramePr>
        <p:xfrm>
          <a:off x="307800" y="1584360"/>
          <a:ext cx="8502840" cy="2317680"/>
        </p:xfrm>
        <a:graphic>
          <a:graphicData uri="http://schemas.openxmlformats.org/drawingml/2006/table">
            <a:tbl>
              <a:tblPr/>
              <a:tblGrid>
                <a:gridCol w="2276640"/>
                <a:gridCol w="1323720"/>
                <a:gridCol w="1322640"/>
                <a:gridCol w="1263600"/>
                <a:gridCol w="1226880"/>
                <a:gridCol w="1089360"/>
              </a:tblGrid>
              <a:tr h="7023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erred Te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bo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=3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g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=3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g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=3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g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=3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0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adverse eve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0.6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3.5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5.8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4.3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u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9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8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0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.3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9ED51-E841-4020-8D5C-D3BD3982C822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5136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ation recorded was symptoms on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ck of contemporaneous, formal mental status examinations for patients with “confusio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reported “confusion” and other associated symptoms (e.g. unsteadiness) are not unexpected with sedating med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er incidence may result without dose tit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609480" y="380880"/>
            <a:ext cx="8153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 type="title"/>
          </p:nvPr>
        </p:nvSpPr>
        <p:spPr>
          <a:xfrm>
            <a:off x="298440" y="26172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usion --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88B5D-7E85-4ED6-BFBD-060B55B811BD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uropsychiatric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A13EF-E725-49A4-ABE3-A0238EFAAE39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uropsychiatric Adverse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89640" y="11509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arf Open-Lab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43 pati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1 (29%) pat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4 adverse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(1%) patients dis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519120" y="1221840"/>
            <a:ext cx="4038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dated I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02 pati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2 (13%)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 adverse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 (3%) patients dis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5C9E2-C5FE-4D58-A388-76811B52827E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d IS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Neuropsychiatric Ev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1" name=""/>
          <p:cNvGraphicFramePr/>
          <p:nvPr/>
        </p:nvGraphicFramePr>
        <p:xfrm>
          <a:off x="822240" y="1425600"/>
          <a:ext cx="7858080" cy="4854600"/>
        </p:xfrm>
        <a:graphic>
          <a:graphicData uri="http://schemas.openxmlformats.org/drawingml/2006/table">
            <a:tbl>
              <a:tblPr/>
              <a:tblGrid>
                <a:gridCol w="4079880"/>
                <a:gridCol w="377820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ART Term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Patient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7 Events in 52 Patients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7784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ressio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7784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  <a:tab algn="l" pos="240048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lucination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po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icide Attemp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noid Reactio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ychosi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c Depressive Reactio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ity Disorder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5B44B-595F-4160-B7CB-17667DBBA8B3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harf Open-Label Tr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Neuropsychiatric Ev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3" name=""/>
          <p:cNvGraphicFramePr/>
          <p:nvPr/>
        </p:nvGraphicFramePr>
        <p:xfrm>
          <a:off x="393840" y="1397160"/>
          <a:ext cx="8242200" cy="4819320"/>
        </p:xfrm>
        <a:graphic>
          <a:graphicData uri="http://schemas.openxmlformats.org/drawingml/2006/table">
            <a:tbl>
              <a:tblPr/>
              <a:tblGrid>
                <a:gridCol w="2746080"/>
                <a:gridCol w="2749680"/>
                <a:gridCol w="2746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ART Te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Pat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Ev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7784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7784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  <a:tab algn="l" pos="240048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otional L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ing Abn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rsonal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p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r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d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icide Attem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lucin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noid Re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7F88F-F950-4152-9193-90F4465A9818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uropsychiatry and Conf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st patients with major events had a pre-existing psychiatric disord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ny events do not qualify as neuropsychiatric sympto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ssignment of causality is difficul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colepsy – depression, psych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mulant med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study screening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5AE27-AB03-4E4D-929B-17CE5620407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685800" y="250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eep Disorders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eepwalking (Somnambulis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6A687-E56A-4E7F-9823-47A24B5D90AC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eepwalk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0720" y="159876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tegrated Tria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/402 (7%) patients reported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charf Tri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/143 (31.5%) patients reported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ed primarily in di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0C7AF-C356-4612-B7C1-4810770FB970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Narcolepsy - A Disabling Dis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684360" y="1203480"/>
            <a:ext cx="7788240" cy="2880"/>
          </a:xfrm>
          <a:prstGeom prst="line">
            <a:avLst/>
          </a:prstGeom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19040" y="1533600"/>
          <a:ext cx="8290080" cy="46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1533600"/>
                    <a:ext cx="829008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 rot="16200000">
            <a:off x="-525960" y="326124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F-36 S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01800" y="612144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dapted from Beusterien et al.  SLEEP 1999; 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91880" y="1706400"/>
            <a:ext cx="40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Quality of Life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80" y="6448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FE790-A696-4480-8963-BA6B6E65B182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eepwalk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ferential Diagno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ousal diso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EM parasomni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 parasomni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al complex seiz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longed absence seiz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bate-induced confusional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c behavior in narcolep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E9C91-8443-4E02-961B-C1ED53B2F1B3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95360" y="37944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eepwalking in Controlled T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2" name=""/>
          <p:cNvGraphicFramePr/>
          <p:nvPr/>
        </p:nvGraphicFramePr>
        <p:xfrm>
          <a:off x="355680" y="1587600"/>
          <a:ext cx="8307360" cy="3690720"/>
        </p:xfrm>
        <a:graphic>
          <a:graphicData uri="http://schemas.openxmlformats.org/drawingml/2006/table">
            <a:tbl>
              <a:tblPr/>
              <a:tblGrid>
                <a:gridCol w="2097000"/>
                <a:gridCol w="900000"/>
                <a:gridCol w="2027520"/>
                <a:gridCol w="1204920"/>
                <a:gridCol w="2077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Pati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b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dium Oxyb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epwal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epwal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C-GHB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C-SXB-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i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m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0.9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1.2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3A15A-DDDF-47D9-92A1-C7E003ABB75A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eepwalking --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idence in integrated safety database trials (7%) is similar to the range reported in the literature (4-10%) [Mahowald 1998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ary recording without medical classification possibly represents an increased reporting as sleepwalking events in the Scharf tr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ight increase in incidence over the general population may be representative of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yrem effects – increase in slow wave sl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 behavior disorder, common in narcolep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5FF4E-D084-4C68-A990-7E9005935B19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 to date: 604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524 excluding Scharf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se: 3-9 g/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on adverse ev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ache, unspecified pain, nausea, dizz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ss common adverse ev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miting, confusion, restlessness, agitation, sleepwalking, and enur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4F492-C875-4067-B421-556BE7C5FE8C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ll events have been reversib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 significant changes in lab values or vital signs identifi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 evidence of organ toxic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 consumption by other family memb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 Xyrem divers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97EB5-F2FB-4EB9-A8B2-645CF7E06C45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fety 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yrem is generally well-toler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ABB62-F524-4C7A-9738-109AF952304F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"/>
          <p:cNvSpPr/>
          <p:nvPr/>
        </p:nvSpPr>
        <p:spPr>
          <a:xfrm>
            <a:off x="1031760" y="228600"/>
            <a:ext cx="765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liam Houghton, M.D.</a:t>
            </a:r>
            <a:br>
              <a:rPr sz="4000"/>
            </a:b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ef Operating Officer &amp; Medical Offic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phan Medical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grated Summar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Benefits and Ris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1FAF3-A7DA-4EBE-BF8C-6C5FD91BF440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Courier New"/>
              </a:rPr>
              <a:t>Xyre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  <a:ea typeface="Courier New"/>
              </a:rPr>
              <a:t>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Courier New"/>
              </a:rPr>
              <a:t> (sodium oxybate) oral solution is indicated to reduce the incidence of cataplexy and to improve the symptom of daytime sleepines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Courier New"/>
              </a:rPr>
              <a:t>in patients with narcoleps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nefit-Risk Assessm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posed Ind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2B416-39BA-4B3C-93D3-6C291AD43D02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rcolepsy -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re disease with an incidence of approximately 0.05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urrently approved treatment for cataplex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DA priority re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f-label use of TCAs, SSRIs inadequ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imulants used to treat daytime sleepin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treat cataple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41304-E4F1-4017-BDE4-DA377042C1B9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nefits of Xy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stablished by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diary recor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or rating of overall clinical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measures of change in sleep architecture and daytime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E14DC-4942-4E87-88E0-8002D4642FA9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Driving Effects and Acci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20640" y="1114560"/>
            <a:ext cx="7788240" cy="2880"/>
          </a:xfrm>
          <a:prstGeom prst="line">
            <a:avLst/>
          </a:prstGeom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7640" y="1778040"/>
            <a:ext cx="79250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Do you drive?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    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48%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   6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Fall asleep driving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    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66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    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Cataplexy driving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    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29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Sleep paralysis driving  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12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Frequent near accidents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67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Led to accidents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     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37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    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Higher insurance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     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16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    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Suspended license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 7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    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49120" y="125100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Narcoleps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92080" y="6110280"/>
            <a:ext cx="80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: Broughton et al.  Psychophysiological aspects of sleep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rk Ridge, NJ: Noyes Medical Publ, 198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80" y="6448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BFC19-37EE-4CFB-B708-F91614808E62}" type="slidenum">
              <a:t>12</a:t>
            </a:fld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nical Benefits of Xy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hort and long-term control of cataplex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bjective and objective improvements in daytime sleepines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eneficial changes in sleep architectu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verall benefit of therapy indicated by investigator and patient evalu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F3995-29A1-4890-AD29-B91B96085F84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fety of Xy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well tole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mmon symptom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usea, dizziness, headaches, pain and con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common, but important are enuresis and sleepwa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dose relationship is suggested for nausea, confusion, enur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deaths associated with the drug in clinical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6C881-E6F3-4328-8473-625F3DBD874E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nambul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4590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ossible associ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y be associated with therapeutic dos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299880" y="1227240"/>
            <a:ext cx="8656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2CCCB-8545-4E19-840A-D20339DF63F4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ur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298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is a definite association with the drug that may have a dose-relationshi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liable association with seiz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vul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is no reliable link in seizure causality with Xyr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patients with known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patients with confounding factors (concomitant alcohol, benzodiazepine withdraw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299880" y="1138320"/>
            <a:ext cx="8656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F6CBB-F6DD-4C62-BF10-F842373E8605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 Mea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anges seen were small, not clinically significant and comparable across treatment group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 evidence of organ toxicity at therapeutic dos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6B520-943E-4E47-A722-7F7192425E2D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 evidence of kinetic or dynamic tolera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 drug-drug interactions observ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5C9BE-5949-4308-AC47-639D2AEBB616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drawal Phenome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rious syndrome in abuse population, relating to escalated dose and frequenc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 evidence in patients in clinical tria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5E74C-D7C5-4AE9-B9D4-820BD4935C4E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use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ell-recognized public health issu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 evidence in patients with narcolepsy, treated with Xyr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pany commitment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of federal and state contr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ricted distribu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and physician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833F4-11B1-46FF-BADC-6C58E34B6511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have established statistically and clinically significant evidence for the reduction in cataplexy, and improvement in daytime sleepiness when used concomitantly with stimulant med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yrem is generally well tolerated, with a safety profile well characterized in this orphan population with long-term 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edical benefits clearly outweigh the ri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82F10-C8F9-4671-B99B-E9E6249C5E56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685800" y="2806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bert Balster, Ph.D.</a:t>
            </a:r>
            <a:br>
              <a:rPr sz="40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College of Virgi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use Liability and Overdos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6A166-1B73-4E15-BF02-A266DCD2BD2E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79440" y="-3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Objective Measurement of 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96960" y="1304640"/>
            <a:ext cx="7788240" cy="3240"/>
          </a:xfrm>
          <a:prstGeom prst="line">
            <a:avLst/>
          </a:prstGeom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541520" y="1852200"/>
            <a:ext cx="1440" cy="3551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41520" y="5403960"/>
            <a:ext cx="61182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78000" y="2668680"/>
            <a:ext cx="4880160" cy="1074600"/>
          </a:xfrm>
          <a:custGeom>
            <a:avLst/>
            <a:gdLst/>
            <a:ahLst/>
            <a:rect l="l" t="t" r="r" b="b"/>
            <a:pathLst>
              <a:path w="3074" h="677">
                <a:moveTo>
                  <a:pt x="0" y="0"/>
                </a:moveTo>
                <a:lnTo>
                  <a:pt x="769" y="115"/>
                </a:lnTo>
                <a:lnTo>
                  <a:pt x="769" y="115"/>
                </a:lnTo>
                <a:lnTo>
                  <a:pt x="1537" y="448"/>
                </a:lnTo>
                <a:lnTo>
                  <a:pt x="1537" y="448"/>
                </a:lnTo>
                <a:lnTo>
                  <a:pt x="2306" y="677"/>
                </a:lnTo>
                <a:lnTo>
                  <a:pt x="2306" y="677"/>
                </a:lnTo>
                <a:lnTo>
                  <a:pt x="3074" y="344"/>
                </a:lnTo>
                <a:lnTo>
                  <a:pt x="3074" y="344"/>
                </a:lnTo>
              </a:path>
            </a:pathLst>
          </a:custGeom>
          <a:noFill/>
          <a:ln w="442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178000" y="2651040"/>
            <a:ext cx="4898880" cy="1109520"/>
            <a:chOff x="2178000" y="2651040"/>
            <a:chExt cx="4898880" cy="1109520"/>
          </a:xfrm>
        </p:grpSpPr>
        <p:sp>
          <p:nvSpPr>
            <p:cNvPr id="100" name=""/>
            <p:cNvSpPr/>
            <p:nvPr/>
          </p:nvSpPr>
          <p:spPr>
            <a:xfrm>
              <a:off x="2178000" y="2651040"/>
              <a:ext cx="19080" cy="54000"/>
            </a:xfrm>
            <a:custGeom>
              <a:avLst/>
              <a:gdLst/>
              <a:ahLst/>
              <a:rect l="l" t="t" r="r" b="b"/>
              <a:pathLst>
                <a:path w="12" h="34">
                  <a:moveTo>
                    <a:pt x="0" y="0"/>
                  </a:moveTo>
                  <a:lnTo>
                    <a:pt x="0" y="23"/>
                  </a:lnTo>
                  <a:lnTo>
                    <a:pt x="12" y="34"/>
                  </a:lnTo>
                  <a:lnTo>
                    <a:pt x="12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14360" y="2668320"/>
              <a:ext cx="1908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51080" y="2668320"/>
              <a:ext cx="1908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87440" y="2668320"/>
              <a:ext cx="19080" cy="5580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0"/>
                  </a:moveTo>
                  <a:lnTo>
                    <a:pt x="0" y="23"/>
                  </a:lnTo>
                  <a:lnTo>
                    <a:pt x="12" y="35"/>
                  </a:lnTo>
                  <a:lnTo>
                    <a:pt x="1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23800" y="2687400"/>
              <a:ext cx="1908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60520" y="2687400"/>
              <a:ext cx="1728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96880" y="2687400"/>
              <a:ext cx="1764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33600" y="2705040"/>
              <a:ext cx="1728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69960" y="2705040"/>
              <a:ext cx="1764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06680" y="2705040"/>
              <a:ext cx="1728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43040" y="2705040"/>
              <a:ext cx="17280" cy="5544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0" y="0"/>
                  </a:moveTo>
                  <a:lnTo>
                    <a:pt x="0" y="23"/>
                  </a:lnTo>
                  <a:lnTo>
                    <a:pt x="11" y="35"/>
                  </a:lnTo>
                  <a:lnTo>
                    <a:pt x="11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79400" y="2724120"/>
              <a:ext cx="1764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16120" y="2724120"/>
              <a:ext cx="1728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52480" y="2724120"/>
              <a:ext cx="1764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87400" y="2741400"/>
              <a:ext cx="1908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24120" y="2741400"/>
              <a:ext cx="1908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60480" y="2741400"/>
              <a:ext cx="1908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97200" y="2741400"/>
              <a:ext cx="18720" cy="5580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0"/>
                  </a:moveTo>
                  <a:lnTo>
                    <a:pt x="0" y="23"/>
                  </a:lnTo>
                  <a:lnTo>
                    <a:pt x="12" y="35"/>
                  </a:lnTo>
                  <a:lnTo>
                    <a:pt x="1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33560" y="2760480"/>
              <a:ext cx="1908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69920" y="2760480"/>
              <a:ext cx="1908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6640" y="2760480"/>
              <a:ext cx="1908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43000" y="2778120"/>
              <a:ext cx="1764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79720" y="2778120"/>
              <a:ext cx="36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97000" y="2778120"/>
              <a:ext cx="1908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33720" y="2778120"/>
              <a:ext cx="19080" cy="5544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0"/>
                  </a:moveTo>
                  <a:lnTo>
                    <a:pt x="0" y="23"/>
                  </a:lnTo>
                  <a:lnTo>
                    <a:pt x="12" y="35"/>
                  </a:lnTo>
                  <a:lnTo>
                    <a:pt x="1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70080" y="2797200"/>
              <a:ext cx="1908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06440" y="2797200"/>
              <a:ext cx="1908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43160" y="2797200"/>
              <a:ext cx="1908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79520" y="2814480"/>
              <a:ext cx="1908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16240" y="2814480"/>
              <a:ext cx="1908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52600" y="2814480"/>
              <a:ext cx="1764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89320" y="2814480"/>
              <a:ext cx="17280" cy="5400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0" y="0"/>
                  </a:moveTo>
                  <a:lnTo>
                    <a:pt x="0" y="23"/>
                  </a:lnTo>
                  <a:lnTo>
                    <a:pt x="11" y="34"/>
                  </a:lnTo>
                  <a:lnTo>
                    <a:pt x="11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25680" y="2833560"/>
              <a:ext cx="1728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62040" y="2833560"/>
              <a:ext cx="1764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79680" y="283356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12" y="0"/>
                  </a:moveTo>
                  <a:lnTo>
                    <a:pt x="0" y="22"/>
                  </a:lnTo>
                  <a:lnTo>
                    <a:pt x="12" y="34"/>
                  </a:lnTo>
                  <a:lnTo>
                    <a:pt x="23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16040" y="2850840"/>
              <a:ext cx="3672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12" y="0"/>
                  </a:moveTo>
                  <a:lnTo>
                    <a:pt x="0" y="23"/>
                  </a:lnTo>
                  <a:lnTo>
                    <a:pt x="12" y="34"/>
                  </a:lnTo>
                  <a:lnTo>
                    <a:pt x="23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52760" y="286848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2" y="0"/>
                  </a:moveTo>
                  <a:lnTo>
                    <a:pt x="0" y="23"/>
                  </a:lnTo>
                  <a:lnTo>
                    <a:pt x="12" y="23"/>
                  </a:lnTo>
                  <a:lnTo>
                    <a:pt x="2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89120" y="288756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2" y="0"/>
                  </a:moveTo>
                  <a:lnTo>
                    <a:pt x="0" y="23"/>
                  </a:lnTo>
                  <a:lnTo>
                    <a:pt x="12" y="23"/>
                  </a:lnTo>
                  <a:lnTo>
                    <a:pt x="2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25840" y="290484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2" y="0"/>
                  </a:moveTo>
                  <a:lnTo>
                    <a:pt x="0" y="23"/>
                  </a:lnTo>
                  <a:lnTo>
                    <a:pt x="12" y="23"/>
                  </a:lnTo>
                  <a:lnTo>
                    <a:pt x="2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62200" y="2904840"/>
              <a:ext cx="36360" cy="5580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11" y="0"/>
                  </a:moveTo>
                  <a:lnTo>
                    <a:pt x="0" y="23"/>
                  </a:lnTo>
                  <a:lnTo>
                    <a:pt x="11" y="35"/>
                  </a:lnTo>
                  <a:lnTo>
                    <a:pt x="23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9840" y="292392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12" y="0"/>
                  </a:moveTo>
                  <a:lnTo>
                    <a:pt x="0" y="23"/>
                  </a:lnTo>
                  <a:lnTo>
                    <a:pt x="12" y="34"/>
                  </a:lnTo>
                  <a:lnTo>
                    <a:pt x="23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616200" y="294156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2" y="0"/>
                  </a:moveTo>
                  <a:lnTo>
                    <a:pt x="0" y="23"/>
                  </a:lnTo>
                  <a:lnTo>
                    <a:pt x="12" y="23"/>
                  </a:lnTo>
                  <a:lnTo>
                    <a:pt x="2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52560" y="296064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2" y="0"/>
                  </a:moveTo>
                  <a:lnTo>
                    <a:pt x="0" y="23"/>
                  </a:lnTo>
                  <a:lnTo>
                    <a:pt x="12" y="23"/>
                  </a:lnTo>
                  <a:lnTo>
                    <a:pt x="2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89280" y="297792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2" y="0"/>
                  </a:moveTo>
                  <a:lnTo>
                    <a:pt x="0" y="23"/>
                  </a:lnTo>
                  <a:lnTo>
                    <a:pt x="12" y="23"/>
                  </a:lnTo>
                  <a:lnTo>
                    <a:pt x="2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25640" y="2977920"/>
              <a:ext cx="36720" cy="5580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12" y="0"/>
                  </a:moveTo>
                  <a:lnTo>
                    <a:pt x="0" y="23"/>
                  </a:lnTo>
                  <a:lnTo>
                    <a:pt x="12" y="35"/>
                  </a:lnTo>
                  <a:lnTo>
                    <a:pt x="23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62360" y="299700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12" y="0"/>
                  </a:moveTo>
                  <a:lnTo>
                    <a:pt x="0" y="23"/>
                  </a:lnTo>
                  <a:lnTo>
                    <a:pt x="12" y="34"/>
                  </a:lnTo>
                  <a:lnTo>
                    <a:pt x="23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98720" y="3014640"/>
              <a:ext cx="19080" cy="3636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12" y="0"/>
                  </a:moveTo>
                  <a:lnTo>
                    <a:pt x="0" y="23"/>
                  </a:lnTo>
                  <a:lnTo>
                    <a:pt x="0" y="2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17800" y="303372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2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52720" y="305100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2" y="0"/>
                  </a:moveTo>
                  <a:lnTo>
                    <a:pt x="0" y="23"/>
                  </a:lnTo>
                  <a:lnTo>
                    <a:pt x="12" y="23"/>
                  </a:lnTo>
                  <a:lnTo>
                    <a:pt x="2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89080" y="3051000"/>
              <a:ext cx="36720" cy="5544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12" y="0"/>
                  </a:moveTo>
                  <a:lnTo>
                    <a:pt x="0" y="23"/>
                  </a:lnTo>
                  <a:lnTo>
                    <a:pt x="12" y="35"/>
                  </a:lnTo>
                  <a:lnTo>
                    <a:pt x="23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25800" y="307008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12" y="0"/>
                  </a:moveTo>
                  <a:lnTo>
                    <a:pt x="0" y="23"/>
                  </a:lnTo>
                  <a:lnTo>
                    <a:pt x="12" y="34"/>
                  </a:lnTo>
                  <a:lnTo>
                    <a:pt x="23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62160" y="308772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2" y="0"/>
                  </a:moveTo>
                  <a:lnTo>
                    <a:pt x="0" y="23"/>
                  </a:lnTo>
                  <a:lnTo>
                    <a:pt x="12" y="23"/>
                  </a:lnTo>
                  <a:lnTo>
                    <a:pt x="2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98880" y="3106440"/>
              <a:ext cx="19080" cy="34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12" y="0"/>
                  </a:moveTo>
                  <a:lnTo>
                    <a:pt x="0" y="22"/>
                  </a:lnTo>
                  <a:lnTo>
                    <a:pt x="0" y="2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17960" y="312408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54320" y="312408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11" y="0"/>
                  </a:moveTo>
                  <a:lnTo>
                    <a:pt x="0" y="23"/>
                  </a:lnTo>
                  <a:lnTo>
                    <a:pt x="11" y="34"/>
                  </a:lnTo>
                  <a:lnTo>
                    <a:pt x="23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0680" y="3141360"/>
              <a:ext cx="36720" cy="5580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11" y="0"/>
                  </a:moveTo>
                  <a:lnTo>
                    <a:pt x="0" y="23"/>
                  </a:lnTo>
                  <a:lnTo>
                    <a:pt x="11" y="35"/>
                  </a:lnTo>
                  <a:lnTo>
                    <a:pt x="23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27400" y="316044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2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62320" y="317808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2" y="0"/>
                  </a:moveTo>
                  <a:lnTo>
                    <a:pt x="0" y="23"/>
                  </a:lnTo>
                  <a:lnTo>
                    <a:pt x="12" y="23"/>
                  </a:lnTo>
                  <a:lnTo>
                    <a:pt x="2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98680" y="3197160"/>
              <a:ext cx="19080" cy="3636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12" y="0"/>
                  </a:moveTo>
                  <a:lnTo>
                    <a:pt x="0" y="23"/>
                  </a:lnTo>
                  <a:lnTo>
                    <a:pt x="0" y="2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17760" y="3197160"/>
              <a:ext cx="3672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11" y="0"/>
                  </a:moveTo>
                  <a:lnTo>
                    <a:pt x="0" y="23"/>
                  </a:lnTo>
                  <a:lnTo>
                    <a:pt x="11" y="34"/>
                  </a:lnTo>
                  <a:lnTo>
                    <a:pt x="23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54480" y="3214440"/>
              <a:ext cx="36360" cy="5580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11" y="0"/>
                  </a:moveTo>
                  <a:lnTo>
                    <a:pt x="0" y="23"/>
                  </a:lnTo>
                  <a:lnTo>
                    <a:pt x="11" y="35"/>
                  </a:lnTo>
                  <a:lnTo>
                    <a:pt x="23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90840" y="3233520"/>
              <a:ext cx="3672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27560" y="325116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363920" y="327024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00280" y="3270240"/>
              <a:ext cx="17640" cy="5400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11" y="0"/>
                  </a:moveTo>
                  <a:lnTo>
                    <a:pt x="0" y="23"/>
                  </a:lnTo>
                  <a:lnTo>
                    <a:pt x="0" y="34"/>
                  </a:lnTo>
                  <a:lnTo>
                    <a:pt x="11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17920" y="3287520"/>
              <a:ext cx="36360" cy="5544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12" y="0"/>
                  </a:moveTo>
                  <a:lnTo>
                    <a:pt x="0" y="23"/>
                  </a:lnTo>
                  <a:lnTo>
                    <a:pt x="12" y="35"/>
                  </a:lnTo>
                  <a:lnTo>
                    <a:pt x="23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454280" y="330660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91000" y="332424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27360" y="3342960"/>
              <a:ext cx="3672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64080" y="334296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11" y="0"/>
                  </a:moveTo>
                  <a:lnTo>
                    <a:pt x="0" y="23"/>
                  </a:lnTo>
                  <a:lnTo>
                    <a:pt x="11" y="34"/>
                  </a:lnTo>
                  <a:lnTo>
                    <a:pt x="23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00440" y="3360600"/>
              <a:ext cx="17280" cy="5544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11" y="0"/>
                  </a:moveTo>
                  <a:lnTo>
                    <a:pt x="0" y="23"/>
                  </a:lnTo>
                  <a:lnTo>
                    <a:pt x="0" y="35"/>
                  </a:lnTo>
                  <a:lnTo>
                    <a:pt x="11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17720" y="337968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2" y="0"/>
                  </a:moveTo>
                  <a:lnTo>
                    <a:pt x="0" y="23"/>
                  </a:lnTo>
                  <a:lnTo>
                    <a:pt x="12" y="23"/>
                  </a:lnTo>
                  <a:lnTo>
                    <a:pt x="2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54440" y="337968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12" y="0"/>
                  </a:moveTo>
                  <a:lnTo>
                    <a:pt x="0" y="23"/>
                  </a:lnTo>
                  <a:lnTo>
                    <a:pt x="12" y="34"/>
                  </a:lnTo>
                  <a:lnTo>
                    <a:pt x="23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90800" y="3396960"/>
              <a:ext cx="3672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2" y="0"/>
                  </a:moveTo>
                  <a:lnTo>
                    <a:pt x="0" y="23"/>
                  </a:lnTo>
                  <a:lnTo>
                    <a:pt x="12" y="23"/>
                  </a:lnTo>
                  <a:lnTo>
                    <a:pt x="2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27520" y="339696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11" y="0"/>
                  </a:moveTo>
                  <a:lnTo>
                    <a:pt x="0" y="23"/>
                  </a:lnTo>
                  <a:lnTo>
                    <a:pt x="11" y="34"/>
                  </a:lnTo>
                  <a:lnTo>
                    <a:pt x="23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63880" y="3416040"/>
              <a:ext cx="3672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1" y="0"/>
                  </a:moveTo>
                  <a:lnTo>
                    <a:pt x="0" y="22"/>
                  </a:lnTo>
                  <a:lnTo>
                    <a:pt x="11" y="22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343368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36960" y="343368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73320" y="3450960"/>
              <a:ext cx="3672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10040" y="345096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46400" y="3470040"/>
              <a:ext cx="3672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64040" y="347004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12" y="0"/>
                  </a:moveTo>
                  <a:lnTo>
                    <a:pt x="0" y="23"/>
                  </a:lnTo>
                  <a:lnTo>
                    <a:pt x="12" y="34"/>
                  </a:lnTo>
                  <a:lnTo>
                    <a:pt x="23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00400" y="348768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2" y="0"/>
                  </a:moveTo>
                  <a:lnTo>
                    <a:pt x="0" y="23"/>
                  </a:lnTo>
                  <a:lnTo>
                    <a:pt x="12" y="23"/>
                  </a:lnTo>
                  <a:lnTo>
                    <a:pt x="2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37120" y="3487680"/>
              <a:ext cx="36360" cy="5544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11" y="0"/>
                  </a:moveTo>
                  <a:lnTo>
                    <a:pt x="0" y="23"/>
                  </a:lnTo>
                  <a:lnTo>
                    <a:pt x="11" y="35"/>
                  </a:lnTo>
                  <a:lnTo>
                    <a:pt x="23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73480" y="350676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110200" y="352404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46560" y="352404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82920" y="3543120"/>
              <a:ext cx="3672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19640" y="354312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56000" y="356076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92720" y="3560760"/>
              <a:ext cx="36360" cy="5544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11" y="0"/>
                  </a:moveTo>
                  <a:lnTo>
                    <a:pt x="0" y="23"/>
                  </a:lnTo>
                  <a:lnTo>
                    <a:pt x="11" y="35"/>
                  </a:lnTo>
                  <a:lnTo>
                    <a:pt x="23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29080" y="357984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2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64000" y="3579840"/>
              <a:ext cx="36360" cy="5364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12" y="0"/>
                  </a:moveTo>
                  <a:lnTo>
                    <a:pt x="0" y="23"/>
                  </a:lnTo>
                  <a:lnTo>
                    <a:pt x="12" y="34"/>
                  </a:lnTo>
                  <a:lnTo>
                    <a:pt x="23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00360" y="3597120"/>
              <a:ext cx="19080" cy="3636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12" y="0"/>
                  </a:moveTo>
                  <a:lnTo>
                    <a:pt x="0" y="23"/>
                  </a:lnTo>
                  <a:lnTo>
                    <a:pt x="0" y="2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19440" y="361620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56160" y="361620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492520" y="3633480"/>
              <a:ext cx="3672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29240" y="3633480"/>
              <a:ext cx="36360" cy="5580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11" y="0"/>
                  </a:moveTo>
                  <a:lnTo>
                    <a:pt x="0" y="23"/>
                  </a:lnTo>
                  <a:lnTo>
                    <a:pt x="11" y="35"/>
                  </a:lnTo>
                  <a:lnTo>
                    <a:pt x="23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65600" y="3652560"/>
              <a:ext cx="3672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602320" y="365256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11" y="0"/>
                  </a:moveTo>
                  <a:lnTo>
                    <a:pt x="0" y="23"/>
                  </a:lnTo>
                  <a:lnTo>
                    <a:pt x="11" y="34"/>
                  </a:lnTo>
                  <a:lnTo>
                    <a:pt x="23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38680" y="367020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2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73600" y="3670200"/>
              <a:ext cx="36360" cy="5544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12" y="0"/>
                  </a:moveTo>
                  <a:lnTo>
                    <a:pt x="0" y="23"/>
                  </a:lnTo>
                  <a:lnTo>
                    <a:pt x="12" y="35"/>
                  </a:lnTo>
                  <a:lnTo>
                    <a:pt x="23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09960" y="368928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2" y="0"/>
                  </a:moveTo>
                  <a:lnTo>
                    <a:pt x="0" y="23"/>
                  </a:lnTo>
                  <a:lnTo>
                    <a:pt x="12" y="23"/>
                  </a:lnTo>
                  <a:lnTo>
                    <a:pt x="2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46680" y="370656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2" y="0"/>
                  </a:moveTo>
                  <a:lnTo>
                    <a:pt x="0" y="23"/>
                  </a:lnTo>
                  <a:lnTo>
                    <a:pt x="12" y="23"/>
                  </a:lnTo>
                  <a:lnTo>
                    <a:pt x="2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83040" y="3706560"/>
              <a:ext cx="3672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2" y="0"/>
                  </a:moveTo>
                  <a:lnTo>
                    <a:pt x="0" y="23"/>
                  </a:lnTo>
                  <a:lnTo>
                    <a:pt x="12" y="23"/>
                  </a:lnTo>
                  <a:lnTo>
                    <a:pt x="2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819760" y="3725640"/>
              <a:ext cx="19080" cy="34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12" y="0"/>
                  </a:moveTo>
                  <a:lnTo>
                    <a:pt x="0" y="22"/>
                  </a:lnTo>
                  <a:lnTo>
                    <a:pt x="0" y="2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19760" y="372564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2" y="0"/>
                  </a:moveTo>
                  <a:lnTo>
                    <a:pt x="0" y="22"/>
                  </a:lnTo>
                  <a:lnTo>
                    <a:pt x="23" y="2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56120" y="3706560"/>
              <a:ext cx="3672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0" y="12"/>
                  </a:moveTo>
                  <a:lnTo>
                    <a:pt x="12" y="34"/>
                  </a:lnTo>
                  <a:lnTo>
                    <a:pt x="23" y="23"/>
                  </a:lnTo>
                  <a:lnTo>
                    <a:pt x="12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92840" y="368928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0" y="11"/>
                  </a:moveTo>
                  <a:lnTo>
                    <a:pt x="12" y="34"/>
                  </a:lnTo>
                  <a:lnTo>
                    <a:pt x="23" y="23"/>
                  </a:lnTo>
                  <a:lnTo>
                    <a:pt x="1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11560" y="368928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0"/>
                  </a:moveTo>
                  <a:lnTo>
                    <a:pt x="11" y="23"/>
                  </a:lnTo>
                  <a:lnTo>
                    <a:pt x="22" y="23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6480" y="367020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2" y="23"/>
                  </a:lnTo>
                  <a:lnTo>
                    <a:pt x="23" y="2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983200" y="365256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2" y="23"/>
                  </a:lnTo>
                  <a:lnTo>
                    <a:pt x="23" y="2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19560" y="3633480"/>
              <a:ext cx="36720" cy="5580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0" y="12"/>
                  </a:moveTo>
                  <a:lnTo>
                    <a:pt x="12" y="35"/>
                  </a:lnTo>
                  <a:lnTo>
                    <a:pt x="23" y="23"/>
                  </a:lnTo>
                  <a:lnTo>
                    <a:pt x="12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56280" y="361620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0" y="11"/>
                  </a:moveTo>
                  <a:lnTo>
                    <a:pt x="12" y="34"/>
                  </a:lnTo>
                  <a:lnTo>
                    <a:pt x="23" y="23"/>
                  </a:lnTo>
                  <a:lnTo>
                    <a:pt x="1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92640" y="361620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2" y="23"/>
                  </a:lnTo>
                  <a:lnTo>
                    <a:pt x="23" y="2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11720" y="359712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1" y="23"/>
                  </a:lnTo>
                  <a:lnTo>
                    <a:pt x="23" y="23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48080" y="357984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1" y="23"/>
                  </a:lnTo>
                  <a:lnTo>
                    <a:pt x="23" y="23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84800" y="3560760"/>
              <a:ext cx="36360" cy="5544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0" y="12"/>
                  </a:moveTo>
                  <a:lnTo>
                    <a:pt x="11" y="35"/>
                  </a:lnTo>
                  <a:lnTo>
                    <a:pt x="23" y="23"/>
                  </a:lnTo>
                  <a:lnTo>
                    <a:pt x="11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21160" y="3543120"/>
              <a:ext cx="34920" cy="540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0" y="11"/>
                  </a:moveTo>
                  <a:lnTo>
                    <a:pt x="11" y="34"/>
                  </a:lnTo>
                  <a:lnTo>
                    <a:pt x="22" y="23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56080" y="3543120"/>
              <a:ext cx="3672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2" y="23"/>
                  </a:lnTo>
                  <a:lnTo>
                    <a:pt x="23" y="2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92800" y="352404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2" y="23"/>
                  </a:lnTo>
                  <a:lnTo>
                    <a:pt x="23" y="2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1880" y="350676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1" y="23"/>
                  </a:lnTo>
                  <a:lnTo>
                    <a:pt x="23" y="23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348240" y="3487680"/>
              <a:ext cx="36720" cy="5544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0" y="12"/>
                  </a:moveTo>
                  <a:lnTo>
                    <a:pt x="11" y="35"/>
                  </a:lnTo>
                  <a:lnTo>
                    <a:pt x="23" y="23"/>
                  </a:lnTo>
                  <a:lnTo>
                    <a:pt x="11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84960" y="347004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0" y="11"/>
                  </a:moveTo>
                  <a:lnTo>
                    <a:pt x="11" y="34"/>
                  </a:lnTo>
                  <a:lnTo>
                    <a:pt x="23" y="23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21320" y="347004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1" y="23"/>
                  </a:lnTo>
                  <a:lnTo>
                    <a:pt x="23" y="23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57680" y="3450960"/>
              <a:ext cx="3672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1" y="23"/>
                  </a:lnTo>
                  <a:lnTo>
                    <a:pt x="23" y="23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94400" y="343368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1" y="23"/>
                  </a:lnTo>
                  <a:lnTo>
                    <a:pt x="23" y="23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11680" y="3416040"/>
              <a:ext cx="3672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0" y="11"/>
                  </a:moveTo>
                  <a:lnTo>
                    <a:pt x="12" y="34"/>
                  </a:lnTo>
                  <a:lnTo>
                    <a:pt x="23" y="22"/>
                  </a:lnTo>
                  <a:lnTo>
                    <a:pt x="1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48400" y="339696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0" y="12"/>
                  </a:moveTo>
                  <a:lnTo>
                    <a:pt x="11" y="34"/>
                  </a:lnTo>
                  <a:lnTo>
                    <a:pt x="23" y="23"/>
                  </a:lnTo>
                  <a:lnTo>
                    <a:pt x="11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84760" y="3396960"/>
              <a:ext cx="3672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1" y="23"/>
                  </a:lnTo>
                  <a:lnTo>
                    <a:pt x="23" y="23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21480" y="337968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1" y="23"/>
                  </a:lnTo>
                  <a:lnTo>
                    <a:pt x="23" y="23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57840" y="336060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1" y="23"/>
                  </a:lnTo>
                  <a:lnTo>
                    <a:pt x="23" y="23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694200" y="3342960"/>
              <a:ext cx="3672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0" y="11"/>
                  </a:moveTo>
                  <a:lnTo>
                    <a:pt x="11" y="34"/>
                  </a:lnTo>
                  <a:lnTo>
                    <a:pt x="23" y="23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11840" y="3324240"/>
              <a:ext cx="36360" cy="5544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0" y="12"/>
                  </a:moveTo>
                  <a:lnTo>
                    <a:pt x="12" y="35"/>
                  </a:lnTo>
                  <a:lnTo>
                    <a:pt x="23" y="23"/>
                  </a:lnTo>
                  <a:lnTo>
                    <a:pt x="12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48200" y="332424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2" y="23"/>
                  </a:lnTo>
                  <a:lnTo>
                    <a:pt x="23" y="2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84920" y="330660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2" y="23"/>
                  </a:lnTo>
                  <a:lnTo>
                    <a:pt x="23" y="2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821280" y="3287520"/>
              <a:ext cx="3672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1" y="23"/>
                  </a:lnTo>
                  <a:lnTo>
                    <a:pt x="23" y="23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58000" y="327024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0" y="11"/>
                  </a:moveTo>
                  <a:lnTo>
                    <a:pt x="11" y="34"/>
                  </a:lnTo>
                  <a:lnTo>
                    <a:pt x="23" y="23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94360" y="3251160"/>
              <a:ext cx="36360" cy="5544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0" y="12"/>
                  </a:moveTo>
                  <a:lnTo>
                    <a:pt x="11" y="35"/>
                  </a:lnTo>
                  <a:lnTo>
                    <a:pt x="23" y="23"/>
                  </a:lnTo>
                  <a:lnTo>
                    <a:pt x="11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12000" y="325116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2" y="23"/>
                  </a:lnTo>
                  <a:lnTo>
                    <a:pt x="23" y="2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48360" y="323352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2" y="23"/>
                  </a:lnTo>
                  <a:lnTo>
                    <a:pt x="23" y="2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84720" y="3214440"/>
              <a:ext cx="3672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2" y="23"/>
                  </a:lnTo>
                  <a:lnTo>
                    <a:pt x="23" y="2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21440" y="319716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0" y="11"/>
                  </a:moveTo>
                  <a:lnTo>
                    <a:pt x="12" y="34"/>
                  </a:lnTo>
                  <a:lnTo>
                    <a:pt x="23" y="23"/>
                  </a:lnTo>
                  <a:lnTo>
                    <a:pt x="1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57800" y="3197160"/>
              <a:ext cx="19080" cy="3636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0"/>
                  </a:moveTo>
                  <a:lnTo>
                    <a:pt x="12" y="23"/>
                  </a:lnTo>
                  <a:lnTo>
                    <a:pt x="12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087640" y="2577960"/>
            <a:ext cx="182520" cy="18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087640" y="2577960"/>
            <a:ext cx="199800" cy="200160"/>
          </a:xfrm>
          <a:prstGeom prst="ellipse">
            <a:avLst/>
          </a:pr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06600" y="2760840"/>
            <a:ext cx="182880" cy="18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06600" y="2760840"/>
            <a:ext cx="201600" cy="199800"/>
          </a:xfrm>
          <a:prstGeom prst="ellipse">
            <a:avLst/>
          </a:pr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46680" y="3652920"/>
            <a:ext cx="182520" cy="18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46680" y="3652920"/>
            <a:ext cx="200160" cy="199800"/>
          </a:xfrm>
          <a:prstGeom prst="ellipse">
            <a:avLst/>
          </a:pr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967440" y="3124080"/>
            <a:ext cx="181080" cy="18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67440" y="3124080"/>
            <a:ext cx="200160" cy="200160"/>
          </a:xfrm>
          <a:prstGeom prst="ellipse">
            <a:avLst/>
          </a:pr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160720" y="4675320"/>
            <a:ext cx="4879800" cy="145800"/>
          </a:xfrm>
          <a:custGeom>
            <a:avLst/>
            <a:gdLst/>
            <a:ahLst/>
            <a:rect l="l" t="t" r="r" b="b"/>
            <a:pathLst>
              <a:path w="3074" h="92">
                <a:moveTo>
                  <a:pt x="0" y="12"/>
                </a:moveTo>
                <a:lnTo>
                  <a:pt x="768" y="34"/>
                </a:lnTo>
                <a:lnTo>
                  <a:pt x="1537" y="92"/>
                </a:lnTo>
                <a:lnTo>
                  <a:pt x="2305" y="12"/>
                </a:lnTo>
                <a:lnTo>
                  <a:pt x="3074" y="0"/>
                </a:lnTo>
              </a:path>
            </a:pathLst>
          </a:custGeom>
          <a:noFill/>
          <a:ln w="44280">
            <a:solidFill>
              <a:srgbClr val="fcf3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04920" y="4638600"/>
            <a:ext cx="146160" cy="146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04920" y="4638600"/>
            <a:ext cx="165240" cy="163440"/>
          </a:xfrm>
          <a:prstGeom prst="rect">
            <a:avLst/>
          </a:pr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25680" y="4675320"/>
            <a:ext cx="146160" cy="14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25680" y="4675320"/>
            <a:ext cx="163800" cy="163440"/>
          </a:xfrm>
          <a:prstGeom prst="rect">
            <a:avLst/>
          </a:prstGeom>
          <a:solidFill>
            <a:srgbClr val="ffff00"/>
          </a:solidFill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45000" y="4765680"/>
            <a:ext cx="14616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45000" y="4765680"/>
            <a:ext cx="165240" cy="165240"/>
          </a:xfrm>
          <a:prstGeom prst="rect">
            <a:avLst/>
          </a:prstGeom>
          <a:solidFill>
            <a:srgbClr val="ffff00"/>
          </a:solidFill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65760" y="4638600"/>
            <a:ext cx="14616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65760" y="4638600"/>
            <a:ext cx="163440" cy="163440"/>
          </a:xfrm>
          <a:prstGeom prst="rect">
            <a:avLst/>
          </a:prstGeom>
          <a:solidFill>
            <a:srgbClr val="ffff00"/>
          </a:solidFill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985080" y="4621320"/>
            <a:ext cx="14580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85080" y="4621320"/>
            <a:ext cx="163440" cy="163440"/>
          </a:xfrm>
          <a:prstGeom prst="rect">
            <a:avLst/>
          </a:prstGeom>
          <a:solidFill>
            <a:srgbClr val="ffff00"/>
          </a:solidFill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34400" y="5667480"/>
            <a:ext cx="60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am       12 am      2 pm       4 pm     6 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51040" y="184788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36720" y="348300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88120" y="2657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90800" y="5273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065600" y="4359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31040" y="484200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arcolep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788000" y="2843280"/>
            <a:ext cx="12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49600" y="3255840"/>
            <a:ext cx="201600" cy="200160"/>
          </a:xfrm>
          <a:prstGeom prst="ellipse">
            <a:avLst/>
          </a:prstGeom>
          <a:solidFill>
            <a:srgbClr val="ffffff"/>
          </a:solidFill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66720" y="4527720"/>
            <a:ext cx="6118200" cy="14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41520" y="3994200"/>
            <a:ext cx="6118200" cy="14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80" y="6448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C562F-86FB-493C-8150-7C6191E1A4C3}" type="slidenum">
              <a:t>13</a:t>
            </a:fld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use Liability of Xy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current abuse of GHB-like substances probably reflects their ready availability more than their pharmacolog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f approved, Xyrem will not contribute to the public health problem of abuse of GHB-like substanc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0C255-48E6-4E8B-B63C-4944555DC186}" type="slidenum">
              <a:t>130</a:t>
            </a:fld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HB and GHB-like Subst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amma hydroxybutyrate (GHB)(SCH III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ecurso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ma butyrolactone (GB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4-butanediol (1,4-B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trahydrofuran (THF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ma hydroxyvalerate (GH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3B551-3474-4F1D-8B39-A4906B77456D}" type="slidenum">
              <a:t>131</a:t>
            </a:fld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use of GHB-like Substances Result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arily From Avail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tail sa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HB and precursors were readily available through internet sourc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ecursors have wide commercial u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y of these precursors can easily be converted to GHB by anyo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se precursors themselves are now widely abus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3DB27-3EBC-4815-A8FC-561A6AA88C72}" type="slidenum">
              <a:t>132</a:t>
            </a:fld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/>
          </p:nvPr>
        </p:nvSpPr>
        <p:spPr>
          <a:xfrm>
            <a:off x="304560" y="2590920"/>
            <a:ext cx="84582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cientific laboratory studies of GHB suggest low inherent abuse potential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DD916-FB96-47BD-ACC2-2237E1925916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ientific Data on the Abus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tential of GH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Unique Pharmacolog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Drug Discriminatio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- lack  of equivalence to abused depressa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Self-Administratio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- weak reinforcing effe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Physical Dependenc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- more difficult to produce than with abused depressa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AE7B3-58F2-4769-BBAF-FAA8F3300E4E}" type="slidenum">
              <a:t>134</a:t>
            </a:fld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s From Abus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tential Stud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HB has abuse potential generally consistent with Schedule IV drugs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milar conclusion reached by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recommended Schedule 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Commission places GHB in Schedule IV under the Psychotropic Con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AED78-0475-448C-8702-A9E482AE6D81}" type="slidenum">
              <a:t>135</a:t>
            </a:fld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tential Sources of Abuse  of Xy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buse or misuse among pati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version for illicit u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7A53C-1570-4B26-93C9-81491E26B1B4}" type="slidenum">
              <a:t>136</a:t>
            </a:fld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use Among Patients is Unlike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, substances given as therapeutic treatment rarely are abused by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ports of abuse in Xyrem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colepsy patients already being treated with medications with abuse 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duration of action requires multiple daily administrations to maintain elevated levels in the body necessary for physical 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5A4C1-D355-4F1B-A8D2-2CCD091FCF9C}" type="slidenum">
              <a:t>137</a:t>
            </a:fld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llicit Diversion of Xyrem Unlike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 evidence of diversion of Xyre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tient Success Program for distribution should prevent divers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Xyrem would be an insignificant source of GHB-like substances to the general publi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78AE7-B003-49FB-83B9-831B53D9DB04}" type="slidenum">
              <a:t>138</a:t>
            </a:fld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HB, GBL and 1,4- Butanedi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ison of Production Quant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0" name=""/>
          <p:cNvGraphicFramePr/>
          <p:nvPr/>
        </p:nvGraphicFramePr>
        <p:xfrm>
          <a:off x="493560" y="1627200"/>
          <a:ext cx="8156880" cy="431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627200"/>
                    <a:ext cx="81568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2" name=""/>
          <p:cNvSpPr/>
          <p:nvPr/>
        </p:nvSpPr>
        <p:spPr>
          <a:xfrm rot="16200000">
            <a:off x="-1033920" y="3335760"/>
            <a:ext cx="29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ual Production (k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2260440" y="5641920"/>
            <a:ext cx="1686240" cy="33732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377,000,000 k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4312800" y="5614920"/>
            <a:ext cx="1488240" cy="33732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83,000,000 k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6141240" y="5614920"/>
            <a:ext cx="1093680" cy="33732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82,125 k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0641D-534C-4F00-8D2D-19E81BBF4E88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Abnormal Regulation of REM Sl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52560" y="5753160"/>
            <a:ext cx="73533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≥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2 SOREMPs is typical for narcoleps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43000" y="1828800"/>
            <a:ext cx="8237520" cy="3768840"/>
            <a:chOff x="243000" y="1828800"/>
            <a:chExt cx="8237520" cy="3768840"/>
          </a:xfrm>
        </p:grpSpPr>
        <p:pic>
          <p:nvPicPr>
            <p:cNvPr id="281" name="SORP" descr=""/>
            <p:cNvPicPr/>
            <p:nvPr/>
          </p:nvPicPr>
          <p:blipFill>
            <a:blip r:embed="rId1"/>
            <a:stretch/>
          </p:blipFill>
          <p:spPr>
            <a:xfrm>
              <a:off x="1776960" y="1828800"/>
              <a:ext cx="6703560" cy="3768840"/>
            </a:xfrm>
            <a:prstGeom prst="rect">
              <a:avLst/>
            </a:prstGeom>
            <a:ln w="19080">
              <a:solidFill>
                <a:srgbClr val="00dfca"/>
              </a:solidFill>
              <a:miter/>
            </a:ln>
          </p:spPr>
        </p:pic>
        <p:grpSp>
          <p:nvGrpSpPr>
            <p:cNvPr id="282" name=""/>
            <p:cNvGrpSpPr/>
            <p:nvPr/>
          </p:nvGrpSpPr>
          <p:grpSpPr>
            <a:xfrm>
              <a:off x="243000" y="1896120"/>
              <a:ext cx="1524600" cy="3677040"/>
              <a:chOff x="243000" y="1896120"/>
              <a:chExt cx="1524600" cy="3677040"/>
            </a:xfrm>
          </p:grpSpPr>
          <p:sp>
            <p:nvSpPr>
              <p:cNvPr id="283" name=""/>
              <p:cNvSpPr/>
              <p:nvPr/>
            </p:nvSpPr>
            <p:spPr>
              <a:xfrm>
                <a:off x="332640" y="1896120"/>
                <a:ext cx="1275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Central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E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017360" y="2722320"/>
                <a:ext cx="58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LO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59560" y="2298600"/>
                <a:ext cx="13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Occipital EE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994320" y="3173040"/>
                <a:ext cx="606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RO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06600" y="3581280"/>
                <a:ext cx="107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Chin EM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43000" y="4016880"/>
                <a:ext cx="1524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R. + L. AT EM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122120" y="4884120"/>
                <a:ext cx="460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H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006560" y="4449960"/>
                <a:ext cx="594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C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044720" y="5266080"/>
                <a:ext cx="556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Vt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RI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2" name=""/>
          <p:cNvSpPr/>
          <p:nvPr/>
        </p:nvSpPr>
        <p:spPr>
          <a:xfrm>
            <a:off x="774720" y="12700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Sudden transition from wakefulness to REM slee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696960" y="1076040"/>
            <a:ext cx="7788240" cy="3240"/>
          </a:xfrm>
          <a:prstGeom prst="line">
            <a:avLst/>
          </a:prstGeom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80" y="6448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2CE5F-9963-46B3-90D0-4D67F658D1F2}" type="slidenum">
              <a:t>14</a:t>
            </a:fld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use Liability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pidemic of abuse of GHB-like substances has resulted primarily from ready availabil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cientific studies of GHB show modest abuse potenti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Xyrem abuse unlikely in pati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tribution of Xyrem to public health problem of GHB-like substance abuse will be insignifican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A8440-193B-4239-9319-BD0C88CE2FF7}" type="slidenum">
              <a:t>140</a:t>
            </a:fld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"/>
          <p:cNvSpPr/>
          <p:nvPr/>
        </p:nvSpPr>
        <p:spPr>
          <a:xfrm>
            <a:off x="0" y="16524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sk Management Through Responsible Distribu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Appropriate Education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rem Success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tti Engel, R.N., BSN</a:t>
            </a:r>
            <a:br>
              <a:rPr sz="40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ce President of Marketing &amp; Sal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phan Medical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E95DF-DC5D-4C4A-846E-3665A2D5F254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omprehensive system design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ensure responsible distribution and use of Xy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access to Xyrem for patients who need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Xyrem inaccessible to those who would use it inappropri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yrem Success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32570-5C80-4FF1-80F7-9D7E00F95433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41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d by Orphan Medical and developed after extensive consultation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Tahoma"/>
              </a:rPr>
              <a:t>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rcolepsy patien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Tahoma"/>
              </a:rPr>
              <a:t>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oxicologi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Tahoma"/>
              </a:rPr>
              <a:t>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tient/Family support group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Tahoma"/>
              </a:rPr>
              <a:t>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orensics exper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Tahoma"/>
              </a:rPr>
              <a:t> 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ysicians who treat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Tahoma"/>
              </a:rPr>
              <a:t>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rug diversio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narcoleps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investig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Tahoma"/>
              </a:rPr>
              <a:t> 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ergency medicin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Tahoma"/>
              </a:rPr>
              <a:t>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ield law enforcemen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hysicia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Tahoma"/>
              </a:rPr>
              <a:t>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tate controlled subst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Tahoma"/>
              </a:rPr>
              <a:t> 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ison control center directo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author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Tahoma"/>
              </a:rPr>
              <a:t> 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armaceutical distribu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Tahoma"/>
              </a:rPr>
              <a:t>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ug abuse trend experts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per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yrem Success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A2916-FF40-4A5B-AF9D-6BAAC0BF6F8C}" type="slidenum">
              <a:t>1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4" name="riskmanagement009" descr=""/>
          <p:cNvPicPr/>
          <p:nvPr/>
        </p:nvPicPr>
        <p:blipFill>
          <a:blip r:embed="rId1"/>
          <a:srcRect l="0" t="18123" r="445" b="0"/>
          <a:stretch/>
        </p:blipFill>
        <p:spPr>
          <a:xfrm>
            <a:off x="1257480" y="1433520"/>
            <a:ext cx="6624360" cy="5241960"/>
          </a:xfrm>
          <a:prstGeom prst="rect">
            <a:avLst/>
          </a:prstGeom>
          <a:ln w="0">
            <a:noFill/>
          </a:ln>
        </p:spPr>
      </p:pic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sk Management Through Risk Confro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19FFF-C9C5-4727-97B2-D775B96C1A3D}" type="slidenum">
              <a:t>1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ndard Pharmaceutical Distribu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5978520" y="1411200"/>
            <a:ext cx="205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8" name="j0238407" descr=""/>
          <p:cNvPicPr/>
          <p:nvPr/>
        </p:nvPicPr>
        <p:blipFill>
          <a:blip r:embed="rId1"/>
          <a:stretch/>
        </p:blipFill>
        <p:spPr>
          <a:xfrm>
            <a:off x="6751800" y="6037200"/>
            <a:ext cx="372960" cy="363600"/>
          </a:xfrm>
          <a:prstGeom prst="rect">
            <a:avLst/>
          </a:prstGeom>
          <a:ln w="0">
            <a:noFill/>
          </a:ln>
        </p:spPr>
      </p:pic>
      <p:pic>
        <p:nvPicPr>
          <p:cNvPr id="1849" name="j0238407" descr=""/>
          <p:cNvPicPr/>
          <p:nvPr/>
        </p:nvPicPr>
        <p:blipFill>
          <a:blip r:embed="rId2"/>
          <a:stretch/>
        </p:blipFill>
        <p:spPr>
          <a:xfrm>
            <a:off x="6218280" y="4703760"/>
            <a:ext cx="372960" cy="363600"/>
          </a:xfrm>
          <a:prstGeom prst="rect">
            <a:avLst/>
          </a:prstGeom>
          <a:ln w="0">
            <a:noFill/>
          </a:ln>
        </p:spPr>
      </p:pic>
      <p:pic>
        <p:nvPicPr>
          <p:cNvPr id="1850" name="j0238407" descr=""/>
          <p:cNvPicPr/>
          <p:nvPr/>
        </p:nvPicPr>
        <p:blipFill>
          <a:blip r:embed="rId3"/>
          <a:stretch/>
        </p:blipFill>
        <p:spPr>
          <a:xfrm>
            <a:off x="7399440" y="5541840"/>
            <a:ext cx="372960" cy="363600"/>
          </a:xfrm>
          <a:prstGeom prst="rect">
            <a:avLst/>
          </a:prstGeom>
          <a:ln w="0">
            <a:noFill/>
          </a:ln>
        </p:spPr>
      </p:pic>
      <p:pic>
        <p:nvPicPr>
          <p:cNvPr id="1851" name="j0238407" descr=""/>
          <p:cNvPicPr/>
          <p:nvPr/>
        </p:nvPicPr>
        <p:blipFill>
          <a:blip r:embed="rId4"/>
          <a:stretch/>
        </p:blipFill>
        <p:spPr>
          <a:xfrm>
            <a:off x="6218280" y="5656320"/>
            <a:ext cx="372960" cy="363600"/>
          </a:xfrm>
          <a:prstGeom prst="rect">
            <a:avLst/>
          </a:prstGeom>
          <a:ln w="0">
            <a:noFill/>
          </a:ln>
        </p:spPr>
      </p:pic>
      <p:pic>
        <p:nvPicPr>
          <p:cNvPr id="1852" name="j0238407" descr=""/>
          <p:cNvPicPr/>
          <p:nvPr/>
        </p:nvPicPr>
        <p:blipFill>
          <a:blip r:embed="rId5"/>
          <a:stretch/>
        </p:blipFill>
        <p:spPr>
          <a:xfrm>
            <a:off x="6904080" y="5199120"/>
            <a:ext cx="372960" cy="363600"/>
          </a:xfrm>
          <a:prstGeom prst="rect">
            <a:avLst/>
          </a:prstGeom>
          <a:ln w="0">
            <a:noFill/>
          </a:ln>
        </p:spPr>
      </p:pic>
      <p:pic>
        <p:nvPicPr>
          <p:cNvPr id="1853" name="j0238407" descr=""/>
          <p:cNvPicPr/>
          <p:nvPr/>
        </p:nvPicPr>
        <p:blipFill>
          <a:blip r:embed="rId6"/>
          <a:stretch/>
        </p:blipFill>
        <p:spPr>
          <a:xfrm>
            <a:off x="4187880" y="6227640"/>
            <a:ext cx="372960" cy="363600"/>
          </a:xfrm>
          <a:prstGeom prst="rect">
            <a:avLst/>
          </a:prstGeom>
          <a:ln w="0">
            <a:noFill/>
          </a:ln>
        </p:spPr>
      </p:pic>
      <p:pic>
        <p:nvPicPr>
          <p:cNvPr id="1854" name="j0238407" descr=""/>
          <p:cNvPicPr/>
          <p:nvPr/>
        </p:nvPicPr>
        <p:blipFill>
          <a:blip r:embed="rId7"/>
          <a:stretch/>
        </p:blipFill>
        <p:spPr>
          <a:xfrm>
            <a:off x="4960800" y="5961240"/>
            <a:ext cx="373320" cy="363240"/>
          </a:xfrm>
          <a:prstGeom prst="rect">
            <a:avLst/>
          </a:prstGeom>
          <a:ln w="0">
            <a:noFill/>
          </a:ln>
        </p:spPr>
      </p:pic>
      <p:pic>
        <p:nvPicPr>
          <p:cNvPr id="1855" name="j0238407" descr=""/>
          <p:cNvPicPr/>
          <p:nvPr/>
        </p:nvPicPr>
        <p:blipFill>
          <a:blip r:embed="rId8"/>
          <a:stretch/>
        </p:blipFill>
        <p:spPr>
          <a:xfrm>
            <a:off x="7399440" y="6265800"/>
            <a:ext cx="372960" cy="363600"/>
          </a:xfrm>
          <a:prstGeom prst="rect">
            <a:avLst/>
          </a:prstGeom>
          <a:ln w="0">
            <a:noFill/>
          </a:ln>
        </p:spPr>
      </p:pic>
      <p:pic>
        <p:nvPicPr>
          <p:cNvPr id="1856" name="j0238407" descr=""/>
          <p:cNvPicPr/>
          <p:nvPr/>
        </p:nvPicPr>
        <p:blipFill>
          <a:blip r:embed="rId9"/>
          <a:stretch/>
        </p:blipFill>
        <p:spPr>
          <a:xfrm>
            <a:off x="5532480" y="5694480"/>
            <a:ext cx="372960" cy="363600"/>
          </a:xfrm>
          <a:prstGeom prst="rect">
            <a:avLst/>
          </a:prstGeom>
          <a:ln w="0">
            <a:noFill/>
          </a:ln>
        </p:spPr>
      </p:pic>
      <p:pic>
        <p:nvPicPr>
          <p:cNvPr id="1857" name="j0238407" descr=""/>
          <p:cNvPicPr/>
          <p:nvPr/>
        </p:nvPicPr>
        <p:blipFill>
          <a:blip r:embed="rId10"/>
          <a:stretch/>
        </p:blipFill>
        <p:spPr>
          <a:xfrm>
            <a:off x="4373640" y="5694480"/>
            <a:ext cx="372960" cy="363600"/>
          </a:xfrm>
          <a:prstGeom prst="rect">
            <a:avLst/>
          </a:prstGeom>
          <a:ln w="0">
            <a:noFill/>
          </a:ln>
        </p:spPr>
      </p:pic>
      <p:pic>
        <p:nvPicPr>
          <p:cNvPr id="1858" name="j0238407" descr=""/>
          <p:cNvPicPr/>
          <p:nvPr/>
        </p:nvPicPr>
        <p:blipFill>
          <a:blip r:embed="rId11"/>
          <a:stretch/>
        </p:blipFill>
        <p:spPr>
          <a:xfrm>
            <a:off x="3056040" y="6265800"/>
            <a:ext cx="372960" cy="363600"/>
          </a:xfrm>
          <a:prstGeom prst="rect">
            <a:avLst/>
          </a:prstGeom>
          <a:ln w="0">
            <a:noFill/>
          </a:ln>
        </p:spPr>
      </p:pic>
      <p:pic>
        <p:nvPicPr>
          <p:cNvPr id="1859" name="j0238407" descr=""/>
          <p:cNvPicPr/>
          <p:nvPr/>
        </p:nvPicPr>
        <p:blipFill>
          <a:blip r:embed="rId12"/>
          <a:stretch/>
        </p:blipFill>
        <p:spPr>
          <a:xfrm>
            <a:off x="198360" y="5923080"/>
            <a:ext cx="373320" cy="363600"/>
          </a:xfrm>
          <a:prstGeom prst="rect">
            <a:avLst/>
          </a:prstGeom>
          <a:ln w="0">
            <a:noFill/>
          </a:ln>
        </p:spPr>
      </p:pic>
      <p:pic>
        <p:nvPicPr>
          <p:cNvPr id="1860" name="j0238407" descr=""/>
          <p:cNvPicPr/>
          <p:nvPr/>
        </p:nvPicPr>
        <p:blipFill>
          <a:blip r:embed="rId13"/>
          <a:stretch/>
        </p:blipFill>
        <p:spPr>
          <a:xfrm>
            <a:off x="579600" y="5427720"/>
            <a:ext cx="372960" cy="363600"/>
          </a:xfrm>
          <a:prstGeom prst="rect">
            <a:avLst/>
          </a:prstGeom>
          <a:ln w="0">
            <a:noFill/>
          </a:ln>
        </p:spPr>
      </p:pic>
      <p:pic>
        <p:nvPicPr>
          <p:cNvPr id="1861" name="j0238407" descr=""/>
          <p:cNvPicPr/>
          <p:nvPr/>
        </p:nvPicPr>
        <p:blipFill>
          <a:blip r:embed="rId14"/>
          <a:stretch/>
        </p:blipFill>
        <p:spPr>
          <a:xfrm>
            <a:off x="2598840" y="5770440"/>
            <a:ext cx="372960" cy="363600"/>
          </a:xfrm>
          <a:prstGeom prst="rect">
            <a:avLst/>
          </a:prstGeom>
          <a:ln w="0">
            <a:noFill/>
          </a:ln>
        </p:spPr>
      </p:pic>
      <p:pic>
        <p:nvPicPr>
          <p:cNvPr id="1862" name="j0238407" descr=""/>
          <p:cNvPicPr/>
          <p:nvPr/>
        </p:nvPicPr>
        <p:blipFill>
          <a:blip r:embed="rId15"/>
          <a:stretch/>
        </p:blipFill>
        <p:spPr>
          <a:xfrm>
            <a:off x="1189080" y="5846760"/>
            <a:ext cx="372960" cy="363600"/>
          </a:xfrm>
          <a:prstGeom prst="rect">
            <a:avLst/>
          </a:prstGeom>
          <a:ln w="0">
            <a:noFill/>
          </a:ln>
        </p:spPr>
      </p:pic>
      <p:pic>
        <p:nvPicPr>
          <p:cNvPr id="1863" name="j0238407" descr=""/>
          <p:cNvPicPr/>
          <p:nvPr/>
        </p:nvPicPr>
        <p:blipFill>
          <a:blip r:embed="rId16"/>
          <a:stretch/>
        </p:blipFill>
        <p:spPr>
          <a:xfrm>
            <a:off x="152280" y="4894200"/>
            <a:ext cx="373320" cy="363600"/>
          </a:xfrm>
          <a:prstGeom prst="rect">
            <a:avLst/>
          </a:prstGeom>
          <a:ln w="0">
            <a:noFill/>
          </a:ln>
        </p:spPr>
      </p:pic>
      <p:pic>
        <p:nvPicPr>
          <p:cNvPr id="1864" name="j0238407" descr=""/>
          <p:cNvPicPr/>
          <p:nvPr/>
        </p:nvPicPr>
        <p:blipFill>
          <a:blip r:embed="rId17"/>
          <a:stretch/>
        </p:blipFill>
        <p:spPr>
          <a:xfrm>
            <a:off x="2674800" y="4741920"/>
            <a:ext cx="373320" cy="363600"/>
          </a:xfrm>
          <a:prstGeom prst="rect">
            <a:avLst/>
          </a:prstGeom>
          <a:ln w="0">
            <a:noFill/>
          </a:ln>
        </p:spPr>
      </p:pic>
      <p:pic>
        <p:nvPicPr>
          <p:cNvPr id="1865" name="j0238407" descr=""/>
          <p:cNvPicPr/>
          <p:nvPr/>
        </p:nvPicPr>
        <p:blipFill>
          <a:blip r:embed="rId18"/>
          <a:stretch/>
        </p:blipFill>
        <p:spPr>
          <a:xfrm>
            <a:off x="1874880" y="5389560"/>
            <a:ext cx="372960" cy="363600"/>
          </a:xfrm>
          <a:prstGeom prst="rect">
            <a:avLst/>
          </a:prstGeom>
          <a:ln w="0">
            <a:noFill/>
          </a:ln>
        </p:spPr>
      </p:pic>
      <p:pic>
        <p:nvPicPr>
          <p:cNvPr id="1866" name="j0238407" descr=""/>
          <p:cNvPicPr/>
          <p:nvPr/>
        </p:nvPicPr>
        <p:blipFill>
          <a:blip r:embed="rId19"/>
          <a:stretch/>
        </p:blipFill>
        <p:spPr>
          <a:xfrm>
            <a:off x="7818480" y="4932360"/>
            <a:ext cx="372960" cy="363600"/>
          </a:xfrm>
          <a:prstGeom prst="rect">
            <a:avLst/>
          </a:prstGeom>
          <a:ln w="0">
            <a:noFill/>
          </a:ln>
        </p:spPr>
      </p:pic>
      <p:pic>
        <p:nvPicPr>
          <p:cNvPr id="1867" name="j0238407" descr=""/>
          <p:cNvPicPr/>
          <p:nvPr/>
        </p:nvPicPr>
        <p:blipFill>
          <a:blip r:embed="rId20"/>
          <a:stretch/>
        </p:blipFill>
        <p:spPr>
          <a:xfrm>
            <a:off x="3513240" y="5808600"/>
            <a:ext cx="372960" cy="363600"/>
          </a:xfrm>
          <a:prstGeom prst="rect">
            <a:avLst/>
          </a:prstGeom>
          <a:ln w="0">
            <a:noFill/>
          </a:ln>
        </p:spPr>
      </p:pic>
      <p:pic>
        <p:nvPicPr>
          <p:cNvPr id="1868" name="j0238407" descr=""/>
          <p:cNvPicPr/>
          <p:nvPr/>
        </p:nvPicPr>
        <p:blipFill>
          <a:blip r:embed="rId21"/>
          <a:stretch/>
        </p:blipFill>
        <p:spPr>
          <a:xfrm>
            <a:off x="6180120" y="6265800"/>
            <a:ext cx="372960" cy="363600"/>
          </a:xfrm>
          <a:prstGeom prst="rect">
            <a:avLst/>
          </a:prstGeom>
          <a:ln w="0">
            <a:noFill/>
          </a:ln>
        </p:spPr>
      </p:pic>
      <p:pic>
        <p:nvPicPr>
          <p:cNvPr id="1869" name="j0238407" descr=""/>
          <p:cNvPicPr/>
          <p:nvPr/>
        </p:nvPicPr>
        <p:blipFill>
          <a:blip r:embed="rId22"/>
          <a:stretch/>
        </p:blipFill>
        <p:spPr>
          <a:xfrm>
            <a:off x="8466120" y="5313240"/>
            <a:ext cx="372960" cy="363600"/>
          </a:xfrm>
          <a:prstGeom prst="rect">
            <a:avLst/>
          </a:prstGeom>
          <a:ln w="0">
            <a:noFill/>
          </a:ln>
        </p:spPr>
      </p:pic>
      <p:pic>
        <p:nvPicPr>
          <p:cNvPr id="1870" name="j0238407" descr=""/>
          <p:cNvPicPr/>
          <p:nvPr/>
        </p:nvPicPr>
        <p:blipFill>
          <a:blip r:embed="rId23"/>
          <a:stretch/>
        </p:blipFill>
        <p:spPr>
          <a:xfrm>
            <a:off x="7970760" y="5846760"/>
            <a:ext cx="373320" cy="363600"/>
          </a:xfrm>
          <a:prstGeom prst="rect">
            <a:avLst/>
          </a:prstGeom>
          <a:ln w="0">
            <a:noFill/>
          </a:ln>
        </p:spPr>
      </p:pic>
      <p:pic>
        <p:nvPicPr>
          <p:cNvPr id="1871" name="j0238407" descr=""/>
          <p:cNvPicPr/>
          <p:nvPr/>
        </p:nvPicPr>
        <p:blipFill>
          <a:blip r:embed="rId24"/>
          <a:stretch/>
        </p:blipFill>
        <p:spPr>
          <a:xfrm>
            <a:off x="1836720" y="6189840"/>
            <a:ext cx="372960" cy="363240"/>
          </a:xfrm>
          <a:prstGeom prst="rect">
            <a:avLst/>
          </a:prstGeom>
          <a:ln w="0">
            <a:noFill/>
          </a:ln>
        </p:spPr>
      </p:pic>
      <p:pic>
        <p:nvPicPr>
          <p:cNvPr id="1872" name="BS01120_" descr=""/>
          <p:cNvPicPr/>
          <p:nvPr/>
        </p:nvPicPr>
        <p:blipFill>
          <a:blip r:embed="rId25"/>
          <a:stretch/>
        </p:blipFill>
        <p:spPr>
          <a:xfrm>
            <a:off x="6811920" y="2846520"/>
            <a:ext cx="549360" cy="677880"/>
          </a:xfrm>
          <a:prstGeom prst="rect">
            <a:avLst/>
          </a:prstGeom>
          <a:ln w="0">
            <a:noFill/>
          </a:ln>
        </p:spPr>
      </p:pic>
      <p:pic>
        <p:nvPicPr>
          <p:cNvPr id="1873" name="j0149720" descr=""/>
          <p:cNvPicPr/>
          <p:nvPr/>
        </p:nvPicPr>
        <p:blipFill>
          <a:blip r:embed="rId26"/>
          <a:stretch/>
        </p:blipFill>
        <p:spPr>
          <a:xfrm>
            <a:off x="3890880" y="1414440"/>
            <a:ext cx="1338480" cy="1249560"/>
          </a:xfrm>
          <a:prstGeom prst="rect">
            <a:avLst/>
          </a:prstGeom>
          <a:ln w="0">
            <a:noFill/>
          </a:ln>
        </p:spPr>
      </p:pic>
      <p:sp>
        <p:nvSpPr>
          <p:cNvPr id="1874" name=""/>
          <p:cNvSpPr/>
          <p:nvPr/>
        </p:nvSpPr>
        <p:spPr>
          <a:xfrm>
            <a:off x="1447920" y="1450800"/>
            <a:ext cx="252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2400480" y="307512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lesaler     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2228760" y="5146560"/>
            <a:ext cx="46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3,000 retail pharm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 rot="7200">
            <a:off x="4387320" y="2693880"/>
            <a:ext cx="370080" cy="776520"/>
          </a:xfrm>
          <a:prstGeom prst="downArrow">
            <a:avLst>
              <a:gd name="adj1" fmla="val 50000"/>
              <a:gd name="adj2" fmla="val 52456"/>
            </a:avLst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 rot="17455200">
            <a:off x="5837040" y="2062440"/>
            <a:ext cx="371520" cy="1501560"/>
          </a:xfrm>
          <a:prstGeom prst="downArrow">
            <a:avLst>
              <a:gd name="adj1" fmla="val 50000"/>
              <a:gd name="adj2" fmla="val 101042"/>
            </a:avLst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 flipH="1" rot="4144800">
            <a:off x="2902680" y="2061720"/>
            <a:ext cx="371520" cy="1501920"/>
          </a:xfrm>
          <a:prstGeom prst="downArrow">
            <a:avLst>
              <a:gd name="adj1" fmla="val 50000"/>
              <a:gd name="adj2" fmla="val 101066"/>
            </a:avLst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0" name="BS01120_" descr=""/>
          <p:cNvPicPr/>
          <p:nvPr/>
        </p:nvPicPr>
        <p:blipFill>
          <a:blip r:embed="rId27"/>
          <a:stretch/>
        </p:blipFill>
        <p:spPr>
          <a:xfrm>
            <a:off x="7364520" y="3075120"/>
            <a:ext cx="549000" cy="677880"/>
          </a:xfrm>
          <a:prstGeom prst="rect">
            <a:avLst/>
          </a:prstGeom>
          <a:ln w="0">
            <a:noFill/>
          </a:ln>
        </p:spPr>
      </p:pic>
      <p:pic>
        <p:nvPicPr>
          <p:cNvPr id="1881" name="BS01120_" descr=""/>
          <p:cNvPicPr/>
          <p:nvPr/>
        </p:nvPicPr>
        <p:blipFill>
          <a:blip r:embed="rId28"/>
          <a:stretch/>
        </p:blipFill>
        <p:spPr>
          <a:xfrm>
            <a:off x="7799400" y="2693880"/>
            <a:ext cx="549360" cy="677880"/>
          </a:xfrm>
          <a:prstGeom prst="rect">
            <a:avLst/>
          </a:prstGeom>
          <a:ln w="0">
            <a:noFill/>
          </a:ln>
        </p:spPr>
      </p:pic>
      <p:pic>
        <p:nvPicPr>
          <p:cNvPr id="1882" name="BS01120_" descr=""/>
          <p:cNvPicPr/>
          <p:nvPr/>
        </p:nvPicPr>
        <p:blipFill>
          <a:blip r:embed="rId29"/>
          <a:stretch/>
        </p:blipFill>
        <p:spPr>
          <a:xfrm>
            <a:off x="677880" y="2735280"/>
            <a:ext cx="549360" cy="677880"/>
          </a:xfrm>
          <a:prstGeom prst="rect">
            <a:avLst/>
          </a:prstGeom>
          <a:ln w="0">
            <a:noFill/>
          </a:ln>
        </p:spPr>
      </p:pic>
      <p:pic>
        <p:nvPicPr>
          <p:cNvPr id="1883" name="BS01120_" descr=""/>
          <p:cNvPicPr/>
          <p:nvPr/>
        </p:nvPicPr>
        <p:blipFill>
          <a:blip r:embed="rId30"/>
          <a:stretch/>
        </p:blipFill>
        <p:spPr>
          <a:xfrm>
            <a:off x="1246320" y="2735280"/>
            <a:ext cx="549000" cy="677880"/>
          </a:xfrm>
          <a:prstGeom prst="rect">
            <a:avLst/>
          </a:prstGeom>
          <a:ln w="0">
            <a:noFill/>
          </a:ln>
        </p:spPr>
      </p:pic>
      <p:pic>
        <p:nvPicPr>
          <p:cNvPr id="1884" name="BS01120_" descr=""/>
          <p:cNvPicPr/>
          <p:nvPr/>
        </p:nvPicPr>
        <p:blipFill>
          <a:blip r:embed="rId31"/>
          <a:stretch/>
        </p:blipFill>
        <p:spPr>
          <a:xfrm>
            <a:off x="3798720" y="3494160"/>
            <a:ext cx="549360" cy="677880"/>
          </a:xfrm>
          <a:prstGeom prst="rect">
            <a:avLst/>
          </a:prstGeom>
          <a:ln w="0">
            <a:noFill/>
          </a:ln>
        </p:spPr>
      </p:pic>
      <p:pic>
        <p:nvPicPr>
          <p:cNvPr id="1885" name="BS01120_" descr=""/>
          <p:cNvPicPr/>
          <p:nvPr/>
        </p:nvPicPr>
        <p:blipFill>
          <a:blip r:embed="rId32"/>
          <a:stretch/>
        </p:blipFill>
        <p:spPr>
          <a:xfrm>
            <a:off x="8028000" y="3075120"/>
            <a:ext cx="549360" cy="677880"/>
          </a:xfrm>
          <a:prstGeom prst="rect">
            <a:avLst/>
          </a:prstGeom>
          <a:ln w="0">
            <a:noFill/>
          </a:ln>
        </p:spPr>
      </p:pic>
      <p:pic>
        <p:nvPicPr>
          <p:cNvPr id="1886" name="BS01120_" descr=""/>
          <p:cNvPicPr/>
          <p:nvPr/>
        </p:nvPicPr>
        <p:blipFill>
          <a:blip r:embed="rId33"/>
          <a:stretch/>
        </p:blipFill>
        <p:spPr>
          <a:xfrm>
            <a:off x="4560840" y="3456000"/>
            <a:ext cx="549360" cy="677880"/>
          </a:xfrm>
          <a:prstGeom prst="rect">
            <a:avLst/>
          </a:prstGeom>
          <a:ln w="0">
            <a:noFill/>
          </a:ln>
        </p:spPr>
      </p:pic>
      <p:pic>
        <p:nvPicPr>
          <p:cNvPr id="1887" name="BS01120_" descr=""/>
          <p:cNvPicPr/>
          <p:nvPr/>
        </p:nvPicPr>
        <p:blipFill>
          <a:blip r:embed="rId34"/>
          <a:stretch/>
        </p:blipFill>
        <p:spPr>
          <a:xfrm>
            <a:off x="4286160" y="3684600"/>
            <a:ext cx="549360" cy="677880"/>
          </a:xfrm>
          <a:prstGeom prst="rect">
            <a:avLst/>
          </a:prstGeom>
          <a:ln w="0">
            <a:noFill/>
          </a:ln>
        </p:spPr>
      </p:pic>
      <p:sp>
        <p:nvSpPr>
          <p:cNvPr id="1888" name=""/>
          <p:cNvSpPr/>
          <p:nvPr/>
        </p:nvSpPr>
        <p:spPr>
          <a:xfrm flipH="1" rot="1246800">
            <a:off x="398880" y="3479760"/>
            <a:ext cx="206280" cy="1406520"/>
          </a:xfrm>
          <a:prstGeom prst="downArrow">
            <a:avLst>
              <a:gd name="adj1" fmla="val 50000"/>
              <a:gd name="adj2" fmla="val 170462"/>
            </a:avLst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 flipH="1" rot="20287200">
            <a:off x="1654560" y="3898800"/>
            <a:ext cx="206640" cy="1406160"/>
          </a:xfrm>
          <a:prstGeom prst="downArrow">
            <a:avLst>
              <a:gd name="adj1" fmla="val 50000"/>
              <a:gd name="adj2" fmla="val 170122"/>
            </a:avLst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 flipH="1" rot="1246800">
            <a:off x="856080" y="3936960"/>
            <a:ext cx="206280" cy="1406520"/>
          </a:xfrm>
          <a:prstGeom prst="downArrow">
            <a:avLst>
              <a:gd name="adj1" fmla="val 50000"/>
              <a:gd name="adj2" fmla="val 170462"/>
            </a:avLst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 flipH="1" rot="19533600">
            <a:off x="2112120" y="3441240"/>
            <a:ext cx="206640" cy="1406520"/>
          </a:xfrm>
          <a:prstGeom prst="downArrow">
            <a:avLst>
              <a:gd name="adj1" fmla="val 50000"/>
              <a:gd name="adj2" fmla="val 170166"/>
            </a:avLst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 flipH="1" rot="50400">
            <a:off x="7066080" y="3669840"/>
            <a:ext cx="206280" cy="1406160"/>
          </a:xfrm>
          <a:prstGeom prst="downArrow">
            <a:avLst>
              <a:gd name="adj1" fmla="val 50000"/>
              <a:gd name="adj2" fmla="val 170419"/>
            </a:avLst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 flipH="1" rot="1246800">
            <a:off x="6557760" y="3522240"/>
            <a:ext cx="230040" cy="1128600"/>
          </a:xfrm>
          <a:prstGeom prst="downArrow">
            <a:avLst>
              <a:gd name="adj1" fmla="val 50000"/>
              <a:gd name="adj2" fmla="val 122653"/>
            </a:avLst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 flipH="1" rot="20902200">
            <a:off x="8437680" y="3822480"/>
            <a:ext cx="206280" cy="1406160"/>
          </a:xfrm>
          <a:prstGeom prst="downArrow">
            <a:avLst>
              <a:gd name="adj1" fmla="val 50000"/>
              <a:gd name="adj2" fmla="val 170419"/>
            </a:avLst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 flipH="1" rot="20735400">
            <a:off x="7728480" y="3785760"/>
            <a:ext cx="249120" cy="1057320"/>
          </a:xfrm>
          <a:prstGeom prst="downArrow">
            <a:avLst>
              <a:gd name="adj1" fmla="val 50000"/>
              <a:gd name="adj2" fmla="val 106105"/>
            </a:avLst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 rot="18633600">
            <a:off x="5406120" y="4051800"/>
            <a:ext cx="249120" cy="1057320"/>
          </a:xfrm>
          <a:prstGeom prst="downArrow">
            <a:avLst>
              <a:gd name="adj1" fmla="val 50000"/>
              <a:gd name="adj2" fmla="val 106105"/>
            </a:avLst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 flipH="1" rot="2617200">
            <a:off x="3464640" y="4138560"/>
            <a:ext cx="243000" cy="920880"/>
          </a:xfrm>
          <a:prstGeom prst="downArrow">
            <a:avLst>
              <a:gd name="adj1" fmla="val 50000"/>
              <a:gd name="adj2" fmla="val 94741"/>
            </a:avLst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 rot="7200">
            <a:off x="4398480" y="4406400"/>
            <a:ext cx="322560" cy="776520"/>
          </a:xfrm>
          <a:prstGeom prst="downArrow">
            <a:avLst>
              <a:gd name="adj1" fmla="val 50000"/>
              <a:gd name="adj2" fmla="val 60184"/>
            </a:avLst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9" name="BS01120_" descr=""/>
          <p:cNvPicPr/>
          <p:nvPr/>
        </p:nvPicPr>
        <p:blipFill>
          <a:blip r:embed="rId35"/>
          <a:stretch/>
        </p:blipFill>
        <p:spPr>
          <a:xfrm>
            <a:off x="963720" y="3227400"/>
            <a:ext cx="549000" cy="67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A9107-8E5E-400F-B943-D2561397EBB8}" type="slidenum">
              <a:t>1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yrem Closed Distribution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6718320" y="3940200"/>
            <a:ext cx="1440" cy="14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7450200" y="3708360"/>
            <a:ext cx="1440" cy="180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7237440" y="44449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4" name=""/>
          <p:cNvGrpSpPr/>
          <p:nvPr/>
        </p:nvGrpSpPr>
        <p:grpSpPr>
          <a:xfrm>
            <a:off x="0" y="1494000"/>
            <a:ext cx="2224080" cy="2519640"/>
            <a:chOff x="0" y="1494000"/>
            <a:chExt cx="2224080" cy="2519640"/>
          </a:xfrm>
        </p:grpSpPr>
        <p:pic>
          <p:nvPicPr>
            <p:cNvPr id="1905" name="j0149720" descr=""/>
            <p:cNvPicPr/>
            <p:nvPr/>
          </p:nvPicPr>
          <p:blipFill>
            <a:blip r:embed="rId1"/>
            <a:stretch/>
          </p:blipFill>
          <p:spPr>
            <a:xfrm>
              <a:off x="239760" y="1494000"/>
              <a:ext cx="1452600" cy="135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6" name=""/>
            <p:cNvSpPr/>
            <p:nvPr/>
          </p:nvSpPr>
          <p:spPr>
            <a:xfrm>
              <a:off x="0" y="2822400"/>
              <a:ext cx="2224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ngl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nufacturing Fac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7" name=""/>
          <p:cNvGrpSpPr/>
          <p:nvPr/>
        </p:nvGrpSpPr>
        <p:grpSpPr>
          <a:xfrm>
            <a:off x="2549520" y="2414520"/>
            <a:ext cx="1660680" cy="2639160"/>
            <a:chOff x="2549520" y="2414520"/>
            <a:chExt cx="1660680" cy="2639160"/>
          </a:xfrm>
        </p:grpSpPr>
        <p:pic>
          <p:nvPicPr>
            <p:cNvPr id="1908" name="j0195396" descr=""/>
            <p:cNvPicPr/>
            <p:nvPr/>
          </p:nvPicPr>
          <p:blipFill>
            <a:blip r:embed="rId2"/>
            <a:stretch/>
          </p:blipFill>
          <p:spPr>
            <a:xfrm>
              <a:off x="2809800" y="2414520"/>
              <a:ext cx="113976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9" name=""/>
            <p:cNvSpPr/>
            <p:nvPr/>
          </p:nvSpPr>
          <p:spPr>
            <a:xfrm>
              <a:off x="2549520" y="3862440"/>
              <a:ext cx="1660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ngl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pecialty Pharmac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0" name=""/>
          <p:cNvGrpSpPr/>
          <p:nvPr/>
        </p:nvGrpSpPr>
        <p:grpSpPr>
          <a:xfrm>
            <a:off x="4797360" y="2620800"/>
            <a:ext cx="1584000" cy="2127240"/>
            <a:chOff x="4797360" y="2620800"/>
            <a:chExt cx="1584000" cy="2127240"/>
          </a:xfrm>
        </p:grpSpPr>
        <p:pic>
          <p:nvPicPr>
            <p:cNvPr id="1911" name="j0199849" descr=""/>
            <p:cNvPicPr/>
            <p:nvPr/>
          </p:nvPicPr>
          <p:blipFill>
            <a:blip r:embed="rId3"/>
            <a:stretch/>
          </p:blipFill>
          <p:spPr>
            <a:xfrm>
              <a:off x="4959000" y="3403440"/>
              <a:ext cx="1258920" cy="13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2" name=""/>
            <p:cNvSpPr/>
            <p:nvPr/>
          </p:nvSpPr>
          <p:spPr>
            <a:xfrm>
              <a:off x="4797360" y="2620800"/>
              <a:ext cx="158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vern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ur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3" name=""/>
          <p:cNvSpPr/>
          <p:nvPr/>
        </p:nvSpPr>
        <p:spPr>
          <a:xfrm>
            <a:off x="6912000" y="577836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 rot="1644000">
            <a:off x="2031480" y="2617920"/>
            <a:ext cx="723960" cy="457200"/>
          </a:xfrm>
          <a:prstGeom prst="rightArrow">
            <a:avLst>
              <a:gd name="adj1" fmla="val 50000"/>
              <a:gd name="adj2" fmla="val 39587"/>
            </a:avLst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 rot="1644000">
            <a:off x="4127040" y="3608280"/>
            <a:ext cx="723960" cy="457200"/>
          </a:xfrm>
          <a:prstGeom prst="rightArrow">
            <a:avLst>
              <a:gd name="adj1" fmla="val 50000"/>
              <a:gd name="adj2" fmla="val 39587"/>
            </a:avLst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rot="1644000">
            <a:off x="6222600" y="4560840"/>
            <a:ext cx="723960" cy="457200"/>
          </a:xfrm>
          <a:prstGeom prst="rightArrow">
            <a:avLst>
              <a:gd name="adj1" fmla="val 50000"/>
              <a:gd name="adj2" fmla="val 39587"/>
            </a:avLst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7" name="PE03620_" descr=""/>
          <p:cNvPicPr/>
          <p:nvPr/>
        </p:nvPicPr>
        <p:blipFill>
          <a:blip r:embed="rId4"/>
          <a:stretch/>
        </p:blipFill>
        <p:spPr>
          <a:xfrm>
            <a:off x="6996240" y="4398840"/>
            <a:ext cx="1606320" cy="129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E5592-51A4-418D-BBE8-FC8D59541900}" type="slidenum">
              <a:t>1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yrem’s Distrib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e Specialty Pharm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rem distributed from a single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7D5AA-D89F-4C4B-A7D4-9915E78ADC61}" type="slidenum">
              <a:t>1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ysician Promotion and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79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rem promotional and educational efforts will focus on potential physician prescri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specialtie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ur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lmonary dise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sychia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nal medic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eep medicine (includes several primary specialt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D35F4-930D-4330-8776-4FF0D3362291}" type="slidenum">
              <a:t>1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ysician Promotion and Educ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pproximately 35 sales representatives will call on physicians and their clinical staff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unicate clinical benefits of Xyr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ent Xyrem Physician Success Program</a:t>
            </a:r>
            <a:r>
              <a:rPr b="0" lang="en-US" sz="1800" spc="-1" strike="noStrike" baseline="50000">
                <a:solidFill>
                  <a:srgbClr val="000000"/>
                </a:solidFill>
                <a:latin typeface="Arial"/>
              </a:rPr>
              <a:t>S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 signature requi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No physician sampl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4DA0C-2089-4769-8CFC-090E10E8FA72}" type="slidenum">
              <a:t>1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"/>
          <p:cNvGrpSpPr/>
          <p:nvPr/>
        </p:nvGrpSpPr>
        <p:grpSpPr>
          <a:xfrm>
            <a:off x="1320840" y="901800"/>
            <a:ext cx="7243200" cy="5319360"/>
            <a:chOff x="1320840" y="901800"/>
            <a:chExt cx="7243200" cy="5319360"/>
          </a:xfrm>
        </p:grpSpPr>
        <p:grpSp>
          <p:nvGrpSpPr>
            <p:cNvPr id="296" name=""/>
            <p:cNvGrpSpPr/>
            <p:nvPr/>
          </p:nvGrpSpPr>
          <p:grpSpPr>
            <a:xfrm>
              <a:off x="1456200" y="1989720"/>
              <a:ext cx="6168240" cy="3390480"/>
              <a:chOff x="1456200" y="1989720"/>
              <a:chExt cx="6168240" cy="3390480"/>
            </a:xfrm>
          </p:grpSpPr>
          <p:sp>
            <p:nvSpPr>
              <p:cNvPr id="297" name=""/>
              <p:cNvSpPr/>
              <p:nvPr/>
            </p:nvSpPr>
            <p:spPr>
              <a:xfrm>
                <a:off x="6323040" y="4143960"/>
                <a:ext cx="1301400" cy="37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456920" y="198972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617480" y="198972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753560" y="198972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826280" y="19897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888200" y="198972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ＭＳ Ｐゴシック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025360" y="19897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48840" y="198972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ＭＳ Ｐゴシック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289960" y="1989720"/>
                <a:ext cx="89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372400" y="19897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498040" y="19897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622240" y="19897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749320" y="19897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871000" y="198972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005640" y="198972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080520" y="19897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06520" y="198972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56200" y="22726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517760" y="22726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579680" y="2272680"/>
                <a:ext cx="81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659240" y="22726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722600" y="22726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785240" y="2272680"/>
                <a:ext cx="203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980000" y="22726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041920" y="227268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180160" y="2272680"/>
                <a:ext cx="89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265840" y="22726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390040" y="2272680"/>
                <a:ext cx="203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590560" y="22726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654640" y="227268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786400" y="22726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909520" y="22726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971800" y="227268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(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6680" y="227268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165480" y="227268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302280" y="227268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77880" y="2272680"/>
                <a:ext cx="89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463560" y="22726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586680" y="227268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724920" y="22726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786840" y="22726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848040" y="2272680"/>
                <a:ext cx="169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®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012920" y="227268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088160" y="2272680"/>
                <a:ext cx="3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456200" y="25563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517760" y="25563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79680" y="2556360"/>
                <a:ext cx="81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659240" y="25563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723320" y="255636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880640" y="25563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944000" y="255636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079360" y="2556360"/>
                <a:ext cx="203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77360" y="25563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339640" y="255636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480760" y="2556360"/>
                <a:ext cx="89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563560" y="2556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687040" y="2556360"/>
                <a:ext cx="203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886480" y="25563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948400" y="255636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083760" y="2556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07240" y="25563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269520" y="255636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(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345840" y="255636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505680" y="255636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643200" y="2556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764160" y="255636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839760" y="2556360"/>
                <a:ext cx="89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928680" y="2556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050360" y="255636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186440" y="25563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248360" y="25563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309920" y="2556360"/>
                <a:ext cx="169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®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475520" y="255636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548240" y="255636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456200" y="2839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517760" y="2839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579680" y="2839320"/>
                <a:ext cx="81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659240" y="2839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723320" y="283932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869120" y="2839320"/>
                <a:ext cx="89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958040" y="283932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091240" y="283932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166120" y="2839320"/>
                <a:ext cx="89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53600" y="2839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376360" y="283932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513160" y="283932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590560" y="2839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653920" y="2839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712600" y="2839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774880" y="283932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910240" y="2839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033720" y="2839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095640" y="283932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(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172320" y="283932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315600" y="2839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377520" y="2839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502440" y="2839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627720" y="2839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749760" y="283932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823920" y="2839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885840" y="2839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948480" y="2839320"/>
                <a:ext cx="169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®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112280" y="283932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187160" y="283932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456200" y="3124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517760" y="3124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579680" y="3124800"/>
                <a:ext cx="81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659240" y="3124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722600" y="312480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855800" y="3124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917720" y="312480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054160" y="312480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195640" y="31248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315160" y="31248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438640" y="312480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512800" y="3124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575080" y="312480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713320" y="31248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835360" y="3124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897280" y="312480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(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972520" y="312480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122640" y="3124800"/>
                <a:ext cx="89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207240" y="312480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345480" y="312480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z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458880" y="31248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581640" y="31248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702240" y="3124800"/>
                <a:ext cx="169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®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868920" y="312480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943440" y="3124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006080" y="312480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456920" y="340596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456920" y="368928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456920" y="397224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456920" y="4255560"/>
                <a:ext cx="3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456200" y="453708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605240" y="453708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79760" y="45370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742400" y="4537080"/>
                <a:ext cx="203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944000" y="453708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Arial"/>
                    <a:ea typeface="ＭＳ Ｐゴシック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075760" y="45370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Arial"/>
                    <a:ea typeface="ＭＳ Ｐゴシック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137680" y="45370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262600" y="453708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401200" y="453708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473560" y="45370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97400" y="4537080"/>
                <a:ext cx="3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456200" y="48222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517760" y="48222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579680" y="4822200"/>
                <a:ext cx="81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659240" y="48222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722960" y="482220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906200" y="48222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029680" y="482220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103840" y="482220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243880" y="48222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369520" y="4822200"/>
                <a:ext cx="203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562840" y="482220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700360" y="482220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836080" y="48222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959560" y="482220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034440" y="48222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159720" y="4822200"/>
                <a:ext cx="203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355920" y="48222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418200" y="482220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555000" y="48222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679920" y="48222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741840" y="482220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(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817080" y="482220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978360" y="48222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101840" y="48222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222800" y="482220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361040" y="48222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483080" y="48222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608720" y="482220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743360" y="4822200"/>
                <a:ext cx="169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®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910040" y="482220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985280" y="482220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456200" y="51055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517760" y="51055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579680" y="5105520"/>
                <a:ext cx="81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659240" y="51055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723320" y="510552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881360" y="51055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007720" y="51055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134080" y="510552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203560" y="5105520"/>
                <a:ext cx="89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289600" y="510552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427120" y="51055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550600" y="5105520"/>
                <a:ext cx="203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748600" y="510552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886480" y="510552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021840" y="51055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145320" y="510552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222000" y="51055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345480" y="5105520"/>
                <a:ext cx="203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542040" y="51055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603960" y="510552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742560" y="51055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865680" y="51055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927960" y="510552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(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001400" y="510552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1320840" y="901800"/>
              <a:ext cx="7243200" cy="5319360"/>
              <a:chOff x="1320840" y="901800"/>
              <a:chExt cx="7243200" cy="5319360"/>
            </a:xfrm>
          </p:grpSpPr>
          <p:sp>
            <p:nvSpPr>
              <p:cNvPr id="498" name=""/>
              <p:cNvSpPr/>
              <p:nvPr/>
            </p:nvSpPr>
            <p:spPr>
              <a:xfrm>
                <a:off x="4161960" y="51055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285440" y="51055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410720" y="51055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535640" y="510552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671360" y="5105520"/>
                <a:ext cx="89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758840" y="51055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821120" y="510552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959360" y="51055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082120" y="5105520"/>
                <a:ext cx="169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®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245560" y="510552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322240" y="5105520"/>
                <a:ext cx="3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456200" y="538884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518120" y="538884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580040" y="5388840"/>
                <a:ext cx="81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657800" y="538884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720080" y="538884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906560" y="5388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029680" y="538884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103840" y="538884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241000" y="5388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364480" y="538884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426760" y="538884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562840" y="538884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700000" y="5388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823120" y="538884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959560" y="538884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021480" y="538884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160080" y="5388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282120" y="538884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357000" y="5388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480120" y="538884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542400" y="538884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(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617280" y="538884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777840" y="538884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839760" y="538884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916440" y="5388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038480" y="538884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100040" y="538884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161960" y="538884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298040" y="5388840"/>
                <a:ext cx="169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®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462920" y="538884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38160" y="5388840"/>
                <a:ext cx="3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456200" y="56721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518120" y="56721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580040" y="5672160"/>
                <a:ext cx="81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657800" y="56721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719720" y="567216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869120" y="56721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992960" y="5672160"/>
                <a:ext cx="203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190960" y="567216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327040" y="56721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389320" y="56721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451240" y="567216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588400" y="56721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711520" y="56721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773440" y="567216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(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848680" y="567216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009960" y="56721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133080" y="56721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196080" y="56721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319560" y="5672160"/>
                <a:ext cx="89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405960" y="567216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480480" y="5672160"/>
                <a:ext cx="169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®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644640" y="5672160"/>
                <a:ext cx="770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044400" y="170676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cc"/>
                    </a:solidFill>
                    <a:latin typeface="Arial"/>
                    <a:ea typeface="ＭＳ Ｐゴシック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204600" y="170676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cc"/>
                    </a:solidFill>
                    <a:latin typeface="Arial"/>
                    <a:ea typeface="ＭＳ Ｐゴシック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339600" y="170676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cc"/>
                    </a:solidFill>
                    <a:latin typeface="Arial"/>
                    <a:ea typeface="ＭＳ Ｐゴシック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476040" y="17067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cc"/>
                    </a:solidFill>
                    <a:latin typeface="Arial"/>
                    <a:ea typeface="ＭＳ Ｐゴシック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538320" y="17067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cc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599880" y="170676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cc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737040" y="1706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cc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860880" y="1706760"/>
                <a:ext cx="89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cc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948720" y="170676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cc"/>
                    </a:solidFill>
                    <a:latin typeface="Arial"/>
                    <a:ea typeface="ＭＳ Ｐゴシック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083720" y="17067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cc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146000" y="1706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cc"/>
                    </a:solidFill>
                    <a:latin typeface="Arial"/>
                    <a:ea typeface="ＭＳ Ｐゴシック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270920" y="17067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cc00cc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333200" y="170676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cc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482600" y="1706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cc"/>
                    </a:solidFill>
                    <a:latin typeface="Arial"/>
                    <a:ea typeface="ＭＳ Ｐゴシック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06440" y="1706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cc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729920" y="170676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cc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803360" y="1706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cc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929000" y="1706760"/>
                <a:ext cx="203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cc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127000" y="1706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cc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006240" y="312264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176160" y="312264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332040" y="3122640"/>
                <a:ext cx="89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400800" y="31226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523920" y="312264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662520" y="31226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805080" y="3122640"/>
                <a:ext cx="89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871320" y="312264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040160" y="312264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071480" y="31226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223040" y="312264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245000" y="312264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406640" y="31226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530480" y="31226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684920" y="312264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727400" y="31226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815600" y="3122640"/>
                <a:ext cx="203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051040" y="31226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238960" y="3122640"/>
                <a:ext cx="3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920200" y="340632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082920" y="3406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227280" y="3406320"/>
                <a:ext cx="89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294600" y="340632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462360" y="340632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504840" y="340632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640560" y="340632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777360" y="3406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921360" y="3406320"/>
                <a:ext cx="89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989040" y="340632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155000" y="3406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188120" y="3406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342200" y="3406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360920" y="340632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522920" y="3406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646760" y="3406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799400" y="340632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846560" y="3406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930080" y="3406320"/>
                <a:ext cx="203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8167320" y="3406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095520" y="495648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5900"/>
                    </a:solidFill>
                    <a:latin typeface="Arial"/>
                    <a:ea typeface="ＭＳ Ｐゴシック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252840" y="495648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5900"/>
                    </a:solidFill>
                    <a:latin typeface="Arial"/>
                    <a:ea typeface="ＭＳ Ｐゴシック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389280" y="495648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5900"/>
                    </a:solidFill>
                    <a:latin typeface="Arial"/>
                    <a:ea typeface="ＭＳ Ｐゴシック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526080" y="4956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5900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651720" y="4956480"/>
                <a:ext cx="203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5900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850800" y="49564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59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913080" y="495648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5900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048440" y="4956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59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172280" y="4956480"/>
                <a:ext cx="89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5900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260120" y="495648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5900"/>
                    </a:solidFill>
                    <a:latin typeface="Arial"/>
                    <a:ea typeface="ＭＳ Ｐゴシック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395120" y="49564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59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457400" y="4956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5900"/>
                    </a:solidFill>
                    <a:latin typeface="Arial"/>
                    <a:ea typeface="ＭＳ Ｐゴシック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580880" y="49564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6659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643160" y="495648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5900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792560" y="4956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5900"/>
                    </a:solidFill>
                    <a:latin typeface="Arial"/>
                    <a:ea typeface="ＭＳ Ｐゴシック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916400" y="4956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5900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039880" y="495648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5900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116560" y="4956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59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238960" y="4956480"/>
                <a:ext cx="203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5900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436960" y="4956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5900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573160" y="90180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751360" y="9018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874480" y="90180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030360" y="901800"/>
                <a:ext cx="89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098400" y="90180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265080" y="90180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327720" y="901800"/>
                <a:ext cx="89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396120" y="9018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519600" y="90180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656760" y="9018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743160" y="901800"/>
                <a:ext cx="203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009200" y="901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71120" y="90180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146000" y="90180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189560" y="9018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32120" y="901800"/>
                <a:ext cx="89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430760" y="901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449480" y="90180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611120" y="9018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735320" y="9018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890840" y="90180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932600" y="9018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021520" y="901800"/>
                <a:ext cx="203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255880" y="9018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411760" y="901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8443440" y="90180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92400" y="11847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823720" y="118476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960880" y="1184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085440" y="118476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251400" y="11847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283080" y="1184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408360" y="1184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531840" y="118476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699240" y="11847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761160" y="11847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792120" y="118476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959520" y="11847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978240" y="118476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151760" y="1184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294320" y="1184760"/>
                <a:ext cx="89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363440" y="1184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486200" y="118476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653960" y="11847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685640" y="1184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809120" y="118476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945920" y="1184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069760" y="1184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320840" y="124452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0000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480320" y="124452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0000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640880" y="124452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0000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777320" y="12445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00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838880" y="124452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990000"/>
                    </a:solidFill>
                    <a:latin typeface="Arial"/>
                    <a:ea typeface="ＭＳ Ｐゴシック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914120" y="124452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0000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074680" y="124452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0000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236680" y="124452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0000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397240" y="124452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0000"/>
                    </a:solidFill>
                    <a:latin typeface="Arial"/>
                    <a:ea typeface="ＭＳ Ｐゴシック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558520" y="1244520"/>
                <a:ext cx="178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0000"/>
                    </a:solidFill>
                    <a:latin typeface="Arial"/>
                    <a:ea typeface="ＭＳ Ｐゴシック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8" name=""/>
            <p:cNvSpPr/>
            <p:nvPr/>
          </p:nvSpPr>
          <p:spPr>
            <a:xfrm>
              <a:off x="2731680" y="124452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Arial"/>
                  <a:ea typeface="ＭＳ Ｐゴシック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868120" y="12445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Arial"/>
                  <a:ea typeface="ＭＳ Ｐゴシック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017160" y="12445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Arial"/>
                  <a:ea typeface="ＭＳ Ｐゴシック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166560" y="12445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Arial"/>
                  <a:ea typeface="ＭＳ Ｐゴシック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314520" y="12445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Arial"/>
                  <a:ea typeface="ＭＳ Ｐゴシック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452400" y="12445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990000"/>
                  </a:solidFill>
                  <a:latin typeface="Arial"/>
                  <a:ea typeface="ＭＳ Ｐゴシック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526920" y="12445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Arial"/>
                  <a:ea typeface="ＭＳ Ｐゴシック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688560" y="12445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Arial"/>
                  <a:ea typeface="ＭＳ Ｐゴシック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849120" y="12445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Arial"/>
                  <a:ea typeface="ＭＳ Ｐゴシック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010760" y="1244520"/>
              <a:ext cx="17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Arial"/>
                  <a:ea typeface="ＭＳ Ｐゴシック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183920" y="12445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Arial"/>
                  <a:ea typeface="ＭＳ Ｐゴシック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310800" y="2370240"/>
              <a:ext cx="1301400" cy="372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540120" y="2467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663960" y="2467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760440" y="24670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819120" y="2467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914880" y="2467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020720" y="2467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070040" y="2467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65080" y="2467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62280" y="2467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577560" y="4241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699960" y="42411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750720" y="424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846840" y="424116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913080" y="42411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971400" y="42411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077600" y="424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173360" y="424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271640" y="424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8" name=""/>
            <p:cNvGrpSpPr/>
            <p:nvPr/>
          </p:nvGrpSpPr>
          <p:grpSpPr>
            <a:xfrm>
              <a:off x="4761360" y="2951640"/>
              <a:ext cx="1065240" cy="446760"/>
              <a:chOff x="4761360" y="2951640"/>
              <a:chExt cx="1065240" cy="446760"/>
            </a:xfrm>
          </p:grpSpPr>
          <p:sp>
            <p:nvSpPr>
              <p:cNvPr id="729" name=""/>
              <p:cNvSpPr/>
              <p:nvPr/>
            </p:nvSpPr>
            <p:spPr>
              <a:xfrm>
                <a:off x="5616360" y="3264120"/>
                <a:ext cx="210240" cy="134280"/>
              </a:xfrm>
              <a:custGeom>
                <a:avLst/>
                <a:gdLst/>
                <a:ahLst/>
                <a:rect l="l" t="t" r="r" b="b"/>
                <a:pathLst>
                  <a:path w="136" h="72">
                    <a:moveTo>
                      <a:pt x="136" y="72"/>
                    </a:moveTo>
                    <a:lnTo>
                      <a:pt x="0" y="64"/>
                    </a:lnTo>
                    <a:lnTo>
                      <a:pt x="8" y="32"/>
                    </a:lnTo>
                    <a:lnTo>
                      <a:pt x="16" y="0"/>
                    </a:lnTo>
                    <a:lnTo>
                      <a:pt x="136" y="72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761360" y="2951640"/>
                <a:ext cx="855000" cy="35712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4897800" y="5232600"/>
              <a:ext cx="1040760" cy="550800"/>
              <a:chOff x="4897800" y="5232600"/>
              <a:chExt cx="1040760" cy="550800"/>
            </a:xfrm>
          </p:grpSpPr>
          <p:sp>
            <p:nvSpPr>
              <p:cNvPr id="732" name=""/>
              <p:cNvSpPr/>
              <p:nvPr/>
            </p:nvSpPr>
            <p:spPr>
              <a:xfrm>
                <a:off x="5727960" y="5232600"/>
                <a:ext cx="210600" cy="163800"/>
              </a:xfrm>
              <a:custGeom>
                <a:avLst/>
                <a:gdLst/>
                <a:ahLst/>
                <a:rect l="l" t="t" r="r" b="b"/>
                <a:pathLst>
                  <a:path w="136" h="88">
                    <a:moveTo>
                      <a:pt x="136" y="0"/>
                    </a:moveTo>
                    <a:lnTo>
                      <a:pt x="24" y="88"/>
                    </a:lnTo>
                    <a:lnTo>
                      <a:pt x="16" y="56"/>
                    </a:lnTo>
                    <a:lnTo>
                      <a:pt x="0" y="24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4897800" y="5321880"/>
                <a:ext cx="842760" cy="46152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6881040" y="1967400"/>
              <a:ext cx="99000" cy="416880"/>
              <a:chOff x="6881040" y="1967400"/>
              <a:chExt cx="99000" cy="416880"/>
            </a:xfrm>
          </p:grpSpPr>
          <p:sp>
            <p:nvSpPr>
              <p:cNvPr id="735" name=""/>
              <p:cNvSpPr/>
              <p:nvPr/>
            </p:nvSpPr>
            <p:spPr>
              <a:xfrm>
                <a:off x="6881040" y="2175840"/>
                <a:ext cx="99000" cy="208440"/>
              </a:xfrm>
              <a:custGeom>
                <a:avLst/>
                <a:gdLst/>
                <a:ahLst/>
                <a:rect l="l" t="t" r="r" b="b"/>
                <a:pathLst>
                  <a:path w="64" h="112">
                    <a:moveTo>
                      <a:pt x="32" y="112"/>
                    </a:moveTo>
                    <a:lnTo>
                      <a:pt x="0" y="0"/>
                    </a:lnTo>
                    <a:lnTo>
                      <a:pt x="32" y="0"/>
                    </a:lnTo>
                    <a:lnTo>
                      <a:pt x="64" y="0"/>
                    </a:lnTo>
                    <a:lnTo>
                      <a:pt x="32" y="1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930360" y="1967400"/>
                <a:ext cx="1440" cy="20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6906240" y="3652560"/>
              <a:ext cx="99000" cy="416520"/>
              <a:chOff x="6906240" y="3652560"/>
              <a:chExt cx="99000" cy="416520"/>
            </a:xfrm>
          </p:grpSpPr>
          <p:sp>
            <p:nvSpPr>
              <p:cNvPr id="738" name=""/>
              <p:cNvSpPr/>
              <p:nvPr/>
            </p:nvSpPr>
            <p:spPr>
              <a:xfrm>
                <a:off x="6906240" y="3861000"/>
                <a:ext cx="99000" cy="208080"/>
              </a:xfrm>
              <a:custGeom>
                <a:avLst/>
                <a:gdLst/>
                <a:ahLst/>
                <a:rect l="l" t="t" r="r" b="b"/>
                <a:pathLst>
                  <a:path w="64" h="112">
                    <a:moveTo>
                      <a:pt x="32" y="112"/>
                    </a:moveTo>
                    <a:lnTo>
                      <a:pt x="0" y="0"/>
                    </a:lnTo>
                    <a:lnTo>
                      <a:pt x="32" y="0"/>
                    </a:lnTo>
                    <a:lnTo>
                      <a:pt x="64" y="0"/>
                    </a:lnTo>
                    <a:lnTo>
                      <a:pt x="32" y="1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955560" y="3652560"/>
                <a:ext cx="1080" cy="20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6881040" y="2757960"/>
              <a:ext cx="99000" cy="327240"/>
              <a:chOff x="6881040" y="2757960"/>
              <a:chExt cx="99000" cy="327240"/>
            </a:xfrm>
          </p:grpSpPr>
          <p:sp>
            <p:nvSpPr>
              <p:cNvPr id="741" name=""/>
              <p:cNvSpPr/>
              <p:nvPr/>
            </p:nvSpPr>
            <p:spPr>
              <a:xfrm>
                <a:off x="6881040" y="2757960"/>
                <a:ext cx="99000" cy="208440"/>
              </a:xfrm>
              <a:custGeom>
                <a:avLst/>
                <a:gdLst/>
                <a:ahLst/>
                <a:rect l="l" t="t" r="r" b="b"/>
                <a:pathLst>
                  <a:path w="64" h="112">
                    <a:moveTo>
                      <a:pt x="32" y="0"/>
                    </a:moveTo>
                    <a:lnTo>
                      <a:pt x="64" y="112"/>
                    </a:lnTo>
                    <a:lnTo>
                      <a:pt x="32" y="112"/>
                    </a:lnTo>
                    <a:lnTo>
                      <a:pt x="0" y="112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6930360" y="2966400"/>
                <a:ext cx="1440" cy="11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6942960" y="4576680"/>
              <a:ext cx="99360" cy="327240"/>
              <a:chOff x="6942960" y="4576680"/>
              <a:chExt cx="99360" cy="327240"/>
            </a:xfrm>
          </p:grpSpPr>
          <p:sp>
            <p:nvSpPr>
              <p:cNvPr id="744" name=""/>
              <p:cNvSpPr/>
              <p:nvPr/>
            </p:nvSpPr>
            <p:spPr>
              <a:xfrm>
                <a:off x="6942960" y="4576680"/>
                <a:ext cx="99360" cy="208440"/>
              </a:xfrm>
              <a:custGeom>
                <a:avLst/>
                <a:gdLst/>
                <a:ahLst/>
                <a:rect l="l" t="t" r="r" b="b"/>
                <a:pathLst>
                  <a:path w="64" h="112">
                    <a:moveTo>
                      <a:pt x="32" y="0"/>
                    </a:moveTo>
                    <a:lnTo>
                      <a:pt x="64" y="112"/>
                    </a:lnTo>
                    <a:lnTo>
                      <a:pt x="32" y="112"/>
                    </a:lnTo>
                    <a:lnTo>
                      <a:pt x="0" y="112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6992640" y="4785120"/>
                <a:ext cx="1080" cy="11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6" name=""/>
          <p:cNvSpPr/>
          <p:nvPr/>
        </p:nvSpPr>
        <p:spPr>
          <a:xfrm>
            <a:off x="1483920" y="5889600"/>
            <a:ext cx="25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afinil (Provigil®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624040" y="4489560"/>
            <a:ext cx="32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ll are scheduled dru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080" y="6448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E65E1-EFE4-454B-9540-6CCA242B821A}" type="slidenum">
              <a:t>15</a:t>
            </a:fld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ysician Success Program Material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faceted education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ribution proces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yrem dosing and administ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me storage and secure hand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ctor be wary”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que prescription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information at Specialty Pharma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17CBA-4021-4DB5-8C52-9AE62DE6310C}" type="slidenum">
              <a:t>1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scription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4549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ysician decides to prescribe Xyr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ysician faxes a special Rx to Specialty Pharm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alty Pharmacy assigns patient to dedicated pharmacy t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E4FD6-D9B8-4C22-96C7-2AD0CB4003D7}" type="slidenum">
              <a:t>1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ysician Verific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alty Pharmacy verifies physician is “eligible” to prescribe Xyre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A’s NTIS databa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D licen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rrent CIII prescribing privile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ate medical boar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364A9-00BF-412C-A6C0-48029C4017AD}" type="slidenum">
              <a:t>1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tient Ver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alty Pharmacy calls prescribing physician’s 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y the R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7B24D-E5A6-4C42-BA46-4F354C8904CE}" type="slidenum">
              <a:t>1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-Shipment Patient Couns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5010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alty Pharmacy contacts patie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Determine patient/designee location and availability for receipt of Rx shipmen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xplain contents of shipmen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96F2C-3172-4DA6-B3AC-BFE59B57F6B8}" type="slidenum">
              <a:t>1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pid Tra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Detailed, real-time trac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Delivered ONLY by authorized sig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If patient/designee unavailable, package returned to Specialty Pharmacy after on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re-delivery attem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If lost, investigation begins regarding shipment’s whereabo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F5C1D-6F20-4DAE-B3B5-47293C6589E7}" type="slidenum">
              <a:t>1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Patient Success Program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-faceted education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 pro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rem dosing and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 storage and secure hand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minal and civil penalties for illicit u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act information at Specialty Pharm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imbursement inform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E7FC6-8358-4EAF-8502-FC80341328CF}" type="slidenum">
              <a:t>1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t-receipt Cont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 received, Specialty Pharmacist contacts patient within 24 hours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firm receipt of packag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scuss with patient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nalties for illicit us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yrem dosing and administ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me storage and secure hand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scuss child resistant packag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F5C2C-FFF7-4477-8064-E5909216D145}" type="slidenum">
              <a:t>1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nefits of Central Data Reposi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ntification of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uplicate prescrip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ver-prescrib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ver-use by pati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tion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ri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o filling R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ropriate pharmacist interv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D5139-05A2-4C36-AE7A-000E4D60B653}" type="slidenum">
              <a:t>1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yrem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Success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omprehensive program that ensures the responsible distribution of Xyrem, resulting i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ility of Xyrem to patients who need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accessibility to those who would use it illici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22591-4C62-44E8-8466-0F49F2E4C4E2}" type="slidenum">
              <a:t>1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719280" y="6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Partial Efficacy of Treatments:  MW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735120" y="1063800"/>
            <a:ext cx="7788240" cy="2880"/>
          </a:xfrm>
          <a:prstGeom prst="line">
            <a:avLst/>
          </a:prstGeom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1499760" y="1539720"/>
            <a:ext cx="6348600" cy="4590720"/>
            <a:chOff x="1499760" y="1539720"/>
            <a:chExt cx="6348600" cy="4590720"/>
          </a:xfrm>
        </p:grpSpPr>
        <p:sp>
          <p:nvSpPr>
            <p:cNvPr id="753" name=""/>
            <p:cNvSpPr/>
            <p:nvPr/>
          </p:nvSpPr>
          <p:spPr>
            <a:xfrm>
              <a:off x="1804680" y="1539720"/>
              <a:ext cx="6004080" cy="4038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931760" y="4278240"/>
              <a:ext cx="301680" cy="74520"/>
            </a:xfrm>
            <a:prstGeom prst="line">
              <a:avLst/>
            </a:prstGeom>
            <a:ln w="237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233440" y="4352760"/>
              <a:ext cx="304560" cy="117720"/>
            </a:xfrm>
            <a:prstGeom prst="line">
              <a:avLst/>
            </a:prstGeom>
            <a:ln w="237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2538000" y="4374720"/>
              <a:ext cx="298800" cy="95400"/>
            </a:xfrm>
            <a:prstGeom prst="line">
              <a:avLst/>
            </a:prstGeom>
            <a:ln w="237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444480" y="4425840"/>
              <a:ext cx="303480" cy="27000"/>
            </a:xfrm>
            <a:prstGeom prst="line">
              <a:avLst/>
            </a:prstGeom>
            <a:ln w="237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747960" y="4452840"/>
              <a:ext cx="303120" cy="41400"/>
            </a:xfrm>
            <a:prstGeom prst="line">
              <a:avLst/>
            </a:prstGeom>
            <a:ln w="237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4051080" y="4390560"/>
              <a:ext cx="304920" cy="103320"/>
            </a:xfrm>
            <a:prstGeom prst="line">
              <a:avLst/>
            </a:prstGeom>
            <a:ln w="237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955760" y="4425840"/>
              <a:ext cx="304920" cy="73080"/>
            </a:xfrm>
            <a:prstGeom prst="line">
              <a:avLst/>
            </a:prstGeom>
            <a:ln w="237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5260680" y="4459320"/>
              <a:ext cx="303120" cy="39600"/>
            </a:xfrm>
            <a:prstGeom prst="line">
              <a:avLst/>
            </a:prstGeom>
            <a:ln w="237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5563800" y="4193640"/>
              <a:ext cx="304920" cy="265320"/>
            </a:xfrm>
            <a:prstGeom prst="line">
              <a:avLst/>
            </a:prstGeom>
            <a:ln w="237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476760" y="4441680"/>
              <a:ext cx="297000" cy="86040"/>
            </a:xfrm>
            <a:prstGeom prst="line">
              <a:avLst/>
            </a:prstGeom>
            <a:ln w="237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6773760" y="4481640"/>
              <a:ext cx="304560" cy="46080"/>
            </a:xfrm>
            <a:prstGeom prst="line">
              <a:avLst/>
            </a:prstGeom>
            <a:ln w="237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7078320" y="4441320"/>
              <a:ext cx="304920" cy="39960"/>
            </a:xfrm>
            <a:prstGeom prst="line">
              <a:avLst/>
            </a:prstGeom>
            <a:ln w="237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931760" y="4125960"/>
              <a:ext cx="301680" cy="27612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33440" y="4402080"/>
              <a:ext cx="304560" cy="3492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538000" y="4437000"/>
              <a:ext cx="298800" cy="3348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3444480" y="3781080"/>
              <a:ext cx="303480" cy="42372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747960" y="3781440"/>
              <a:ext cx="303120" cy="144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051080" y="3781440"/>
              <a:ext cx="304920" cy="648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4955760" y="3613320"/>
              <a:ext cx="304920" cy="59832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260680" y="3613320"/>
              <a:ext cx="303120" cy="23148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5563800" y="3769920"/>
              <a:ext cx="304920" cy="7452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6476760" y="3760920"/>
              <a:ext cx="297000" cy="34272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773760" y="3760920"/>
              <a:ext cx="304560" cy="20772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078320" y="3968640"/>
              <a:ext cx="304920" cy="3348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931760" y="4086360"/>
              <a:ext cx="301680" cy="299880"/>
            </a:xfrm>
            <a:prstGeom prst="line">
              <a:avLst/>
            </a:prstGeom>
            <a:ln w="23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233440" y="4386240"/>
              <a:ext cx="304560" cy="0"/>
            </a:xfrm>
            <a:prstGeom prst="line">
              <a:avLst/>
            </a:prstGeom>
            <a:ln w="23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2538000" y="4352400"/>
              <a:ext cx="298800" cy="33480"/>
            </a:xfrm>
            <a:prstGeom prst="line">
              <a:avLst/>
            </a:prstGeom>
            <a:ln w="23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3444480" y="3544560"/>
              <a:ext cx="303480" cy="514440"/>
            </a:xfrm>
            <a:prstGeom prst="line">
              <a:avLst/>
            </a:prstGeom>
            <a:ln w="23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747960" y="3544920"/>
              <a:ext cx="303120" cy="165240"/>
            </a:xfrm>
            <a:prstGeom prst="line">
              <a:avLst/>
            </a:prstGeom>
            <a:ln w="23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4051080" y="3681360"/>
              <a:ext cx="304920" cy="28800"/>
            </a:xfrm>
            <a:prstGeom prst="line">
              <a:avLst/>
            </a:prstGeom>
            <a:ln w="23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4955760" y="3511440"/>
              <a:ext cx="304920" cy="671760"/>
            </a:xfrm>
            <a:prstGeom prst="line">
              <a:avLst/>
            </a:prstGeom>
            <a:ln w="23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60680" y="3511440"/>
              <a:ext cx="303120" cy="254160"/>
            </a:xfrm>
            <a:prstGeom prst="line">
              <a:avLst/>
            </a:prstGeom>
            <a:ln w="23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5563800" y="3760560"/>
              <a:ext cx="304920" cy="4680"/>
            </a:xfrm>
            <a:prstGeom prst="line">
              <a:avLst/>
            </a:prstGeom>
            <a:ln w="23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6476760" y="3664080"/>
              <a:ext cx="297000" cy="558720"/>
            </a:xfrm>
            <a:prstGeom prst="line">
              <a:avLst/>
            </a:prstGeom>
            <a:ln w="23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773760" y="3664080"/>
              <a:ext cx="304560" cy="242640"/>
            </a:xfrm>
            <a:prstGeom prst="line">
              <a:avLst/>
            </a:prstGeom>
            <a:ln w="23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7078320" y="3849840"/>
              <a:ext cx="304920" cy="56880"/>
            </a:xfrm>
            <a:prstGeom prst="line">
              <a:avLst/>
            </a:prstGeom>
            <a:ln w="23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931760" y="1932120"/>
              <a:ext cx="301680" cy="185760"/>
            </a:xfrm>
            <a:prstGeom prst="line">
              <a:avLst/>
            </a:prstGeom>
            <a:ln w="23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2233440" y="2061720"/>
              <a:ext cx="304560" cy="55800"/>
            </a:xfrm>
            <a:prstGeom prst="line">
              <a:avLst/>
            </a:prstGeom>
            <a:ln w="23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2538000" y="1909440"/>
              <a:ext cx="298800" cy="152280"/>
            </a:xfrm>
            <a:prstGeom prst="line">
              <a:avLst/>
            </a:prstGeom>
            <a:ln w="23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444480" y="1932120"/>
              <a:ext cx="303480" cy="185760"/>
            </a:xfrm>
            <a:prstGeom prst="line">
              <a:avLst/>
            </a:prstGeom>
            <a:ln w="23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3747960" y="2061720"/>
              <a:ext cx="303120" cy="55800"/>
            </a:xfrm>
            <a:prstGeom prst="line">
              <a:avLst/>
            </a:prstGeom>
            <a:ln w="23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4051080" y="1909440"/>
              <a:ext cx="304920" cy="152280"/>
            </a:xfrm>
            <a:prstGeom prst="line">
              <a:avLst/>
            </a:prstGeom>
            <a:ln w="23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955760" y="1932120"/>
              <a:ext cx="304920" cy="185760"/>
            </a:xfrm>
            <a:prstGeom prst="line">
              <a:avLst/>
            </a:prstGeom>
            <a:ln w="23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5260680" y="2061720"/>
              <a:ext cx="303120" cy="55800"/>
            </a:xfrm>
            <a:prstGeom prst="line">
              <a:avLst/>
            </a:prstGeom>
            <a:ln w="23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5563800" y="1909440"/>
              <a:ext cx="304920" cy="152280"/>
            </a:xfrm>
            <a:prstGeom prst="line">
              <a:avLst/>
            </a:prstGeom>
            <a:ln w="23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476760" y="1932120"/>
              <a:ext cx="297000" cy="185760"/>
            </a:xfrm>
            <a:prstGeom prst="line">
              <a:avLst/>
            </a:prstGeom>
            <a:ln w="23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6773760" y="2061720"/>
              <a:ext cx="304560" cy="55800"/>
            </a:xfrm>
            <a:prstGeom prst="line">
              <a:avLst/>
            </a:prstGeom>
            <a:ln w="23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078320" y="1909440"/>
              <a:ext cx="304920" cy="152280"/>
            </a:xfrm>
            <a:prstGeom prst="line">
              <a:avLst/>
            </a:prstGeom>
            <a:ln w="23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931760" y="2496960"/>
              <a:ext cx="301680" cy="428760"/>
            </a:xfrm>
            <a:prstGeom prst="line">
              <a:avLst/>
            </a:prstGeom>
            <a:ln w="237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2233440" y="2778120"/>
              <a:ext cx="304560" cy="147600"/>
            </a:xfrm>
            <a:prstGeom prst="line">
              <a:avLst/>
            </a:prstGeom>
            <a:ln w="237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2538000" y="2501640"/>
              <a:ext cx="298800" cy="276120"/>
            </a:xfrm>
            <a:prstGeom prst="line">
              <a:avLst/>
            </a:prstGeom>
            <a:ln w="237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444480" y="2496960"/>
              <a:ext cx="303480" cy="428760"/>
            </a:xfrm>
            <a:prstGeom prst="line">
              <a:avLst/>
            </a:prstGeom>
            <a:ln w="237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747960" y="2778120"/>
              <a:ext cx="303120" cy="147600"/>
            </a:xfrm>
            <a:prstGeom prst="line">
              <a:avLst/>
            </a:prstGeom>
            <a:ln w="237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4051080" y="2501640"/>
              <a:ext cx="304920" cy="276120"/>
            </a:xfrm>
            <a:prstGeom prst="line">
              <a:avLst/>
            </a:prstGeom>
            <a:ln w="237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955760" y="2496960"/>
              <a:ext cx="304920" cy="428760"/>
            </a:xfrm>
            <a:prstGeom prst="line">
              <a:avLst/>
            </a:prstGeom>
            <a:ln w="237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5260680" y="2778120"/>
              <a:ext cx="303120" cy="147600"/>
            </a:xfrm>
            <a:prstGeom prst="line">
              <a:avLst/>
            </a:prstGeom>
            <a:ln w="237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5563800" y="2501640"/>
              <a:ext cx="304920" cy="276120"/>
            </a:xfrm>
            <a:prstGeom prst="line">
              <a:avLst/>
            </a:prstGeom>
            <a:ln w="237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476760" y="2496960"/>
              <a:ext cx="297000" cy="428760"/>
            </a:xfrm>
            <a:prstGeom prst="line">
              <a:avLst/>
            </a:prstGeom>
            <a:ln w="237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6773760" y="2778120"/>
              <a:ext cx="304560" cy="147600"/>
            </a:xfrm>
            <a:prstGeom prst="line">
              <a:avLst/>
            </a:prstGeom>
            <a:ln w="237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7078320" y="2501640"/>
              <a:ext cx="304920" cy="276120"/>
            </a:xfrm>
            <a:prstGeom prst="line">
              <a:avLst/>
            </a:prstGeom>
            <a:ln w="237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882440" y="4233960"/>
              <a:ext cx="90720" cy="83880"/>
            </a:xfrm>
            <a:prstGeom prst="ellipse">
              <a:avLst/>
            </a:prstGeom>
            <a:solidFill>
              <a:srgbClr val="333333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187360" y="4307040"/>
              <a:ext cx="88920" cy="83880"/>
            </a:xfrm>
            <a:prstGeom prst="ellipse">
              <a:avLst/>
            </a:prstGeom>
            <a:solidFill>
              <a:srgbClr val="333333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490480" y="4425840"/>
              <a:ext cx="90720" cy="84240"/>
            </a:xfrm>
            <a:prstGeom prst="ellipse">
              <a:avLst/>
            </a:prstGeom>
            <a:solidFill>
              <a:srgbClr val="333333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788920" y="4329000"/>
              <a:ext cx="90720" cy="84240"/>
            </a:xfrm>
            <a:prstGeom prst="ellipse">
              <a:avLst/>
            </a:prstGeom>
            <a:solidFill>
              <a:srgbClr val="333333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395520" y="4379760"/>
              <a:ext cx="91800" cy="86040"/>
            </a:xfrm>
            <a:prstGeom prst="ellipse">
              <a:avLst/>
            </a:prstGeom>
            <a:solidFill>
              <a:srgbClr val="333333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698640" y="4408560"/>
              <a:ext cx="90360" cy="85680"/>
            </a:xfrm>
            <a:prstGeom prst="ellipse">
              <a:avLst/>
            </a:prstGeom>
            <a:solidFill>
              <a:srgbClr val="333333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003560" y="4448160"/>
              <a:ext cx="90360" cy="85680"/>
            </a:xfrm>
            <a:prstGeom prst="ellipse">
              <a:avLst/>
            </a:prstGeom>
            <a:solidFill>
              <a:srgbClr val="333333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306680" y="4346640"/>
              <a:ext cx="90360" cy="84240"/>
            </a:xfrm>
            <a:prstGeom prst="ellipse">
              <a:avLst/>
            </a:prstGeom>
            <a:solidFill>
              <a:srgbClr val="333333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08240" y="4379760"/>
              <a:ext cx="92160" cy="86040"/>
            </a:xfrm>
            <a:prstGeom prst="ellipse">
              <a:avLst/>
            </a:prstGeom>
            <a:solidFill>
              <a:srgbClr val="333333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211360" y="4452840"/>
              <a:ext cx="92160" cy="84240"/>
            </a:xfrm>
            <a:prstGeom prst="ellipse">
              <a:avLst/>
            </a:prstGeom>
            <a:solidFill>
              <a:srgbClr val="333333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516280" y="4413240"/>
              <a:ext cx="90360" cy="85680"/>
            </a:xfrm>
            <a:prstGeom prst="ellipse">
              <a:avLst/>
            </a:prstGeom>
            <a:solidFill>
              <a:srgbClr val="333333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19400" y="4149720"/>
              <a:ext cx="92160" cy="84240"/>
            </a:xfrm>
            <a:prstGeom prst="ellipse">
              <a:avLst/>
            </a:prstGeom>
            <a:solidFill>
              <a:srgbClr val="333333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427440" y="4397400"/>
              <a:ext cx="92160" cy="84240"/>
            </a:xfrm>
            <a:prstGeom prst="ellipse">
              <a:avLst/>
            </a:prstGeom>
            <a:solidFill>
              <a:srgbClr val="333333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725880" y="4481640"/>
              <a:ext cx="90720" cy="83880"/>
            </a:xfrm>
            <a:prstGeom prst="ellipse">
              <a:avLst/>
            </a:prstGeom>
            <a:solidFill>
              <a:srgbClr val="333333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029360" y="4437000"/>
              <a:ext cx="90360" cy="84240"/>
            </a:xfrm>
            <a:prstGeom prst="ellipse">
              <a:avLst/>
            </a:prstGeom>
            <a:solidFill>
              <a:srgbClr val="333333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32480" y="4397400"/>
              <a:ext cx="92160" cy="84240"/>
            </a:xfrm>
            <a:prstGeom prst="ellipse">
              <a:avLst/>
            </a:prstGeom>
            <a:solidFill>
              <a:srgbClr val="333333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882440" y="4081320"/>
              <a:ext cx="90720" cy="84240"/>
            </a:xfrm>
            <a:prstGeom prst="ellipse">
              <a:avLst/>
            </a:prstGeom>
            <a:solidFill>
              <a:srgbClr val="0000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187360" y="4357800"/>
              <a:ext cx="88920" cy="83880"/>
            </a:xfrm>
            <a:prstGeom prst="ellipse">
              <a:avLst/>
            </a:prstGeom>
            <a:solidFill>
              <a:srgbClr val="0000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490480" y="4390920"/>
              <a:ext cx="90720" cy="85680"/>
            </a:xfrm>
            <a:prstGeom prst="ellipse">
              <a:avLst/>
            </a:prstGeom>
            <a:solidFill>
              <a:srgbClr val="0000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788920" y="4425840"/>
              <a:ext cx="90720" cy="84240"/>
            </a:xfrm>
            <a:prstGeom prst="ellipse">
              <a:avLst/>
            </a:prstGeom>
            <a:solidFill>
              <a:srgbClr val="0000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395520" y="4160880"/>
              <a:ext cx="91800" cy="84240"/>
            </a:xfrm>
            <a:prstGeom prst="ellipse">
              <a:avLst/>
            </a:prstGeom>
            <a:solidFill>
              <a:srgbClr val="0000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698640" y="3736800"/>
              <a:ext cx="90360" cy="84240"/>
            </a:xfrm>
            <a:prstGeom prst="ellipse">
              <a:avLst/>
            </a:prstGeom>
            <a:solidFill>
              <a:srgbClr val="0000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003560" y="3736800"/>
              <a:ext cx="90360" cy="84240"/>
            </a:xfrm>
            <a:prstGeom prst="ellipse">
              <a:avLst/>
            </a:prstGeom>
            <a:solidFill>
              <a:srgbClr val="0000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306680" y="3743280"/>
              <a:ext cx="90360" cy="84240"/>
            </a:xfrm>
            <a:prstGeom prst="ellipse">
              <a:avLst/>
            </a:prstGeom>
            <a:solidFill>
              <a:srgbClr val="0000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908240" y="4165560"/>
              <a:ext cx="92160" cy="84240"/>
            </a:xfrm>
            <a:prstGeom prst="ellipse">
              <a:avLst/>
            </a:prstGeom>
            <a:solidFill>
              <a:srgbClr val="0000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211360" y="3568680"/>
              <a:ext cx="92160" cy="84240"/>
            </a:xfrm>
            <a:prstGeom prst="ellipse">
              <a:avLst/>
            </a:prstGeom>
            <a:solidFill>
              <a:srgbClr val="0000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16280" y="3798720"/>
              <a:ext cx="90360" cy="86040"/>
            </a:xfrm>
            <a:prstGeom prst="ellipse">
              <a:avLst/>
            </a:prstGeom>
            <a:solidFill>
              <a:srgbClr val="0000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819400" y="3726000"/>
              <a:ext cx="92160" cy="83880"/>
            </a:xfrm>
            <a:prstGeom prst="ellipse">
              <a:avLst/>
            </a:prstGeom>
            <a:solidFill>
              <a:srgbClr val="0000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427440" y="4059360"/>
              <a:ext cx="92160" cy="83880"/>
            </a:xfrm>
            <a:prstGeom prst="ellipse">
              <a:avLst/>
            </a:prstGeom>
            <a:solidFill>
              <a:srgbClr val="0000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725880" y="3714840"/>
              <a:ext cx="90720" cy="83880"/>
            </a:xfrm>
            <a:prstGeom prst="ellipse">
              <a:avLst/>
            </a:prstGeom>
            <a:solidFill>
              <a:srgbClr val="0000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029360" y="3922560"/>
              <a:ext cx="90360" cy="86040"/>
            </a:xfrm>
            <a:prstGeom prst="ellipse">
              <a:avLst/>
            </a:prstGeom>
            <a:solidFill>
              <a:srgbClr val="0000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332480" y="3957480"/>
              <a:ext cx="92160" cy="84240"/>
            </a:xfrm>
            <a:prstGeom prst="ellipse">
              <a:avLst/>
            </a:prstGeom>
            <a:solidFill>
              <a:srgbClr val="0000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882440" y="4041720"/>
              <a:ext cx="90720" cy="84240"/>
            </a:xfrm>
            <a:prstGeom prst="ellipse">
              <a:avLst/>
            </a:prstGeom>
            <a:solidFill>
              <a:srgbClr val="ff6600"/>
            </a:solidFill>
            <a:ln w="79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187360" y="4341960"/>
              <a:ext cx="88920" cy="83880"/>
            </a:xfrm>
            <a:prstGeom prst="ellipse">
              <a:avLst/>
            </a:prstGeom>
            <a:solidFill>
              <a:srgbClr val="ff6600"/>
            </a:solidFill>
            <a:ln w="79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490480" y="4341960"/>
              <a:ext cx="90720" cy="83880"/>
            </a:xfrm>
            <a:prstGeom prst="ellipse">
              <a:avLst/>
            </a:prstGeom>
            <a:solidFill>
              <a:srgbClr val="ff6600"/>
            </a:solidFill>
            <a:ln w="79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788920" y="4307040"/>
              <a:ext cx="90720" cy="83880"/>
            </a:xfrm>
            <a:prstGeom prst="ellipse">
              <a:avLst/>
            </a:prstGeom>
            <a:solidFill>
              <a:srgbClr val="ff6600"/>
            </a:solidFill>
            <a:ln w="79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395520" y="4013280"/>
              <a:ext cx="91800" cy="83880"/>
            </a:xfrm>
            <a:prstGeom prst="ellipse">
              <a:avLst/>
            </a:prstGeom>
            <a:solidFill>
              <a:srgbClr val="ff6600"/>
            </a:solidFill>
            <a:ln w="79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698640" y="3500280"/>
              <a:ext cx="90360" cy="84240"/>
            </a:xfrm>
            <a:prstGeom prst="ellipse">
              <a:avLst/>
            </a:prstGeom>
            <a:solidFill>
              <a:srgbClr val="ff6600"/>
            </a:solidFill>
            <a:ln w="79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003560" y="3664080"/>
              <a:ext cx="90360" cy="85680"/>
            </a:xfrm>
            <a:prstGeom prst="ellipse">
              <a:avLst/>
            </a:prstGeom>
            <a:solidFill>
              <a:srgbClr val="ff6600"/>
            </a:solidFill>
            <a:ln w="79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306680" y="3635280"/>
              <a:ext cx="90360" cy="85680"/>
            </a:xfrm>
            <a:prstGeom prst="ellipse">
              <a:avLst/>
            </a:prstGeom>
            <a:solidFill>
              <a:srgbClr val="ff6600"/>
            </a:solidFill>
            <a:ln w="79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908240" y="4137120"/>
              <a:ext cx="92160" cy="85680"/>
            </a:xfrm>
            <a:prstGeom prst="ellipse">
              <a:avLst/>
            </a:prstGeom>
            <a:solidFill>
              <a:srgbClr val="ff6600"/>
            </a:solidFill>
            <a:ln w="79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211360" y="3465360"/>
              <a:ext cx="92160" cy="86040"/>
            </a:xfrm>
            <a:prstGeom prst="ellipse">
              <a:avLst/>
            </a:prstGeom>
            <a:solidFill>
              <a:srgbClr val="ff6600"/>
            </a:solidFill>
            <a:ln w="79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516280" y="3720960"/>
              <a:ext cx="90360" cy="84240"/>
            </a:xfrm>
            <a:prstGeom prst="ellipse">
              <a:avLst/>
            </a:prstGeom>
            <a:solidFill>
              <a:srgbClr val="ff6600"/>
            </a:solidFill>
            <a:ln w="79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819400" y="3714840"/>
              <a:ext cx="92160" cy="83880"/>
            </a:xfrm>
            <a:prstGeom prst="ellipse">
              <a:avLst/>
            </a:prstGeom>
            <a:solidFill>
              <a:srgbClr val="ff6600"/>
            </a:solidFill>
            <a:ln w="79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427440" y="4176720"/>
              <a:ext cx="92160" cy="84240"/>
            </a:xfrm>
            <a:prstGeom prst="ellipse">
              <a:avLst/>
            </a:prstGeom>
            <a:solidFill>
              <a:srgbClr val="ff6600"/>
            </a:solidFill>
            <a:ln w="79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725880" y="3618000"/>
              <a:ext cx="90720" cy="85680"/>
            </a:xfrm>
            <a:prstGeom prst="ellipse">
              <a:avLst/>
            </a:prstGeom>
            <a:solidFill>
              <a:srgbClr val="ff6600"/>
            </a:solidFill>
            <a:ln w="79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029360" y="3860640"/>
              <a:ext cx="90360" cy="84240"/>
            </a:xfrm>
            <a:prstGeom prst="ellipse">
              <a:avLst/>
            </a:prstGeom>
            <a:solidFill>
              <a:srgbClr val="ff6600"/>
            </a:solidFill>
            <a:ln w="79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332480" y="3805200"/>
              <a:ext cx="92160" cy="84240"/>
            </a:xfrm>
            <a:prstGeom prst="ellipse">
              <a:avLst/>
            </a:prstGeom>
            <a:solidFill>
              <a:srgbClr val="ff6600"/>
            </a:solidFill>
            <a:ln w="79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882440" y="1887480"/>
              <a:ext cx="90720" cy="84240"/>
            </a:xfrm>
            <a:prstGeom prst="ellipse">
              <a:avLst/>
            </a:prstGeom>
            <a:solidFill>
              <a:srgbClr val="008000"/>
            </a:solidFill>
            <a:ln w="7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187360" y="2073240"/>
              <a:ext cx="88920" cy="84240"/>
            </a:xfrm>
            <a:prstGeom prst="ellipse">
              <a:avLst/>
            </a:prstGeom>
            <a:solidFill>
              <a:srgbClr val="008000"/>
            </a:solidFill>
            <a:ln w="7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490480" y="2017800"/>
              <a:ext cx="90720" cy="83880"/>
            </a:xfrm>
            <a:prstGeom prst="ellipse">
              <a:avLst/>
            </a:prstGeom>
            <a:solidFill>
              <a:srgbClr val="008000"/>
            </a:solidFill>
            <a:ln w="7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788920" y="1865160"/>
              <a:ext cx="90720" cy="84240"/>
            </a:xfrm>
            <a:prstGeom prst="ellipse">
              <a:avLst/>
            </a:prstGeom>
            <a:solidFill>
              <a:srgbClr val="008000"/>
            </a:solidFill>
            <a:ln w="7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395520" y="1887480"/>
              <a:ext cx="91800" cy="84240"/>
            </a:xfrm>
            <a:prstGeom prst="ellipse">
              <a:avLst/>
            </a:prstGeom>
            <a:solidFill>
              <a:srgbClr val="008000"/>
            </a:solidFill>
            <a:ln w="7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698640" y="2073240"/>
              <a:ext cx="90360" cy="84240"/>
            </a:xfrm>
            <a:prstGeom prst="ellipse">
              <a:avLst/>
            </a:prstGeom>
            <a:solidFill>
              <a:srgbClr val="008000"/>
            </a:solidFill>
            <a:ln w="7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003560" y="2017800"/>
              <a:ext cx="90360" cy="83880"/>
            </a:xfrm>
            <a:prstGeom prst="ellipse">
              <a:avLst/>
            </a:prstGeom>
            <a:solidFill>
              <a:srgbClr val="008000"/>
            </a:solidFill>
            <a:ln w="7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306680" y="1865160"/>
              <a:ext cx="90360" cy="84240"/>
            </a:xfrm>
            <a:prstGeom prst="ellipse">
              <a:avLst/>
            </a:prstGeom>
            <a:solidFill>
              <a:srgbClr val="008000"/>
            </a:solidFill>
            <a:ln w="7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908240" y="1887480"/>
              <a:ext cx="92160" cy="84240"/>
            </a:xfrm>
            <a:prstGeom prst="ellipse">
              <a:avLst/>
            </a:prstGeom>
            <a:solidFill>
              <a:srgbClr val="008000"/>
            </a:solidFill>
            <a:ln w="7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211360" y="2073240"/>
              <a:ext cx="92160" cy="84240"/>
            </a:xfrm>
            <a:prstGeom prst="ellipse">
              <a:avLst/>
            </a:prstGeom>
            <a:solidFill>
              <a:srgbClr val="008000"/>
            </a:solidFill>
            <a:ln w="7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16280" y="2017800"/>
              <a:ext cx="90360" cy="83880"/>
            </a:xfrm>
            <a:prstGeom prst="ellipse">
              <a:avLst/>
            </a:prstGeom>
            <a:solidFill>
              <a:srgbClr val="008000"/>
            </a:solidFill>
            <a:ln w="7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819400" y="1865160"/>
              <a:ext cx="92160" cy="84240"/>
            </a:xfrm>
            <a:prstGeom prst="ellipse">
              <a:avLst/>
            </a:prstGeom>
            <a:solidFill>
              <a:srgbClr val="008000"/>
            </a:solidFill>
            <a:ln w="7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427440" y="1887480"/>
              <a:ext cx="92160" cy="84240"/>
            </a:xfrm>
            <a:prstGeom prst="ellipse">
              <a:avLst/>
            </a:prstGeom>
            <a:solidFill>
              <a:srgbClr val="008000"/>
            </a:solidFill>
            <a:ln w="7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725880" y="2073240"/>
              <a:ext cx="90720" cy="84240"/>
            </a:xfrm>
            <a:prstGeom prst="ellipse">
              <a:avLst/>
            </a:prstGeom>
            <a:solidFill>
              <a:srgbClr val="008000"/>
            </a:solidFill>
            <a:ln w="7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029360" y="2017800"/>
              <a:ext cx="90360" cy="83880"/>
            </a:xfrm>
            <a:prstGeom prst="ellipse">
              <a:avLst/>
            </a:prstGeom>
            <a:solidFill>
              <a:srgbClr val="008000"/>
            </a:solidFill>
            <a:ln w="7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332480" y="1865160"/>
              <a:ext cx="92160" cy="84240"/>
            </a:xfrm>
            <a:prstGeom prst="ellipse">
              <a:avLst/>
            </a:prstGeom>
            <a:solidFill>
              <a:srgbClr val="008000"/>
            </a:solidFill>
            <a:ln w="7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06200" y="2473200"/>
              <a:ext cx="42840" cy="39960"/>
            </a:xfrm>
            <a:prstGeom prst="ellipse">
              <a:avLst/>
            </a:prstGeom>
            <a:solidFill>
              <a:srgbClr val="969696"/>
            </a:solidFill>
            <a:ln w="79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209680" y="2901960"/>
              <a:ext cx="42840" cy="39600"/>
            </a:xfrm>
            <a:prstGeom prst="ellipse">
              <a:avLst/>
            </a:prstGeom>
            <a:solidFill>
              <a:srgbClr val="969696"/>
            </a:solidFill>
            <a:ln w="79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514240" y="2755800"/>
              <a:ext cx="42840" cy="39960"/>
            </a:xfrm>
            <a:prstGeom prst="ellipse">
              <a:avLst/>
            </a:prstGeom>
            <a:solidFill>
              <a:srgbClr val="969696"/>
            </a:solidFill>
            <a:ln w="79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811240" y="2479680"/>
              <a:ext cx="42840" cy="39600"/>
            </a:xfrm>
            <a:prstGeom prst="ellipse">
              <a:avLst/>
            </a:prstGeom>
            <a:solidFill>
              <a:srgbClr val="969696"/>
            </a:solidFill>
            <a:ln w="79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419280" y="2473200"/>
              <a:ext cx="42840" cy="39960"/>
            </a:xfrm>
            <a:prstGeom prst="ellipse">
              <a:avLst/>
            </a:prstGeom>
            <a:solidFill>
              <a:srgbClr val="969696"/>
            </a:solidFill>
            <a:ln w="79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724200" y="2901960"/>
              <a:ext cx="42840" cy="39600"/>
            </a:xfrm>
            <a:prstGeom prst="ellipse">
              <a:avLst/>
            </a:prstGeom>
            <a:solidFill>
              <a:srgbClr val="969696"/>
            </a:solidFill>
            <a:ln w="79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028760" y="2755800"/>
              <a:ext cx="41400" cy="39960"/>
            </a:xfrm>
            <a:prstGeom prst="ellipse">
              <a:avLst/>
            </a:prstGeom>
            <a:solidFill>
              <a:srgbClr val="969696"/>
            </a:solidFill>
            <a:ln w="79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331880" y="2479680"/>
              <a:ext cx="41400" cy="39600"/>
            </a:xfrm>
            <a:prstGeom prst="ellipse">
              <a:avLst/>
            </a:prstGeom>
            <a:solidFill>
              <a:srgbClr val="969696"/>
            </a:solidFill>
            <a:ln w="79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933800" y="2473200"/>
              <a:ext cx="41040" cy="39960"/>
            </a:xfrm>
            <a:prstGeom prst="ellipse">
              <a:avLst/>
            </a:prstGeom>
            <a:solidFill>
              <a:srgbClr val="969696"/>
            </a:solidFill>
            <a:ln w="79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236920" y="2901960"/>
              <a:ext cx="42840" cy="39600"/>
            </a:xfrm>
            <a:prstGeom prst="ellipse">
              <a:avLst/>
            </a:prstGeom>
            <a:solidFill>
              <a:srgbClr val="969696"/>
            </a:solidFill>
            <a:ln w="79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541840" y="2755800"/>
              <a:ext cx="42840" cy="39960"/>
            </a:xfrm>
            <a:prstGeom prst="ellipse">
              <a:avLst/>
            </a:prstGeom>
            <a:solidFill>
              <a:srgbClr val="969696"/>
            </a:solidFill>
            <a:ln w="79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844960" y="2479680"/>
              <a:ext cx="42840" cy="39600"/>
            </a:xfrm>
            <a:prstGeom prst="ellipse">
              <a:avLst/>
            </a:prstGeom>
            <a:solidFill>
              <a:srgbClr val="969696"/>
            </a:solidFill>
            <a:ln w="79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453000" y="2473200"/>
              <a:ext cx="41400" cy="39960"/>
            </a:xfrm>
            <a:prstGeom prst="ellipse">
              <a:avLst/>
            </a:prstGeom>
            <a:solidFill>
              <a:srgbClr val="969696"/>
            </a:solidFill>
            <a:ln w="79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749640" y="2901960"/>
              <a:ext cx="43200" cy="39600"/>
            </a:xfrm>
            <a:prstGeom prst="ellipse">
              <a:avLst/>
            </a:prstGeom>
            <a:solidFill>
              <a:srgbClr val="969696"/>
            </a:solidFill>
            <a:ln w="79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053120" y="2755800"/>
              <a:ext cx="44280" cy="39960"/>
            </a:xfrm>
            <a:prstGeom prst="ellipse">
              <a:avLst/>
            </a:prstGeom>
            <a:solidFill>
              <a:srgbClr val="969696"/>
            </a:solidFill>
            <a:ln w="79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357680" y="2479680"/>
              <a:ext cx="42840" cy="39600"/>
            </a:xfrm>
            <a:prstGeom prst="ellipse">
              <a:avLst/>
            </a:prstGeom>
            <a:solidFill>
              <a:srgbClr val="969696"/>
            </a:solidFill>
            <a:ln w="79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575720" y="53308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575720" y="49658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575720" y="45943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575720" y="4226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575720" y="3854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499760" y="34862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99760" y="31161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499760" y="2747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499760" y="23749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499760" y="2009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1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499760" y="16365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904760" y="3218040"/>
              <a:ext cx="5815080" cy="6120"/>
            </a:xfrm>
            <a:prstGeom prst="line">
              <a:avLst/>
            </a:prstGeom>
            <a:ln w="39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856160" y="5549760"/>
              <a:ext cx="1239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ＭＳ Ｐゴシック"/>
                </a:rPr>
                <a:t>MWTs 1 -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ＭＳ Ｐゴシック"/>
                </a:rPr>
                <a:t>BASE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296160" y="5530680"/>
              <a:ext cx="1239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ＭＳ Ｐゴシック"/>
                </a:rPr>
                <a:t>MWTs 1 -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ＭＳ Ｐゴシック"/>
                </a:rPr>
                <a:t>WEEK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856760" y="5549760"/>
              <a:ext cx="1239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ＭＳ Ｐゴシック"/>
                </a:rPr>
                <a:t>MWTs 1 -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ＭＳ Ｐゴシック"/>
                </a:rPr>
                <a:t>WEEK 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393240" y="5548320"/>
              <a:ext cx="1239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ＭＳ Ｐゴシック"/>
                </a:rPr>
                <a:t>MWTs 1 -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ＭＳ Ｐゴシック"/>
                </a:rPr>
                <a:t>WEEK 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334560" y="212868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474747"/>
                  </a:solidFill>
                  <a:latin typeface="Arial"/>
                  <a:ea typeface="ＭＳ Ｐゴシック"/>
                </a:rPr>
                <a:t>1 </a:t>
              </a:r>
              <a:r>
                <a:rPr b="1" lang="en-US" sz="1200" spc="-1" strike="noStrike">
                  <a:solidFill>
                    <a:srgbClr val="474747"/>
                  </a:solidFill>
                  <a:latin typeface="Arial"/>
                  <a:ea typeface="ＭＳ Ｐゴシック"/>
                </a:rPr>
                <a:t>S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966920" y="2181240"/>
              <a:ext cx="1355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6600"/>
                  </a:solidFill>
                  <a:latin typeface="Arial"/>
                  <a:ea typeface="ＭＳ Ｐゴシック"/>
                </a:rPr>
                <a:t> </a:t>
              </a:r>
              <a:r>
                <a:rPr b="1" lang="en-US" sz="1400" spc="-1" strike="noStrike">
                  <a:solidFill>
                    <a:srgbClr val="006600"/>
                  </a:solidFill>
                  <a:latin typeface="Arial"/>
                  <a:ea typeface="ＭＳ Ｐゴシック"/>
                </a:rPr>
                <a:t>NORMALS</a:t>
              </a:r>
              <a:r>
                <a:rPr b="1" lang="en-US" sz="1200" spc="-1" strike="noStrike">
                  <a:solidFill>
                    <a:srgbClr val="0066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  <a:ea typeface="ＭＳ Ｐゴシック"/>
                </a:rPr>
                <a:t>• </a:t>
              </a:r>
              <a:r>
                <a:rPr b="1" lang="en-US" sz="1400" spc="-1" strike="noStrike">
                  <a:solidFill>
                    <a:srgbClr val="006600"/>
                  </a:solidFill>
                  <a:latin typeface="Arial"/>
                  <a:ea typeface="ＭＳ Ｐゴシック"/>
                </a:rPr>
                <a:t>N = 6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024160" y="4635360"/>
              <a:ext cx="16560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ARCOLEPTI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66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"/>
                  <a:ea typeface="ＭＳ Ｐゴシック"/>
                </a:rPr>
                <a:t> </a:t>
              </a:r>
              <a:r>
                <a:rPr b="1" lang="en-US" sz="1400" spc="-1" strike="noStrike">
                  <a:solidFill>
                    <a:srgbClr val="ff6600"/>
                  </a:solidFill>
                  <a:latin typeface="Arial"/>
                  <a:ea typeface="ＭＳ Ｐゴシック"/>
                </a:rPr>
                <a:t>400 mg N = 17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200 mg N = 17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lacebo N = 1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906960" y="3273480"/>
              <a:ext cx="941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474747"/>
                  </a:solidFill>
                  <a:latin typeface="Arial"/>
                  <a:ea typeface="ＭＳ Ｐゴシック"/>
                </a:rPr>
                <a:t>5</a:t>
              </a:r>
              <a:r>
                <a:rPr b="1" lang="en-US" sz="1200" spc="-1" strike="noStrike">
                  <a:solidFill>
                    <a:srgbClr val="474747"/>
                  </a:solidFill>
                  <a:latin typeface="Arial"/>
                  <a:ea typeface="ＭＳ Ｐゴシック"/>
                </a:rPr>
                <a:t>th percenti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335640" y="1963800"/>
              <a:ext cx="0" cy="546120"/>
            </a:xfrm>
            <a:prstGeom prst="line">
              <a:avLst/>
            </a:prstGeom>
            <a:ln w="1908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647640" y="632772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 Modafinil in Narcolepsy Multicenter Study Group.  Ann Neurol 1998;43 and Neurology 2000;5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rot="16200000">
            <a:off x="-587520" y="3397320"/>
            <a:ext cx="33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MW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lee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atency (m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080" y="6448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AAAB1-CE51-4172-8ABC-817306A371F5}" type="slidenum">
              <a:t>16</a:t>
            </a:fld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yrem Closed Distribution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6718320" y="3940200"/>
            <a:ext cx="1440" cy="14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7450200" y="3708360"/>
            <a:ext cx="1440" cy="180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7237440" y="44449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8" name=""/>
          <p:cNvGrpSpPr/>
          <p:nvPr/>
        </p:nvGrpSpPr>
        <p:grpSpPr>
          <a:xfrm>
            <a:off x="0" y="1494000"/>
            <a:ext cx="2224080" cy="2154240"/>
            <a:chOff x="0" y="1494000"/>
            <a:chExt cx="2224080" cy="2154240"/>
          </a:xfrm>
        </p:grpSpPr>
        <p:pic>
          <p:nvPicPr>
            <p:cNvPr id="1949" name="j0149720" descr=""/>
            <p:cNvPicPr/>
            <p:nvPr/>
          </p:nvPicPr>
          <p:blipFill>
            <a:blip r:embed="rId1"/>
            <a:stretch/>
          </p:blipFill>
          <p:spPr>
            <a:xfrm>
              <a:off x="239760" y="1494000"/>
              <a:ext cx="1452600" cy="13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0" name=""/>
            <p:cNvSpPr/>
            <p:nvPr/>
          </p:nvSpPr>
          <p:spPr>
            <a:xfrm>
              <a:off x="0" y="2822760"/>
              <a:ext cx="2224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nufacturing fac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1" name=""/>
          <p:cNvGrpSpPr/>
          <p:nvPr/>
        </p:nvGrpSpPr>
        <p:grpSpPr>
          <a:xfrm>
            <a:off x="2549520" y="2414520"/>
            <a:ext cx="1660680" cy="2273400"/>
            <a:chOff x="2549520" y="2414520"/>
            <a:chExt cx="1660680" cy="2273400"/>
          </a:xfrm>
        </p:grpSpPr>
        <p:pic>
          <p:nvPicPr>
            <p:cNvPr id="1952" name="j0195396" descr=""/>
            <p:cNvPicPr/>
            <p:nvPr/>
          </p:nvPicPr>
          <p:blipFill>
            <a:blip r:embed="rId2"/>
            <a:stretch/>
          </p:blipFill>
          <p:spPr>
            <a:xfrm>
              <a:off x="2809800" y="2414520"/>
              <a:ext cx="113976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3" name=""/>
            <p:cNvSpPr/>
            <p:nvPr/>
          </p:nvSpPr>
          <p:spPr>
            <a:xfrm>
              <a:off x="2549520" y="3862440"/>
              <a:ext cx="1660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pecialty pharmac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4" name=""/>
          <p:cNvGrpSpPr/>
          <p:nvPr/>
        </p:nvGrpSpPr>
        <p:grpSpPr>
          <a:xfrm>
            <a:off x="4797360" y="2620800"/>
            <a:ext cx="1584000" cy="2127240"/>
            <a:chOff x="4797360" y="2620800"/>
            <a:chExt cx="1584000" cy="2127240"/>
          </a:xfrm>
        </p:grpSpPr>
        <p:pic>
          <p:nvPicPr>
            <p:cNvPr id="1955" name="j0199849" descr=""/>
            <p:cNvPicPr/>
            <p:nvPr/>
          </p:nvPicPr>
          <p:blipFill>
            <a:blip r:embed="rId3"/>
            <a:stretch/>
          </p:blipFill>
          <p:spPr>
            <a:xfrm>
              <a:off x="4959000" y="3403440"/>
              <a:ext cx="1258920" cy="13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6" name=""/>
            <p:cNvSpPr/>
            <p:nvPr/>
          </p:nvSpPr>
          <p:spPr>
            <a:xfrm>
              <a:off x="4797360" y="2620800"/>
              <a:ext cx="158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vern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ur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7" name=""/>
          <p:cNvSpPr/>
          <p:nvPr/>
        </p:nvSpPr>
        <p:spPr>
          <a:xfrm>
            <a:off x="6912000" y="577836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 rot="1644000">
            <a:off x="2031480" y="2617920"/>
            <a:ext cx="723960" cy="457200"/>
          </a:xfrm>
          <a:prstGeom prst="rightArrow">
            <a:avLst>
              <a:gd name="adj1" fmla="val 50000"/>
              <a:gd name="adj2" fmla="val 39587"/>
            </a:avLst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 rot="1644000">
            <a:off x="4127040" y="3608280"/>
            <a:ext cx="723960" cy="457200"/>
          </a:xfrm>
          <a:prstGeom prst="rightArrow">
            <a:avLst>
              <a:gd name="adj1" fmla="val 50000"/>
              <a:gd name="adj2" fmla="val 39587"/>
            </a:avLst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 rot="1644000">
            <a:off x="6222600" y="4560840"/>
            <a:ext cx="723960" cy="457200"/>
          </a:xfrm>
          <a:prstGeom prst="rightArrow">
            <a:avLst>
              <a:gd name="adj1" fmla="val 50000"/>
              <a:gd name="adj2" fmla="val 39587"/>
            </a:avLst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1" name="PE03620_" descr=""/>
          <p:cNvPicPr/>
          <p:nvPr/>
        </p:nvPicPr>
        <p:blipFill>
          <a:blip r:embed="rId4"/>
          <a:stretch/>
        </p:blipFill>
        <p:spPr>
          <a:xfrm>
            <a:off x="6996240" y="4398840"/>
            <a:ext cx="1606320" cy="129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6D75A-D986-4340-86C8-544B02AC044A}" type="slidenum">
              <a:t>1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"/>
          <p:cNvSpPr/>
          <p:nvPr/>
        </p:nvSpPr>
        <p:spPr>
          <a:xfrm>
            <a:off x="380880" y="320040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ack-up Slides Displayed a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eripheral and Central Nervous System Drugs Advisory Committee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une 6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6EC2F-DEE5-4BE6-BEEA-EA101FDD90CE}" type="slidenum">
              <a:t>1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"/>
          <p:cNvSpPr/>
          <p:nvPr/>
        </p:nvSpPr>
        <p:spPr>
          <a:xfrm>
            <a:off x="812880" y="2017800"/>
            <a:ext cx="8142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yrem</a:t>
            </a:r>
            <a:r>
              <a:rPr b="0" lang="en-US" sz="3600" spc="-1" strike="noStrike" baseline="44000">
                <a:solidFill>
                  <a:srgbClr val="000000"/>
                </a:solidFill>
                <a:latin typeface="Arial"/>
                <a:ea typeface="Tahoma"/>
              </a:rPr>
              <a:t>®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odium Oxybate) oral 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652640" y="1371600"/>
            <a:ext cx="4033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dium oxybate 500 m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ic acid 1.3 m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7.5 in purified water U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ckage Compon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resistant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 In Bottle Adapter (PIB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ringe for measuring each d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resistant dosing cups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6" name="MVC-004F" descr=""/>
          <p:cNvPicPr/>
          <p:nvPr/>
        </p:nvPicPr>
        <p:blipFill>
          <a:blip r:embed="rId1"/>
          <a:srcRect l="18343" t="0" r="13435" b="3291"/>
          <a:stretch/>
        </p:blipFill>
        <p:spPr>
          <a:xfrm>
            <a:off x="457200" y="1409760"/>
            <a:ext cx="4033800" cy="487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D994E-76B4-4C4E-932D-C36E0B130E70}" type="slidenum">
              <a:t>1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368280" y="19044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MC-SXB-21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 Change In Cataplexy Attacks by D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3844080" y="570708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se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9" name=""/>
          <p:cNvGrpSpPr/>
          <p:nvPr/>
        </p:nvGrpSpPr>
        <p:grpSpPr>
          <a:xfrm>
            <a:off x="863640" y="1568880"/>
            <a:ext cx="7686720" cy="4284720"/>
            <a:chOff x="863640" y="1568880"/>
            <a:chExt cx="7686720" cy="4284720"/>
          </a:xfrm>
        </p:grpSpPr>
        <p:sp>
          <p:nvSpPr>
            <p:cNvPr id="1970" name=""/>
            <p:cNvSpPr/>
            <p:nvPr/>
          </p:nvSpPr>
          <p:spPr>
            <a:xfrm>
              <a:off x="2135160" y="1982880"/>
              <a:ext cx="1440" cy="372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2052720" y="5709240"/>
              <a:ext cx="82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478160" y="5563800"/>
              <a:ext cx="416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-5.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2462400" y="5403240"/>
              <a:ext cx="537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/4.5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890880" y="54032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4989960" y="5403240"/>
              <a:ext cx="335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7.5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6318360" y="54032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7" name=""/>
            <p:cNvGrpSpPr/>
            <p:nvPr/>
          </p:nvGrpSpPr>
          <p:grpSpPr>
            <a:xfrm>
              <a:off x="863640" y="1568880"/>
              <a:ext cx="7686720" cy="3752280"/>
              <a:chOff x="863640" y="1568880"/>
              <a:chExt cx="7686720" cy="3752280"/>
            </a:xfrm>
          </p:grpSpPr>
          <p:sp>
            <p:nvSpPr>
              <p:cNvPr id="1978" name=""/>
              <p:cNvSpPr/>
              <p:nvPr/>
            </p:nvSpPr>
            <p:spPr>
              <a:xfrm>
                <a:off x="2397240" y="5176440"/>
                <a:ext cx="344520" cy="97560"/>
              </a:xfrm>
              <a:prstGeom prst="rect">
                <a:avLst/>
              </a:prstGeom>
              <a:solidFill>
                <a:srgbClr val="000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4826160" y="5063760"/>
                <a:ext cx="344160" cy="112680"/>
              </a:xfrm>
              <a:prstGeom prst="rect">
                <a:avLst/>
              </a:prstGeom>
              <a:solidFill>
                <a:srgbClr val="000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2741760" y="5128920"/>
                <a:ext cx="344520" cy="47520"/>
              </a:xfrm>
              <a:prstGeom prst="rect">
                <a:avLst/>
              </a:prstGeom>
              <a:solidFill>
                <a:srgbClr val="cc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3956040" y="3515040"/>
                <a:ext cx="344520" cy="1661400"/>
              </a:xfrm>
              <a:prstGeom prst="rect">
                <a:avLst/>
              </a:prstGeom>
              <a:solidFill>
                <a:srgbClr val="cc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5170320" y="3321360"/>
                <a:ext cx="344520" cy="1855080"/>
              </a:xfrm>
              <a:prstGeom prst="rect">
                <a:avLst/>
              </a:prstGeom>
              <a:solidFill>
                <a:srgbClr val="cc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6384960" y="2628000"/>
                <a:ext cx="344520" cy="2548440"/>
              </a:xfrm>
              <a:prstGeom prst="rect">
                <a:avLst/>
              </a:prstGeom>
              <a:solidFill>
                <a:srgbClr val="cc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052720" y="5176440"/>
                <a:ext cx="82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052720" y="464436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052720" y="411228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052720" y="3579840"/>
                <a:ext cx="82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052720" y="304776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2052720" y="2514960"/>
                <a:ext cx="82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2052720" y="198288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135160" y="5176440"/>
                <a:ext cx="4856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 flipV="1">
                <a:off x="2135160" y="5176440"/>
                <a:ext cx="1440" cy="8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 flipV="1">
                <a:off x="3348000" y="5176440"/>
                <a:ext cx="1800" cy="8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 flipV="1">
                <a:off x="4562640" y="5176440"/>
                <a:ext cx="1440" cy="8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flipV="1">
                <a:off x="5776920" y="5176440"/>
                <a:ext cx="1440" cy="8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 flipV="1">
                <a:off x="6991200" y="5176440"/>
                <a:ext cx="1800" cy="8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1560960" y="5031360"/>
                <a:ext cx="335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0.0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1560960" y="4502520"/>
                <a:ext cx="335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5.0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1413360" y="3966840"/>
                <a:ext cx="4701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0.0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1413360" y="3434400"/>
                <a:ext cx="4701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5.0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1413360" y="2903760"/>
                <a:ext cx="4701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20.0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1413360" y="2369880"/>
                <a:ext cx="4701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25.0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1413360" y="1837440"/>
                <a:ext cx="4701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30.0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7188120" y="3466800"/>
                <a:ext cx="1362240" cy="7754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7286760" y="3612240"/>
                <a:ext cx="147600" cy="145440"/>
              </a:xfrm>
              <a:prstGeom prst="rect">
                <a:avLst/>
              </a:prstGeom>
              <a:solidFill>
                <a:srgbClr val="000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7517160" y="3533760"/>
                <a:ext cx="6973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Xyrem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7286760" y="3999240"/>
                <a:ext cx="147600" cy="145080"/>
              </a:xfrm>
              <a:prstGeom prst="rect">
                <a:avLst/>
              </a:prstGeom>
              <a:solidFill>
                <a:srgbClr val="cc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7518600" y="3920400"/>
                <a:ext cx="8708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Placebo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151000" y="4509360"/>
                <a:ext cx="495360" cy="246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=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737800" y="4509360"/>
                <a:ext cx="415440" cy="246240"/>
              </a:xfrm>
              <a:prstGeom prst="rect">
                <a:avLst/>
              </a:prstGeom>
              <a:solidFill>
                <a:srgbClr val="96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=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3466440" y="4509360"/>
                <a:ext cx="415440" cy="246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=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3918960" y="2159280"/>
                <a:ext cx="415440" cy="246240"/>
              </a:xfrm>
              <a:prstGeom prst="rect">
                <a:avLst/>
              </a:prstGeom>
              <a:solidFill>
                <a:srgbClr val="96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=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4619160" y="4509360"/>
                <a:ext cx="415440" cy="246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=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127120" y="2159280"/>
                <a:ext cx="415440" cy="246240"/>
              </a:xfrm>
              <a:prstGeom prst="rect">
                <a:avLst/>
              </a:prstGeom>
              <a:solidFill>
                <a:srgbClr val="96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=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852520" y="4509360"/>
                <a:ext cx="415440" cy="246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=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6346080" y="2159280"/>
                <a:ext cx="415440" cy="246240"/>
              </a:xfrm>
              <a:prstGeom prst="rect">
                <a:avLst/>
              </a:prstGeom>
              <a:solidFill>
                <a:srgbClr val="96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=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rot="16200000">
                <a:off x="-774720" y="3207240"/>
                <a:ext cx="361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edian change in cataplexy attac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5975280" y="5166360"/>
                <a:ext cx="30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9" name=""/>
          <p:cNvSpPr/>
          <p:nvPr/>
        </p:nvSpPr>
        <p:spPr>
          <a:xfrm>
            <a:off x="1452600" y="1496880"/>
            <a:ext cx="5788080" cy="27648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-values =      0.0628                   0.0039                   0.0444                  0.0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3CBDC-86F3-433B-A6BA-C939779595F7}" type="slidenum">
              <a:t>1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ISS Databa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of Patient Exposure by D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1" name=""/>
          <p:cNvGraphicFramePr/>
          <p:nvPr/>
        </p:nvGraphicFramePr>
        <p:xfrm>
          <a:off x="496800" y="1995480"/>
          <a:ext cx="8118360" cy="3324240"/>
        </p:xfrm>
        <a:graphic>
          <a:graphicData uri="http://schemas.openxmlformats.org/drawingml/2006/table">
            <a:tbl>
              <a:tblPr/>
              <a:tblGrid>
                <a:gridCol w="2447640"/>
                <a:gridCol w="1054080"/>
                <a:gridCol w="816120"/>
                <a:gridCol w="957240"/>
                <a:gridCol w="957240"/>
                <a:gridCol w="928800"/>
                <a:gridCol w="957240"/>
              </a:tblGrid>
              <a:tr h="5317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dium Oxybate Dosage (g/d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341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5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&gt;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 month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341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5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&gt;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 month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341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5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&gt;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4 month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96C1F-C0DF-477C-9620-0686EBCC82F1}" type="slidenum">
              <a:t>1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d ISS Database with Scharf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Patient Exposure by D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3" name=""/>
          <p:cNvGraphicFramePr/>
          <p:nvPr/>
        </p:nvGraphicFramePr>
        <p:xfrm>
          <a:off x="496800" y="1995480"/>
          <a:ext cx="8118360" cy="3324240"/>
        </p:xfrm>
        <a:graphic>
          <a:graphicData uri="http://schemas.openxmlformats.org/drawingml/2006/table">
            <a:tbl>
              <a:tblPr/>
              <a:tblGrid>
                <a:gridCol w="2447640"/>
                <a:gridCol w="1054080"/>
                <a:gridCol w="816120"/>
                <a:gridCol w="957240"/>
                <a:gridCol w="957240"/>
                <a:gridCol w="928800"/>
                <a:gridCol w="957240"/>
              </a:tblGrid>
              <a:tr h="5317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dium Oxybate Dosage (g/d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341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5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&gt;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 month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341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5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&gt;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 month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341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5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&gt;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4 month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7D105-CDCF-4DF5-B701-F17A141AB229}" type="slidenum">
              <a:t>1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d Integrated Summary of Safet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ummary of 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Confusion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mographic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der:  9 males; 21 fe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:  25.7 – 73.8 years (67%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se at Onse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0g –   4 ev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5g – 10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0g – 12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5g –   8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g – 13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bo – 1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DEAFA-77DF-4671-AA72-B0CA08C7D4A4}" type="slidenum">
              <a:t>1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"/>
          <p:cNvSpPr/>
          <p:nvPr/>
        </p:nvSpPr>
        <p:spPr>
          <a:xfrm>
            <a:off x="380880" y="320040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yre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sodium oxybate) oral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eripheral and Central Nervous System Drugs Advisory Committee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une 6, 2001</a:t>
            </a: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rphan Medical In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DA876-EF68-4C2C-AFB0-AA2E0D0092C9}" type="slidenum">
              <a:t>1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4720" y="139320"/>
            <a:ext cx="798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Hypocretin Deficiency in Narcolep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" descr=""/>
          <p:cNvPicPr/>
          <p:nvPr/>
        </p:nvPicPr>
        <p:blipFill>
          <a:blip r:embed="rId1"/>
          <a:stretch/>
        </p:blipFill>
        <p:spPr>
          <a:xfrm>
            <a:off x="4267080" y="2525760"/>
            <a:ext cx="2005200" cy="255888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"/>
          <p:cNvPicPr/>
          <p:nvPr/>
        </p:nvPicPr>
        <p:blipFill>
          <a:blip r:embed="rId2"/>
          <a:stretch/>
        </p:blipFill>
        <p:spPr>
          <a:xfrm>
            <a:off x="6481800" y="2517840"/>
            <a:ext cx="2041560" cy="2535120"/>
          </a:xfrm>
          <a:prstGeom prst="rect">
            <a:avLst/>
          </a:prstGeom>
          <a:ln w="0">
            <a:noFill/>
          </a:ln>
        </p:spPr>
      </p:pic>
      <p:sp>
        <p:nvSpPr>
          <p:cNvPr id="922" name=""/>
          <p:cNvSpPr/>
          <p:nvPr/>
        </p:nvSpPr>
        <p:spPr>
          <a:xfrm>
            <a:off x="4195800" y="5629320"/>
            <a:ext cx="2127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rcolep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908760" y="5605560"/>
            <a:ext cx="1128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732200" y="4997520"/>
            <a:ext cx="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543800" y="5208480"/>
            <a:ext cx="66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; for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387320" y="5208480"/>
            <a:ext cx="2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614280" y="5200560"/>
            <a:ext cx="2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660600" y="1828800"/>
            <a:ext cx="324360" cy="3707640"/>
            <a:chOff x="660600" y="1828800"/>
            <a:chExt cx="324360" cy="3707640"/>
          </a:xfrm>
        </p:grpSpPr>
        <p:sp>
          <p:nvSpPr>
            <p:cNvPr id="929" name=""/>
            <p:cNvSpPr/>
            <p:nvPr/>
          </p:nvSpPr>
          <p:spPr>
            <a:xfrm>
              <a:off x="897480" y="53535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Genev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60600" y="4471920"/>
              <a:ext cx="26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Geneva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60600" y="3592440"/>
              <a:ext cx="26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Geneva"/>
                </a:rPr>
                <a:t>4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60600" y="2709360"/>
              <a:ext cx="26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Geneva"/>
                </a:rPr>
                <a:t>6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90920" y="182880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1000080" y="2230560"/>
            <a:ext cx="2695680" cy="316548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2335320" y="4122720"/>
            <a:ext cx="66600" cy="69480"/>
            <a:chOff x="2335320" y="4122720"/>
            <a:chExt cx="66600" cy="69480"/>
          </a:xfrm>
        </p:grpSpPr>
        <p:sp>
          <p:nvSpPr>
            <p:cNvPr id="936" name=""/>
            <p:cNvSpPr/>
            <p:nvPr/>
          </p:nvSpPr>
          <p:spPr>
            <a:xfrm>
              <a:off x="2343960" y="4130640"/>
              <a:ext cx="57960" cy="61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335320" y="4122720"/>
              <a:ext cx="59040" cy="61920"/>
            </a:xfrm>
            <a:prstGeom prst="ellipse">
              <a:avLst/>
            </a:prstGeom>
            <a:solidFill>
              <a:srgbClr val="ffff00"/>
            </a:solidFill>
            <a:ln cap="rnd"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3052800" y="4105440"/>
            <a:ext cx="66600" cy="69480"/>
            <a:chOff x="3052800" y="4105440"/>
            <a:chExt cx="66600" cy="69480"/>
          </a:xfrm>
        </p:grpSpPr>
        <p:sp>
          <p:nvSpPr>
            <p:cNvPr id="939" name=""/>
            <p:cNvSpPr/>
            <p:nvPr/>
          </p:nvSpPr>
          <p:spPr>
            <a:xfrm>
              <a:off x="3061440" y="4114080"/>
              <a:ext cx="57960" cy="6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052800" y="4105440"/>
              <a:ext cx="57960" cy="604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2335320" y="4255920"/>
            <a:ext cx="66600" cy="71280"/>
            <a:chOff x="2335320" y="4255920"/>
            <a:chExt cx="66600" cy="71280"/>
          </a:xfrm>
        </p:grpSpPr>
        <p:sp>
          <p:nvSpPr>
            <p:cNvPr id="942" name=""/>
            <p:cNvSpPr/>
            <p:nvPr/>
          </p:nvSpPr>
          <p:spPr>
            <a:xfrm>
              <a:off x="2343960" y="4263480"/>
              <a:ext cx="57960" cy="63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35320" y="4255920"/>
              <a:ext cx="59040" cy="62280"/>
            </a:xfrm>
            <a:prstGeom prst="ellipse">
              <a:avLst/>
            </a:prstGeom>
            <a:solidFill>
              <a:srgbClr val="ffff00"/>
            </a:solidFill>
            <a:ln cap="rnd"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4" name=""/>
          <p:cNvGrpSpPr/>
          <p:nvPr/>
        </p:nvGrpSpPr>
        <p:grpSpPr>
          <a:xfrm>
            <a:off x="3052800" y="4122720"/>
            <a:ext cx="66600" cy="69480"/>
            <a:chOff x="3052800" y="4122720"/>
            <a:chExt cx="66600" cy="69480"/>
          </a:xfrm>
        </p:grpSpPr>
        <p:sp>
          <p:nvSpPr>
            <p:cNvPr id="945" name=""/>
            <p:cNvSpPr/>
            <p:nvPr/>
          </p:nvSpPr>
          <p:spPr>
            <a:xfrm>
              <a:off x="3061440" y="4130640"/>
              <a:ext cx="57960" cy="61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052800" y="4122720"/>
              <a:ext cx="57960" cy="619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1636560" y="4238640"/>
            <a:ext cx="66600" cy="69480"/>
            <a:chOff x="1636560" y="4238640"/>
            <a:chExt cx="66600" cy="69480"/>
          </a:xfrm>
        </p:grpSpPr>
        <p:sp>
          <p:nvSpPr>
            <p:cNvPr id="948" name=""/>
            <p:cNvSpPr/>
            <p:nvPr/>
          </p:nvSpPr>
          <p:spPr>
            <a:xfrm>
              <a:off x="1645200" y="4247640"/>
              <a:ext cx="57960" cy="60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636560" y="4238640"/>
              <a:ext cx="57960" cy="6048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2335320" y="4211640"/>
            <a:ext cx="66600" cy="70920"/>
            <a:chOff x="2335320" y="4211640"/>
            <a:chExt cx="66600" cy="70920"/>
          </a:xfrm>
        </p:grpSpPr>
        <p:sp>
          <p:nvSpPr>
            <p:cNvPr id="951" name=""/>
            <p:cNvSpPr/>
            <p:nvPr/>
          </p:nvSpPr>
          <p:spPr>
            <a:xfrm>
              <a:off x="2343960" y="4220640"/>
              <a:ext cx="57960" cy="6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335320" y="4211640"/>
              <a:ext cx="59040" cy="61920"/>
            </a:xfrm>
            <a:prstGeom prst="ellipse">
              <a:avLst/>
            </a:prstGeom>
            <a:solidFill>
              <a:srgbClr val="ffff00"/>
            </a:solidFill>
            <a:ln cap="rnd"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3052800" y="4255920"/>
            <a:ext cx="66600" cy="71280"/>
            <a:chOff x="3052800" y="4255920"/>
            <a:chExt cx="66600" cy="71280"/>
          </a:xfrm>
        </p:grpSpPr>
        <p:sp>
          <p:nvSpPr>
            <p:cNvPr id="954" name=""/>
            <p:cNvSpPr/>
            <p:nvPr/>
          </p:nvSpPr>
          <p:spPr>
            <a:xfrm>
              <a:off x="3061440" y="4263480"/>
              <a:ext cx="57960" cy="6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052800" y="4255920"/>
              <a:ext cx="57960" cy="62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2335320" y="4308480"/>
            <a:ext cx="66600" cy="70920"/>
            <a:chOff x="2335320" y="4308480"/>
            <a:chExt cx="66600" cy="70920"/>
          </a:xfrm>
        </p:grpSpPr>
        <p:sp>
          <p:nvSpPr>
            <p:cNvPr id="957" name=""/>
            <p:cNvSpPr/>
            <p:nvPr/>
          </p:nvSpPr>
          <p:spPr>
            <a:xfrm>
              <a:off x="2343960" y="4317480"/>
              <a:ext cx="57960" cy="6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335320" y="4308480"/>
              <a:ext cx="59040" cy="61920"/>
            </a:xfrm>
            <a:prstGeom prst="ellipse">
              <a:avLst/>
            </a:prstGeom>
            <a:solidFill>
              <a:srgbClr val="ffff00"/>
            </a:solidFill>
            <a:ln cap="rnd"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3052800" y="4105440"/>
            <a:ext cx="66600" cy="69480"/>
            <a:chOff x="3052800" y="4105440"/>
            <a:chExt cx="66600" cy="69480"/>
          </a:xfrm>
        </p:grpSpPr>
        <p:sp>
          <p:nvSpPr>
            <p:cNvPr id="960" name=""/>
            <p:cNvSpPr/>
            <p:nvPr/>
          </p:nvSpPr>
          <p:spPr>
            <a:xfrm>
              <a:off x="3061440" y="4114080"/>
              <a:ext cx="57960" cy="6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052800" y="4105440"/>
              <a:ext cx="57960" cy="604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2335320" y="4255920"/>
            <a:ext cx="66600" cy="71280"/>
            <a:chOff x="2335320" y="4255920"/>
            <a:chExt cx="66600" cy="71280"/>
          </a:xfrm>
        </p:grpSpPr>
        <p:sp>
          <p:nvSpPr>
            <p:cNvPr id="963" name=""/>
            <p:cNvSpPr/>
            <p:nvPr/>
          </p:nvSpPr>
          <p:spPr>
            <a:xfrm>
              <a:off x="2343960" y="4263480"/>
              <a:ext cx="57960" cy="63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335320" y="4255920"/>
              <a:ext cx="59040" cy="62280"/>
            </a:xfrm>
            <a:prstGeom prst="ellipse">
              <a:avLst/>
            </a:prstGeom>
            <a:solidFill>
              <a:srgbClr val="ffff00"/>
            </a:solidFill>
            <a:ln cap="rnd"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3052800" y="4105440"/>
            <a:ext cx="66600" cy="69480"/>
            <a:chOff x="3052800" y="4105440"/>
            <a:chExt cx="66600" cy="69480"/>
          </a:xfrm>
        </p:grpSpPr>
        <p:sp>
          <p:nvSpPr>
            <p:cNvPr id="966" name=""/>
            <p:cNvSpPr/>
            <p:nvPr/>
          </p:nvSpPr>
          <p:spPr>
            <a:xfrm>
              <a:off x="3061440" y="4114080"/>
              <a:ext cx="57960" cy="6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052800" y="4105440"/>
              <a:ext cx="57960" cy="604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2335320" y="4167360"/>
            <a:ext cx="66600" cy="70920"/>
            <a:chOff x="2335320" y="4167360"/>
            <a:chExt cx="66600" cy="70920"/>
          </a:xfrm>
        </p:grpSpPr>
        <p:sp>
          <p:nvSpPr>
            <p:cNvPr id="969" name=""/>
            <p:cNvSpPr/>
            <p:nvPr/>
          </p:nvSpPr>
          <p:spPr>
            <a:xfrm>
              <a:off x="2343960" y="4176360"/>
              <a:ext cx="57960" cy="6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35320" y="4167360"/>
              <a:ext cx="59040" cy="61920"/>
            </a:xfrm>
            <a:prstGeom prst="ellipse">
              <a:avLst/>
            </a:prstGeom>
            <a:solidFill>
              <a:srgbClr val="ffff00"/>
            </a:solidFill>
            <a:ln cap="rnd"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3052800" y="4105440"/>
            <a:ext cx="66600" cy="69480"/>
            <a:chOff x="3052800" y="4105440"/>
            <a:chExt cx="66600" cy="69480"/>
          </a:xfrm>
        </p:grpSpPr>
        <p:sp>
          <p:nvSpPr>
            <p:cNvPr id="972" name=""/>
            <p:cNvSpPr/>
            <p:nvPr/>
          </p:nvSpPr>
          <p:spPr>
            <a:xfrm>
              <a:off x="3061440" y="4114080"/>
              <a:ext cx="57960" cy="6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052800" y="4105440"/>
              <a:ext cx="57960" cy="604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2335320" y="3952800"/>
            <a:ext cx="66600" cy="71280"/>
            <a:chOff x="2335320" y="3952800"/>
            <a:chExt cx="66600" cy="71280"/>
          </a:xfrm>
        </p:grpSpPr>
        <p:sp>
          <p:nvSpPr>
            <p:cNvPr id="975" name=""/>
            <p:cNvSpPr/>
            <p:nvPr/>
          </p:nvSpPr>
          <p:spPr>
            <a:xfrm>
              <a:off x="2343960" y="3961800"/>
              <a:ext cx="57960" cy="6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335320" y="3952800"/>
              <a:ext cx="59040" cy="63360"/>
            </a:xfrm>
            <a:prstGeom prst="ellipse">
              <a:avLst/>
            </a:prstGeom>
            <a:solidFill>
              <a:srgbClr val="ffff00"/>
            </a:solidFill>
            <a:ln cap="rnd"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3052800" y="4122720"/>
            <a:ext cx="66600" cy="69480"/>
            <a:chOff x="3052800" y="4122720"/>
            <a:chExt cx="66600" cy="69480"/>
          </a:xfrm>
        </p:grpSpPr>
        <p:sp>
          <p:nvSpPr>
            <p:cNvPr id="978" name=""/>
            <p:cNvSpPr/>
            <p:nvPr/>
          </p:nvSpPr>
          <p:spPr>
            <a:xfrm>
              <a:off x="3061440" y="4130640"/>
              <a:ext cx="57960" cy="61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052800" y="4122720"/>
              <a:ext cx="57960" cy="619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1636560" y="2556000"/>
            <a:ext cx="66600" cy="70920"/>
            <a:chOff x="1636560" y="2556000"/>
            <a:chExt cx="66600" cy="70920"/>
          </a:xfrm>
        </p:grpSpPr>
        <p:sp>
          <p:nvSpPr>
            <p:cNvPr id="981" name=""/>
            <p:cNvSpPr/>
            <p:nvPr/>
          </p:nvSpPr>
          <p:spPr>
            <a:xfrm>
              <a:off x="1645200" y="2565000"/>
              <a:ext cx="57960" cy="61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636560" y="2556000"/>
              <a:ext cx="57960" cy="6192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2335320" y="4043520"/>
            <a:ext cx="66600" cy="69480"/>
            <a:chOff x="2335320" y="4043520"/>
            <a:chExt cx="66600" cy="69480"/>
          </a:xfrm>
        </p:grpSpPr>
        <p:sp>
          <p:nvSpPr>
            <p:cNvPr id="984" name=""/>
            <p:cNvSpPr/>
            <p:nvPr/>
          </p:nvSpPr>
          <p:spPr>
            <a:xfrm>
              <a:off x="2343960" y="4052520"/>
              <a:ext cx="57960" cy="60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335320" y="4043520"/>
              <a:ext cx="59040" cy="60840"/>
            </a:xfrm>
            <a:prstGeom prst="ellipse">
              <a:avLst/>
            </a:prstGeom>
            <a:solidFill>
              <a:srgbClr val="ffff00"/>
            </a:solidFill>
            <a:ln cap="rnd"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3052800" y="4122720"/>
            <a:ext cx="66600" cy="69480"/>
            <a:chOff x="3052800" y="4122720"/>
            <a:chExt cx="66600" cy="69480"/>
          </a:xfrm>
        </p:grpSpPr>
        <p:sp>
          <p:nvSpPr>
            <p:cNvPr id="987" name=""/>
            <p:cNvSpPr/>
            <p:nvPr/>
          </p:nvSpPr>
          <p:spPr>
            <a:xfrm>
              <a:off x="3061440" y="4130640"/>
              <a:ext cx="57960" cy="61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052800" y="4122720"/>
              <a:ext cx="57960" cy="619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2335320" y="3997440"/>
            <a:ext cx="66600" cy="70920"/>
            <a:chOff x="2335320" y="3997440"/>
            <a:chExt cx="66600" cy="70920"/>
          </a:xfrm>
        </p:grpSpPr>
        <p:sp>
          <p:nvSpPr>
            <p:cNvPr id="990" name=""/>
            <p:cNvSpPr/>
            <p:nvPr/>
          </p:nvSpPr>
          <p:spPr>
            <a:xfrm>
              <a:off x="2343960" y="4006440"/>
              <a:ext cx="57960" cy="6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335320" y="3997440"/>
              <a:ext cx="59040" cy="61920"/>
            </a:xfrm>
            <a:prstGeom prst="ellipse">
              <a:avLst/>
            </a:prstGeom>
            <a:solidFill>
              <a:srgbClr val="ffff00"/>
            </a:solidFill>
            <a:ln cap="rnd"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3052800" y="4344840"/>
            <a:ext cx="66600" cy="71280"/>
            <a:chOff x="3052800" y="4344840"/>
            <a:chExt cx="66600" cy="71280"/>
          </a:xfrm>
        </p:grpSpPr>
        <p:sp>
          <p:nvSpPr>
            <p:cNvPr id="993" name=""/>
            <p:cNvSpPr/>
            <p:nvPr/>
          </p:nvSpPr>
          <p:spPr>
            <a:xfrm>
              <a:off x="3061440" y="4353840"/>
              <a:ext cx="57960" cy="6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052800" y="4344840"/>
              <a:ext cx="57960" cy="62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"/>
          <p:cNvGrpSpPr/>
          <p:nvPr/>
        </p:nvGrpSpPr>
        <p:grpSpPr>
          <a:xfrm>
            <a:off x="2335320" y="4149720"/>
            <a:ext cx="66600" cy="70920"/>
            <a:chOff x="2335320" y="4149720"/>
            <a:chExt cx="66600" cy="70920"/>
          </a:xfrm>
        </p:grpSpPr>
        <p:sp>
          <p:nvSpPr>
            <p:cNvPr id="996" name=""/>
            <p:cNvSpPr/>
            <p:nvPr/>
          </p:nvSpPr>
          <p:spPr>
            <a:xfrm>
              <a:off x="2343960" y="4158360"/>
              <a:ext cx="57960" cy="6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335320" y="4149720"/>
              <a:ext cx="59040" cy="61920"/>
            </a:xfrm>
            <a:prstGeom prst="ellipse">
              <a:avLst/>
            </a:prstGeom>
            <a:solidFill>
              <a:srgbClr val="ffff00"/>
            </a:solidFill>
            <a:ln cap="rnd"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3052800" y="4140360"/>
            <a:ext cx="66600" cy="70920"/>
            <a:chOff x="3052800" y="4140360"/>
            <a:chExt cx="66600" cy="70920"/>
          </a:xfrm>
        </p:grpSpPr>
        <p:sp>
          <p:nvSpPr>
            <p:cNvPr id="999" name=""/>
            <p:cNvSpPr/>
            <p:nvPr/>
          </p:nvSpPr>
          <p:spPr>
            <a:xfrm>
              <a:off x="3061440" y="4149360"/>
              <a:ext cx="57960" cy="6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052800" y="4140360"/>
              <a:ext cx="57960" cy="619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2335320" y="4105440"/>
            <a:ext cx="66600" cy="69480"/>
            <a:chOff x="2335320" y="4105440"/>
            <a:chExt cx="66600" cy="69480"/>
          </a:xfrm>
        </p:grpSpPr>
        <p:sp>
          <p:nvSpPr>
            <p:cNvPr id="1002" name=""/>
            <p:cNvSpPr/>
            <p:nvPr/>
          </p:nvSpPr>
          <p:spPr>
            <a:xfrm>
              <a:off x="2343960" y="4114080"/>
              <a:ext cx="57960" cy="60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335320" y="4105440"/>
              <a:ext cx="59040" cy="60480"/>
            </a:xfrm>
            <a:prstGeom prst="ellipse">
              <a:avLst/>
            </a:prstGeom>
            <a:solidFill>
              <a:srgbClr val="ffff00"/>
            </a:solidFill>
            <a:ln cap="rnd"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3052800" y="4043520"/>
            <a:ext cx="66600" cy="69480"/>
            <a:chOff x="3052800" y="4043520"/>
            <a:chExt cx="66600" cy="69480"/>
          </a:xfrm>
        </p:grpSpPr>
        <p:sp>
          <p:nvSpPr>
            <p:cNvPr id="1005" name=""/>
            <p:cNvSpPr/>
            <p:nvPr/>
          </p:nvSpPr>
          <p:spPr>
            <a:xfrm>
              <a:off x="3061440" y="4052520"/>
              <a:ext cx="57960" cy="60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052800" y="4043520"/>
              <a:ext cx="57960" cy="60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2335320" y="4130640"/>
            <a:ext cx="66600" cy="71280"/>
            <a:chOff x="2335320" y="4130640"/>
            <a:chExt cx="66600" cy="71280"/>
          </a:xfrm>
        </p:grpSpPr>
        <p:sp>
          <p:nvSpPr>
            <p:cNvPr id="1008" name=""/>
            <p:cNvSpPr/>
            <p:nvPr/>
          </p:nvSpPr>
          <p:spPr>
            <a:xfrm>
              <a:off x="2343960" y="4139640"/>
              <a:ext cx="57960" cy="6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335320" y="4130640"/>
              <a:ext cx="59040" cy="62280"/>
            </a:xfrm>
            <a:prstGeom prst="ellipse">
              <a:avLst/>
            </a:prstGeom>
            <a:solidFill>
              <a:srgbClr val="ffff00"/>
            </a:solidFill>
            <a:ln cap="rnd"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3052800" y="3705120"/>
            <a:ext cx="66600" cy="71280"/>
            <a:chOff x="3052800" y="3705120"/>
            <a:chExt cx="66600" cy="71280"/>
          </a:xfrm>
        </p:grpSpPr>
        <p:sp>
          <p:nvSpPr>
            <p:cNvPr id="1011" name=""/>
            <p:cNvSpPr/>
            <p:nvPr/>
          </p:nvSpPr>
          <p:spPr>
            <a:xfrm>
              <a:off x="3061440" y="3713040"/>
              <a:ext cx="5796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052800" y="3705120"/>
              <a:ext cx="57960" cy="62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2335320" y="4175280"/>
            <a:ext cx="66600" cy="70920"/>
            <a:chOff x="2335320" y="4175280"/>
            <a:chExt cx="66600" cy="70920"/>
          </a:xfrm>
        </p:grpSpPr>
        <p:sp>
          <p:nvSpPr>
            <p:cNvPr id="1014" name=""/>
            <p:cNvSpPr/>
            <p:nvPr/>
          </p:nvSpPr>
          <p:spPr>
            <a:xfrm>
              <a:off x="2343960" y="4184280"/>
              <a:ext cx="57960" cy="6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335320" y="4175280"/>
              <a:ext cx="59040" cy="61920"/>
            </a:xfrm>
            <a:prstGeom prst="ellipse">
              <a:avLst/>
            </a:prstGeom>
            <a:solidFill>
              <a:srgbClr val="ffff00"/>
            </a:solidFill>
            <a:ln cap="rnd"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3052800" y="4078440"/>
            <a:ext cx="66600" cy="70920"/>
            <a:chOff x="3052800" y="4078440"/>
            <a:chExt cx="66600" cy="70920"/>
          </a:xfrm>
        </p:grpSpPr>
        <p:sp>
          <p:nvSpPr>
            <p:cNvPr id="1017" name=""/>
            <p:cNvSpPr/>
            <p:nvPr/>
          </p:nvSpPr>
          <p:spPr>
            <a:xfrm>
              <a:off x="3061440" y="4087440"/>
              <a:ext cx="57960" cy="6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052800" y="4078440"/>
              <a:ext cx="57960" cy="619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2335320" y="4522680"/>
            <a:ext cx="66600" cy="71280"/>
            <a:chOff x="2335320" y="4522680"/>
            <a:chExt cx="66600" cy="71280"/>
          </a:xfrm>
        </p:grpSpPr>
        <p:sp>
          <p:nvSpPr>
            <p:cNvPr id="1020" name=""/>
            <p:cNvSpPr/>
            <p:nvPr/>
          </p:nvSpPr>
          <p:spPr>
            <a:xfrm>
              <a:off x="2343960" y="4531680"/>
              <a:ext cx="57960" cy="6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335320" y="4522680"/>
              <a:ext cx="59040" cy="62280"/>
            </a:xfrm>
            <a:prstGeom prst="ellipse">
              <a:avLst/>
            </a:prstGeom>
            <a:solidFill>
              <a:srgbClr val="ffff00"/>
            </a:solidFill>
            <a:ln cap="rnd"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3052800" y="4308480"/>
            <a:ext cx="66600" cy="70920"/>
            <a:chOff x="3052800" y="4308480"/>
            <a:chExt cx="66600" cy="70920"/>
          </a:xfrm>
        </p:grpSpPr>
        <p:sp>
          <p:nvSpPr>
            <p:cNvPr id="1023" name=""/>
            <p:cNvSpPr/>
            <p:nvPr/>
          </p:nvSpPr>
          <p:spPr>
            <a:xfrm>
              <a:off x="3061440" y="4317480"/>
              <a:ext cx="57960" cy="6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052800" y="4308480"/>
              <a:ext cx="57960" cy="619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5" name=""/>
          <p:cNvGrpSpPr/>
          <p:nvPr/>
        </p:nvGrpSpPr>
        <p:grpSpPr>
          <a:xfrm>
            <a:off x="2335320" y="4344840"/>
            <a:ext cx="66600" cy="71280"/>
            <a:chOff x="2335320" y="4344840"/>
            <a:chExt cx="66600" cy="71280"/>
          </a:xfrm>
        </p:grpSpPr>
        <p:sp>
          <p:nvSpPr>
            <p:cNvPr id="1026" name=""/>
            <p:cNvSpPr/>
            <p:nvPr/>
          </p:nvSpPr>
          <p:spPr>
            <a:xfrm>
              <a:off x="2343960" y="4353840"/>
              <a:ext cx="57960" cy="6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335320" y="4344840"/>
              <a:ext cx="59040" cy="62280"/>
            </a:xfrm>
            <a:prstGeom prst="ellipse">
              <a:avLst/>
            </a:prstGeom>
            <a:solidFill>
              <a:srgbClr val="ffff00"/>
            </a:solidFill>
            <a:ln cap="rnd"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3052800" y="4202280"/>
            <a:ext cx="66600" cy="70920"/>
            <a:chOff x="3052800" y="4202280"/>
            <a:chExt cx="66600" cy="70920"/>
          </a:xfrm>
        </p:grpSpPr>
        <p:sp>
          <p:nvSpPr>
            <p:cNvPr id="1029" name=""/>
            <p:cNvSpPr/>
            <p:nvPr/>
          </p:nvSpPr>
          <p:spPr>
            <a:xfrm>
              <a:off x="3061440" y="4211280"/>
              <a:ext cx="57960" cy="6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052800" y="4202280"/>
              <a:ext cx="57960" cy="619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1" name=""/>
          <p:cNvGrpSpPr/>
          <p:nvPr/>
        </p:nvGrpSpPr>
        <p:grpSpPr>
          <a:xfrm>
            <a:off x="2335320" y="4238640"/>
            <a:ext cx="66600" cy="69480"/>
            <a:chOff x="2335320" y="4238640"/>
            <a:chExt cx="66600" cy="69480"/>
          </a:xfrm>
        </p:grpSpPr>
        <p:sp>
          <p:nvSpPr>
            <p:cNvPr id="1032" name=""/>
            <p:cNvSpPr/>
            <p:nvPr/>
          </p:nvSpPr>
          <p:spPr>
            <a:xfrm>
              <a:off x="2343960" y="4247640"/>
              <a:ext cx="57960" cy="60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335320" y="4238640"/>
              <a:ext cx="59040" cy="60480"/>
            </a:xfrm>
            <a:prstGeom prst="ellipse">
              <a:avLst/>
            </a:prstGeom>
            <a:solidFill>
              <a:srgbClr val="ffff00"/>
            </a:solidFill>
            <a:ln cap="rnd"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2335320" y="4282920"/>
            <a:ext cx="66600" cy="71280"/>
            <a:chOff x="2335320" y="4282920"/>
            <a:chExt cx="66600" cy="71280"/>
          </a:xfrm>
        </p:grpSpPr>
        <p:sp>
          <p:nvSpPr>
            <p:cNvPr id="1035" name=""/>
            <p:cNvSpPr/>
            <p:nvPr/>
          </p:nvSpPr>
          <p:spPr>
            <a:xfrm>
              <a:off x="2343960" y="4291920"/>
              <a:ext cx="57960" cy="6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335320" y="4282920"/>
              <a:ext cx="59040" cy="62280"/>
            </a:xfrm>
            <a:prstGeom prst="ellipse">
              <a:avLst/>
            </a:prstGeom>
            <a:solidFill>
              <a:srgbClr val="ffff00"/>
            </a:solidFill>
            <a:ln cap="rnd"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2335320" y="4611600"/>
            <a:ext cx="66600" cy="71280"/>
            <a:chOff x="2335320" y="4611600"/>
            <a:chExt cx="66600" cy="71280"/>
          </a:xfrm>
        </p:grpSpPr>
        <p:sp>
          <p:nvSpPr>
            <p:cNvPr id="1038" name=""/>
            <p:cNvSpPr/>
            <p:nvPr/>
          </p:nvSpPr>
          <p:spPr>
            <a:xfrm>
              <a:off x="2343960" y="4620600"/>
              <a:ext cx="57960" cy="6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335320" y="4611600"/>
              <a:ext cx="59040" cy="63720"/>
            </a:xfrm>
            <a:prstGeom prst="ellipse">
              <a:avLst/>
            </a:prstGeom>
            <a:solidFill>
              <a:srgbClr val="ffff00"/>
            </a:solidFill>
            <a:ln cap="rnd"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0" name=""/>
          <p:cNvGrpSpPr/>
          <p:nvPr/>
        </p:nvGrpSpPr>
        <p:grpSpPr>
          <a:xfrm>
            <a:off x="2335320" y="4130640"/>
            <a:ext cx="66600" cy="71280"/>
            <a:chOff x="2335320" y="4130640"/>
            <a:chExt cx="66600" cy="71280"/>
          </a:xfrm>
        </p:grpSpPr>
        <p:sp>
          <p:nvSpPr>
            <p:cNvPr id="1041" name=""/>
            <p:cNvSpPr/>
            <p:nvPr/>
          </p:nvSpPr>
          <p:spPr>
            <a:xfrm>
              <a:off x="2343960" y="4139640"/>
              <a:ext cx="57960" cy="6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335320" y="4130640"/>
              <a:ext cx="59040" cy="62280"/>
            </a:xfrm>
            <a:prstGeom prst="ellipse">
              <a:avLst/>
            </a:prstGeom>
            <a:solidFill>
              <a:srgbClr val="ffff00"/>
            </a:solidFill>
            <a:ln cap="rnd"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1644480" y="5013360"/>
            <a:ext cx="59040" cy="61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636560" y="5003640"/>
            <a:ext cx="59040" cy="637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1636560" y="4016520"/>
            <a:ext cx="66600" cy="70920"/>
            <a:chOff x="1636560" y="4016520"/>
            <a:chExt cx="66600" cy="70920"/>
          </a:xfrm>
        </p:grpSpPr>
        <p:sp>
          <p:nvSpPr>
            <p:cNvPr id="1046" name=""/>
            <p:cNvSpPr/>
            <p:nvPr/>
          </p:nvSpPr>
          <p:spPr>
            <a:xfrm>
              <a:off x="1645200" y="4024440"/>
              <a:ext cx="57960" cy="63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636560" y="4016520"/>
              <a:ext cx="57960" cy="6192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8" name=""/>
          <p:cNvSpPr/>
          <p:nvPr/>
        </p:nvSpPr>
        <p:spPr>
          <a:xfrm>
            <a:off x="1644480" y="2701800"/>
            <a:ext cx="59040" cy="61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636560" y="2692440"/>
            <a:ext cx="59040" cy="619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644480" y="4059360"/>
            <a:ext cx="59040" cy="63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636560" y="4089240"/>
            <a:ext cx="59040" cy="619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1636560" y="4227480"/>
            <a:ext cx="66600" cy="71280"/>
            <a:chOff x="1636560" y="4227480"/>
            <a:chExt cx="66600" cy="71280"/>
          </a:xfrm>
        </p:grpSpPr>
        <p:sp>
          <p:nvSpPr>
            <p:cNvPr id="1053" name=""/>
            <p:cNvSpPr/>
            <p:nvPr/>
          </p:nvSpPr>
          <p:spPr>
            <a:xfrm>
              <a:off x="1645200" y="4236480"/>
              <a:ext cx="57960" cy="6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636560" y="4227480"/>
              <a:ext cx="57960" cy="6228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1197000" y="5208480"/>
            <a:ext cx="49320" cy="54000"/>
          </a:xfrm>
          <a:custGeom>
            <a:avLst/>
            <a:gdLst/>
            <a:ahLst/>
            <a:rect l="l" t="t" r="r" b="b"/>
            <a:pathLst>
              <a:path w="40" h="41">
                <a:moveTo>
                  <a:pt x="20" y="0"/>
                </a:moveTo>
                <a:lnTo>
                  <a:pt x="20" y="0"/>
                </a:lnTo>
                <a:lnTo>
                  <a:pt x="40" y="41"/>
                </a:lnTo>
                <a:lnTo>
                  <a:pt x="40" y="41"/>
                </a:lnTo>
                <a:lnTo>
                  <a:pt x="0" y="41"/>
                </a:lnTo>
                <a:lnTo>
                  <a:pt x="0" y="41"/>
                </a:lnTo>
                <a:lnTo>
                  <a:pt x="20" y="0"/>
                </a:lnTo>
                <a:lnTo>
                  <a:pt x="20" y="0"/>
                </a:lnTo>
                <a:lnTo>
                  <a:pt x="40" y="41"/>
                </a:lnTo>
                <a:lnTo>
                  <a:pt x="0" y="41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246320" y="5208480"/>
            <a:ext cx="50760" cy="540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0"/>
                </a:moveTo>
                <a:lnTo>
                  <a:pt x="21" y="0"/>
                </a:lnTo>
                <a:lnTo>
                  <a:pt x="41" y="41"/>
                </a:lnTo>
                <a:lnTo>
                  <a:pt x="41" y="41"/>
                </a:lnTo>
                <a:lnTo>
                  <a:pt x="0" y="41"/>
                </a:lnTo>
                <a:lnTo>
                  <a:pt x="0" y="41"/>
                </a:lnTo>
                <a:lnTo>
                  <a:pt x="21" y="0"/>
                </a:lnTo>
                <a:lnTo>
                  <a:pt x="21" y="0"/>
                </a:lnTo>
                <a:lnTo>
                  <a:pt x="41" y="41"/>
                </a:lnTo>
                <a:lnTo>
                  <a:pt x="0" y="41"/>
                </a:lnTo>
                <a:lnTo>
                  <a:pt x="21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287360" y="5208480"/>
            <a:ext cx="49320" cy="54000"/>
          </a:xfrm>
          <a:custGeom>
            <a:avLst/>
            <a:gdLst/>
            <a:ahLst/>
            <a:rect l="l" t="t" r="r" b="b"/>
            <a:pathLst>
              <a:path w="40" h="41">
                <a:moveTo>
                  <a:pt x="20" y="0"/>
                </a:moveTo>
                <a:lnTo>
                  <a:pt x="20" y="0"/>
                </a:lnTo>
                <a:lnTo>
                  <a:pt x="40" y="41"/>
                </a:lnTo>
                <a:lnTo>
                  <a:pt x="40" y="41"/>
                </a:lnTo>
                <a:lnTo>
                  <a:pt x="0" y="41"/>
                </a:lnTo>
                <a:lnTo>
                  <a:pt x="0" y="41"/>
                </a:lnTo>
                <a:lnTo>
                  <a:pt x="20" y="0"/>
                </a:lnTo>
                <a:lnTo>
                  <a:pt x="20" y="0"/>
                </a:lnTo>
                <a:lnTo>
                  <a:pt x="40" y="41"/>
                </a:lnTo>
                <a:lnTo>
                  <a:pt x="0" y="41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346040" y="5208480"/>
            <a:ext cx="49320" cy="540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0"/>
                </a:moveTo>
                <a:lnTo>
                  <a:pt x="20" y="0"/>
                </a:lnTo>
                <a:lnTo>
                  <a:pt x="41" y="41"/>
                </a:lnTo>
                <a:lnTo>
                  <a:pt x="41" y="41"/>
                </a:lnTo>
                <a:lnTo>
                  <a:pt x="0" y="41"/>
                </a:lnTo>
                <a:lnTo>
                  <a:pt x="0" y="41"/>
                </a:lnTo>
                <a:lnTo>
                  <a:pt x="20" y="0"/>
                </a:lnTo>
                <a:lnTo>
                  <a:pt x="20" y="0"/>
                </a:lnTo>
                <a:lnTo>
                  <a:pt x="41" y="41"/>
                </a:lnTo>
                <a:lnTo>
                  <a:pt x="0" y="41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395360" y="5208480"/>
            <a:ext cx="50760" cy="54000"/>
          </a:xfrm>
          <a:custGeom>
            <a:avLst/>
            <a:gdLst/>
            <a:ahLst/>
            <a:rect l="l" t="t" r="r" b="b"/>
            <a:pathLst>
              <a:path w="40" h="41">
                <a:moveTo>
                  <a:pt x="20" y="0"/>
                </a:moveTo>
                <a:lnTo>
                  <a:pt x="20" y="0"/>
                </a:lnTo>
                <a:lnTo>
                  <a:pt x="40" y="41"/>
                </a:lnTo>
                <a:lnTo>
                  <a:pt x="40" y="41"/>
                </a:lnTo>
                <a:lnTo>
                  <a:pt x="0" y="41"/>
                </a:lnTo>
                <a:lnTo>
                  <a:pt x="0" y="41"/>
                </a:lnTo>
                <a:lnTo>
                  <a:pt x="20" y="0"/>
                </a:lnTo>
                <a:lnTo>
                  <a:pt x="20" y="0"/>
                </a:lnTo>
                <a:lnTo>
                  <a:pt x="40" y="41"/>
                </a:lnTo>
                <a:lnTo>
                  <a:pt x="0" y="41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446120" y="5208480"/>
            <a:ext cx="49320" cy="540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0"/>
                </a:moveTo>
                <a:lnTo>
                  <a:pt x="20" y="0"/>
                </a:lnTo>
                <a:lnTo>
                  <a:pt x="41" y="41"/>
                </a:lnTo>
                <a:lnTo>
                  <a:pt x="41" y="41"/>
                </a:lnTo>
                <a:lnTo>
                  <a:pt x="0" y="41"/>
                </a:lnTo>
                <a:lnTo>
                  <a:pt x="0" y="41"/>
                </a:lnTo>
                <a:lnTo>
                  <a:pt x="20" y="0"/>
                </a:lnTo>
                <a:lnTo>
                  <a:pt x="20" y="0"/>
                </a:lnTo>
                <a:lnTo>
                  <a:pt x="41" y="41"/>
                </a:lnTo>
                <a:lnTo>
                  <a:pt x="0" y="41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487520" y="5208480"/>
            <a:ext cx="49320" cy="54000"/>
          </a:xfrm>
          <a:custGeom>
            <a:avLst/>
            <a:gdLst/>
            <a:ahLst/>
            <a:rect l="l" t="t" r="r" b="b"/>
            <a:pathLst>
              <a:path w="40" h="41">
                <a:moveTo>
                  <a:pt x="20" y="0"/>
                </a:moveTo>
                <a:lnTo>
                  <a:pt x="20" y="0"/>
                </a:lnTo>
                <a:lnTo>
                  <a:pt x="40" y="41"/>
                </a:lnTo>
                <a:lnTo>
                  <a:pt x="40" y="41"/>
                </a:lnTo>
                <a:lnTo>
                  <a:pt x="0" y="41"/>
                </a:lnTo>
                <a:lnTo>
                  <a:pt x="0" y="41"/>
                </a:lnTo>
                <a:lnTo>
                  <a:pt x="20" y="0"/>
                </a:lnTo>
                <a:lnTo>
                  <a:pt x="20" y="0"/>
                </a:lnTo>
                <a:lnTo>
                  <a:pt x="40" y="41"/>
                </a:lnTo>
                <a:lnTo>
                  <a:pt x="0" y="41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536840" y="5208480"/>
            <a:ext cx="50760" cy="540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0"/>
                </a:moveTo>
                <a:lnTo>
                  <a:pt x="21" y="0"/>
                </a:lnTo>
                <a:lnTo>
                  <a:pt x="41" y="41"/>
                </a:lnTo>
                <a:lnTo>
                  <a:pt x="41" y="41"/>
                </a:lnTo>
                <a:lnTo>
                  <a:pt x="0" y="41"/>
                </a:lnTo>
                <a:lnTo>
                  <a:pt x="0" y="41"/>
                </a:lnTo>
                <a:lnTo>
                  <a:pt x="21" y="0"/>
                </a:lnTo>
                <a:lnTo>
                  <a:pt x="21" y="0"/>
                </a:lnTo>
                <a:lnTo>
                  <a:pt x="41" y="41"/>
                </a:lnTo>
                <a:lnTo>
                  <a:pt x="0" y="41"/>
                </a:lnTo>
                <a:lnTo>
                  <a:pt x="21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587600" y="5208480"/>
            <a:ext cx="48960" cy="54000"/>
          </a:xfrm>
          <a:custGeom>
            <a:avLst/>
            <a:gdLst/>
            <a:ahLst/>
            <a:rect l="l" t="t" r="r" b="b"/>
            <a:pathLst>
              <a:path w="40" h="41">
                <a:moveTo>
                  <a:pt x="20" y="0"/>
                </a:moveTo>
                <a:lnTo>
                  <a:pt x="20" y="0"/>
                </a:lnTo>
                <a:lnTo>
                  <a:pt x="40" y="41"/>
                </a:lnTo>
                <a:lnTo>
                  <a:pt x="40" y="41"/>
                </a:lnTo>
                <a:lnTo>
                  <a:pt x="0" y="41"/>
                </a:lnTo>
                <a:lnTo>
                  <a:pt x="0" y="41"/>
                </a:lnTo>
                <a:lnTo>
                  <a:pt x="20" y="0"/>
                </a:lnTo>
                <a:lnTo>
                  <a:pt x="20" y="0"/>
                </a:lnTo>
                <a:lnTo>
                  <a:pt x="40" y="41"/>
                </a:lnTo>
                <a:lnTo>
                  <a:pt x="0" y="41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644480" y="5208480"/>
            <a:ext cx="49320" cy="54000"/>
          </a:xfrm>
          <a:custGeom>
            <a:avLst/>
            <a:gdLst/>
            <a:ahLst/>
            <a:rect l="l" t="t" r="r" b="b"/>
            <a:pathLst>
              <a:path w="40" h="41">
                <a:moveTo>
                  <a:pt x="20" y="0"/>
                </a:moveTo>
                <a:lnTo>
                  <a:pt x="20" y="0"/>
                </a:lnTo>
                <a:lnTo>
                  <a:pt x="40" y="41"/>
                </a:lnTo>
                <a:lnTo>
                  <a:pt x="40" y="41"/>
                </a:lnTo>
                <a:lnTo>
                  <a:pt x="0" y="41"/>
                </a:lnTo>
                <a:lnTo>
                  <a:pt x="0" y="41"/>
                </a:lnTo>
                <a:lnTo>
                  <a:pt x="20" y="0"/>
                </a:lnTo>
                <a:lnTo>
                  <a:pt x="20" y="0"/>
                </a:lnTo>
                <a:lnTo>
                  <a:pt x="40" y="41"/>
                </a:lnTo>
                <a:lnTo>
                  <a:pt x="0" y="41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687680" y="5208480"/>
            <a:ext cx="48960" cy="54000"/>
          </a:xfrm>
          <a:custGeom>
            <a:avLst/>
            <a:gdLst/>
            <a:ahLst/>
            <a:rect l="l" t="t" r="r" b="b"/>
            <a:pathLst>
              <a:path w="40" h="41">
                <a:moveTo>
                  <a:pt x="20" y="0"/>
                </a:moveTo>
                <a:lnTo>
                  <a:pt x="20" y="0"/>
                </a:lnTo>
                <a:lnTo>
                  <a:pt x="40" y="41"/>
                </a:lnTo>
                <a:lnTo>
                  <a:pt x="40" y="41"/>
                </a:lnTo>
                <a:lnTo>
                  <a:pt x="0" y="41"/>
                </a:lnTo>
                <a:lnTo>
                  <a:pt x="0" y="41"/>
                </a:lnTo>
                <a:lnTo>
                  <a:pt x="20" y="0"/>
                </a:lnTo>
                <a:lnTo>
                  <a:pt x="20" y="0"/>
                </a:lnTo>
                <a:lnTo>
                  <a:pt x="40" y="41"/>
                </a:lnTo>
                <a:lnTo>
                  <a:pt x="0" y="41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736640" y="5208480"/>
            <a:ext cx="50760" cy="540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0"/>
                </a:moveTo>
                <a:lnTo>
                  <a:pt x="20" y="0"/>
                </a:lnTo>
                <a:lnTo>
                  <a:pt x="41" y="41"/>
                </a:lnTo>
                <a:lnTo>
                  <a:pt x="41" y="41"/>
                </a:lnTo>
                <a:lnTo>
                  <a:pt x="0" y="41"/>
                </a:lnTo>
                <a:lnTo>
                  <a:pt x="0" y="41"/>
                </a:lnTo>
                <a:lnTo>
                  <a:pt x="20" y="0"/>
                </a:lnTo>
                <a:lnTo>
                  <a:pt x="20" y="0"/>
                </a:lnTo>
                <a:lnTo>
                  <a:pt x="41" y="41"/>
                </a:lnTo>
                <a:lnTo>
                  <a:pt x="0" y="41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787400" y="5208480"/>
            <a:ext cx="49320" cy="54000"/>
          </a:xfrm>
          <a:custGeom>
            <a:avLst/>
            <a:gdLst/>
            <a:ahLst/>
            <a:rect l="l" t="t" r="r" b="b"/>
            <a:pathLst>
              <a:path w="40" h="41">
                <a:moveTo>
                  <a:pt x="20" y="0"/>
                </a:moveTo>
                <a:lnTo>
                  <a:pt x="20" y="0"/>
                </a:lnTo>
                <a:lnTo>
                  <a:pt x="40" y="41"/>
                </a:lnTo>
                <a:lnTo>
                  <a:pt x="40" y="41"/>
                </a:lnTo>
                <a:lnTo>
                  <a:pt x="0" y="41"/>
                </a:lnTo>
                <a:lnTo>
                  <a:pt x="0" y="41"/>
                </a:lnTo>
                <a:lnTo>
                  <a:pt x="20" y="0"/>
                </a:lnTo>
                <a:lnTo>
                  <a:pt x="20" y="0"/>
                </a:lnTo>
                <a:lnTo>
                  <a:pt x="40" y="41"/>
                </a:lnTo>
                <a:lnTo>
                  <a:pt x="0" y="41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844640" y="5208480"/>
            <a:ext cx="49320" cy="54000"/>
          </a:xfrm>
          <a:custGeom>
            <a:avLst/>
            <a:gdLst/>
            <a:ahLst/>
            <a:rect l="l" t="t" r="r" b="b"/>
            <a:pathLst>
              <a:path w="40" h="41">
                <a:moveTo>
                  <a:pt x="20" y="0"/>
                </a:moveTo>
                <a:lnTo>
                  <a:pt x="20" y="0"/>
                </a:lnTo>
                <a:lnTo>
                  <a:pt x="40" y="41"/>
                </a:lnTo>
                <a:lnTo>
                  <a:pt x="40" y="41"/>
                </a:lnTo>
                <a:lnTo>
                  <a:pt x="0" y="41"/>
                </a:lnTo>
                <a:lnTo>
                  <a:pt x="0" y="41"/>
                </a:lnTo>
                <a:lnTo>
                  <a:pt x="20" y="0"/>
                </a:lnTo>
                <a:lnTo>
                  <a:pt x="20" y="0"/>
                </a:lnTo>
                <a:lnTo>
                  <a:pt x="40" y="41"/>
                </a:lnTo>
                <a:lnTo>
                  <a:pt x="0" y="41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893960" y="5208480"/>
            <a:ext cx="50760" cy="540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0"/>
                </a:moveTo>
                <a:lnTo>
                  <a:pt x="20" y="0"/>
                </a:lnTo>
                <a:lnTo>
                  <a:pt x="41" y="41"/>
                </a:lnTo>
                <a:lnTo>
                  <a:pt x="41" y="41"/>
                </a:lnTo>
                <a:lnTo>
                  <a:pt x="0" y="41"/>
                </a:lnTo>
                <a:lnTo>
                  <a:pt x="0" y="41"/>
                </a:lnTo>
                <a:lnTo>
                  <a:pt x="20" y="0"/>
                </a:lnTo>
                <a:lnTo>
                  <a:pt x="20" y="0"/>
                </a:lnTo>
                <a:lnTo>
                  <a:pt x="41" y="41"/>
                </a:lnTo>
                <a:lnTo>
                  <a:pt x="0" y="41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936800" y="5208480"/>
            <a:ext cx="49320" cy="54000"/>
          </a:xfrm>
          <a:custGeom>
            <a:avLst/>
            <a:gdLst/>
            <a:ahLst/>
            <a:rect l="l" t="t" r="r" b="b"/>
            <a:pathLst>
              <a:path w="40" h="41">
                <a:moveTo>
                  <a:pt x="20" y="0"/>
                </a:moveTo>
                <a:lnTo>
                  <a:pt x="20" y="0"/>
                </a:lnTo>
                <a:lnTo>
                  <a:pt x="40" y="41"/>
                </a:lnTo>
                <a:lnTo>
                  <a:pt x="40" y="41"/>
                </a:lnTo>
                <a:lnTo>
                  <a:pt x="0" y="41"/>
                </a:lnTo>
                <a:lnTo>
                  <a:pt x="0" y="41"/>
                </a:lnTo>
                <a:lnTo>
                  <a:pt x="20" y="0"/>
                </a:lnTo>
                <a:lnTo>
                  <a:pt x="20" y="0"/>
                </a:lnTo>
                <a:lnTo>
                  <a:pt x="40" y="41"/>
                </a:lnTo>
                <a:lnTo>
                  <a:pt x="0" y="41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986120" y="5208480"/>
            <a:ext cx="50760" cy="540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0"/>
                </a:moveTo>
                <a:lnTo>
                  <a:pt x="21" y="0"/>
                </a:lnTo>
                <a:lnTo>
                  <a:pt x="41" y="41"/>
                </a:lnTo>
                <a:lnTo>
                  <a:pt x="41" y="41"/>
                </a:lnTo>
                <a:lnTo>
                  <a:pt x="0" y="41"/>
                </a:lnTo>
                <a:lnTo>
                  <a:pt x="0" y="41"/>
                </a:lnTo>
                <a:lnTo>
                  <a:pt x="21" y="0"/>
                </a:lnTo>
                <a:lnTo>
                  <a:pt x="21" y="0"/>
                </a:lnTo>
                <a:lnTo>
                  <a:pt x="41" y="41"/>
                </a:lnTo>
                <a:lnTo>
                  <a:pt x="0" y="41"/>
                </a:lnTo>
                <a:lnTo>
                  <a:pt x="21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036880" y="5208480"/>
            <a:ext cx="48960" cy="54000"/>
          </a:xfrm>
          <a:custGeom>
            <a:avLst/>
            <a:gdLst/>
            <a:ahLst/>
            <a:rect l="l" t="t" r="r" b="b"/>
            <a:pathLst>
              <a:path w="40" h="41">
                <a:moveTo>
                  <a:pt x="20" y="0"/>
                </a:moveTo>
                <a:lnTo>
                  <a:pt x="20" y="0"/>
                </a:lnTo>
                <a:lnTo>
                  <a:pt x="40" y="41"/>
                </a:lnTo>
                <a:lnTo>
                  <a:pt x="40" y="41"/>
                </a:lnTo>
                <a:lnTo>
                  <a:pt x="0" y="41"/>
                </a:lnTo>
                <a:lnTo>
                  <a:pt x="0" y="41"/>
                </a:lnTo>
                <a:lnTo>
                  <a:pt x="20" y="0"/>
                </a:lnTo>
                <a:lnTo>
                  <a:pt x="20" y="0"/>
                </a:lnTo>
                <a:lnTo>
                  <a:pt x="40" y="41"/>
                </a:lnTo>
                <a:lnTo>
                  <a:pt x="0" y="41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077920" y="5208480"/>
            <a:ext cx="49320" cy="54000"/>
          </a:xfrm>
          <a:custGeom>
            <a:avLst/>
            <a:gdLst/>
            <a:ahLst/>
            <a:rect l="l" t="t" r="r" b="b"/>
            <a:pathLst>
              <a:path w="40" h="41">
                <a:moveTo>
                  <a:pt x="20" y="0"/>
                </a:moveTo>
                <a:lnTo>
                  <a:pt x="20" y="0"/>
                </a:lnTo>
                <a:lnTo>
                  <a:pt x="40" y="41"/>
                </a:lnTo>
                <a:lnTo>
                  <a:pt x="40" y="41"/>
                </a:lnTo>
                <a:lnTo>
                  <a:pt x="0" y="41"/>
                </a:lnTo>
                <a:lnTo>
                  <a:pt x="0" y="41"/>
                </a:lnTo>
                <a:lnTo>
                  <a:pt x="20" y="0"/>
                </a:lnTo>
                <a:lnTo>
                  <a:pt x="20" y="0"/>
                </a:lnTo>
                <a:lnTo>
                  <a:pt x="40" y="41"/>
                </a:lnTo>
                <a:lnTo>
                  <a:pt x="0" y="41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136600" y="5208480"/>
            <a:ext cx="49320" cy="54000"/>
          </a:xfrm>
          <a:custGeom>
            <a:avLst/>
            <a:gdLst/>
            <a:ahLst/>
            <a:rect l="l" t="t" r="r" b="b"/>
            <a:pathLst>
              <a:path w="40" h="41">
                <a:moveTo>
                  <a:pt x="20" y="0"/>
                </a:moveTo>
                <a:lnTo>
                  <a:pt x="20" y="0"/>
                </a:lnTo>
                <a:lnTo>
                  <a:pt x="40" y="41"/>
                </a:lnTo>
                <a:lnTo>
                  <a:pt x="40" y="41"/>
                </a:lnTo>
                <a:lnTo>
                  <a:pt x="0" y="41"/>
                </a:lnTo>
                <a:lnTo>
                  <a:pt x="0" y="41"/>
                </a:lnTo>
                <a:lnTo>
                  <a:pt x="20" y="0"/>
                </a:lnTo>
                <a:lnTo>
                  <a:pt x="20" y="0"/>
                </a:lnTo>
                <a:lnTo>
                  <a:pt x="40" y="41"/>
                </a:lnTo>
                <a:lnTo>
                  <a:pt x="0" y="41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387440" y="5154480"/>
            <a:ext cx="49320" cy="54000"/>
          </a:xfrm>
          <a:custGeom>
            <a:avLst/>
            <a:gdLst/>
            <a:ahLst/>
            <a:rect l="l" t="t" r="r" b="b"/>
            <a:pathLst>
              <a:path w="40" h="40">
                <a:moveTo>
                  <a:pt x="20" y="0"/>
                </a:moveTo>
                <a:lnTo>
                  <a:pt x="20" y="0"/>
                </a:lnTo>
                <a:lnTo>
                  <a:pt x="40" y="40"/>
                </a:lnTo>
                <a:lnTo>
                  <a:pt x="40" y="40"/>
                </a:lnTo>
                <a:lnTo>
                  <a:pt x="0" y="40"/>
                </a:lnTo>
                <a:lnTo>
                  <a:pt x="0" y="40"/>
                </a:lnTo>
                <a:lnTo>
                  <a:pt x="20" y="0"/>
                </a:lnTo>
                <a:lnTo>
                  <a:pt x="20" y="0"/>
                </a:lnTo>
                <a:lnTo>
                  <a:pt x="40" y="40"/>
                </a:lnTo>
                <a:lnTo>
                  <a:pt x="0" y="40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446120" y="5154480"/>
            <a:ext cx="49320" cy="54000"/>
          </a:xfrm>
          <a:custGeom>
            <a:avLst/>
            <a:gdLst/>
            <a:ahLst/>
            <a:rect l="l" t="t" r="r" b="b"/>
            <a:pathLst>
              <a:path w="41" h="40">
                <a:moveTo>
                  <a:pt x="20" y="0"/>
                </a:moveTo>
                <a:lnTo>
                  <a:pt x="20" y="0"/>
                </a:lnTo>
                <a:lnTo>
                  <a:pt x="41" y="40"/>
                </a:lnTo>
                <a:lnTo>
                  <a:pt x="41" y="40"/>
                </a:lnTo>
                <a:lnTo>
                  <a:pt x="0" y="40"/>
                </a:lnTo>
                <a:lnTo>
                  <a:pt x="0" y="40"/>
                </a:lnTo>
                <a:lnTo>
                  <a:pt x="20" y="0"/>
                </a:lnTo>
                <a:lnTo>
                  <a:pt x="20" y="0"/>
                </a:lnTo>
                <a:lnTo>
                  <a:pt x="41" y="40"/>
                </a:lnTo>
                <a:lnTo>
                  <a:pt x="0" y="40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495440" y="5154480"/>
            <a:ext cx="49320" cy="54000"/>
          </a:xfrm>
          <a:custGeom>
            <a:avLst/>
            <a:gdLst/>
            <a:ahLst/>
            <a:rect l="l" t="t" r="r" b="b"/>
            <a:pathLst>
              <a:path w="40" h="40">
                <a:moveTo>
                  <a:pt x="20" y="0"/>
                </a:moveTo>
                <a:lnTo>
                  <a:pt x="20" y="0"/>
                </a:lnTo>
                <a:lnTo>
                  <a:pt x="40" y="40"/>
                </a:lnTo>
                <a:lnTo>
                  <a:pt x="40" y="40"/>
                </a:lnTo>
                <a:lnTo>
                  <a:pt x="0" y="40"/>
                </a:lnTo>
                <a:lnTo>
                  <a:pt x="0" y="40"/>
                </a:lnTo>
                <a:lnTo>
                  <a:pt x="20" y="0"/>
                </a:lnTo>
                <a:lnTo>
                  <a:pt x="20" y="0"/>
                </a:lnTo>
                <a:lnTo>
                  <a:pt x="40" y="40"/>
                </a:lnTo>
                <a:lnTo>
                  <a:pt x="0" y="40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544760" y="5154480"/>
            <a:ext cx="50760" cy="54000"/>
          </a:xfrm>
          <a:custGeom>
            <a:avLst/>
            <a:gdLst/>
            <a:ahLst/>
            <a:rect l="l" t="t" r="r" b="b"/>
            <a:pathLst>
              <a:path w="41" h="40">
                <a:moveTo>
                  <a:pt x="20" y="0"/>
                </a:moveTo>
                <a:lnTo>
                  <a:pt x="20" y="0"/>
                </a:lnTo>
                <a:lnTo>
                  <a:pt x="41" y="40"/>
                </a:lnTo>
                <a:lnTo>
                  <a:pt x="41" y="40"/>
                </a:lnTo>
                <a:lnTo>
                  <a:pt x="0" y="40"/>
                </a:lnTo>
                <a:lnTo>
                  <a:pt x="0" y="40"/>
                </a:lnTo>
                <a:lnTo>
                  <a:pt x="20" y="0"/>
                </a:lnTo>
                <a:lnTo>
                  <a:pt x="20" y="0"/>
                </a:lnTo>
                <a:lnTo>
                  <a:pt x="41" y="40"/>
                </a:lnTo>
                <a:lnTo>
                  <a:pt x="0" y="40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587600" y="5154480"/>
            <a:ext cx="48960" cy="54000"/>
          </a:xfrm>
          <a:custGeom>
            <a:avLst/>
            <a:gdLst/>
            <a:ahLst/>
            <a:rect l="l" t="t" r="r" b="b"/>
            <a:pathLst>
              <a:path w="40" h="40">
                <a:moveTo>
                  <a:pt x="20" y="0"/>
                </a:moveTo>
                <a:lnTo>
                  <a:pt x="20" y="0"/>
                </a:lnTo>
                <a:lnTo>
                  <a:pt x="40" y="40"/>
                </a:lnTo>
                <a:lnTo>
                  <a:pt x="40" y="40"/>
                </a:lnTo>
                <a:lnTo>
                  <a:pt x="0" y="40"/>
                </a:lnTo>
                <a:lnTo>
                  <a:pt x="0" y="40"/>
                </a:lnTo>
                <a:lnTo>
                  <a:pt x="20" y="0"/>
                </a:lnTo>
                <a:lnTo>
                  <a:pt x="20" y="0"/>
                </a:lnTo>
                <a:lnTo>
                  <a:pt x="40" y="40"/>
                </a:lnTo>
                <a:lnTo>
                  <a:pt x="0" y="40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654200" y="5154480"/>
            <a:ext cx="49320" cy="54000"/>
          </a:xfrm>
          <a:custGeom>
            <a:avLst/>
            <a:gdLst/>
            <a:ahLst/>
            <a:rect l="l" t="t" r="r" b="b"/>
            <a:pathLst>
              <a:path w="40" h="40">
                <a:moveTo>
                  <a:pt x="20" y="0"/>
                </a:moveTo>
                <a:lnTo>
                  <a:pt x="20" y="0"/>
                </a:lnTo>
                <a:lnTo>
                  <a:pt x="40" y="40"/>
                </a:lnTo>
                <a:lnTo>
                  <a:pt x="40" y="40"/>
                </a:lnTo>
                <a:lnTo>
                  <a:pt x="0" y="40"/>
                </a:lnTo>
                <a:lnTo>
                  <a:pt x="0" y="40"/>
                </a:lnTo>
                <a:lnTo>
                  <a:pt x="20" y="0"/>
                </a:lnTo>
                <a:lnTo>
                  <a:pt x="20" y="0"/>
                </a:lnTo>
                <a:lnTo>
                  <a:pt x="40" y="40"/>
                </a:lnTo>
                <a:lnTo>
                  <a:pt x="0" y="40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693800" y="5154480"/>
            <a:ext cx="50760" cy="54000"/>
          </a:xfrm>
          <a:custGeom>
            <a:avLst/>
            <a:gdLst/>
            <a:ahLst/>
            <a:rect l="l" t="t" r="r" b="b"/>
            <a:pathLst>
              <a:path w="41" h="40">
                <a:moveTo>
                  <a:pt x="21" y="0"/>
                </a:moveTo>
                <a:lnTo>
                  <a:pt x="21" y="0"/>
                </a:lnTo>
                <a:lnTo>
                  <a:pt x="41" y="40"/>
                </a:lnTo>
                <a:lnTo>
                  <a:pt x="41" y="40"/>
                </a:lnTo>
                <a:lnTo>
                  <a:pt x="0" y="40"/>
                </a:lnTo>
                <a:lnTo>
                  <a:pt x="0" y="40"/>
                </a:lnTo>
                <a:lnTo>
                  <a:pt x="21" y="0"/>
                </a:lnTo>
                <a:lnTo>
                  <a:pt x="21" y="0"/>
                </a:lnTo>
                <a:lnTo>
                  <a:pt x="41" y="40"/>
                </a:lnTo>
                <a:lnTo>
                  <a:pt x="0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744560" y="5154480"/>
            <a:ext cx="49320" cy="54000"/>
          </a:xfrm>
          <a:custGeom>
            <a:avLst/>
            <a:gdLst/>
            <a:ahLst/>
            <a:rect l="l" t="t" r="r" b="b"/>
            <a:pathLst>
              <a:path w="40" h="40">
                <a:moveTo>
                  <a:pt x="20" y="0"/>
                </a:moveTo>
                <a:lnTo>
                  <a:pt x="20" y="0"/>
                </a:lnTo>
                <a:lnTo>
                  <a:pt x="40" y="40"/>
                </a:lnTo>
                <a:lnTo>
                  <a:pt x="40" y="40"/>
                </a:lnTo>
                <a:lnTo>
                  <a:pt x="0" y="40"/>
                </a:lnTo>
                <a:lnTo>
                  <a:pt x="0" y="40"/>
                </a:lnTo>
                <a:lnTo>
                  <a:pt x="20" y="0"/>
                </a:lnTo>
                <a:lnTo>
                  <a:pt x="20" y="0"/>
                </a:lnTo>
                <a:lnTo>
                  <a:pt x="40" y="40"/>
                </a:lnTo>
                <a:lnTo>
                  <a:pt x="0" y="40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793880" y="5154480"/>
            <a:ext cx="50760" cy="54000"/>
          </a:xfrm>
          <a:custGeom>
            <a:avLst/>
            <a:gdLst/>
            <a:ahLst/>
            <a:rect l="l" t="t" r="r" b="b"/>
            <a:pathLst>
              <a:path w="41" h="40">
                <a:moveTo>
                  <a:pt x="21" y="0"/>
                </a:moveTo>
                <a:lnTo>
                  <a:pt x="21" y="0"/>
                </a:lnTo>
                <a:lnTo>
                  <a:pt x="41" y="40"/>
                </a:lnTo>
                <a:lnTo>
                  <a:pt x="41" y="40"/>
                </a:lnTo>
                <a:lnTo>
                  <a:pt x="0" y="40"/>
                </a:lnTo>
                <a:lnTo>
                  <a:pt x="0" y="40"/>
                </a:lnTo>
                <a:lnTo>
                  <a:pt x="21" y="0"/>
                </a:lnTo>
                <a:lnTo>
                  <a:pt x="21" y="0"/>
                </a:lnTo>
                <a:lnTo>
                  <a:pt x="41" y="40"/>
                </a:lnTo>
                <a:lnTo>
                  <a:pt x="0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836720" y="5154480"/>
            <a:ext cx="50760" cy="54000"/>
          </a:xfrm>
          <a:custGeom>
            <a:avLst/>
            <a:gdLst/>
            <a:ahLst/>
            <a:rect l="l" t="t" r="r" b="b"/>
            <a:pathLst>
              <a:path w="41" h="40">
                <a:moveTo>
                  <a:pt x="20" y="0"/>
                </a:moveTo>
                <a:lnTo>
                  <a:pt x="20" y="0"/>
                </a:lnTo>
                <a:lnTo>
                  <a:pt x="41" y="40"/>
                </a:lnTo>
                <a:lnTo>
                  <a:pt x="41" y="40"/>
                </a:lnTo>
                <a:lnTo>
                  <a:pt x="0" y="40"/>
                </a:lnTo>
                <a:lnTo>
                  <a:pt x="0" y="40"/>
                </a:lnTo>
                <a:lnTo>
                  <a:pt x="20" y="0"/>
                </a:lnTo>
                <a:lnTo>
                  <a:pt x="20" y="0"/>
                </a:lnTo>
                <a:lnTo>
                  <a:pt x="41" y="40"/>
                </a:lnTo>
                <a:lnTo>
                  <a:pt x="0" y="40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887480" y="5154480"/>
            <a:ext cx="49320" cy="54000"/>
          </a:xfrm>
          <a:custGeom>
            <a:avLst/>
            <a:gdLst/>
            <a:ahLst/>
            <a:rect l="l" t="t" r="r" b="b"/>
            <a:pathLst>
              <a:path w="40" h="40">
                <a:moveTo>
                  <a:pt x="20" y="0"/>
                </a:moveTo>
                <a:lnTo>
                  <a:pt x="20" y="0"/>
                </a:lnTo>
                <a:lnTo>
                  <a:pt x="40" y="40"/>
                </a:lnTo>
                <a:lnTo>
                  <a:pt x="40" y="40"/>
                </a:lnTo>
                <a:lnTo>
                  <a:pt x="0" y="40"/>
                </a:lnTo>
                <a:lnTo>
                  <a:pt x="0" y="40"/>
                </a:lnTo>
                <a:lnTo>
                  <a:pt x="20" y="0"/>
                </a:lnTo>
                <a:lnTo>
                  <a:pt x="20" y="0"/>
                </a:lnTo>
                <a:lnTo>
                  <a:pt x="40" y="40"/>
                </a:lnTo>
                <a:lnTo>
                  <a:pt x="0" y="40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944720" y="5154480"/>
            <a:ext cx="49320" cy="54000"/>
          </a:xfrm>
          <a:custGeom>
            <a:avLst/>
            <a:gdLst/>
            <a:ahLst/>
            <a:rect l="l" t="t" r="r" b="b"/>
            <a:pathLst>
              <a:path w="40" h="40">
                <a:moveTo>
                  <a:pt x="20" y="0"/>
                </a:moveTo>
                <a:lnTo>
                  <a:pt x="20" y="0"/>
                </a:lnTo>
                <a:lnTo>
                  <a:pt x="40" y="40"/>
                </a:lnTo>
                <a:lnTo>
                  <a:pt x="40" y="40"/>
                </a:lnTo>
                <a:lnTo>
                  <a:pt x="0" y="40"/>
                </a:lnTo>
                <a:lnTo>
                  <a:pt x="0" y="40"/>
                </a:lnTo>
                <a:lnTo>
                  <a:pt x="20" y="0"/>
                </a:lnTo>
                <a:lnTo>
                  <a:pt x="20" y="0"/>
                </a:lnTo>
                <a:lnTo>
                  <a:pt x="40" y="40"/>
                </a:lnTo>
                <a:lnTo>
                  <a:pt x="0" y="40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976480" y="4184640"/>
            <a:ext cx="22536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244600" y="4264200"/>
            <a:ext cx="223920" cy="144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997360" y="5587920"/>
            <a:ext cx="6858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neva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neva"/>
              </a:rPr>
              <a:t>(n=1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926360" y="5410080"/>
            <a:ext cx="115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Geneva"/>
              </a:rPr>
              <a:t>Neurolog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Geneva"/>
              </a:rPr>
              <a:t>Contro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Geneva"/>
              </a:rPr>
              <a:t>(n=1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930600" y="5537160"/>
            <a:ext cx="117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Geneva"/>
              </a:rPr>
              <a:t>Narcolepsy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Geneva"/>
              </a:rPr>
              <a:t>(n=3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835520" y="1387440"/>
            <a:ext cx="30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teral Hypothala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rain t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933480" y="1393920"/>
            <a:ext cx="28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erebrospinal 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025280" y="18478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pg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V="1">
            <a:off x="696960" y="1190160"/>
            <a:ext cx="7788240" cy="3240"/>
          </a:xfrm>
          <a:prstGeom prst="line">
            <a:avLst/>
          </a:prstGeom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86640" y="6148440"/>
            <a:ext cx="84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ishino et al.  Lancet, 355:39-40, 2000; Peyron et al., Nature Med, 6: 991-7,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080" y="6448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20659-52B2-46DB-8706-14C58113FC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Need for New Treat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69440" y="1409400"/>
            <a:ext cx="817884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Narcolepsy 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riou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ab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Curr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eatmen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satisfacto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i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term of side effects and effic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Curr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eatmen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all have a similar mode of action a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t symptomatic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Future treatments that may involv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hypocretin agonists are years 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696960" y="1228320"/>
            <a:ext cx="7788240" cy="3240"/>
          </a:xfrm>
          <a:prstGeom prst="line">
            <a:avLst/>
          </a:prstGeom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080" y="6448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8E33B-6328-4B94-8BC4-3E3DF70F838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1031760" y="228600"/>
            <a:ext cx="765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800" y="2793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liam Houghton, M.D.</a:t>
            </a:r>
            <a:br>
              <a:rPr sz="40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ef Operating Officer &amp; Medical Offic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phan Medical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yre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Tahoma"/>
              </a:rPr>
              <a:t>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linical Data:  Effica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3130C-2A27-47A0-9FAB-9E5B3E51AA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561"/>
              </a:spcBef>
              <a:spcAft>
                <a:spcPts val="561"/>
              </a:spcAft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ton Reardan, Ph.D.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 of Regulatory Aff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61"/>
              </a:spcBef>
              <a:spcAft>
                <a:spcPts val="561"/>
              </a:spcAft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l Ne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manuel Mignot, M.D.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ford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61"/>
              </a:spcBef>
              <a:spcAft>
                <a:spcPts val="561"/>
              </a:spcAft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acy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iam Houghton, M.D.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, Medical Offi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61"/>
              </a:spcBef>
              <a:spcAft>
                <a:spcPts val="561"/>
              </a:spcAft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somnographic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s of Xyr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d Black, M.D.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ford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61"/>
              </a:spcBef>
              <a:spcAft>
                <a:spcPts val="561"/>
              </a:spcAft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iam Houghton, M.D.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, Medical Offi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61"/>
              </a:spcBef>
              <a:spcAft>
                <a:spcPts val="561"/>
              </a:spcAft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 of Risk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us Benef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iam Houghton, M.D.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, Medical Offi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:00 a.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61"/>
              </a:spcBef>
              <a:spcAft>
                <a:spcPts val="561"/>
              </a:spcAft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use  Lia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ert Balster, Ph.D.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l College of Virgi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61"/>
              </a:spcBef>
              <a:spcAft>
                <a:spcPts val="561"/>
              </a:spcAft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Management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ti Engel, R.N., B.S.N.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 Marketing &amp; 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292E8-F240-4C62-8A0C-90DDDF79C8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1031760" y="228600"/>
            <a:ext cx="765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55600" y="1062000"/>
            <a:ext cx="8672400" cy="4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167400" y="103320"/>
            <a:ext cx="8736840" cy="6304320"/>
            <a:chOff x="167400" y="103320"/>
            <a:chExt cx="8736840" cy="6304320"/>
          </a:xfrm>
        </p:grpSpPr>
        <p:sp>
          <p:nvSpPr>
            <p:cNvPr id="1109" name=""/>
            <p:cNvSpPr/>
            <p:nvPr/>
          </p:nvSpPr>
          <p:spPr>
            <a:xfrm>
              <a:off x="2854440" y="493560"/>
              <a:ext cx="0" cy="56674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67400" y="128520"/>
              <a:ext cx="253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Controlled Tria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960360" y="103320"/>
              <a:ext cx="290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Uncontrolled Tria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03200" y="4118040"/>
              <a:ext cx="2216160" cy="79380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crima      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0 pati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4 weeks of treat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96880" y="5370480"/>
              <a:ext cx="1828800" cy="103716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mmers      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5 pati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4 week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26960" y="1625760"/>
              <a:ext cx="2192400" cy="79380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MC-GHB-2      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136 pati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4 week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76120" y="2921040"/>
              <a:ext cx="2468520" cy="79380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MC-SXB-21      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55 pati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2 week withdrawal tr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032600" y="5187960"/>
              <a:ext cx="1828800" cy="106740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MC-GHB-4      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6 pati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Pk stud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959200" y="1625760"/>
              <a:ext cx="2028600" cy="103716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MC-GHB-3      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117 pati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Up to 24 month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075440" y="646200"/>
              <a:ext cx="1828800" cy="106740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MC-SXB-10      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13 pati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Pk stud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956120" y="5184720"/>
              <a:ext cx="1828800" cy="79380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charf      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143 pati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Up to 16 yea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006880" y="2892600"/>
              <a:ext cx="1905120" cy="103716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MC-SXB-7      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ngo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urrently N=23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979880" y="671400"/>
              <a:ext cx="1828800" cy="103716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MC-SXB-6      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185 pati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6 month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739960" y="3408480"/>
              <a:ext cx="2311560" cy="6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983120" y="2119320"/>
              <a:ext cx="684360" cy="7984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5919480" y="1474560"/>
              <a:ext cx="2160" cy="14526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>
              <a:off x="5935680" y="3660480"/>
              <a:ext cx="4680" cy="15303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660760" y="3206880"/>
              <a:ext cx="23414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313320" y="1744560"/>
              <a:ext cx="1828800" cy="103716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MC-SXB-20      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5 pati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0 week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6721560" y="5483160"/>
              <a:ext cx="309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781680" y="5688000"/>
              <a:ext cx="293760" cy="32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334120" y="4214880"/>
              <a:ext cx="1154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63 Pati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625840" y="2079720"/>
              <a:ext cx="428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719760" y="988920"/>
              <a:ext cx="3556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810480" y="1117440"/>
              <a:ext cx="339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037280" y="4290840"/>
              <a:ext cx="1828800" cy="8240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PK Studies      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125 Subje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727A9-8EEB-4861-A445-DF2E2FD435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MC-GHB-2 St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ized, double-blind, placebo-controlled, parallel-group, multi-center trial comparing the effects of three doses (3g, 6g, 9g) of orally administered Xyrem with placebo for the treatment of narcolep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04BB9-5004-41C8-B15A-191B262EA8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MC-GHB-2 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acy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mary efficacy parame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number of cataplexy attacks/week versus bas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ary efficacy parame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and partial cataplexy att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time sleepiness / Inadvertent n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nagogic halluc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ep par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GI—Clinical Global I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2F73C-4A09-42F7-9522-A54E585006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is of narcolep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ysomnography (PSG) and Multiple Sleep Latency Test (MSLT) within the last 5 yea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luding sleep apnea or other causes of daytime sleepi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story of Excessive Daytime Sleepiness (EDS) and cataplexy for at least 6 mont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urrent daytime naps that occur almost daily for at least 3 mont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MC-GHB-2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843BD-97C7-407D-A346-FE199E4112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MC-GHB-2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 Stud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138320" y="2203560"/>
            <a:ext cx="1454040" cy="3111480"/>
          </a:xfrm>
          <a:prstGeom prst="rect">
            <a:avLst/>
          </a:prstGeom>
          <a:solidFill>
            <a:srgbClr val="e5ffe6"/>
          </a:solidFill>
          <a:ln w="12600">
            <a:solidFill>
              <a:srgbClr val="0098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cree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day to       4 wee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drawal of anti-cataple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-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2575080" y="2203560"/>
            <a:ext cx="1455480" cy="3111480"/>
          </a:xfrm>
          <a:prstGeom prst="rect">
            <a:avLst/>
          </a:prstGeom>
          <a:solidFill>
            <a:srgbClr val="e5ffe6"/>
          </a:solidFill>
          <a:ln w="12600">
            <a:solidFill>
              <a:srgbClr val="0098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ash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 day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aplex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97440" y="2203560"/>
            <a:ext cx="1481040" cy="2837160"/>
          </a:xfrm>
          <a:prstGeom prst="rect">
            <a:avLst/>
          </a:prstGeom>
          <a:solidFill>
            <a:srgbClr val="e5ffe6"/>
          </a:solidFill>
          <a:ln w="12600">
            <a:solidFill>
              <a:srgbClr val="0098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wee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aplexy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445000" y="2203560"/>
            <a:ext cx="1519200" cy="3111480"/>
          </a:xfrm>
          <a:prstGeom prst="rect">
            <a:avLst/>
          </a:prstGeom>
          <a:solidFill>
            <a:srgbClr val="e5ffe6"/>
          </a:solidFill>
          <a:ln w="12600">
            <a:solidFill>
              <a:srgbClr val="0098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uble-Bli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 wee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yr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, 6g, 9g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946920" y="2203560"/>
            <a:ext cx="1493640" cy="3111480"/>
          </a:xfrm>
          <a:prstGeom prst="rect">
            <a:avLst/>
          </a:prstGeom>
          <a:solidFill>
            <a:srgbClr val="e5ffe6"/>
          </a:solidFill>
          <a:ln w="12600">
            <a:solidFill>
              <a:srgbClr val="0098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ollow-u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day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treat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aplexy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136520" y="1668600"/>
            <a:ext cx="7312320" cy="520560"/>
          </a:xfrm>
          <a:prstGeom prst="rect">
            <a:avLst/>
          </a:prstGeom>
          <a:noFill/>
          <a:ln w="12600">
            <a:solidFill>
              <a:srgbClr val="002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C-GHB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69920" y="3308400"/>
            <a:ext cx="6397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b8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001a"/>
                </a:solidFill>
                <a:latin typeface="Arial"/>
              </a:rPr>
              <a:t>Vis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8294760" y="3308400"/>
            <a:ext cx="2746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b8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001a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97040" y="3498840"/>
            <a:ext cx="7511760" cy="0"/>
          </a:xfrm>
          <a:prstGeom prst="line">
            <a:avLst/>
          </a:prstGeom>
          <a:ln w="28440">
            <a:solidFill>
              <a:srgbClr val="b8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67640" y="3308400"/>
            <a:ext cx="3380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b8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001a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048360" y="3308400"/>
            <a:ext cx="3268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b8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001a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264280" y="3308400"/>
            <a:ext cx="339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b8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001a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838680" y="3292560"/>
            <a:ext cx="3031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b8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001a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432160" y="3292560"/>
            <a:ext cx="3031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b8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001a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941400" y="3308400"/>
            <a:ext cx="3492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b8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001a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415960" y="5318280"/>
            <a:ext cx="47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timulant medications mainta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139760" y="5322960"/>
            <a:ext cx="7302600" cy="476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8DB49-90FA-40D9-A5F3-6D0279D3BB2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taplexy Attacks per We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0" name=""/>
          <p:cNvGraphicFramePr/>
          <p:nvPr/>
        </p:nvGraphicFramePr>
        <p:xfrm>
          <a:off x="420840" y="1384200"/>
          <a:ext cx="8178480" cy="5114880"/>
        </p:xfrm>
        <a:graphic>
          <a:graphicData uri="http://schemas.openxmlformats.org/drawingml/2006/table">
            <a:tbl>
              <a:tblPr/>
              <a:tblGrid>
                <a:gridCol w="1056960"/>
                <a:gridCol w="1305000"/>
                <a:gridCol w="1438200"/>
                <a:gridCol w="1498680"/>
                <a:gridCol w="1400400"/>
                <a:gridCol w="147924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s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Obser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(BL)   Endpoint(E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from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 to 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ison with placebo             (p-valu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(S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1 (47.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0 (28.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.1 (27.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(S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6 (30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5 (27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.1 (22.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(S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8 (45.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6 (62.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.2 (27.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(S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7 (34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 (19.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1.3 (29.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6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.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4551B-432D-406E-BA29-DD19B9CCA6A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C-GHB-2 Primary Efficac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Cataple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3335400" y="6367320"/>
            <a:ext cx="27842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335400" y="6367320"/>
            <a:ext cx="27842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766880" y="5934240"/>
            <a:ext cx="6477120" cy="596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765440" y="2646360"/>
            <a:ext cx="6478560" cy="541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765440" y="3726000"/>
            <a:ext cx="6478560" cy="5508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766880" y="5372280"/>
            <a:ext cx="6477120" cy="5713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765440" y="1536840"/>
            <a:ext cx="6478560" cy="549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574720" y="1487520"/>
            <a:ext cx="87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765440" y="2085840"/>
            <a:ext cx="6478560" cy="560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765440" y="3187800"/>
            <a:ext cx="6478560" cy="5382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765440" y="4276800"/>
            <a:ext cx="6478560" cy="5601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765440" y="4836960"/>
            <a:ext cx="6478560" cy="540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4" name=""/>
          <p:cNvGrpSpPr/>
          <p:nvPr/>
        </p:nvGrpSpPr>
        <p:grpSpPr>
          <a:xfrm>
            <a:off x="3009960" y="1812960"/>
            <a:ext cx="97920" cy="1636200"/>
            <a:chOff x="3009960" y="1812960"/>
            <a:chExt cx="97920" cy="1636200"/>
          </a:xfrm>
        </p:grpSpPr>
        <p:sp>
          <p:nvSpPr>
            <p:cNvPr id="1175" name=""/>
            <p:cNvSpPr/>
            <p:nvPr/>
          </p:nvSpPr>
          <p:spPr>
            <a:xfrm flipH="1">
              <a:off x="3056400" y="1812960"/>
              <a:ext cx="1440" cy="1636200"/>
            </a:xfrm>
            <a:prstGeom prst="line">
              <a:avLst/>
            </a:prstGeom>
            <a:ln w="381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009960" y="2543040"/>
              <a:ext cx="97920" cy="99720"/>
            </a:xfrm>
            <a:prstGeom prst="rect">
              <a:avLst/>
            </a:prstGeom>
            <a:solidFill>
              <a:srgbClr val="006633"/>
            </a:solidFill>
            <a:ln w="381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4309920" y="2165400"/>
            <a:ext cx="96840" cy="1552320"/>
            <a:chOff x="4309920" y="2165400"/>
            <a:chExt cx="96840" cy="1552320"/>
          </a:xfrm>
        </p:grpSpPr>
        <p:sp>
          <p:nvSpPr>
            <p:cNvPr id="1178" name=""/>
            <p:cNvSpPr/>
            <p:nvPr/>
          </p:nvSpPr>
          <p:spPr>
            <a:xfrm>
              <a:off x="4309920" y="2909520"/>
              <a:ext cx="96840" cy="100440"/>
            </a:xfrm>
            <a:prstGeom prst="rect">
              <a:avLst/>
            </a:prstGeom>
            <a:solidFill>
              <a:srgbClr val="0066cc"/>
            </a:solidFill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358880" y="2165400"/>
              <a:ext cx="0" cy="1552320"/>
            </a:xfrm>
            <a:prstGeom prst="line">
              <a:avLst/>
            </a:prstGeom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595840" y="2471760"/>
            <a:ext cx="98280" cy="1794960"/>
            <a:chOff x="5595840" y="2471760"/>
            <a:chExt cx="98280" cy="1794960"/>
          </a:xfrm>
        </p:grpSpPr>
        <p:sp>
          <p:nvSpPr>
            <p:cNvPr id="1181" name=""/>
            <p:cNvSpPr/>
            <p:nvPr/>
          </p:nvSpPr>
          <p:spPr>
            <a:xfrm>
              <a:off x="5595840" y="3142800"/>
              <a:ext cx="98280" cy="100080"/>
            </a:xfrm>
            <a:prstGeom prst="rect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645880" y="2471760"/>
              <a:ext cx="0" cy="17949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3" name=""/>
          <p:cNvGrpSpPr/>
          <p:nvPr/>
        </p:nvGrpSpPr>
        <p:grpSpPr>
          <a:xfrm>
            <a:off x="6894360" y="2637000"/>
            <a:ext cx="99720" cy="3264840"/>
            <a:chOff x="6894360" y="2637000"/>
            <a:chExt cx="99720" cy="3264840"/>
          </a:xfrm>
        </p:grpSpPr>
        <p:sp>
          <p:nvSpPr>
            <p:cNvPr id="1184" name=""/>
            <p:cNvSpPr/>
            <p:nvPr/>
          </p:nvSpPr>
          <p:spPr>
            <a:xfrm>
              <a:off x="6894360" y="3733920"/>
              <a:ext cx="99720" cy="100440"/>
            </a:xfrm>
            <a:prstGeom prst="rect">
              <a:avLst/>
            </a:prstGeom>
            <a:solidFill>
              <a:srgbClr val="990066"/>
            </a:solidFill>
            <a:ln w="381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944760" y="2637000"/>
              <a:ext cx="0" cy="3264840"/>
            </a:xfrm>
            <a:prstGeom prst="line">
              <a:avLst/>
            </a:prstGeom>
            <a:ln w="381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6" name=""/>
          <p:cNvSpPr/>
          <p:nvPr/>
        </p:nvSpPr>
        <p:spPr>
          <a:xfrm>
            <a:off x="4139640" y="1468440"/>
            <a:ext cx="33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454000" y="1468440"/>
            <a:ext cx="33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6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805080" y="1468440"/>
            <a:ext cx="33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9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999480" y="5019840"/>
            <a:ext cx="10692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 = 0.0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placeb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137200" y="4435560"/>
            <a:ext cx="10126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 = 0.05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placeb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rot="24600">
            <a:off x="-161640" y="2968200"/>
            <a:ext cx="160344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1st/3rd quarti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acks/we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2" name=""/>
          <p:cNvGrpSpPr/>
          <p:nvPr/>
        </p:nvGrpSpPr>
        <p:grpSpPr>
          <a:xfrm>
            <a:off x="1425960" y="1446120"/>
            <a:ext cx="339480" cy="5147640"/>
            <a:chOff x="1425960" y="1446120"/>
            <a:chExt cx="339480" cy="5147640"/>
          </a:xfrm>
        </p:grpSpPr>
        <p:sp>
          <p:nvSpPr>
            <p:cNvPr id="1193" name=""/>
            <p:cNvSpPr/>
            <p:nvPr/>
          </p:nvSpPr>
          <p:spPr>
            <a:xfrm>
              <a:off x="1765440" y="1554120"/>
              <a:ext cx="0" cy="49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765440" y="1554120"/>
              <a:ext cx="0" cy="49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562040" y="1996920"/>
              <a:ext cx="8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590120" y="1446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527840" y="254484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425960" y="309420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425960" y="361944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425960" y="418788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425960" y="473868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425960" y="528804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425960" y="586116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3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425960" y="638028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FC783-9668-4A76-8C29-6062FD648E55}" type="slidenum">
              <a:t>26</a:t>
            </a:fld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C-GHB-2 Primary Efficac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plexy (Median Percent Chan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6" name="" descr=""/>
          <p:cNvPicPr/>
          <p:nvPr/>
        </p:nvPicPr>
        <p:blipFill>
          <a:blip r:embed="rId1"/>
          <a:stretch/>
        </p:blipFill>
        <p:spPr>
          <a:xfrm>
            <a:off x="936720" y="1209600"/>
            <a:ext cx="7791480" cy="5526000"/>
          </a:xfrm>
          <a:prstGeom prst="rect">
            <a:avLst/>
          </a:prstGeom>
          <a:ln w="0">
            <a:noFill/>
          </a:ln>
        </p:spPr>
      </p:pic>
      <p:sp>
        <p:nvSpPr>
          <p:cNvPr id="1207" name=""/>
          <p:cNvSpPr/>
          <p:nvPr/>
        </p:nvSpPr>
        <p:spPr>
          <a:xfrm>
            <a:off x="5114880" y="2789280"/>
            <a:ext cx="970200" cy="3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305320" y="3490920"/>
            <a:ext cx="588960" cy="3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8021520" y="2809800"/>
            <a:ext cx="60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-28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8021520" y="3851280"/>
            <a:ext cx="60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-49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8021520" y="4316400"/>
            <a:ext cx="60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-49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8010360" y="494820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-69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308560" y="4367160"/>
            <a:ext cx="58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9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302080" y="3957480"/>
            <a:ext cx="59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6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rot="16229400">
            <a:off x="-1543680" y="3699720"/>
            <a:ext cx="466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dian Percent Change in Number of Cataplexy Attacks/we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31E18-4AF4-4CC5-92D7-4BDEAD24072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ary Efficac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worth Sleepiness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7" name=""/>
          <p:cNvGraphicFramePr/>
          <p:nvPr/>
        </p:nvGraphicFramePr>
        <p:xfrm>
          <a:off x="647640" y="1508040"/>
          <a:ext cx="7831080" cy="3322800"/>
        </p:xfrm>
        <a:graphic>
          <a:graphicData uri="http://schemas.openxmlformats.org/drawingml/2006/table">
            <a:tbl>
              <a:tblPr/>
              <a:tblGrid>
                <a:gridCol w="642960"/>
                <a:gridCol w="71881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ting and rea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ching T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ting, inactive in a public place (e.g. a theater or a meet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a passenger in a car for an hour without a bre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ying down to rest in the afternoon when circumstances perm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ting and talking to some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ting quietly after lunch without alcoh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a car, while stopped for a few minutes in the traff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8" name=""/>
          <p:cNvSpPr/>
          <p:nvPr/>
        </p:nvSpPr>
        <p:spPr>
          <a:xfrm>
            <a:off x="649440" y="5057640"/>
            <a:ext cx="6146640" cy="134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ponse:                                                  Range: 0-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= would never doz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= slight chance of doz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 = moderate chance of doz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 = high chance of doz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70E3B-3CAF-4E3A-ADC8-2869E316C93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3124080" y="6121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8837640" y="4560840"/>
            <a:ext cx="1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C-GHB-2 Secondary Efficacy  Daytime Sleepin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edi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423720" y="1461960"/>
            <a:ext cx="754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time Sleepines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eline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dpoi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022480" y="4692600"/>
            <a:ext cx="6467400" cy="6969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016000" y="2575080"/>
            <a:ext cx="6473880" cy="2114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016000" y="5367240"/>
            <a:ext cx="6473880" cy="1017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733640" y="2098800"/>
            <a:ext cx="49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930320" y="5813280"/>
            <a:ext cx="6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930320" y="5367240"/>
            <a:ext cx="61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930320" y="491652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930320" y="4465800"/>
            <a:ext cx="6192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930320" y="4019400"/>
            <a:ext cx="61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930320" y="3565440"/>
            <a:ext cx="61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930320" y="3119400"/>
            <a:ext cx="61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930320" y="266868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930320" y="2217600"/>
            <a:ext cx="61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782000" y="6197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782000" y="5748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659240" y="52992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659240" y="48513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659240" y="43988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659240" y="39466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659240" y="35020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659240" y="30510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659240" y="26020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659240" y="21528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4692600" y="3107880"/>
            <a:ext cx="0" cy="1343160"/>
          </a:xfrm>
          <a:prstGeom prst="line">
            <a:avLst/>
          </a:prstGeom>
          <a:ln w="12600">
            <a:solidFill>
              <a:srgbClr val="dd0806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5167440" y="3553920"/>
            <a:ext cx="0" cy="1582920"/>
          </a:xfrm>
          <a:prstGeom prst="line">
            <a:avLst/>
          </a:prstGeom>
          <a:ln w="12600">
            <a:solidFill>
              <a:srgbClr val="dd0806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699080" y="3797280"/>
            <a:ext cx="468360" cy="206280"/>
          </a:xfrm>
          <a:prstGeom prst="line">
            <a:avLst/>
          </a:prstGeom>
          <a:ln w="12600">
            <a:solidFill>
              <a:srgbClr val="dd080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V="1">
            <a:off x="6058080" y="3344760"/>
            <a:ext cx="0" cy="1106640"/>
          </a:xfrm>
          <a:prstGeom prst="line">
            <a:avLst/>
          </a:prstGeom>
          <a:ln w="12600">
            <a:solidFill>
              <a:srgbClr val="da4013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 flipV="1">
            <a:off x="6535440" y="3348000"/>
            <a:ext cx="3240" cy="2016000"/>
          </a:xfrm>
          <a:prstGeom prst="line">
            <a:avLst/>
          </a:prstGeom>
          <a:ln w="12600">
            <a:solidFill>
              <a:srgbClr val="da4013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062760" y="3679920"/>
            <a:ext cx="469800" cy="668160"/>
          </a:xfrm>
          <a:prstGeom prst="line">
            <a:avLst/>
          </a:prstGeom>
          <a:ln w="12600">
            <a:solidFill>
              <a:srgbClr val="da4013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7362720" y="3344760"/>
            <a:ext cx="0" cy="889200"/>
          </a:xfrm>
          <a:prstGeom prst="line">
            <a:avLst/>
          </a:prstGeom>
          <a:ln w="12600">
            <a:solidFill>
              <a:srgbClr val="73000a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7367760" y="3797280"/>
            <a:ext cx="469800" cy="1106640"/>
          </a:xfrm>
          <a:prstGeom prst="line">
            <a:avLst/>
          </a:prstGeom>
          <a:ln w="12600">
            <a:solidFill>
              <a:srgbClr val="73000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268760" y="5749920"/>
            <a:ext cx="858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 = 0.0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5" name=""/>
          <p:cNvGrpSpPr/>
          <p:nvPr/>
        </p:nvGrpSpPr>
        <p:grpSpPr>
          <a:xfrm>
            <a:off x="3364200" y="2055960"/>
            <a:ext cx="734040" cy="2177280"/>
            <a:chOff x="3364200" y="2055960"/>
            <a:chExt cx="734040" cy="2177280"/>
          </a:xfrm>
        </p:grpSpPr>
        <p:sp>
          <p:nvSpPr>
            <p:cNvPr id="1256" name=""/>
            <p:cNvSpPr/>
            <p:nvPr/>
          </p:nvSpPr>
          <p:spPr>
            <a:xfrm flipV="1">
              <a:off x="4014000" y="3108240"/>
              <a:ext cx="0" cy="1125000"/>
            </a:xfrm>
            <a:prstGeom prst="line">
              <a:avLst/>
            </a:prstGeom>
            <a:ln w="12600">
              <a:solidFill>
                <a:srgbClr val="008011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V="1">
              <a:off x="3522600" y="2894760"/>
              <a:ext cx="0" cy="893160"/>
            </a:xfrm>
            <a:prstGeom prst="line">
              <a:avLst/>
            </a:prstGeom>
            <a:ln w="12600">
              <a:solidFill>
                <a:srgbClr val="008011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527640" y="3352320"/>
              <a:ext cx="486360" cy="439200"/>
            </a:xfrm>
            <a:prstGeom prst="line">
              <a:avLst/>
            </a:prstGeom>
            <a:ln w="12600">
              <a:solidFill>
                <a:srgbClr val="008011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364200" y="2055960"/>
              <a:ext cx="73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492360" y="210096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_____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491280" y="2356200"/>
              <a:ext cx="549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      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2" name=""/>
          <p:cNvSpPr/>
          <p:nvPr/>
        </p:nvSpPr>
        <p:spPr>
          <a:xfrm>
            <a:off x="4800600" y="2025720"/>
            <a:ext cx="35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0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893480" y="20559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983120" y="218268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732200" y="2355840"/>
            <a:ext cx="54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     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994000" y="2025720"/>
            <a:ext cx="40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0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009120" y="2098800"/>
            <a:ext cx="49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008760" y="2355840"/>
            <a:ext cx="54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     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349400" y="2025720"/>
            <a:ext cx="40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.0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331040" y="209880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328880" y="2355840"/>
            <a:ext cx="599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      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5808600" y="5904000"/>
            <a:ext cx="2937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016000" y="2063880"/>
            <a:ext cx="0" cy="4451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685600" y="2630520"/>
            <a:ext cx="3240" cy="2070000"/>
          </a:xfrm>
          <a:prstGeom prst="line">
            <a:avLst/>
          </a:prstGeom>
          <a:ln w="12600">
            <a:solidFill>
              <a:srgbClr val="0066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158200" y="3497400"/>
            <a:ext cx="1145160" cy="5187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rcoleps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2689200" y="5376600"/>
            <a:ext cx="1440" cy="135396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305440" y="5616720"/>
            <a:ext cx="799200" cy="518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7837560" y="4348080"/>
            <a:ext cx="0" cy="1239840"/>
          </a:xfrm>
          <a:prstGeom prst="line">
            <a:avLst/>
          </a:prstGeom>
          <a:ln w="12600">
            <a:solidFill>
              <a:srgbClr val="73000a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938240" y="6257880"/>
            <a:ext cx="6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004840" y="5370480"/>
            <a:ext cx="6485040" cy="3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028960" y="4702320"/>
            <a:ext cx="646092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0" y="3198960"/>
            <a:ext cx="178596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wo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eep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edi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st/3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i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842120" y="4627440"/>
            <a:ext cx="198720" cy="2134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9638C-2067-4857-99BA-D9C8B4707D3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449360"/>
            <a:ext cx="4448160" cy="471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ene Emsellem, M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 for Sleep and Wake Disorder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vy Chase, MD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ha Hagaman, M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eep Medicine Assoc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 Thomas Hospital, Nashville, 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zica Ristanovic, M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eep Disorders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nston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nston, Illin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94400" y="1447920"/>
            <a:ext cx="4360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ard Okerholm, Ph.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rmacokinetic and Drug Metabolism Consul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derick E. Reno, Ph.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linical Toxicology Consul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ard Trout, Ph.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 of Stat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or (Emeritu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tgers Un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Jers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erts Available for the Committ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EAE2A-C566-4813-AD60-6E2829EF8E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MC-GHB-2 Other Daytime Sleepiness Param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5" name=""/>
          <p:cNvGraphicFramePr/>
          <p:nvPr/>
        </p:nvGraphicFramePr>
        <p:xfrm>
          <a:off x="469800" y="1989000"/>
          <a:ext cx="8229600" cy="2547720"/>
        </p:xfrm>
        <a:graphic>
          <a:graphicData uri="http://schemas.openxmlformats.org/drawingml/2006/table">
            <a:tbl>
              <a:tblPr/>
              <a:tblGrid>
                <a:gridCol w="4152960"/>
                <a:gridCol w="2028600"/>
                <a:gridCol w="20480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s. placeb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dvertent Naps/Sleep Attacks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time Sleep Attack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aseline median = 1.5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b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5C84A-6B85-4397-BE59-23E63B20733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nical Global Impression (CG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02280" cy="4952880"/>
          </a:xfrm>
          <a:prstGeom prst="rect">
            <a:avLst/>
          </a:prstGeom>
          <a:noFill/>
          <a:ln w="28440">
            <a:solidFill>
              <a:srgbClr val="00988a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CGI-Severity 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(Baselin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1.   Normal – shows no signs of ill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Borderline i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3.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Slightly i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4.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Moderately i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5.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Markedly i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6.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mong the m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extremely ill of pati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760640" y="1360440"/>
            <a:ext cx="4041720" cy="4952880"/>
          </a:xfrm>
          <a:prstGeom prst="rect">
            <a:avLst/>
          </a:prstGeom>
          <a:noFill/>
          <a:ln w="28440">
            <a:solidFill>
              <a:srgbClr val="00988a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CGI-Change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(End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1.   Very much impro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Much impro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3.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Minimally impro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4.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No ch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5.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Minimally wor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6.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Much wor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7.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Very much wor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03B49-F16B-47E7-97F4-256B6C2D3FD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Global Impression of Change at Endpoint OMC-GHB-2 – By Dos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0" name=""/>
          <p:cNvGraphicFramePr/>
          <p:nvPr/>
        </p:nvGraphicFramePr>
        <p:xfrm>
          <a:off x="142920" y="1455840"/>
          <a:ext cx="8790120" cy="51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455840"/>
                    <a:ext cx="879012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2" name=""/>
          <p:cNvSpPr/>
          <p:nvPr/>
        </p:nvSpPr>
        <p:spPr>
          <a:xfrm rot="21579600">
            <a:off x="3672360" y="62384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 of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6F7F7-12EC-4230-87C4-1C6B07B2A49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-Ho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er/Non-Responder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1422000" y="1371600"/>
            <a:ext cx="72644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pon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much impr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 impr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n-Respon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ally impr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-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ally wo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 wo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much wo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FFF74-680C-45F7-A471-019630979F5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"/>
          <p:cNvSpPr/>
          <p:nvPr/>
        </p:nvSpPr>
        <p:spPr>
          <a:xfrm>
            <a:off x="685800" y="5931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124080" y="59310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939960" y="1488960"/>
            <a:ext cx="7691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gator’s Clinical Global Impressions of 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838080" y="24408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C-GHB-2 Secondary Efficac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9" name=""/>
          <p:cNvGraphicFramePr/>
          <p:nvPr/>
        </p:nvGraphicFramePr>
        <p:xfrm>
          <a:off x="974880" y="2073240"/>
          <a:ext cx="753408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4880" y="2073240"/>
                    <a:ext cx="753408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01" name=""/>
          <p:cNvGrpSpPr/>
          <p:nvPr/>
        </p:nvGrpSpPr>
        <p:grpSpPr>
          <a:xfrm>
            <a:off x="6590880" y="3510000"/>
            <a:ext cx="1267560" cy="335880"/>
            <a:chOff x="6590880" y="3510000"/>
            <a:chExt cx="1267560" cy="335880"/>
          </a:xfrm>
        </p:grpSpPr>
        <p:sp>
          <p:nvSpPr>
            <p:cNvPr id="1302" name=""/>
            <p:cNvSpPr/>
            <p:nvPr/>
          </p:nvSpPr>
          <p:spPr>
            <a:xfrm>
              <a:off x="6754320" y="3510000"/>
              <a:ext cx="1104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 = .000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6590880" y="3639960"/>
              <a:ext cx="2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9625A-876E-4B4E-AE8F-FF1BF85A9A9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MC-GHB-2 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5" name=""/>
          <p:cNvGraphicFramePr/>
          <p:nvPr/>
        </p:nvGraphicFramePr>
        <p:xfrm>
          <a:off x="563400" y="1766880"/>
          <a:ext cx="7890120" cy="4334040"/>
        </p:xfrm>
        <a:graphic>
          <a:graphicData uri="http://schemas.openxmlformats.org/drawingml/2006/table">
            <a:tbl>
              <a:tblPr/>
              <a:tblGrid>
                <a:gridCol w="3343320"/>
                <a:gridCol w="2279880"/>
                <a:gridCol w="2266920"/>
              </a:tblGrid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s. placeb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akenings at Nigh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 median = 2.27/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b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ep Paralysis Episo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 median = 0.14/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nagogic Hallucin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 median = 0.30/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205C5-22B1-4F7E-938A-1D64113142A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yre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Tahoma"/>
              </a:rPr>
              <a:t>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linical Data:  Effica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85440" y="2763360"/>
            <a:ext cx="7869240" cy="121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MC-SXB-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E8DE5-929B-4831-8C7C-DDE9AF2E8FA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MC-SXB-21  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vide evidence for the long-term efficacy of Xyrem based on the return of cataplexy symptoms upon cessation of a minimum of 6 months of open-label treatment with active drug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00BA2-05D1-48F7-8F8E-51B4387ACB3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MC-SXB-21 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546120" y="1781280"/>
            <a:ext cx="8153280" cy="4083840"/>
            <a:chOff x="546120" y="1781280"/>
            <a:chExt cx="8153280" cy="4083840"/>
          </a:xfrm>
        </p:grpSpPr>
        <p:sp>
          <p:nvSpPr>
            <p:cNvPr id="1312" name=""/>
            <p:cNvSpPr/>
            <p:nvPr/>
          </p:nvSpPr>
          <p:spPr>
            <a:xfrm>
              <a:off x="965160" y="2190600"/>
              <a:ext cx="7391520" cy="0"/>
            </a:xfrm>
            <a:prstGeom prst="line">
              <a:avLst/>
            </a:prstGeom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965160" y="1962000"/>
              <a:ext cx="0" cy="533520"/>
            </a:xfrm>
            <a:prstGeom prst="line">
              <a:avLst/>
            </a:prstGeom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641680" y="1962000"/>
              <a:ext cx="0" cy="533520"/>
            </a:xfrm>
            <a:prstGeom prst="line">
              <a:avLst/>
            </a:prstGeom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591160" y="1962000"/>
              <a:ext cx="0" cy="533520"/>
            </a:xfrm>
            <a:prstGeom prst="line">
              <a:avLst/>
            </a:prstGeom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8356680" y="1962000"/>
              <a:ext cx="0" cy="533520"/>
            </a:xfrm>
            <a:prstGeom prst="line">
              <a:avLst/>
            </a:prstGeom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717640" y="1781280"/>
              <a:ext cx="278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ase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700600" y="1781280"/>
              <a:ext cx="257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ouble-Bli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892840" y="2771640"/>
              <a:ext cx="210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Xy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939960" y="3790800"/>
              <a:ext cx="4647960" cy="0"/>
            </a:xfrm>
            <a:prstGeom prst="line">
              <a:avLst/>
            </a:prstGeom>
            <a:ln w="28440">
              <a:solidFill>
                <a:srgbClr val="47474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927000" y="3333600"/>
              <a:ext cx="0" cy="1371600"/>
            </a:xfrm>
            <a:prstGeom prst="line">
              <a:avLst/>
            </a:prstGeom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603520" y="3333600"/>
              <a:ext cx="0" cy="1371600"/>
            </a:xfrm>
            <a:prstGeom prst="line">
              <a:avLst/>
            </a:prstGeom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575320" y="3181320"/>
              <a:ext cx="0" cy="1523880"/>
            </a:xfrm>
            <a:prstGeom prst="line">
              <a:avLst/>
            </a:prstGeom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8318520" y="3029040"/>
              <a:ext cx="0" cy="1676160"/>
            </a:xfrm>
            <a:prstGeom prst="line">
              <a:avLst/>
            </a:prstGeom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575320" y="3181320"/>
              <a:ext cx="2743200" cy="0"/>
            </a:xfrm>
            <a:prstGeom prst="line">
              <a:avLst/>
            </a:prstGeom>
            <a:ln w="28440">
              <a:solidFill>
                <a:srgbClr val="47474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575320" y="4476600"/>
              <a:ext cx="2743200" cy="0"/>
            </a:xfrm>
            <a:prstGeom prst="line">
              <a:avLst/>
            </a:prstGeom>
            <a:ln w="28440">
              <a:solidFill>
                <a:srgbClr val="47474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905440" y="4073400"/>
              <a:ext cx="212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641680" y="3433680"/>
              <a:ext cx="291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ingle-Blind Xy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46120" y="4705200"/>
              <a:ext cx="762120" cy="580680"/>
            </a:xfrm>
            <a:prstGeom prst="rect">
              <a:avLst/>
            </a:prstGeom>
            <a:noFill/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isit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937640" y="4705200"/>
              <a:ext cx="761760" cy="580680"/>
            </a:xfrm>
            <a:prstGeom prst="rect">
              <a:avLst/>
            </a:prstGeom>
            <a:noFill/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isit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194440" y="4705200"/>
              <a:ext cx="761760" cy="580680"/>
            </a:xfrm>
            <a:prstGeom prst="rect">
              <a:avLst/>
            </a:prstGeom>
            <a:noFill/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isit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222640" y="4705200"/>
              <a:ext cx="761760" cy="580680"/>
            </a:xfrm>
            <a:prstGeom prst="rect">
              <a:avLst/>
            </a:prstGeom>
            <a:noFill/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isit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919080" y="5527800"/>
              <a:ext cx="1692360" cy="337320"/>
            </a:xfrm>
            <a:prstGeom prst="rect">
              <a:avLst/>
            </a:prstGeom>
            <a:noFill/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– 5 Da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611440" y="5527800"/>
              <a:ext cx="2979720" cy="337320"/>
            </a:xfrm>
            <a:prstGeom prst="rect">
              <a:avLst/>
            </a:prstGeom>
            <a:noFill/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 Wee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591160" y="5527800"/>
              <a:ext cx="2752920" cy="337320"/>
            </a:xfrm>
            <a:prstGeom prst="rect">
              <a:avLst/>
            </a:prstGeom>
            <a:noFill/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 Wee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998640" y="1820880"/>
              <a:ext cx="167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cree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V="1">
              <a:off x="898560" y="3795840"/>
              <a:ext cx="1703520" cy="1440"/>
            </a:xfrm>
            <a:prstGeom prst="line">
              <a:avLst/>
            </a:prstGeom>
            <a:ln w="28440">
              <a:solidFill>
                <a:srgbClr val="47474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8" name=""/>
          <p:cNvSpPr/>
          <p:nvPr/>
        </p:nvSpPr>
        <p:spPr>
          <a:xfrm>
            <a:off x="157320" y="1566720"/>
            <a:ext cx="2415960" cy="39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598840" y="1554120"/>
            <a:ext cx="295272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551560" y="1554120"/>
            <a:ext cx="3213000" cy="40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4673B-8907-423E-9046-8052E0D5EAF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C-SXB-21 Cataplex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dian Change from Bas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18116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99"/>
                </a:solidFill>
                <a:latin typeface="Arial"/>
                <a:ea typeface="Times New Roman"/>
              </a:rPr>
              <a:t>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1422360" y="2705040"/>
            <a:ext cx="7315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371600" y="2705040"/>
            <a:ext cx="7315200" cy="29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354480" y="5618160"/>
            <a:ext cx="117468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983880" y="60548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2317680" y="2090880"/>
            <a:ext cx="5048280" cy="358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8" name=""/>
          <p:cNvGrpSpPr/>
          <p:nvPr/>
        </p:nvGrpSpPr>
        <p:grpSpPr>
          <a:xfrm>
            <a:off x="1177920" y="1952640"/>
            <a:ext cx="1140840" cy="3886920"/>
            <a:chOff x="1177920" y="1952640"/>
            <a:chExt cx="1140840" cy="3886920"/>
          </a:xfrm>
        </p:grpSpPr>
        <p:sp>
          <p:nvSpPr>
            <p:cNvPr id="1349" name=""/>
            <p:cNvSpPr/>
            <p:nvPr/>
          </p:nvSpPr>
          <p:spPr>
            <a:xfrm rot="16200000">
              <a:off x="-147240" y="3911400"/>
              <a:ext cx="2894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hange in Cataplexy Attac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rot="10800000">
              <a:off x="1455480" y="2968200"/>
              <a:ext cx="243720" cy="186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(Median/ 2 Week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V="1">
              <a:off x="2317320" y="2159280"/>
              <a:ext cx="1440" cy="3589560"/>
            </a:xfrm>
            <a:prstGeom prst="line">
              <a:avLst/>
            </a:prstGeom>
            <a:ln w="79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2" name=""/>
            <p:cNvGrpSpPr/>
            <p:nvPr/>
          </p:nvGrpSpPr>
          <p:grpSpPr>
            <a:xfrm>
              <a:off x="2244240" y="2121480"/>
              <a:ext cx="72720" cy="3592080"/>
              <a:chOff x="2244240" y="2121480"/>
              <a:chExt cx="72720" cy="3592080"/>
            </a:xfrm>
          </p:grpSpPr>
          <p:sp>
            <p:nvSpPr>
              <p:cNvPr id="1353" name=""/>
              <p:cNvSpPr/>
              <p:nvPr/>
            </p:nvSpPr>
            <p:spPr>
              <a:xfrm>
                <a:off x="2244240" y="5711040"/>
                <a:ext cx="72720" cy="2520"/>
              </a:xfrm>
              <a:prstGeom prst="line">
                <a:avLst/>
              </a:prstGeom>
              <a:ln w="792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2244240" y="4961880"/>
                <a:ext cx="72720" cy="1800"/>
              </a:xfrm>
              <a:prstGeom prst="line">
                <a:avLst/>
              </a:prstGeom>
              <a:ln w="792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2244240" y="4243680"/>
                <a:ext cx="72720" cy="2520"/>
              </a:xfrm>
              <a:prstGeom prst="line">
                <a:avLst/>
              </a:prstGeom>
              <a:ln w="792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2244240" y="3595320"/>
                <a:ext cx="72720" cy="2520"/>
              </a:xfrm>
              <a:prstGeom prst="line">
                <a:avLst/>
              </a:prstGeom>
              <a:ln w="792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2244240" y="2838960"/>
                <a:ext cx="72720" cy="2520"/>
              </a:xfrm>
              <a:prstGeom prst="line">
                <a:avLst/>
              </a:prstGeom>
              <a:ln w="792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2244240" y="2121480"/>
                <a:ext cx="72720" cy="1800"/>
              </a:xfrm>
              <a:prstGeom prst="line">
                <a:avLst/>
              </a:prstGeom>
              <a:ln w="792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9" name=""/>
            <p:cNvSpPr/>
            <p:nvPr/>
          </p:nvSpPr>
          <p:spPr>
            <a:xfrm>
              <a:off x="2029320" y="5626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029320" y="4869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839600" y="4113000"/>
              <a:ext cx="38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839600" y="3465000"/>
              <a:ext cx="47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839600" y="2706480"/>
              <a:ext cx="47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839600" y="1952640"/>
              <a:ext cx="47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5" name=""/>
          <p:cNvSpPr/>
          <p:nvPr/>
        </p:nvSpPr>
        <p:spPr>
          <a:xfrm>
            <a:off x="5951520" y="2709720"/>
            <a:ext cx="797040" cy="3024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581280" y="58770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y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629320" y="5877000"/>
            <a:ext cx="139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ceb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208560" y="2378160"/>
            <a:ext cx="32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H="1" flipV="1">
            <a:off x="3832200" y="2230560"/>
            <a:ext cx="2324160" cy="1440"/>
          </a:xfrm>
          <a:prstGeom prst="line">
            <a:avLst/>
          </a:prstGeom>
          <a:ln w="237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656240" y="1827360"/>
            <a:ext cx="87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 &lt; 0.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670200" y="5315040"/>
            <a:ext cx="3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584520" y="5689440"/>
            <a:ext cx="495360" cy="43200"/>
          </a:xfrm>
          <a:prstGeom prst="rect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328840" y="5732640"/>
            <a:ext cx="4954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A9156-EA5F-400B-B09A-5A0F74E5069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6381720" cy="1763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02560" y="4281480"/>
            <a:ext cx="26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dium oxyb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mic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4D3D0-A0E6-4A5B-AD55-8EE9A568C0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C-SXB-21 Cataplex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 Change from Bas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9900"/>
                </a:solidFill>
                <a:latin typeface="Arial"/>
                <a:ea typeface="Courier New"/>
              </a:rPr>
              <a:t>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1689120" y="1898640"/>
            <a:ext cx="7029360" cy="3629160"/>
          </a:xfrm>
          <a:prstGeom prst="rect">
            <a:avLst/>
          </a:prstGeom>
          <a:solidFill>
            <a:srgbClr val="ffffff"/>
          </a:solidFill>
          <a:ln w="1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rot="16200000">
            <a:off x="-669600" y="3749400"/>
            <a:ext cx="2894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hange in Cataplexy At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rot="16200000">
            <a:off x="326520" y="3661560"/>
            <a:ext cx="1463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Median/ Week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V="1">
            <a:off x="1711440" y="1963800"/>
            <a:ext cx="1440" cy="3628800"/>
          </a:xfrm>
          <a:prstGeom prst="line">
            <a:avLst/>
          </a:prstGeom>
          <a:ln w="7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639800" y="5592600"/>
            <a:ext cx="71640" cy="3240"/>
          </a:xfrm>
          <a:prstGeom prst="line">
            <a:avLst/>
          </a:prstGeom>
          <a:ln w="7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639800" y="5073480"/>
            <a:ext cx="71640" cy="1800"/>
          </a:xfrm>
          <a:prstGeom prst="line">
            <a:avLst/>
          </a:prstGeom>
          <a:ln w="7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639800" y="4556160"/>
            <a:ext cx="71640" cy="1440"/>
          </a:xfrm>
          <a:prstGeom prst="line">
            <a:avLst/>
          </a:prstGeom>
          <a:ln w="7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1639800" y="4038480"/>
            <a:ext cx="71640" cy="1800"/>
          </a:xfrm>
          <a:prstGeom prst="line">
            <a:avLst/>
          </a:prstGeom>
          <a:ln w="7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1639800" y="3519360"/>
            <a:ext cx="71640" cy="3240"/>
          </a:xfrm>
          <a:prstGeom prst="line">
            <a:avLst/>
          </a:prstGeom>
          <a:ln w="7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639800" y="3002040"/>
            <a:ext cx="71640" cy="3240"/>
          </a:xfrm>
          <a:prstGeom prst="line">
            <a:avLst/>
          </a:prstGeom>
          <a:ln w="7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639800" y="2482920"/>
            <a:ext cx="71640" cy="1440"/>
          </a:xfrm>
          <a:prstGeom prst="line">
            <a:avLst/>
          </a:prstGeom>
          <a:ln w="7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1639800" y="1963800"/>
            <a:ext cx="71640" cy="3240"/>
          </a:xfrm>
          <a:prstGeom prst="line">
            <a:avLst/>
          </a:prstGeom>
          <a:ln w="7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387440" y="544212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387440" y="4924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1387440" y="441000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387440" y="389412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387440" y="33782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323000" y="287172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323000" y="233208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323000" y="189864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743280" y="4503600"/>
            <a:ext cx="390600" cy="1086120"/>
          </a:xfrm>
          <a:prstGeom prst="rect">
            <a:avLst/>
          </a:prstGeom>
          <a:solidFill>
            <a:srgbClr val="0000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675480" y="2548080"/>
            <a:ext cx="403200" cy="3027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494080" y="4933800"/>
            <a:ext cx="75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Xy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rot="21578400">
            <a:off x="3475080" y="3909600"/>
            <a:ext cx="9414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rot="21527400">
            <a:off x="5227200" y="4984920"/>
            <a:ext cx="77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Xy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432480" y="1903320"/>
            <a:ext cx="9064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918160" y="524844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3759120" y="41688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6683400" y="220500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1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553360" y="524844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2338920" y="5913360"/>
            <a:ext cx="207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ouble Blind Week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V="1">
            <a:off x="2722680" y="5531760"/>
            <a:ext cx="488880" cy="60120"/>
          </a:xfrm>
          <a:prstGeom prst="rect">
            <a:avLst/>
          </a:prstGeom>
          <a:solidFill>
            <a:srgbClr val="dc0081"/>
          </a:solidFill>
          <a:ln w="79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4888080" y="2224080"/>
            <a:ext cx="0" cy="4006800"/>
          </a:xfrm>
          <a:prstGeom prst="line">
            <a:avLst/>
          </a:prstGeom>
          <a:ln w="9360">
            <a:solidFill>
              <a:srgbClr val="002ab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226840" y="5915160"/>
            <a:ext cx="207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ouble Blind Week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V="1">
            <a:off x="5354640" y="5531760"/>
            <a:ext cx="488880" cy="60120"/>
          </a:xfrm>
          <a:prstGeom prst="rect">
            <a:avLst/>
          </a:prstGeom>
          <a:solidFill>
            <a:srgbClr val="dc0081"/>
          </a:solidFill>
          <a:ln w="79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 flipV="1">
            <a:off x="1720800" y="5592240"/>
            <a:ext cx="61372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D9845-B0E4-4F5F-ADA3-4F6A4DCA8A0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"/>
          <p:cNvSpPr/>
          <p:nvPr/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yre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Tahoma"/>
              </a:rPr>
              <a:t>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linical Data:  Effica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635040" y="2776680"/>
            <a:ext cx="786924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 Double-Bli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cebo-Controlled Clinical Trials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rima Tri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mmers T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4A20C-4E46-4A7D-84A9-004B63AFEBB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rima Cross-over Tri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y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5" name=""/>
          <p:cNvGraphicFramePr/>
          <p:nvPr/>
        </p:nvGraphicFramePr>
        <p:xfrm>
          <a:off x="257040" y="1951200"/>
          <a:ext cx="8342280" cy="4005000"/>
        </p:xfrm>
        <a:graphic>
          <a:graphicData uri="http://schemas.openxmlformats.org/drawingml/2006/table">
            <a:tbl>
              <a:tblPr/>
              <a:tblGrid>
                <a:gridCol w="1347840"/>
                <a:gridCol w="1249560"/>
                <a:gridCol w="1587240"/>
                <a:gridCol w="1308240"/>
                <a:gridCol w="1598760"/>
                <a:gridCol w="1250640"/>
              </a:tblGrid>
              <a:tr h="11354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drawal of Cataplexy M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D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ment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D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hou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D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men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D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D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dium oxyb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b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b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dium oxyb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mulants continued throughout stu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16" name=""/>
          <p:cNvSpPr/>
          <p:nvPr/>
        </p:nvSpPr>
        <p:spPr>
          <a:xfrm>
            <a:off x="4536360" y="145080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6CE43-D3F6-463E-950E-6C7EF88A278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Courier New"/>
              </a:rPr>
              <a:t>Scrima Trial 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Number of Cataplexy Attacks /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8" name=""/>
          <p:cNvGraphicFramePr/>
          <p:nvPr/>
        </p:nvGraphicFramePr>
        <p:xfrm>
          <a:off x="743040" y="1522440"/>
          <a:ext cx="7661160" cy="48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522440"/>
                    <a:ext cx="7661160" cy="48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61999-250E-4D79-BC05-DC57C273203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mmers Trial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1" name=""/>
          <p:cNvGraphicFramePr/>
          <p:nvPr/>
        </p:nvGraphicFramePr>
        <p:xfrm>
          <a:off x="546120" y="1938240"/>
          <a:ext cx="8229600" cy="34419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90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We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ment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Wee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Wee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We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men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Wee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dium Oxyb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0mg/k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dium Oxybat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0 mg/k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omitant treatment for cataplexy and EDS continued throug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22" name=""/>
          <p:cNvSpPr/>
          <p:nvPr/>
        </p:nvSpPr>
        <p:spPr>
          <a:xfrm>
            <a:off x="4239720" y="145080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=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1491A-DB8F-4506-86B7-7FC99D09CE2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mmers Trial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ple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4" name="" descr=""/>
          <p:cNvPicPr/>
          <p:nvPr/>
        </p:nvPicPr>
        <p:blipFill>
          <a:blip r:embed="rId1"/>
          <a:stretch/>
        </p:blipFill>
        <p:spPr>
          <a:xfrm>
            <a:off x="1155600" y="1450800"/>
            <a:ext cx="6400800" cy="475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45DCC-CCE3-4266-91FF-C3894A1992A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mmers Trial 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6" name=""/>
          <p:cNvGraphicFramePr/>
          <p:nvPr/>
        </p:nvGraphicFramePr>
        <p:xfrm>
          <a:off x="938160" y="2076480"/>
          <a:ext cx="7574040" cy="2519280"/>
        </p:xfrm>
        <a:graphic>
          <a:graphicData uri="http://schemas.openxmlformats.org/drawingml/2006/table">
            <a:tbl>
              <a:tblPr/>
              <a:tblGrid>
                <a:gridCol w="2524320"/>
                <a:gridCol w="2525400"/>
                <a:gridCol w="25243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icacy Par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nagogic Hallucin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ion fro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7 to 0.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time Sleep Atta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ion f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7 to 1.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83F2C-9589-4316-82DD-B915C7F0AC0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"/>
          <p:cNvSpPr/>
          <p:nvPr/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yre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Tahoma"/>
              </a:rPr>
              <a:t>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linical Data:  Effica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5440" y="2763360"/>
            <a:ext cx="7869240" cy="121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MC-GHB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FCBD5-B828-400B-9889-90BD2CAF1BA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9" name=""/>
          <p:cNvGraphicFramePr/>
          <p:nvPr/>
        </p:nvGraphicFramePr>
        <p:xfrm>
          <a:off x="876240" y="1731960"/>
          <a:ext cx="8064720" cy="424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1731960"/>
                    <a:ext cx="8064720" cy="42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1" name=""/>
          <p:cNvSpPr/>
          <p:nvPr/>
        </p:nvSpPr>
        <p:spPr>
          <a:xfrm rot="16200000">
            <a:off x="-1126440" y="3671280"/>
            <a:ext cx="356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ercent ch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 Total Number of Cataplexy At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1768320" y="2149560"/>
            <a:ext cx="441360" cy="3120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152800" y="2143080"/>
            <a:ext cx="118800" cy="312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969920" y="3497400"/>
            <a:ext cx="36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1535040" y="2017800"/>
            <a:ext cx="36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665360" y="2155680"/>
            <a:ext cx="109440" cy="109800"/>
          </a:xfrm>
          <a:custGeom>
            <a:avLst/>
            <a:gdLst/>
            <a:ahLst/>
            <a:rect l="l" t="t" r="r" b="b"/>
            <a:pathLst>
              <a:path w="69" h="69">
                <a:moveTo>
                  <a:pt x="34" y="0"/>
                </a:moveTo>
                <a:lnTo>
                  <a:pt x="69" y="69"/>
                </a:lnTo>
                <a:lnTo>
                  <a:pt x="0" y="69"/>
                </a:lnTo>
                <a:lnTo>
                  <a:pt x="34" y="0"/>
                </a:lnTo>
                <a:close/>
              </a:path>
            </a:pathLst>
          </a:custGeom>
          <a:solidFill>
            <a:srgbClr val="ff0000"/>
          </a:solidFill>
          <a:ln w="176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920960" y="3592440"/>
            <a:ext cx="96840" cy="92160"/>
          </a:xfrm>
          <a:custGeom>
            <a:avLst/>
            <a:gdLst/>
            <a:ahLst/>
            <a:rect l="l" t="t" r="r" b="b"/>
            <a:pathLst>
              <a:path w="69" h="69">
                <a:moveTo>
                  <a:pt x="34" y="0"/>
                </a:moveTo>
                <a:lnTo>
                  <a:pt x="69" y="69"/>
                </a:lnTo>
                <a:lnTo>
                  <a:pt x="0" y="69"/>
                </a:lnTo>
                <a:lnTo>
                  <a:pt x="34" y="0"/>
                </a:lnTo>
                <a:close/>
              </a:path>
            </a:pathLst>
          </a:custGeom>
          <a:solidFill>
            <a:srgbClr val="ff0000"/>
          </a:solidFill>
          <a:ln w="176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1809720" y="371952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2d2"/>
                </a:solidFill>
                <a:latin typeface="Wingdings 2"/>
                <a:ea typeface="Wingdings 2"/>
              </a:rPr>
              <a:t>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602360" y="2017800"/>
            <a:ext cx="23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2d2"/>
                </a:solidFill>
                <a:latin typeface="Wingdings 2"/>
                <a:ea typeface="Wingdings 2"/>
              </a:rPr>
              <a:t>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585800" y="2017800"/>
            <a:ext cx="26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74f96"/>
                </a:solidFill>
                <a:latin typeface="Wingdings 2"/>
                <a:ea typeface="Wingdings 2"/>
              </a:rPr>
              <a:t>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2009880" y="2857680"/>
            <a:ext cx="2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74f96"/>
                </a:solidFill>
                <a:latin typeface="Wingdings 2"/>
                <a:ea typeface="Wingdings 2"/>
              </a:rPr>
              <a:t>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720800" y="2155680"/>
            <a:ext cx="249120" cy="825480"/>
          </a:xfrm>
          <a:prstGeom prst="line">
            <a:avLst/>
          </a:prstGeom>
          <a:ln w="12600">
            <a:solidFill>
              <a:srgbClr val="c74f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720800" y="2155680"/>
            <a:ext cx="249120" cy="1543320"/>
          </a:xfrm>
          <a:prstGeom prst="line">
            <a:avLst/>
          </a:prstGeom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720800" y="2155680"/>
            <a:ext cx="249120" cy="1212840"/>
          </a:xfrm>
          <a:prstGeom prst="line">
            <a:avLst/>
          </a:prstGeom>
          <a:ln w="1260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765440" y="2130480"/>
            <a:ext cx="204480" cy="1714320"/>
          </a:xfrm>
          <a:prstGeom prst="line">
            <a:avLst/>
          </a:prstGeom>
          <a:ln w="12600">
            <a:solidFill>
              <a:srgbClr val="003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260800" y="284796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2c64"/>
                </a:solidFill>
                <a:latin typeface="Arial"/>
              </a:rPr>
              <a:t>Place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780920" y="41068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2d2"/>
                </a:solidFill>
                <a:latin typeface="Arial"/>
              </a:rPr>
              <a:t>9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238120" y="35416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6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2238120" y="330984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74747"/>
                </a:solidFill>
                <a:latin typeface="Arial"/>
              </a:rPr>
              <a:t>3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1413000" y="150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MC-GHB-2 Res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981600" y="1569960"/>
            <a:ext cx="15490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MC-GHB-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540400" y="1854360"/>
            <a:ext cx="542880" cy="1028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H="1">
            <a:off x="3460320" y="1906560"/>
            <a:ext cx="528840" cy="9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958920" y="5967360"/>
            <a:ext cx="156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ime in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220320" y="228600"/>
            <a:ext cx="8389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MC-GHB-3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plexy – Median Percent Ch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835280" y="2822400"/>
            <a:ext cx="2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74f96"/>
                </a:solidFill>
                <a:latin typeface="Wingdings 2"/>
                <a:ea typeface="Wingdings 2"/>
              </a:rPr>
              <a:t>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1969920" y="2955960"/>
            <a:ext cx="200160" cy="38160"/>
          </a:xfrm>
          <a:prstGeom prst="line">
            <a:avLst/>
          </a:prstGeom>
          <a:ln w="12600">
            <a:solidFill>
              <a:srgbClr val="c74f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1751040" y="3208320"/>
            <a:ext cx="36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1969920" y="3406680"/>
            <a:ext cx="184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2120760" y="3568680"/>
            <a:ext cx="96840" cy="106560"/>
          </a:xfrm>
          <a:custGeom>
            <a:avLst/>
            <a:gdLst/>
            <a:ahLst/>
            <a:rect l="l" t="t" r="r" b="b"/>
            <a:pathLst>
              <a:path w="69" h="69">
                <a:moveTo>
                  <a:pt x="34" y="0"/>
                </a:moveTo>
                <a:lnTo>
                  <a:pt x="69" y="69"/>
                </a:lnTo>
                <a:lnTo>
                  <a:pt x="0" y="69"/>
                </a:lnTo>
                <a:lnTo>
                  <a:pt x="34" y="0"/>
                </a:lnTo>
                <a:close/>
              </a:path>
            </a:pathLst>
          </a:custGeom>
          <a:solidFill>
            <a:srgbClr val="ff0000"/>
          </a:solidFill>
          <a:ln w="176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1969920" y="3634920"/>
            <a:ext cx="171720" cy="49320"/>
          </a:xfrm>
          <a:prstGeom prst="line">
            <a:avLst/>
          </a:prstGeom>
          <a:ln w="12600">
            <a:solidFill>
              <a:srgbClr val="b8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984320" y="413532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2d2"/>
                </a:solidFill>
                <a:latin typeface="Wingdings 2"/>
                <a:ea typeface="Wingdings 2"/>
              </a:rPr>
              <a:t>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952640" y="3844800"/>
            <a:ext cx="192240" cy="428760"/>
          </a:xfrm>
          <a:prstGeom prst="line">
            <a:avLst/>
          </a:prstGeom>
          <a:ln w="12600">
            <a:solidFill>
              <a:srgbClr val="003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E79A6-75BD-466D-8F91-BF794BE09F2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4" name=""/>
          <p:cNvGraphicFramePr/>
          <p:nvPr/>
        </p:nvGraphicFramePr>
        <p:xfrm>
          <a:off x="939960" y="1689120"/>
          <a:ext cx="8292960" cy="46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89120"/>
                    <a:ext cx="829296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MC-GHB-3  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ESS for All Dose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 rot="16200000">
            <a:off x="480240" y="1836000"/>
            <a:ext cx="428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708200" y="2168640"/>
            <a:ext cx="5597640" cy="203508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806640" y="6086520"/>
            <a:ext cx="156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ime in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1720800" y="4203720"/>
            <a:ext cx="5585040" cy="604800"/>
          </a:xfrm>
          <a:prstGeom prst="rect">
            <a:avLst/>
          </a:prstGeom>
          <a:solidFill>
            <a:srgbClr val="8dffe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701720" y="4775040"/>
            <a:ext cx="5604120" cy="7700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654200" y="4203720"/>
            <a:ext cx="5587920" cy="1440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1654200" y="4775040"/>
            <a:ext cx="5587920" cy="1440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120760" y="2133720"/>
            <a:ext cx="117720" cy="3378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677960" y="2146320"/>
            <a:ext cx="460440" cy="3365640"/>
          </a:xfrm>
          <a:prstGeom prst="rect">
            <a:avLst/>
          </a:prstGeom>
          <a:solidFill>
            <a:srgbClr val="cef8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612800" y="3378240"/>
            <a:ext cx="96840" cy="106200"/>
          </a:xfrm>
          <a:custGeom>
            <a:avLst/>
            <a:gdLst/>
            <a:ahLst/>
            <a:rect l="l" t="t" r="r" b="b"/>
            <a:pathLst>
              <a:path w="69" h="69">
                <a:moveTo>
                  <a:pt x="34" y="0"/>
                </a:moveTo>
                <a:lnTo>
                  <a:pt x="69" y="69"/>
                </a:lnTo>
                <a:lnTo>
                  <a:pt x="0" y="69"/>
                </a:lnTo>
                <a:lnTo>
                  <a:pt x="34" y="0"/>
                </a:lnTo>
                <a:close/>
              </a:path>
            </a:pathLst>
          </a:custGeom>
          <a:solidFill>
            <a:srgbClr val="ff0000"/>
          </a:solidFill>
          <a:ln w="176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100240" y="3797280"/>
            <a:ext cx="96840" cy="106560"/>
          </a:xfrm>
          <a:custGeom>
            <a:avLst/>
            <a:gdLst/>
            <a:ahLst/>
            <a:rect l="l" t="t" r="r" b="b"/>
            <a:pathLst>
              <a:path w="69" h="69">
                <a:moveTo>
                  <a:pt x="34" y="0"/>
                </a:moveTo>
                <a:lnTo>
                  <a:pt x="69" y="69"/>
                </a:lnTo>
                <a:lnTo>
                  <a:pt x="0" y="69"/>
                </a:lnTo>
                <a:lnTo>
                  <a:pt x="34" y="0"/>
                </a:lnTo>
                <a:close/>
              </a:path>
            </a:pathLst>
          </a:custGeom>
          <a:solidFill>
            <a:srgbClr val="ff0000"/>
          </a:solidFill>
          <a:ln w="176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965240" y="3716280"/>
            <a:ext cx="36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468440" y="3265560"/>
            <a:ext cx="36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989000" y="431964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6a0"/>
                </a:solidFill>
                <a:latin typeface="Wingdings 2"/>
                <a:ea typeface="Wingdings 2"/>
              </a:rPr>
              <a:t>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1527120" y="331632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2d2"/>
                </a:solidFill>
                <a:latin typeface="Wingdings 2"/>
                <a:ea typeface="Wingdings 2"/>
              </a:rPr>
              <a:t>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1504800" y="3011400"/>
            <a:ext cx="26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74f96"/>
                </a:solidFill>
                <a:latin typeface="Wingdings 2"/>
                <a:ea typeface="Wingdings 2"/>
              </a:rPr>
              <a:t>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1967040" y="3327480"/>
            <a:ext cx="36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74f96"/>
                </a:solidFill>
                <a:latin typeface="Wingdings 2"/>
                <a:ea typeface="Wingdings 2"/>
              </a:rPr>
              <a:t>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1700280" y="3162240"/>
            <a:ext cx="449280" cy="317520"/>
          </a:xfrm>
          <a:prstGeom prst="line">
            <a:avLst/>
          </a:prstGeom>
          <a:ln w="1260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649520" y="3403440"/>
            <a:ext cx="51264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1662120" y="3416400"/>
            <a:ext cx="487440" cy="520560"/>
          </a:xfrm>
          <a:prstGeom prst="line">
            <a:avLst/>
          </a:prstGeom>
          <a:ln w="1260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649520" y="3352680"/>
            <a:ext cx="500040" cy="1105200"/>
          </a:xfrm>
          <a:prstGeom prst="line">
            <a:avLst/>
          </a:prstGeom>
          <a:ln w="12600">
            <a:solidFill>
              <a:srgbClr val="002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681200" y="3095640"/>
            <a:ext cx="717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a2c64"/>
                </a:solidFill>
                <a:latin typeface="Arial"/>
              </a:rPr>
              <a:t>Placeb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1795320" y="34243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74747"/>
                </a:solidFill>
                <a:latin typeface="Arial"/>
              </a:rPr>
              <a:t>3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807920" y="369396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6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807920" y="423396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2d2"/>
                </a:solidFill>
                <a:latin typeface="Arial"/>
              </a:rPr>
              <a:t>9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1373040" y="1511280"/>
            <a:ext cx="129564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MC-GHB-2 Res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968640" y="1557360"/>
            <a:ext cx="1549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MC-GHB-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H="1">
            <a:off x="3441600" y="1892160"/>
            <a:ext cx="533520" cy="787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5511960" y="1866960"/>
            <a:ext cx="495000" cy="812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rot="16200000">
            <a:off x="-491400" y="3818880"/>
            <a:ext cx="26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pworth Sleepiness Sc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41306-33D9-424D-A4B6-2F7CC852070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gulatory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60s discovery of GHB, approval as an anesthetic in Fr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70s initial clinical narcolepsy eval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78 GHB was used as an example for the need of an Orphan Drug 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80s two independent controlled stud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94 FDA approached Orphan Medical to develo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95 pre-IND meeting with F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98 Treatment IND appro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00 Orphan Medical submitted this N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y re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F975A-875B-454F-9B93-00DDFB1151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7" name=""/>
          <p:cNvGraphicFramePr/>
          <p:nvPr/>
        </p:nvGraphicFramePr>
        <p:xfrm>
          <a:off x="1444680" y="1398600"/>
          <a:ext cx="7099200" cy="485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4680" y="1398600"/>
                    <a:ext cx="709920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MC-GHB-3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e Distribution – 6 &amp; 12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rot="21592200">
            <a:off x="95040" y="3238200"/>
            <a:ext cx="132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r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f Pat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485520" y="614988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se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F6D4B-D051-40CD-B244-BEAAE7886E0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30120" y="139680"/>
            <a:ext cx="8462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C-SXB-21 Supports Efficacy in OMC-GHB-3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aplexy Attacks / Week:  OMC-GHB-2/3 Patients in OMC-SXB-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 rot="16200000">
            <a:off x="-862200" y="3516480"/>
            <a:ext cx="23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taplexy Attacks / We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4645080" y="1422360"/>
            <a:ext cx="4691160" cy="5033880"/>
            <a:chOff x="4645080" y="1422360"/>
            <a:chExt cx="4691160" cy="5033880"/>
          </a:xfrm>
        </p:grpSpPr>
        <p:graphicFrame>
          <p:nvGraphicFramePr>
            <p:cNvPr id="1505" name=""/>
            <p:cNvGraphicFramePr/>
            <p:nvPr/>
          </p:nvGraphicFramePr>
          <p:xfrm>
            <a:off x="4815000" y="1422360"/>
            <a:ext cx="4033800" cy="50338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5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15000" y="1422360"/>
                      <a:ext cx="4033800" cy="503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7" name=""/>
            <p:cNvSpPr/>
            <p:nvPr/>
          </p:nvSpPr>
          <p:spPr>
            <a:xfrm>
              <a:off x="6352560" y="1487520"/>
              <a:ext cx="87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yrem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=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645080" y="1521000"/>
              <a:ext cx="471600" cy="47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775400" y="6165720"/>
              <a:ext cx="456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511200"/>
                  <a:tab algn="ctr" pos="1827360"/>
                  <a:tab algn="ctr" pos="3141720"/>
                  <a:tab algn="ctr" pos="4911840"/>
                  <a:tab algn="ctr" pos="6170760"/>
                  <a:tab algn="ctr" pos="748512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HB-2 Baseline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       SXB-21 Baseline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      SXB-21 Endpoi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0" name=""/>
          <p:cNvGrpSpPr/>
          <p:nvPr/>
        </p:nvGrpSpPr>
        <p:grpSpPr>
          <a:xfrm>
            <a:off x="473040" y="1414440"/>
            <a:ext cx="4767120" cy="5049720"/>
            <a:chOff x="473040" y="1414440"/>
            <a:chExt cx="4767120" cy="5049720"/>
          </a:xfrm>
        </p:grpSpPr>
        <p:graphicFrame>
          <p:nvGraphicFramePr>
            <p:cNvPr id="1511" name=""/>
            <p:cNvGraphicFramePr/>
            <p:nvPr/>
          </p:nvGraphicFramePr>
          <p:xfrm>
            <a:off x="649080" y="1414440"/>
            <a:ext cx="4084560" cy="504972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5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9080" y="1414440"/>
                      <a:ext cx="4084560" cy="504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3" name=""/>
            <p:cNvSpPr/>
            <p:nvPr/>
          </p:nvSpPr>
          <p:spPr>
            <a:xfrm>
              <a:off x="2232000" y="1503360"/>
              <a:ext cx="105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=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79320" y="6165720"/>
              <a:ext cx="4560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511200"/>
                  <a:tab algn="ctr" pos="1827360"/>
                  <a:tab algn="ctr" pos="3141720"/>
                  <a:tab algn="ctr" pos="4911840"/>
                  <a:tab algn="ctr" pos="6170760"/>
                  <a:tab algn="ctr" pos="748512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HB-2 Baseline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     SXB-21 Baseline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      SXB-21 Endpoi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73040" y="1521000"/>
              <a:ext cx="471240" cy="47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6" name=""/>
          <p:cNvSpPr/>
          <p:nvPr/>
        </p:nvSpPr>
        <p:spPr>
          <a:xfrm>
            <a:off x="4215960" y="2014560"/>
            <a:ext cx="16041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ots of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171DE-181D-4C94-8A72-80CFD4FE877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900000" y="22176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Effic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8" name=""/>
          <p:cNvGraphicFramePr/>
          <p:nvPr/>
        </p:nvGraphicFramePr>
        <p:xfrm>
          <a:off x="727200" y="1665360"/>
          <a:ext cx="7383240" cy="4111560"/>
        </p:xfrm>
        <a:graphic>
          <a:graphicData uri="http://schemas.openxmlformats.org/drawingml/2006/table">
            <a:tbl>
              <a:tblPr/>
              <a:tblGrid>
                <a:gridCol w="3282840"/>
                <a:gridCol w="1990800"/>
                <a:gridCol w="2109600"/>
              </a:tblGrid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l/D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in Cataplex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time Sleepi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C-GHB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C-SXB-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IVE STUD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MERS--60 mg/kg (4.75g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IMA--50 mg/kg (3.5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A36BE-F968-4F2B-A82E-0B147D419EC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"/>
          <p:cNvSpPr/>
          <p:nvPr/>
        </p:nvSpPr>
        <p:spPr>
          <a:xfrm>
            <a:off x="1031760" y="228600"/>
            <a:ext cx="765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85800" y="2806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liam Houghton, M.D.</a:t>
            </a:r>
            <a:br>
              <a:rPr sz="40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ef Operating Officer &amp; Medical Offic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phan Medical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63600" y="228600"/>
            <a:ext cx="8461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nical Pharmacokinetics, Drug Interactions, and Pharmacodynamics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3EC97-F057-4B5C-951C-8649A1184F9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yrem Pharmacokinetic Stud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47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Pilot PK study in narcoleptic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Acute versus chronic dosing in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Study of gender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Dose proportionality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Food effect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-8.  Three drug interaction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zolpidem, protriptyline, modafin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vitro 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tochrome p450 study:  neg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5F612-B0D6-434E-BEF5-3C003AF046E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182080" cy="113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000"/>
                </a:solidFill>
                <a:latin typeface="Arial"/>
              </a:rPr>
              <a:t>Plas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30000"/>
                </a:solidFill>
                <a:latin typeface="Arial"/>
              </a:rPr>
              <a:t>Concentrations of Oxybate (GHB) After</a:t>
            </a:r>
            <a:br>
              <a:rPr sz="2400"/>
            </a:br>
            <a:r>
              <a:rPr b="0" lang="en-US" sz="2400" spc="-1" strike="noStrike">
                <a:solidFill>
                  <a:srgbClr val="030000"/>
                </a:solidFill>
                <a:latin typeface="Arial"/>
              </a:rPr>
              <a:t> 4.5 Grams (2x2.25) or 9.0 Grams (2x4.5) of Xyrem to Normal Volunteers (Mean, Standard Error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5" name=""/>
          <p:cNvGraphicFramePr/>
          <p:nvPr/>
        </p:nvGraphicFramePr>
        <p:xfrm>
          <a:off x="331920" y="1542960"/>
          <a:ext cx="8862840" cy="485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920" y="1542960"/>
                    <a:ext cx="8862840" cy="48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7" name=""/>
          <p:cNvSpPr/>
          <p:nvPr/>
        </p:nvSpPr>
        <p:spPr>
          <a:xfrm rot="16200000">
            <a:off x="-1039680" y="3539880"/>
            <a:ext cx="28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ntration 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/m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2F58F-0C34-4339-A149-4020381F17A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500040" y="39672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000"/>
                </a:solidFill>
                <a:latin typeface="Arial"/>
              </a:rPr>
              <a:t>Plasma Oxybate (GHB) Concentration After an Oral Dose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5 Grams of Xyrem</a:t>
            </a:r>
            <a:r>
              <a:rPr b="0" lang="en-US" sz="2400" spc="-1" strike="noStrike">
                <a:solidFill>
                  <a:srgbClr val="030000"/>
                </a:solidFill>
                <a:latin typeface="Arial"/>
              </a:rPr>
              <a:t> to Normal Volunteers Following a High Fat Meal or after an Overnight Fas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9" name=""/>
          <p:cNvGraphicFramePr/>
          <p:nvPr/>
        </p:nvGraphicFramePr>
        <p:xfrm>
          <a:off x="492120" y="1733400"/>
          <a:ext cx="8588520" cy="455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120" y="1733400"/>
                    <a:ext cx="8588520" cy="45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1" name=""/>
          <p:cNvSpPr/>
          <p:nvPr/>
        </p:nvSpPr>
        <p:spPr>
          <a:xfrm rot="16200000">
            <a:off x="-1251360" y="3264120"/>
            <a:ext cx="328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ntration 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/m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092240" y="488484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Wingdings 2"/>
                <a:ea typeface="Wingdings 2"/>
              </a:rPr>
              <a:t>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213200" y="37735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Wingdings 2"/>
                <a:ea typeface="Wingdings 2"/>
              </a:rPr>
              <a:t>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346400" y="287820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Wingdings 2"/>
                <a:ea typeface="Wingdings 2"/>
              </a:rPr>
              <a:t>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530720" y="267480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Wingdings 2"/>
                <a:ea typeface="Wingdings 2"/>
              </a:rPr>
              <a:t>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1727280" y="27892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Wingdings 2"/>
                <a:ea typeface="Wingdings 2"/>
              </a:rPr>
              <a:t>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2127600" y="33861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Wingdings 2"/>
                <a:ea typeface="Wingdings 2"/>
              </a:rPr>
              <a:t>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2514960" y="380520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Wingdings 2"/>
                <a:ea typeface="Wingdings 2"/>
              </a:rPr>
              <a:t>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2889360" y="4192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Wingdings 2"/>
                <a:ea typeface="Wingdings 2"/>
              </a:rPr>
              <a:t>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3276720" y="45100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Wingdings 2"/>
                <a:ea typeface="Wingdings 2"/>
              </a:rPr>
              <a:t>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664080" y="470700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Wingdings 2"/>
                <a:ea typeface="Wingdings 2"/>
              </a:rPr>
              <a:t>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057920" y="492300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Wingdings 2"/>
                <a:ea typeface="Wingdings 2"/>
              </a:rPr>
              <a:t>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445280" y="50943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Wingdings 2"/>
                <a:ea typeface="Wingdings 2"/>
              </a:rPr>
              <a:t>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832640" y="51703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Wingdings 2"/>
                <a:ea typeface="Wingdings 2"/>
              </a:rPr>
              <a:t>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5207040" y="52149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Wingdings 2"/>
                <a:ea typeface="Wingdings 2"/>
              </a:rPr>
              <a:t>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5600880" y="52401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Wingdings 2"/>
                <a:ea typeface="Wingdings 2"/>
              </a:rPr>
              <a:t>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5988240" y="525924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Wingdings 2"/>
                <a:ea typeface="Wingdings 2"/>
              </a:rPr>
              <a:t>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382080" y="525924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Wingdings 2"/>
                <a:ea typeface="Wingdings 2"/>
              </a:rPr>
              <a:t>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6743880" y="52531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Wingdings 2"/>
                <a:ea typeface="Wingdings 2"/>
              </a:rPr>
              <a:t>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7124760" y="524664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Wingdings 2"/>
                <a:ea typeface="Wingdings 2"/>
              </a:rPr>
              <a:t>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7931520" y="52531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Wingdings 2"/>
                <a:ea typeface="Wingdings 2"/>
              </a:rPr>
              <a:t>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8699760" y="524664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Wingdings 2"/>
                <a:ea typeface="Wingdings 2"/>
              </a:rPr>
              <a:t>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870960" y="35830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Wingdings 2"/>
                <a:ea typeface="Wingdings 2"/>
              </a:rPr>
              <a:t>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ED7EB-B1CD-419C-B938-FC3E1A3A3DC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"/>
          <p:cNvSpPr/>
          <p:nvPr/>
        </p:nvSpPr>
        <p:spPr>
          <a:xfrm>
            <a:off x="0" y="7254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5" name=""/>
          <p:cNvGrpSpPr/>
          <p:nvPr/>
        </p:nvGrpSpPr>
        <p:grpSpPr>
          <a:xfrm>
            <a:off x="609480" y="-36360"/>
            <a:ext cx="7543800" cy="6818040"/>
            <a:chOff x="609480" y="-36360"/>
            <a:chExt cx="7543800" cy="6818040"/>
          </a:xfrm>
        </p:grpSpPr>
        <p:graphicFrame>
          <p:nvGraphicFramePr>
            <p:cNvPr id="1556" name=""/>
            <p:cNvGraphicFramePr/>
            <p:nvPr/>
          </p:nvGraphicFramePr>
          <p:xfrm>
            <a:off x="914400" y="3505320"/>
            <a:ext cx="7238880" cy="32763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5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3505320"/>
                      <a:ext cx="7238880" cy="32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58" name=""/>
            <p:cNvSpPr/>
            <p:nvPr/>
          </p:nvSpPr>
          <p:spPr>
            <a:xfrm rot="16200000">
              <a:off x="-198000" y="4677840"/>
              <a:ext cx="22258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afinil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centration (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/m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59" name=""/>
            <p:cNvGraphicFramePr/>
            <p:nvPr/>
          </p:nvGraphicFramePr>
          <p:xfrm>
            <a:off x="762120" y="380880"/>
            <a:ext cx="7315200" cy="34290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5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2120" y="380880"/>
                      <a:ext cx="7315200" cy="342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61" name=""/>
            <p:cNvSpPr/>
            <p:nvPr/>
          </p:nvSpPr>
          <p:spPr>
            <a:xfrm rot="16200000">
              <a:off x="-87120" y="1436400"/>
              <a:ext cx="18511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xybate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centration (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/m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950480" y="-36360"/>
              <a:ext cx="53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yrem – Modafinil Interaction Stu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E3590-AA82-4ACF-8A94-21803058347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Xyrem Pharmacokinetics: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417600" y="1406520"/>
            <a:ext cx="844524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apid absorption (T</a:t>
            </a:r>
            <a:r>
              <a:rPr b="0" lang="en-US" sz="3400" spc="-1" strike="noStrike" baseline="-20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= 30-75 min)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d elimination (T</a:t>
            </a:r>
            <a:r>
              <a:rPr b="0" lang="en-US" sz="3400" spc="-1" strike="noStrike" baseline="-20000">
                <a:solidFill>
                  <a:srgbClr val="000000"/>
                </a:solidFill>
                <a:latin typeface="Arial"/>
              </a:rPr>
              <a:t>1/2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= 40-60 min) from plasm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n-linear, dose-dependent kinetic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pacity limited absorption &amp; elimin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 gender differences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 difference between acute and chronic dos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1081E-518B-4422-AA9B-436EFE79B0E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Xyrem Pharmacokinetics: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417600" y="1406520"/>
            <a:ext cx="844524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ronic dosing does not change kinetic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od delays absorption and reduces systemic exposur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 kinetic interactions with 3 other classes of drug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 cytochrome p450 effects foun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9E4FF-F27C-43BB-8870-A171609D1C58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ognition of Ab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yrem is not the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e of synthe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itial availability of internet GHB ki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rrent availability of precursor GHB substitut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mabutyrolactone (GB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4-butanediol (1,4-B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ederal legislation in 2000 controls only GH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F996C-9B6B-49CD-824E-5B06268670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lysomnographic Effects of Xyre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d Black, M.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 of the Stanford Sleep Clini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ford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C0282-FA22-4891-91B0-B295F3917634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s of Sodium Oxybate on Quantitative EEG Parameters in Narcolep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research in narcolepsy (1977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ughton and Mamelak (197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melak (1981, 197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ified sleep patter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in slow-wave sl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awake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ima (1989, PSG and MSL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mmers (1993, PSG and MSL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C-SXB-20 (PSG and MW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CCB6C-7027-4D81-A635-0C9FFF02524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rima and LammersTrials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cturnal PS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2" name=""/>
          <p:cNvGraphicFramePr/>
          <p:nvPr/>
        </p:nvGraphicFramePr>
        <p:xfrm>
          <a:off x="487440" y="1720800"/>
          <a:ext cx="8277120" cy="3966840"/>
        </p:xfrm>
        <a:graphic>
          <a:graphicData uri="http://schemas.openxmlformats.org/drawingml/2006/table">
            <a:tbl>
              <a:tblPr/>
              <a:tblGrid>
                <a:gridCol w="2406600"/>
                <a:gridCol w="1806840"/>
                <a:gridCol w="1919160"/>
                <a:gridCol w="2144520"/>
              </a:tblGrid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ima Tr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mers Tr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 1 Slee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s 3 &amp;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akenin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wake 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9ABFB-6E92-43A2-99C5-4DBC3F9A57DD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MC-SXB-20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y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-label, dose-escalation (4.5 g – 9 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imulants continued at stable d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week anti-cataplectic ta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week wash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 weeks 4.5 g Xyr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weeks 6 g, 7.5 g, and 9 g e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G obtain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m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5 g (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gh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5 g, 6 g, 7.5 g, 9 g (last nigh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WT obtained:  prior meds, baseline, 4.5 g (aft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weeks),and 9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6F0E9-8985-41B3-84F9-997810402FFA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MC-SXB-20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y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344600"/>
            <a:ext cx="8367840" cy="510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S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e-related increase in Stage 3 &amp; 4 sl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e-related increase in Delta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ytime mea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e-related increase in daytime  aler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e-related reduction in subjective sleep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A8C19-C6BF-4A0E-A224-DEEA455F5822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7" name=""/>
          <p:cNvGraphicFramePr/>
          <p:nvPr/>
        </p:nvGraphicFramePr>
        <p:xfrm>
          <a:off x="838080" y="1349280"/>
          <a:ext cx="76201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49280"/>
                    <a:ext cx="76201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9" name=""/>
          <p:cNvSpPr/>
          <p:nvPr/>
        </p:nvSpPr>
        <p:spPr>
          <a:xfrm>
            <a:off x="3772080" y="6311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rot="16200000">
            <a:off x="-1562400" y="3365640"/>
            <a:ext cx="48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 from Baseline (mi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1752480" y="57783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ti-cat M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2884320" y="57927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924360" y="57657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5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4952880" y="5789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.0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778360" y="5791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.5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6781680" y="58039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.0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95360" y="21564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in Slow Wave (Stages 3&amp;4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eep D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7316280" y="12492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333920" y="16351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7479720" y="318924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7461720" y="37558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7462080" y="432288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9A7C1-6F83-4228-BD27-55643CD7A25A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Slow Wave (Stages 3&amp;4)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eep Du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4" name=""/>
          <p:cNvGraphicFramePr/>
          <p:nvPr/>
        </p:nvGraphicFramePr>
        <p:xfrm>
          <a:off x="1003320" y="1644480"/>
          <a:ext cx="7385040" cy="451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3320" y="1644480"/>
                    <a:ext cx="7385040" cy="45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6" name=""/>
          <p:cNvSpPr/>
          <p:nvPr/>
        </p:nvSpPr>
        <p:spPr>
          <a:xfrm>
            <a:off x="1193760" y="5553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ti-cat M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251080" y="56912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3203640" y="56293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194000" y="5719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5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5337000" y="5719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.0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6175440" y="5719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.5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7165800" y="5719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.0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 rot="16200000">
            <a:off x="-1244160" y="3506040"/>
            <a:ext cx="363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Stages 3&amp;4 Sleep (mi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2BC2E-29D4-4B1E-968A-744BDA199F71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4" name=""/>
          <p:cNvGraphicFramePr/>
          <p:nvPr/>
        </p:nvGraphicFramePr>
        <p:xfrm>
          <a:off x="152280" y="1378080"/>
          <a:ext cx="8767800" cy="508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78080"/>
                    <a:ext cx="8767800" cy="50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6" name=""/>
          <p:cNvSpPr/>
          <p:nvPr/>
        </p:nvSpPr>
        <p:spPr>
          <a:xfrm>
            <a:off x="2028960" y="163656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&lt;0.05 relative to bas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4076640" y="25909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058080" y="257796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7035840" y="226044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013600" y="187956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1447920" y="56768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ti-cat M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2666880" y="58435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3657600" y="57531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4648320" y="5843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5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791320" y="5843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.0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6629400" y="5843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.5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7620120" y="5843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.0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377208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514600" y="380880"/>
            <a:ext cx="4191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 rot="16200000">
            <a:off x="-798480" y="312264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/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95360" y="21564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lta Pow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CA733-CC3F-4E83-8D14-A6FAE2733F6E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2" name=""/>
          <p:cNvGraphicFramePr/>
          <p:nvPr/>
        </p:nvGraphicFramePr>
        <p:xfrm>
          <a:off x="762120" y="1355760"/>
          <a:ext cx="7929360" cy="454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355760"/>
                    <a:ext cx="7929360" cy="45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4" name=""/>
          <p:cNvSpPr/>
          <p:nvPr/>
        </p:nvSpPr>
        <p:spPr>
          <a:xfrm>
            <a:off x="5396760" y="2565360"/>
            <a:ext cx="29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1674720" y="1552680"/>
            <a:ext cx="32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&lt;0.05 relative to bas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971400" y="1727280"/>
            <a:ext cx="29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676520" y="56894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ti-cat M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3352680" y="56894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800600" y="5689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5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400800" y="5689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.0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 rot="16200000">
            <a:off x="-810360" y="3247200"/>
            <a:ext cx="31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eep Latency (mi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591000" y="614196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1219320" y="228600"/>
            <a:ext cx="7619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95360" y="21564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WT Sleep Latency (Daytim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1D4AE-DF0A-4185-BE28-E388AC76FFA6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pworth Sleepiness Score (Daytim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1130400" y="5883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ti-cat M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187720" y="6021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3139920" y="59594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130640" y="6049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5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5273640" y="6049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.0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111720" y="6049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.5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7102440" y="6049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.0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3" name=""/>
          <p:cNvGraphicFramePr/>
          <p:nvPr/>
        </p:nvGraphicFramePr>
        <p:xfrm>
          <a:off x="0" y="1347840"/>
          <a:ext cx="8515440" cy="462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7840"/>
                    <a:ext cx="851544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DA8A8-005A-4319-9EC9-8F7E283306C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Courier New"/>
              </a:rPr>
              <a:t>Xyre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  <a:ea typeface="Courier New"/>
              </a:rPr>
              <a:t>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Courier New"/>
              </a:rPr>
              <a:t> (sodium oxybate) oral solution is indicated to reduce the incidence of cataplexy and to improve the symptom of daytime sleepines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Courier New"/>
              </a:rPr>
              <a:t>in patients with narcoleps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posed Ind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0B228-D961-4E46-8ED6-D19571161D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rrelation Between Dayti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Nocturnal Eff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6" name=""/>
          <p:cNvGraphicFramePr/>
          <p:nvPr/>
        </p:nvGraphicFramePr>
        <p:xfrm>
          <a:off x="927000" y="1871640"/>
          <a:ext cx="7510680" cy="3368520"/>
        </p:xfrm>
        <a:graphic>
          <a:graphicData uri="http://schemas.openxmlformats.org/drawingml/2006/table">
            <a:tbl>
              <a:tblPr/>
              <a:tblGrid>
                <a:gridCol w="2138400"/>
                <a:gridCol w="1617840"/>
                <a:gridCol w="1968480"/>
                <a:gridCol w="1785960"/>
              </a:tblGrid>
              <a:tr h="61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ta Pow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wor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8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ta Pow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 3&amp;4 Slee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wor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9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 3&amp;4 Slee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C82BF-114B-4E4E-83ED-BB889F67BC4C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MC-SXB-20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verall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344600"/>
            <a:ext cx="8229600" cy="510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SG parameters modulated as a function of Xyrem trea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yrem increases measures of restorative sl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s 3 &amp;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ta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ytime sleepiness decrea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WT and Epw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relation between daytime and nocturnal eff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novel neurological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EC88F-B62A-4AA6-968B-E58090E3320D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"/>
          <p:cNvSpPr/>
          <p:nvPr/>
        </p:nvSpPr>
        <p:spPr>
          <a:xfrm>
            <a:off x="1031760" y="228600"/>
            <a:ext cx="765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liam Houghton, M.D.</a:t>
            </a:r>
            <a:br>
              <a:rPr sz="40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ef Operating Officer &amp; Medical Offic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phan Medical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fety Summary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16391-65CA-4E5D-918E-00BFE314F569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"/>
          <p:cNvSpPr/>
          <p:nvPr/>
        </p:nvSpPr>
        <p:spPr>
          <a:xfrm>
            <a:off x="1031760" y="228600"/>
            <a:ext cx="765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0" y="1049400"/>
            <a:ext cx="8942400" cy="41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2854440" y="493560"/>
            <a:ext cx="0" cy="56674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67400" y="128520"/>
            <a:ext cx="25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ontrolled T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960360" y="103320"/>
            <a:ext cx="29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Uncontrolled T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03200" y="4118040"/>
            <a:ext cx="2216160" cy="793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crima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0 pat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 weeks of trea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596880" y="5370480"/>
            <a:ext cx="1828800" cy="1037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ammers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5 pat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 wee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426960" y="1625760"/>
            <a:ext cx="2192400" cy="793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MC-GHB-2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36 pat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 wee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76120" y="2921040"/>
            <a:ext cx="2468520" cy="793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MC-SXB-21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55 pat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 week withdrawal 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7032600" y="5187960"/>
            <a:ext cx="1828800" cy="1067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MC-GHB-4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6 pat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k stu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2959200" y="1625760"/>
            <a:ext cx="2028600" cy="1037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MC-GHB-3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17 pat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Up to 24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075440" y="646200"/>
            <a:ext cx="1828800" cy="1067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MC-SXB-10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3 pat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k stu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4956120" y="5184720"/>
            <a:ext cx="1828800" cy="793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charf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43 pat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Up to 16 ye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006880" y="2892600"/>
            <a:ext cx="1905120" cy="1037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MC-SXB-7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ng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urrently N=2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4979880" y="671400"/>
            <a:ext cx="1828800" cy="1037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MC-SXB-6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85 pat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 month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 flipV="1">
            <a:off x="2741760" y="3452400"/>
            <a:ext cx="231588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4987800" y="2128680"/>
            <a:ext cx="684360" cy="7988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H="1" flipV="1">
            <a:off x="5907240" y="1471320"/>
            <a:ext cx="4320" cy="14605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 flipV="1">
            <a:off x="5921280" y="3646080"/>
            <a:ext cx="0" cy="15447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689200" y="3208320"/>
            <a:ext cx="2316240" cy="1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313320" y="1744560"/>
            <a:ext cx="1828800" cy="1037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MC-SXB-20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5 pat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0 wee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 flipH="1">
            <a:off x="6691320" y="5477040"/>
            <a:ext cx="339840" cy="1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6781680" y="5689440"/>
            <a:ext cx="336600" cy="18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5334120" y="4214880"/>
            <a:ext cx="1154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3 Pat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2625840" y="2079720"/>
            <a:ext cx="3855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6777000" y="988920"/>
            <a:ext cx="2984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815160" y="1136520"/>
            <a:ext cx="3049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037280" y="4290840"/>
            <a:ext cx="1828800" cy="824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K Studies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25 Sub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1CC89-6323-4D7D-B114-0E396A649EE4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dium Oxybate Exposur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Trials Including Schar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1056960" y="1676520"/>
            <a:ext cx="745164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y Exposur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479 pati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PK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125 subje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60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360 pati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2 month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286 pati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tient-year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328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CB57D-913E-4D32-BDBB-B37CC68A64DC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dium Oxybate Exposur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d ISS Excluding Schar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1055160" y="1652760"/>
            <a:ext cx="7372440" cy="45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y Exposur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399 pati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PK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125 subje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52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296 pati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2 month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223 pati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tient-year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33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CA104-6D6E-4B23-9E52-69441156A3A2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d ISS Databas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Patient Exposure by D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5" name=""/>
          <p:cNvGraphicFramePr/>
          <p:nvPr/>
        </p:nvGraphicFramePr>
        <p:xfrm>
          <a:off x="496800" y="1995480"/>
          <a:ext cx="8118360" cy="3324240"/>
        </p:xfrm>
        <a:graphic>
          <a:graphicData uri="http://schemas.openxmlformats.org/drawingml/2006/table">
            <a:tbl>
              <a:tblPr/>
              <a:tblGrid>
                <a:gridCol w="2447640"/>
                <a:gridCol w="1054080"/>
                <a:gridCol w="816120"/>
                <a:gridCol w="957240"/>
                <a:gridCol w="957240"/>
                <a:gridCol w="928800"/>
                <a:gridCol w="957240"/>
              </a:tblGrid>
              <a:tr h="5317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dium Oxybate Dosage (g/d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341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5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&gt;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 month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341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5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&gt;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 month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341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5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&gt;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4 month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4C741-647D-4F8B-9594-7FC639E3372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d ISS Databas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eated Patient Dis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7" name=""/>
          <p:cNvGraphicFramePr/>
          <p:nvPr/>
        </p:nvGraphicFramePr>
        <p:xfrm>
          <a:off x="1849320" y="1395360"/>
          <a:ext cx="5415120" cy="4746600"/>
        </p:xfrm>
        <a:graphic>
          <a:graphicData uri="http://schemas.openxmlformats.org/drawingml/2006/table">
            <a:tbl>
              <a:tblPr/>
              <a:tblGrid>
                <a:gridCol w="3462480"/>
                <a:gridCol w="1952640"/>
              </a:tblGrid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ient Disposition                                                                                                 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dium oxybate                                                                                                              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ients Treated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9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 Treatment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 ( 12%)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going Treatment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 ( 52%)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ontinued Treatment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 ( 36%)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verse event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 ( 13%)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tient request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(  9%)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tient non-compliance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(  5%)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(  5%)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st to follow-up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(  3%)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ck of efficacy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(  2%)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tocol deviation/violation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(&lt;1%)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&lt;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8" name=""/>
          <p:cNvSpPr/>
          <p:nvPr/>
        </p:nvSpPr>
        <p:spPr>
          <a:xfrm>
            <a:off x="1415880" y="6243480"/>
            <a:ext cx="62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 3 placebo patients did not proceed to active treatment tr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80E64-B270-49F8-981E-ABEB6B18AFE0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d ISS Databas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Adverse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0" name=""/>
          <p:cNvGraphicFramePr/>
          <p:nvPr/>
        </p:nvGraphicFramePr>
        <p:xfrm>
          <a:off x="324000" y="1633680"/>
          <a:ext cx="8545320" cy="4768560"/>
        </p:xfrm>
        <a:graphic>
          <a:graphicData uri="http://schemas.openxmlformats.org/drawingml/2006/table">
            <a:tbl>
              <a:tblPr/>
              <a:tblGrid>
                <a:gridCol w="2085840"/>
                <a:gridCol w="2120760"/>
                <a:gridCol w="2217960"/>
                <a:gridCol w="21207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bo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dium Oxybate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Pati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402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54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399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least 1 A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ere A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/C due to A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ious A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% 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% 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2966D-7610-48A5-817F-FD821FBA236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d ISS Databas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se Distribution of Adverse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2" name=""/>
          <p:cNvGraphicFramePr/>
          <p:nvPr/>
        </p:nvGraphicFramePr>
        <p:xfrm>
          <a:off x="171360" y="1792440"/>
          <a:ext cx="8775360" cy="4220640"/>
        </p:xfrm>
        <a:graphic>
          <a:graphicData uri="http://schemas.openxmlformats.org/drawingml/2006/table">
            <a:tbl>
              <a:tblPr/>
              <a:tblGrid>
                <a:gridCol w="3122640"/>
                <a:gridCol w="909360"/>
                <a:gridCol w="1085040"/>
                <a:gridCol w="1221480"/>
                <a:gridCol w="1219320"/>
                <a:gridCol w="1217520"/>
              </a:tblGrid>
              <a:tr h="595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yrem Dose (g/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Patient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9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8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least 1 A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339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ere A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12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/C due to A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53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ious A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7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DF83B-259D-4889-8FFE-8DB8EBDC2C1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valence of Narcolepsy in the U.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arcolepsy is an orphan disea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pidemiology estimates 135,000 patient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55% are diagnosed (75,000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32% of those have cataplexy for which they seek treatment (24,000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F417A-743D-486A-9BB4-0211DACE4B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"/>
          <p:cNvSpPr/>
          <p:nvPr/>
        </p:nvSpPr>
        <p:spPr>
          <a:xfrm>
            <a:off x="2206800" y="6410160"/>
            <a:ext cx="470988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2217600" y="6138720"/>
            <a:ext cx="47102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2192400" y="3827520"/>
            <a:ext cx="470988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2192400" y="2392200"/>
            <a:ext cx="4709880" cy="563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d ISS Databas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st Frequent Adverse Events (n=39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8" name=""/>
          <p:cNvGraphicFramePr/>
          <p:nvPr/>
        </p:nvGraphicFramePr>
        <p:xfrm>
          <a:off x="2190600" y="1440000"/>
          <a:ext cx="4761000" cy="5268600"/>
        </p:xfrm>
        <a:graphic>
          <a:graphicData uri="http://schemas.openxmlformats.org/drawingml/2006/table">
            <a:tbl>
              <a:tblPr/>
              <a:tblGrid>
                <a:gridCol w="2592000"/>
                <a:gridCol w="1953360"/>
                <a:gridCol w="21600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ART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Preferred Te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se Ev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da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us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zzi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i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nol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ryngi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ep dis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dental inju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 syndr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e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ral inf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th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m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rvous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u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inary Incontin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B0AA4-A36A-43E0-9994-944941BE801A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"/>
          <p:cNvSpPr/>
          <p:nvPr/>
        </p:nvSpPr>
        <p:spPr>
          <a:xfrm>
            <a:off x="890640" y="5877000"/>
            <a:ext cx="7391520" cy="363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892080" y="5513400"/>
            <a:ext cx="7391520" cy="363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892080" y="4737240"/>
            <a:ext cx="7391520" cy="363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892080" y="4386240"/>
            <a:ext cx="7391520" cy="363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890640" y="4035600"/>
            <a:ext cx="7391520" cy="363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890640" y="3672000"/>
            <a:ext cx="7391520" cy="363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903240" y="2933640"/>
            <a:ext cx="7391520" cy="363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888840" y="2192400"/>
            <a:ext cx="7391520" cy="363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cebo-Controlled Clinical Tria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st Frequent Adverse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8" name=""/>
          <p:cNvGraphicFramePr/>
          <p:nvPr/>
        </p:nvGraphicFramePr>
        <p:xfrm>
          <a:off x="893880" y="1400040"/>
          <a:ext cx="7416720" cy="5265720"/>
        </p:xfrm>
        <a:graphic>
          <a:graphicData uri="http://schemas.openxmlformats.org/drawingml/2006/table">
            <a:tbl>
              <a:tblPr/>
              <a:tblGrid>
                <a:gridCol w="2725560"/>
                <a:gridCol w="2344680"/>
                <a:gridCol w="2346480"/>
              </a:tblGrid>
              <a:tr h="77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se 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ART Te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b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=7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dium Oxyb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=14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zzi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da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us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nol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in (unspecifi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ep disord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u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spep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m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inary incontin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rvous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1A9D5-3D03-434C-81F4-908D6592B5FA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MC-SXB-21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fety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0" name=""/>
          <p:cNvGraphicFramePr/>
          <p:nvPr/>
        </p:nvGraphicFramePr>
        <p:xfrm>
          <a:off x="517680" y="2712960"/>
          <a:ext cx="8150040" cy="2648160"/>
        </p:xfrm>
        <a:graphic>
          <a:graphicData uri="http://schemas.openxmlformats.org/drawingml/2006/table">
            <a:tbl>
              <a:tblPr/>
              <a:tblGrid>
                <a:gridCol w="3101760"/>
                <a:gridCol w="2643120"/>
                <a:gridCol w="240516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ART Term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bo (n=29)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yrem (n=26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xiety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7%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dach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7%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sh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3%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3%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1" name=""/>
          <p:cNvSpPr/>
          <p:nvPr/>
        </p:nvSpPr>
        <p:spPr>
          <a:xfrm>
            <a:off x="1411200" y="1474920"/>
            <a:ext cx="66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st Common* Adverse Event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uble-Blind Treatment Peri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987840" y="5508720"/>
            <a:ext cx="37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AEs wit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 occur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C5EED-72BE-4655-82B1-253297739BF1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MC-SXB-21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sible Withdrawal Associated A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4" name=""/>
          <p:cNvGraphicFramePr/>
          <p:nvPr/>
        </p:nvGraphicFramePr>
        <p:xfrm>
          <a:off x="434880" y="1911240"/>
          <a:ext cx="8229600" cy="3256200"/>
        </p:xfrm>
        <a:graphic>
          <a:graphicData uri="http://schemas.openxmlformats.org/drawingml/2006/table">
            <a:tbl>
              <a:tblPr/>
              <a:tblGrid>
                <a:gridCol w="2959200"/>
                <a:gridCol w="2771640"/>
                <a:gridCol w="2498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ART 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bo (n=29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yrem (n=2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xiety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7%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zzines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3%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omni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3%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ep Disorder*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3%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nolenc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3%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5" name=""/>
          <p:cNvSpPr/>
          <p:nvPr/>
        </p:nvSpPr>
        <p:spPr>
          <a:xfrm>
            <a:off x="490680" y="5462640"/>
            <a:ext cx="478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Verbatim Term: Increased awakening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6F439-018C-4D5E-8638-CF1D66E2237B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harf 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ducted under an Investigator IND without external monitoring prior to Orphan Medical I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resents 16 years of clinical experience (rather than drug development research) without regulatory discip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tients were located all over the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source primarily from diary recordings without medical review and interpre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ck of patient compliance contributed to significant discontin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sing accountability and dose titration is less clearly defin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defined entry crite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4235F-F318-454A-848A-66A7AA4C71E0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verse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charf open-label clinical stud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ing exp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dis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 incidence (16 yea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 incidence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6 mon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8267A-D2AD-47E9-B231-1F1B088F887A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0" name=""/>
          <p:cNvGraphicFramePr/>
          <p:nvPr/>
        </p:nvGraphicFramePr>
        <p:xfrm>
          <a:off x="1222200" y="1425600"/>
          <a:ext cx="6675480" cy="5249880"/>
        </p:xfrm>
        <a:graphic>
          <a:graphicData uri="http://schemas.openxmlformats.org/drawingml/2006/table">
            <a:tbl>
              <a:tblPr/>
              <a:tblGrid>
                <a:gridCol w="4451400"/>
                <a:gridCol w="2224080"/>
              </a:tblGrid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Patients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3 (100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going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 (50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ferred to OMC-SXB-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 (44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inued in Scharf T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 (6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arly Withdrawal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 (50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tient Non-Compliance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(17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verse Event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 (16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 (9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tient Request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(4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ck of  Efficac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(3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ocol Deviation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(&lt;1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(&lt;1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reen Fail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(&lt;1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harf Trial (16 years)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tient Dis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33A7E-3615-4079-BF79-4452DAED6FDB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2" name=""/>
          <p:cNvGraphicFramePr/>
          <p:nvPr/>
        </p:nvGraphicFramePr>
        <p:xfrm>
          <a:off x="1131840" y="1422360"/>
          <a:ext cx="7007400" cy="5135760"/>
        </p:xfrm>
        <a:graphic>
          <a:graphicData uri="http://schemas.openxmlformats.org/drawingml/2006/table">
            <a:tbl>
              <a:tblPr/>
              <a:tblGrid>
                <a:gridCol w="4256280"/>
                <a:gridCol w="27511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se Ev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dence (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ral inf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dach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i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dental Injur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usea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 syndro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ryngiti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initi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d coug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ep disorder (sleepwalking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inary incontine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harf Trial (16 years)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E Inci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50FD1-A967-491E-873A-E5A083B8C127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rison of Updated ISS Database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arf Trial (First 6 months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Frequent Adverse Event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5" name=""/>
          <p:cNvGraphicFramePr/>
          <p:nvPr/>
        </p:nvGraphicFramePr>
        <p:xfrm>
          <a:off x="795240" y="1308240"/>
          <a:ext cx="7586640" cy="5429160"/>
        </p:xfrm>
        <a:graphic>
          <a:graphicData uri="http://schemas.openxmlformats.org/drawingml/2006/table">
            <a:tbl>
              <a:tblPr/>
              <a:tblGrid>
                <a:gridCol w="3247920"/>
                <a:gridCol w="2314800"/>
                <a:gridCol w="2023920"/>
              </a:tblGrid>
              <a:tr h="6998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ART Preferred Te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dated I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=3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arf Tri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=14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da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us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zzi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in (unspecifi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nol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ryngi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ep dis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dental inju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 syndr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e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ral inf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ini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usi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CEEB1-B6C0-488A-BA7D-9D6E582137D6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verse Events of Special Inter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continence / convuls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fus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europsychiatric ev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leepwalk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3D5B4-94B9-4913-9B21-30D38564C16C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66640" y="17748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Narcolepsy - Medical N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1120" y="1674720"/>
            <a:ext cx="3583080" cy="4297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16560" y="1631880"/>
            <a:ext cx="4133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manuel Mig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.D., Ph.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er for Narcolep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ford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hington, D.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ne 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96960" y="1228320"/>
            <a:ext cx="7788240" cy="3240"/>
          </a:xfrm>
          <a:prstGeom prst="line">
            <a:avLst/>
          </a:prstGeom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0" y="6448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8D7FA-ADDC-430B-91B4-219943DF5D81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ontin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CAD2F-9B32-4618-AC9F-796C8437578A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ontin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DA Issue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 adverse events of incontinence in clinical trials with sodium oxybate associated with seiz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794C1-093D-4AE9-8794-7DA76BC9DAE6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ontinenc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alysis included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naire to all affected investig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ation of safety databases for temporal association with CNS symp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pective overnight EEG in 6 patients with prior history of incontin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ture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by independent exp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D8045-B29C-4CB7-9146-4FB100C25E18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rinary Incontin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4" name=""/>
          <p:cNvGraphicFramePr/>
          <p:nvPr/>
        </p:nvGraphicFramePr>
        <p:xfrm>
          <a:off x="250920" y="1498680"/>
          <a:ext cx="8637480" cy="4709880"/>
        </p:xfrm>
        <a:graphic>
          <a:graphicData uri="http://schemas.openxmlformats.org/drawingml/2006/table">
            <a:tbl>
              <a:tblPr/>
              <a:tblGrid>
                <a:gridCol w="1911240"/>
                <a:gridCol w="1713240"/>
                <a:gridCol w="1589040"/>
                <a:gridCol w="1751040"/>
                <a:gridCol w="1672920"/>
              </a:tblGrid>
              <a:tr h="860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ntinence Event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oral Association With CNS Symptom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ical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l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 Patient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</a:t>
                      </a:r>
                      <a:br>
                        <a:rPr sz="2300"/>
                      </a:b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Event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</a:t>
                      </a:r>
                      <a:br>
                        <a:rPr sz="2300"/>
                      </a:b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ient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</a:t>
                      </a:r>
                      <a:br>
                        <a:rPr sz="2300"/>
                      </a:b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Event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C-GHB-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13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(6%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1.5%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C-GHB-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11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(11%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1.7%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arf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14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(23%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(5%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46944-CF85-4801-9BAA-68E94FB5E89E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cal Incontin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6" name=""/>
          <p:cNvGraphicFramePr/>
          <p:nvPr/>
        </p:nvGraphicFramePr>
        <p:xfrm>
          <a:off x="343080" y="1484280"/>
          <a:ext cx="8488080" cy="4665600"/>
        </p:xfrm>
        <a:graphic>
          <a:graphicData uri="http://schemas.openxmlformats.org/drawingml/2006/table">
            <a:tbl>
              <a:tblPr/>
              <a:tblGrid>
                <a:gridCol w="1989000"/>
                <a:gridCol w="1695240"/>
                <a:gridCol w="1535400"/>
                <a:gridCol w="1652400"/>
                <a:gridCol w="1616040"/>
              </a:tblGrid>
              <a:tr h="777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al Incontinence Event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oral association with CNS symptom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ical Tria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 Patient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Event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Patient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Event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C-GHB-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13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&lt;1 %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C-GHB-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11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&lt;1%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mitten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ar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14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&lt;1 %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&lt;1%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C-SXB-1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3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3%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3 %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7F8EB-AE6C-433B-8BBF-88F684BBB2C8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ontinenc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re is limited support for a relationship between incontinence and seizures from clinical trials, prospective EEG studies, or the literatu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D9B07-4D4E-4E80-A8AF-34D90D81FAF5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vul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dated Integrated Clinical Tri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 patients with events coded to “convuls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of 14 patient events recorded as “cataplex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complex case (“fugue stat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arf Tr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patients with events coded to “convuls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of 9 patient events recorded as “cataplex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atient events attributable to pre-existing hist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other patients with seizure events associated with polypharm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86B69-F01E-48EE-8FB9-A42C81402D63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usion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E2259-1B78-4651-9171-F89FB51BE5F7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Adverse Event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START Coded as “Confusion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89640" y="11509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arf Open-Lab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43 pati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(7%) pat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adverse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iscontin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ose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519120" y="1221840"/>
            <a:ext cx="4038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dated I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02 pati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(7%)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8 adverse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(&lt;1%) patients dis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dose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E33A4-9ED6-4D26-89DF-3060C36B38AF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d IS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Verbatim Terms for 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Confusion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6" name=""/>
          <p:cNvGraphicFramePr/>
          <p:nvPr/>
        </p:nvGraphicFramePr>
        <p:xfrm>
          <a:off x="1020600" y="1616040"/>
          <a:ext cx="7102800" cy="4149720"/>
        </p:xfrm>
        <a:graphic>
          <a:graphicData uri="http://schemas.openxmlformats.org/drawingml/2006/table">
            <a:tbl>
              <a:tblPr/>
              <a:tblGrid>
                <a:gridCol w="3786480"/>
                <a:gridCol w="1658880"/>
                <a:gridCol w="1657440"/>
              </a:tblGrid>
              <a:tr h="7023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at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Pati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Ev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7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usion, acute confusion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usion on awake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oriented, disoriented upon awakening, disori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usion, disori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ling ‘drunk’ after taking dru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zed fee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ldn’t compreh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ozy fee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7" name=""/>
          <p:cNvSpPr/>
          <p:nvPr/>
        </p:nvSpPr>
        <p:spPr>
          <a:xfrm>
            <a:off x="1977480" y="5776920"/>
            <a:ext cx="480672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2 AEs of “confusion” prior to trea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48 events in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C2087-5C3C-442D-B669-00146A3AC019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9T12:59:00Z</dcterms:created>
  <dc:creator/>
  <dc:description/>
  <dc:language>en-US</dc:language>
  <cp:lastModifiedBy>FDA.CDER</cp:lastModifiedBy>
  <cp:lastPrinted>1999-01-05T19:11:18Z</cp:lastPrinted>
  <dcterms:modified xsi:type="dcterms:W3CDTF">2001-06-20T18:21:07Z</dcterms:modified>
  <cp:revision>25036</cp:revision>
  <dc:subject/>
  <dc:title>Xyrem™ (GHB)</dc:title>
</cp:coreProperties>
</file>