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3.png" ContentType="image/png"/>
  <Override PartName="/ppt/media/image17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.jpeg" ContentType="image/jpeg"/>
  <Override PartName="/ppt/media/image23.jpeg" ContentType="image/jpeg"/>
  <Override PartName="/ppt/media/image12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Celine%20Dion%20%26%20Andrea%20Bocelli%20-%20The%20Prayer%20Wav.wav" ContentType="audio/x-wav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096D-C47E-4BA2-9827-D5BEDF2BCA77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5FF4-1C1F-4DEB-A958-06358570C2AD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B445-C3C6-4BAE-815B-A04227E78246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4737-A4A0-4FCB-A71B-3F0CF13F3694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A7E9-6582-41D4-B479-413E21C67530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B8C4-C468-4CEB-A806-7FDE4216406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392C-39CE-44D2-B39C-C75F2CD9D754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916F-D6AC-4643-B556-64546EC3FC6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E5B0-A2DE-4EAF-9EB6-7C5D9B635E7C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1A55-C03C-4367-A4B8-28660129C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18FD-4192-47EC-AE4E-4369FCF0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AA32-D9EE-4006-BCB5-6AAC680C7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9EB5-1788-4DC0-B498-6A3009357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A38D-2605-4711-ABB3-DFF646EE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47D6-6E64-4FCB-9CDE-5E2ACA29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A4C6-0CC6-415C-94EE-6B130BB3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2F30-9E76-46C7-A8C4-6AC1871A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7763-178D-4950-92C7-AC011F22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571A-2304-4044-AF15-5385380C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57CA-1353-4DF4-A8AD-CB0C663C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C17D-31A6-48BD-985C-B62C6190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3DF6-2FF1-4B19-8810-67A0CDD0D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eline%20Dion%20%26%20Andrea%20Bocelli%20-%20The%20Prayer%20Wav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356000" y="404640"/>
            <a:ext cx="4346640" cy="5905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68360" y="3284640"/>
            <a:ext cx="532764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er el Mund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y sonreír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488360" cy="5869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00000" y="549360"/>
            <a:ext cx="7488360" cy="5904000"/>
          </a:xfrm>
          <a:prstGeom prst="rect">
            <a:avLst/>
          </a:prstGeom>
          <a:noFill/>
          <a:ln w="1332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34544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333440" y="190440"/>
            <a:ext cx="64771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76360" y="260280"/>
            <a:ext cx="626580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272360" cy="5102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26920" y="836640"/>
            <a:ext cx="7274160" cy="5184720"/>
          </a:xfrm>
          <a:prstGeom prst="rect">
            <a:avLst/>
          </a:prstGeom>
          <a:noFill/>
          <a:ln w="1332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632720" cy="5545080"/>
          </a:xfrm>
          <a:prstGeom prst="rect">
            <a:avLst/>
          </a:prstGeom>
          <a:ln w="9360">
            <a:solidFill>
              <a:srgbClr val="66ff33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755640" y="549360"/>
            <a:ext cx="7704000" cy="5688000"/>
          </a:xfrm>
          <a:prstGeom prst="rect">
            <a:avLst/>
          </a:prstGeom>
          <a:noFill/>
          <a:ln w="13320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6985080" cy="5238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55640" y="549360"/>
            <a:ext cx="7704000" cy="5688000"/>
          </a:xfrm>
          <a:prstGeom prst="rect">
            <a:avLst/>
          </a:prstGeom>
          <a:noFill/>
          <a:ln w="1332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5240" y="260280"/>
            <a:ext cx="49766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490160" cy="543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9640" y="404640"/>
            <a:ext cx="8136000" cy="6120000"/>
          </a:xfrm>
          <a:prstGeom prst="rect">
            <a:avLst/>
          </a:prstGeom>
          <a:noFill/>
          <a:ln w="1332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76908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345440" cy="5880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8076960" cy="4535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39640" y="907920"/>
            <a:ext cx="8064720" cy="4681800"/>
          </a:xfrm>
          <a:prstGeom prst="rect">
            <a:avLst/>
          </a:prstGeom>
          <a:noFill/>
          <a:ln w="1332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7200720" cy="5400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1280" y="549360"/>
            <a:ext cx="8064360" cy="5688000"/>
          </a:xfrm>
          <a:prstGeom prst="rect">
            <a:avLst/>
          </a:prstGeom>
          <a:noFill/>
          <a:ln w="1332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03280" y="307800"/>
            <a:ext cx="640872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16000" y="469800"/>
            <a:ext cx="7128000" cy="582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16000" y="0"/>
            <a:ext cx="6912000" cy="6858000"/>
          </a:xfrm>
          <a:prstGeom prst="rect">
            <a:avLst/>
          </a:prstGeom>
          <a:noFill/>
          <a:ln w="1332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712944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619280" y="333360"/>
            <a:ext cx="6048360" cy="6048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619280" y="333360"/>
            <a:ext cx="6121440" cy="5904000"/>
          </a:xfrm>
          <a:prstGeom prst="rect">
            <a:avLst/>
          </a:prstGeom>
          <a:noFill/>
          <a:ln w="1332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48836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34544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6985080" cy="5740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16000" y="549360"/>
            <a:ext cx="6985080" cy="5688000"/>
          </a:xfrm>
          <a:prstGeom prst="rect">
            <a:avLst/>
          </a:prstGeom>
          <a:noFill/>
          <a:ln w="1332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7272360" cy="5454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116000" y="692280"/>
            <a:ext cx="7272360" cy="5545080"/>
          </a:xfrm>
          <a:prstGeom prst="rect">
            <a:avLst/>
          </a:prstGeom>
          <a:noFill/>
          <a:ln w="1332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3 CuadroTexto"/>
          <p:cNvSpPr/>
          <p:nvPr/>
        </p:nvSpPr>
        <p:spPr>
          <a:xfrm>
            <a:off x="0" y="98100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740720" y="6165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33"/>
                </a:solidFill>
                <a:latin typeface="Arial"/>
              </a:rPr>
              <a:t>aj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12 CuadroTexto"/>
          <p:cNvSpPr/>
          <p:nvPr/>
        </p:nvSpPr>
        <p:spPr>
          <a:xfrm>
            <a:off x="684360" y="56610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3e0000"/>
                </a:solidFill>
                <a:latin typeface="Edwardian Script ITC"/>
                <a:ea typeface="Times New Roman"/>
              </a:rPr>
              <a:t>Cé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17 CuadroTexto"/>
          <p:cNvSpPr/>
          <p:nvPr/>
        </p:nvSpPr>
        <p:spPr>
          <a:xfrm>
            <a:off x="826920" y="4941720"/>
            <a:ext cx="27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2600"/>
                </a:solidFill>
                <a:latin typeface="Edwardian Script ITC"/>
                <a:ea typeface="Times New Roman"/>
              </a:rPr>
              <a:t>Bocel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18 CuadroTexto"/>
          <p:cNvSpPr/>
          <p:nvPr/>
        </p:nvSpPr>
        <p:spPr>
          <a:xfrm>
            <a:off x="2050920" y="56610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e0000"/>
                </a:solidFill>
                <a:latin typeface="Edwardian Script ITC"/>
                <a:ea typeface="Times New Roman"/>
              </a:rPr>
              <a:t>D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11 CuadroTexto"/>
          <p:cNvSpPr/>
          <p:nvPr/>
        </p:nvSpPr>
        <p:spPr>
          <a:xfrm>
            <a:off x="611280" y="4941720"/>
            <a:ext cx="16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2600"/>
                </a:solidFill>
                <a:latin typeface="Edwardian Script ITC"/>
                <a:ea typeface="Times New Roman"/>
              </a:rPr>
              <a:t>And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24000" y="836640"/>
            <a:ext cx="532764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er el Mund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y sonreír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003640" y="2009880"/>
            <a:ext cx="3827520" cy="3692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05040" y="895320"/>
            <a:ext cx="5533920" cy="5067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16000" y="549360"/>
            <a:ext cx="6985080" cy="5688000"/>
          </a:xfrm>
          <a:prstGeom prst="rect">
            <a:avLst/>
          </a:prstGeom>
          <a:noFill/>
          <a:ln w="1332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7704000" cy="5473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7345440" cy="5646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921440" cy="5272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1280" y="620640"/>
            <a:ext cx="7921440" cy="5472360"/>
          </a:xfrm>
          <a:prstGeom prst="rect">
            <a:avLst/>
          </a:prstGeom>
          <a:noFill/>
          <a:ln w="1332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476360" y="331920"/>
            <a:ext cx="626436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03280" y="476280"/>
            <a:ext cx="6769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4T17:21:14Z</dcterms:created>
  <dc:creator>Sandro.al®</dc:creator>
  <dc:description>sandrosjrp@hotmail.com</dc:description>
  <dc:language>en-US</dc:language>
  <cp:lastModifiedBy>José Antonio Gonzalez</cp:lastModifiedBy>
  <dcterms:modified xsi:type="dcterms:W3CDTF">2013-03-22T11:50:17Z</dcterms:modified>
  <cp:revision>40</cp:revision>
  <dc:subject>slidemusical</dc:subject>
  <dc:title>ThePrayer</dc:title>
</cp:coreProperties>
</file>