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Celine%20Dion%20%26%20Andrea%20Bocelli%20-%20The%20Prayer%20Wav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8718-621C-4030-A42E-4885549E0EF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A8F3-F0F8-42AB-9553-382A8774957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AE5D-5331-44AF-8A27-9FEFFA83484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1871-F92D-48C3-8AFB-A569DB3FA98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7551-6CA4-4688-A670-8633AB2A954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807E-683E-4BC2-BE93-91DC085066C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0C61-15AA-4D00-BB77-89B019C05AE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6355-0DC2-4131-90A4-B1ACF72A80E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7F45-9B54-4EAD-9727-D6513D6725F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9C9-5A39-438B-8BB7-E5C1E063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4B3-AA94-4640-9C94-18FFCE4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582-DD2A-4766-8625-10CADE3D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106-7675-4CD4-935A-EF8A5FF9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9F6-3632-4ADF-9DC7-E73D85D9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E71-3805-4D58-A71D-FCFACCBC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2F8-AA59-4CA4-BAEA-960DED77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48E-C1CF-46A3-86D5-EB3C4BE2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8A0-A240-48C1-8966-E4C3565E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59C-CD0A-4999-832B-596F0613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E8D-8CC1-46EB-B6D5-0BD57065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8BD-5709-4E98-AE6B-BF953D1D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C949-39F3-408A-862D-0CF63EDE9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eline%20Dion%20%26%20Andrea%20Bocelli%20-%20The%20Prayer%20Wav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346640" cy="590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8360" y="3284640"/>
            <a:ext cx="5327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er el Mund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 sonreí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86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549360"/>
            <a:ext cx="7488360" cy="5904000"/>
          </a:xfrm>
          <a:prstGeom prst="rect">
            <a:avLst/>
          </a:prstGeom>
          <a:noFill/>
          <a:ln w="1332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345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33440" y="190440"/>
            <a:ext cx="6477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2658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272360" cy="510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836640"/>
            <a:ext cx="7274160" cy="5184720"/>
          </a:xfrm>
          <a:prstGeom prst="rect">
            <a:avLst/>
          </a:prstGeom>
          <a:noFill/>
          <a:ln w="133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632720" cy="5545080"/>
          </a:xfrm>
          <a:prstGeom prst="rect">
            <a:avLst/>
          </a:prstGeom>
          <a:ln w="9360">
            <a:solidFill>
              <a:srgbClr val="66ff33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755640" y="549360"/>
            <a:ext cx="7704000" cy="5688000"/>
          </a:xfrm>
          <a:prstGeom prst="rect">
            <a:avLst/>
          </a:prstGeom>
          <a:noFill/>
          <a:ln w="1332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549360"/>
            <a:ext cx="7704000" cy="5688000"/>
          </a:xfrm>
          <a:prstGeom prst="rect">
            <a:avLst/>
          </a:prstGeom>
          <a:noFill/>
          <a:ln w="1332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5240" y="260280"/>
            <a:ext cx="49766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43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404640"/>
            <a:ext cx="8136000" cy="6120000"/>
          </a:xfrm>
          <a:prstGeom prst="rect">
            <a:avLst/>
          </a:prstGeom>
          <a:noFill/>
          <a:ln w="1332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76908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345440" cy="588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6960" cy="453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907920"/>
            <a:ext cx="8064720" cy="4681800"/>
          </a:xfrm>
          <a:prstGeom prst="rect">
            <a:avLst/>
          </a:prstGeom>
          <a:noFill/>
          <a:ln w="1332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49360"/>
            <a:ext cx="8064360" cy="5688000"/>
          </a:xfrm>
          <a:prstGeom prst="rect">
            <a:avLst/>
          </a:prstGeom>
          <a:noFill/>
          <a:ln w="1332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307800"/>
            <a:ext cx="640872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469800"/>
            <a:ext cx="712800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16000" y="0"/>
            <a:ext cx="6912000" cy="6858000"/>
          </a:xfrm>
          <a:prstGeom prst="rect">
            <a:avLst/>
          </a:prstGeom>
          <a:noFill/>
          <a:ln w="1332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1294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048360" cy="6048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333360"/>
            <a:ext cx="6121440" cy="5904000"/>
          </a:xfrm>
          <a:prstGeom prst="rect">
            <a:avLst/>
          </a:prstGeom>
          <a:noFill/>
          <a:ln w="1332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88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54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985080" cy="574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6000" y="549360"/>
            <a:ext cx="6985080" cy="5688000"/>
          </a:xfrm>
          <a:prstGeom prst="rect">
            <a:avLst/>
          </a:prstGeom>
          <a:noFill/>
          <a:ln w="1332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272360" cy="545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16000" y="692280"/>
            <a:ext cx="7272360" cy="5545080"/>
          </a:xfrm>
          <a:prstGeom prst="rect">
            <a:avLst/>
          </a:prstGeom>
          <a:noFill/>
          <a:ln w="1332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CuadroTexto"/>
          <p:cNvSpPr/>
          <p:nvPr/>
        </p:nvSpPr>
        <p:spPr>
          <a:xfrm>
            <a:off x="0" y="981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40720" y="6165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33"/>
                </a:solidFill>
                <a:latin typeface="Arial"/>
              </a:rPr>
              <a:t>aj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2 CuadroTexto"/>
          <p:cNvSpPr/>
          <p:nvPr/>
        </p:nvSpPr>
        <p:spPr>
          <a:xfrm>
            <a:off x="684360" y="5661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e0000"/>
                </a:solidFill>
                <a:latin typeface="Edwardian Script ITC"/>
                <a:ea typeface="Times New Roman"/>
              </a:rPr>
              <a:t>Cé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7 CuadroTexto"/>
          <p:cNvSpPr/>
          <p:nvPr/>
        </p:nvSpPr>
        <p:spPr>
          <a:xfrm>
            <a:off x="826920" y="4941720"/>
            <a:ext cx="27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2600"/>
                </a:solidFill>
                <a:latin typeface="Edwardian Script ITC"/>
                <a:ea typeface="Times New Roman"/>
              </a:rPr>
              <a:t>Bocel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8 CuadroTexto"/>
          <p:cNvSpPr/>
          <p:nvPr/>
        </p:nvSpPr>
        <p:spPr>
          <a:xfrm>
            <a:off x="2050920" y="5661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e0000"/>
                </a:solidFill>
                <a:latin typeface="Edwardian Script ITC"/>
                <a:ea typeface="Times New Roman"/>
              </a:rPr>
              <a:t>D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1 CuadroTexto"/>
          <p:cNvSpPr/>
          <p:nvPr/>
        </p:nvSpPr>
        <p:spPr>
          <a:xfrm>
            <a:off x="611280" y="4941720"/>
            <a:ext cx="16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2600"/>
                </a:solidFill>
                <a:latin typeface="Edwardian Script ITC"/>
                <a:ea typeface="Times New Roman"/>
              </a:rPr>
              <a:t>And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4000" y="836640"/>
            <a:ext cx="5327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er el Mund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 sonreí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03640" y="2009880"/>
            <a:ext cx="3827520" cy="369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05040" y="895320"/>
            <a:ext cx="5533920" cy="506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000" y="549360"/>
            <a:ext cx="6985080" cy="5688000"/>
          </a:xfrm>
          <a:prstGeom prst="rect">
            <a:avLst/>
          </a:prstGeom>
          <a:noFill/>
          <a:ln w="1332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704000" cy="547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345440" cy="564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21440" cy="52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620640"/>
            <a:ext cx="7921440" cy="5472360"/>
          </a:xfrm>
          <a:prstGeom prst="rect">
            <a:avLst/>
          </a:prstGeom>
          <a:noFill/>
          <a:ln w="133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76360" y="331920"/>
            <a:ext cx="62643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769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7:21:14Z</dcterms:created>
  <dc:creator>Sandro.al®</dc:creator>
  <dc:description>sandrosjrp@hotmail.com</dc:description>
  <dc:language>en-US</dc:language>
  <cp:lastModifiedBy>José Antonio Gonzalez</cp:lastModifiedBy>
  <dcterms:modified xsi:type="dcterms:W3CDTF">2013-03-22T11:50:17Z</dcterms:modified>
  <cp:revision>40</cp:revision>
  <dc:subject>slidemusical</dc:subject>
  <dc:title>ThePrayer</dc:title>
</cp:coreProperties>
</file>