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464-85CC-4FF6-9AAD-3515EDA5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B02-D9B7-4CB5-A9C4-FDF74C81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AB6-A46C-4775-9F4C-292598A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BA5-EBEC-414A-A3D6-132F57AA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2A5-F364-42F1-982D-752B4F63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347-5F74-4595-B50F-03C89F08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481-841A-44BD-9DE1-1BBE3950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E30-5B5C-414B-BFCA-CC0A891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B79-366E-4BF8-A984-011A24F8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11B6-7DD7-4AEC-A8FD-F47EA6EE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F9C6-514E-4B45-AC28-8291CF7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C4F-877A-447F-8079-E1DD762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6BE-39AD-42DE-AF15-51545DA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3A9E-47E9-4BD3-9424-82B047C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8AE2-45B8-4CB2-8CD5-BC4D3CB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10D-270B-47E9-A916-D35D8AE4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8494-C667-4572-B604-055D2490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930-6BA0-47EC-BCAE-1EED4F9F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784-8848-45F0-B453-A33ED8BC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67C-66C8-4F44-A953-87A3F671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40E-A130-4BBE-A677-6460F04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7F-0423-4171-A624-D5243A5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BE2-7BD7-4A6C-98B8-9E04FE8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963-AB7C-4B0A-9BED-BF0061B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2DCA-E14D-4203-BB06-E0DD27DD01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81E-C703-4BA1-B15D-B79A0A3F972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Jean-Thomas</a:t>
            </a:r>
            <a:r>
              <a:rPr b="1" lang="en-US" sz="4400" spc="-1" strike="noStrike">
                <a:solidFill>
                  <a:srgbClr val="ff0000"/>
                </a:solidFill>
                <a:latin typeface="Magneto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Job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619600" y="2997360"/>
            <a:ext cx="2443320" cy="3419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042920" y="3914640"/>
            <a:ext cx="3097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Qui est Jean-Thomas Jobin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Jean-Thomas Jobin est un humoriste absurde Québécoi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 a fait son secondaire au Séminaire St-François, ou il écrivait le journal étudiant avec des nouvelles absurd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Je vous parlerai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 sa biograph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 biographie qu’on a pas besoin de savoi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s galas d’humour auxquels il a particip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t quelques petites blagu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Sa Biograph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Jean-Thomas a 31 a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est originaire se Ste-Foy, près de Québe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a été à l’École Nationale de l’Humour en 1999/20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À peine sorti de l’école, Jean-Thomas se faisait déjà remarquer dans les ru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n premier gala a été a l’été 2001, Avec les Denis Drolet, dont ils nommèrent: Le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show absur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 octobre 2005, il a fait son premier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One-man-sh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a biographie qu’on a pas besoin de savoi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l s’est acheté un sundae le 5 avril 1986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n Four micro-ondes est un Toshib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l a trois chiens, dont deux sont des chats et le troisième aussi, il a donc trois cha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ups, il au aussi 2 hamsters, dont 1 est un chat, il a donc 1 hamster, 4 chats et 0 chi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Les galas d’hum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 2001 et 2002, il monta le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Show Absurde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1 et 2) avec les Denis Drole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s’envola en Europe en 2003 pour faire découvrir son univers loufoque, a Cavaillon en Prov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l a fait sont premier </a:t>
            </a:r>
            <a:r>
              <a:rPr b="0" i="1" lang="en-US" sz="2800" spc="-1" strike="noStrike">
                <a:solidFill>
                  <a:srgbClr val="ffffff"/>
                </a:solidFill>
                <a:latin typeface="Impact"/>
              </a:rPr>
              <a:t>One-man-show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n 2003 (je me répète?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n 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J’ai aimé vous parler de Jean-Thomas Jobin, Car pour il fait des blagues que les autres humoristes me feront pas rire et que lui me fait rire a cause de son style d’humour et de la façon dont il le d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 rot="19925400">
            <a:off x="539280" y="1628280"/>
            <a:ext cx="6748560" cy="26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Merci de m'avoir ecou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21:30:16Z</dcterms:created>
  <dc:creator>Alex</dc:creator>
  <dc:description/>
  <dc:language>en-US</dc:language>
  <cp:lastModifiedBy>Alex</cp:lastModifiedBy>
  <dcterms:modified xsi:type="dcterms:W3CDTF">2008-09-28T23:02:01Z</dcterms:modified>
  <cp:revision>4</cp:revision>
  <dc:subject/>
  <dc:title>Jean-Thomas Jobin</dc:title>
</cp:coreProperties>
</file>