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DF4-6D97-4442-B723-E3ED8296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00B-2014-4B83-A610-4E443DE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590-F07D-4B6E-877E-AD26E82E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BF2-D8C7-4E3B-8FBE-2AC01A1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B719-E38E-4464-9EC2-958CC272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1C52-D4A1-478E-9A32-C10041F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5088-67CF-4ECA-9A97-E3C71494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08D8-4574-4D68-9A7D-BE68BB9F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A707-F5D6-4F18-8C29-668AE3CC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6F54-BF79-48E1-A2C4-3D769FD8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A237-699D-4F6E-8C30-4F8D853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C84-CCF7-4B79-80DB-11CE528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144D-1F86-4565-B065-1DA314C1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4525-C5B2-4231-833F-552044D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06B-3F20-417A-AA65-3D9EC635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3687-1A7B-4B0B-A133-7FEA06FE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76CA-BEA5-4561-B722-90C03EB6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C1F-A5D5-4272-8AC5-27504D80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E08-020E-44FD-9942-972DB21D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463-7261-411F-A217-89288A17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1CA-9BF7-45E9-ACD3-E63B2E6D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D02-97D1-4845-A0CB-6438CB89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41F-8003-4F7C-97EB-80B6173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AEE-2692-477A-9642-5406902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4DAF-1B10-4FA0-98FB-04E47B4BA3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D19C-15E8-4C06-A82D-E90D74F577B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Jean-Thomas</a:t>
            </a:r>
            <a:r>
              <a:rPr b="1" lang="en-US" sz="4400" spc="-1" strike="noStrike">
                <a:solidFill>
                  <a:srgbClr val="ff0000"/>
                </a:solidFill>
                <a:latin typeface="Magneto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Job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619600" y="2997360"/>
            <a:ext cx="2443320" cy="3419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042920" y="3914640"/>
            <a:ext cx="3097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Qui est Jean-Thomas Jobin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Jean-Thomas Jobin est un humoriste absurde Québécoi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l a fait son secondaire au Séminaire St-François, ou il écrivait le journal étudiant avec des nouvelles absurd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Je vous parlerai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 sa biograph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a biographie qu’on a pas besoin de savoi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s galas d’humour auxquels il a particip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t quelques petites blagu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Sa Biographi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Jean-Thomas a 31 a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est originaire se Ste-Foy, près de Québe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a été à l’École Nationale de l’Humour en 1999/200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À peine sorti de l’école, Jean-Thomas se faisait déjà remarquer dans les ru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n premier gala a été a l’été 2001, Avec les Denis Drolet, dont ils nommèrent: Le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show absur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 octobre 2005, il a fait son premier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One-man-sh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a biographie qu’on a pas besoin de savoi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l s’est acheté un sundae le 5 avril 1986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on Four micro-ondes est un Toshib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l a trois chiens, dont deux sont des chats et le troisième aussi, il a donc trois cha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ups, il au aussi 2 hamsters, dont 1 est un chat, il a donc 1 hamster, 4 chats et 0 chi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Les galas d’humou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 2001 et 2002, il monta le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Show Absurde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1 et 2) avec les Denis Drole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s’envola en Europe en 2003 pour faire découvrir son univers loufoque, a Cavaillon en Prov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a fait sont premier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One-man-show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n 2003 (je me répète?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n conclu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J’ai aimé vous parler de Jean-Thomas Jobin, Car pour il fait des blagues que les autres humoristes me feront pas rire et que lui me fait rire a cause de son style d’humour et de la façon dont il le di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 rot="19925400">
            <a:off x="539280" y="1628280"/>
            <a:ext cx="6748560" cy="26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Merci de m'avoir ecou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21:30:16Z</dcterms:created>
  <dc:creator>Alex</dc:creator>
  <dc:description/>
  <dc:language>en-US</dc:language>
  <cp:lastModifiedBy>Alex</cp:lastModifiedBy>
  <dcterms:modified xsi:type="dcterms:W3CDTF">2008-09-28T23:02:01Z</dcterms:modified>
  <cp:revision>4</cp:revision>
  <dc:subject/>
  <dc:title>Jean-Thomas Jobin</dc:title>
</cp:coreProperties>
</file>