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48E-D968-4822-AAF7-D4DEFA2B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DC2-267C-4D0D-9134-512CC34F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3BC-6866-4267-8A16-9498C7C4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BD6-7EB6-4545-BF2D-2061CE12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409-99ED-4716-AD07-2E33392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A54-A5BC-4B75-8BEF-09DC373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F2F-85AE-4546-A991-1ADB870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14C-3723-42B7-8DA5-071FEAD9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AA6-8AD5-4B7C-A39F-3FD646E3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505-5C67-491B-9EE2-A5F2DFF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C8A-937D-45EB-A452-B127E0E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43B-AFDF-45E9-9917-56431C6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FC9-F28B-4C34-BC77-D151292C5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quare Waves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Mason Reidling, Collin Pruitt, Annemarie Ruhl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(x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990720" y="2004840"/>
            <a:ext cx="7162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(x) + ⅓ sin(3x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990720" y="2081160"/>
            <a:ext cx="71625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(x) + ⅓ sin(3x) + ⅕ sin(5x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tretch/>
        </p:blipFill>
        <p:spPr>
          <a:xfrm>
            <a:off x="990720" y="2081160"/>
            <a:ext cx="71625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n(x) + ⅓ sin(3x) + ⅕ sin(5x) + 1/19 sin(19x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990720" y="2052720"/>
            <a:ext cx="71625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 observ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graph has one more bump in the wave than the graph befor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plitude remained the s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od increased as the number of bumps in the wave incr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havior pred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324000" y="1523880"/>
            <a:ext cx="8570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evant to alternating cur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ng current is based around two waves of energy flowing through the same wire while being out of phase with each 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ose waves become in phase, then there’s extremely high resistance, which generates heat that can start fires and otherwise cause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1:17:19Z</dcterms:created>
  <dc:creator>Mason Reidling</dc:creator>
  <dc:description/>
  <dc:language>en-US</dc:language>
  <cp:lastModifiedBy>Collin</cp:lastModifiedBy>
  <dcterms:modified xsi:type="dcterms:W3CDTF">2013-03-07T09:20:14Z</dcterms:modified>
  <cp:revision>7</cp:revision>
  <dc:subject/>
  <dc:title>Square Waves Project</dc:title>
</cp:coreProperties>
</file>