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CFA6-3217-4EC0-97F8-0612E55694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mind students of EBS as relational database: Students, Courses, Staff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7157-EB2C-4313-9993-36B80BEB26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72F8-9240-4066-8C28-1F950F0FC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32A0-CE36-4179-8250-D33ECFA2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4CE5-0F3E-4F39-8CE5-2140BC30D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F4F9-AD13-43D8-90B0-B626B6BC1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55AB-AD8D-4F62-A1E4-B70B177E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B551-516C-4338-A801-6D5C063B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17C3-99DA-49EA-9A1B-5C7F49D7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6579-E680-4811-9A7F-D9C6E2E2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0A6B-CCD9-45AE-9B2D-C99AD094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C136-70CC-4969-ABD1-B3A13161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C101-DD4F-4D70-8E7D-084A9973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F39F-12B2-4E79-849C-565B67BD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741F-2063-48FC-B713-53C1E941A0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lational Data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y features of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rma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iminate duplicate columns from the same t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e separate tables for each group of related data and identify each row with a unique column (the primary ke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databases.about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539640" y="3933720"/>
            <a:ext cx="820908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TIENT(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PatientNumber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rname, FirstName, Title, DateOfBirth, AddressCode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FF(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taffNumb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Surname, FirstName, Position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OINTMENT(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PatientNumb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taffNumb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diagnosis, treatment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RESS(AddressCode,House no./name, street name, village, town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earch Normalisat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Normal Form (1N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Normal Form (2N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Normal Form (3N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atabases.about.com/od/specificproducts/a/firstnormalform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atabases.about.com/od/specificproducts/a/2nf.ht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Referential Integ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be established between some ent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relationship shows that one cannot exist without the other, in one direction, but the other can exist without the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ent:Child”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tient record exists without a ‘Medical History’ record, but the ‘Medical History’ could not exist without the pati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C:\Users\hward\AppData\Local\Microsoft\Windows\Temporary Internet Files\Content.IE5\MAQOT4EA\MC900280495[1].wmf"/>
          <p:cNvPicPr/>
          <p:nvPr/>
        </p:nvPicPr>
        <p:blipFill>
          <a:blip r:embed="rId1"/>
          <a:stretch/>
        </p:blipFill>
        <p:spPr>
          <a:xfrm>
            <a:off x="7693200" y="549360"/>
            <a:ext cx="12286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bases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a datab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are they used f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are their benefits and disadvantag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lain a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relation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atabase compared to a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flat-fil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b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lain key terminology and their meanings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mary Key (foreign and composite ke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rma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integ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erential integ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 your bibli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39640" y="981000"/>
          <a:ext cx="8209080" cy="457200"/>
        </p:xfrm>
        <a:graphic>
          <a:graphicData uri="http://schemas.openxmlformats.org/drawingml/2006/table">
            <a:tbl>
              <a:tblPr/>
              <a:tblGrid>
                <a:gridCol w="1046160"/>
                <a:gridCol w="7162920"/>
              </a:tblGrid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Explain the features of a relational datab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39640" y="1484280"/>
          <a:ext cx="8209080" cy="609480"/>
        </p:xfrm>
        <a:graphic>
          <a:graphicData uri="http://schemas.openxmlformats.org/drawingml/2006/table">
            <a:tbl>
              <a:tblPr/>
              <a:tblGrid>
                <a:gridCol w="1046160"/>
                <a:gridCol w="716292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M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Explain referential integrity and the purpose of primary keys in building the relationships between ta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92" name="TextBox 3"/>
          <p:cNvSpPr/>
          <p:nvPr/>
        </p:nvSpPr>
        <p:spPr>
          <a:xfrm>
            <a:off x="5364000" y="494172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trib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ssignment Tas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vestigate a variety of databases an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eate display material (e.g. guide, poster or presentation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explain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features of a relational databa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how they work, using examples from your research to support the description wherever usefu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Recognise </a:t>
            </a:r>
            <a:r>
              <a:rPr b="1" lang="en-GB" sz="2500" spc="-1" strike="noStrike">
                <a:solidFill>
                  <a:srgbClr val="222268"/>
                </a:solidFill>
                <a:latin typeface="Arial"/>
              </a:rPr>
              <a:t>key features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of a relational databa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xplain how </a:t>
            </a:r>
            <a:r>
              <a:rPr b="1" lang="en-GB" sz="2500" spc="-1" strike="noStrike">
                <a:solidFill>
                  <a:srgbClr val="ff0000"/>
                </a:solidFill>
                <a:latin typeface="Arial"/>
              </a:rPr>
              <a:t>entities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500" spc="-1" strike="noStrike">
                <a:solidFill>
                  <a:srgbClr val="ff0000"/>
                </a:solidFill>
                <a:latin typeface="Arial"/>
              </a:rPr>
              <a:t>attributes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are recorded in a databa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Demonstrate how tables </a:t>
            </a:r>
            <a:r>
              <a:rPr b="1" lang="en-GB" sz="2500" spc="-1" strike="noStrike">
                <a:solidFill>
                  <a:srgbClr val="ff0000"/>
                </a:solidFill>
                <a:latin typeface="Arial"/>
              </a:rPr>
              <a:t>relate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to one anoth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Describe the </a:t>
            </a:r>
            <a:r>
              <a:rPr b="1" lang="en-GB" sz="2500" spc="-1" strike="noStrike">
                <a:solidFill>
                  <a:srgbClr val="ff0000"/>
                </a:solidFill>
                <a:latin typeface="Arial"/>
              </a:rPr>
              <a:t>benefits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of using electronic databa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xplain </a:t>
            </a:r>
            <a:r>
              <a:rPr b="1" lang="en-GB" sz="2500" spc="-1" strike="noStrike">
                <a:solidFill>
                  <a:srgbClr val="222268"/>
                </a:solidFill>
                <a:latin typeface="Arial"/>
              </a:rPr>
              <a:t>referential integrity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and the purpose of </a:t>
            </a:r>
            <a:r>
              <a:rPr b="1" lang="en-GB" sz="2500" spc="-1" strike="noStrike">
                <a:solidFill>
                  <a:srgbClr val="222268"/>
                </a:solidFill>
                <a:latin typeface="Arial"/>
              </a:rPr>
              <a:t>primary keys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in building the relationships between tab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Identify one-to-one, one-to-many and many-to-many </a:t>
            </a:r>
            <a:r>
              <a:rPr b="1" lang="en-GB" sz="2500" spc="-1" strike="noStrike">
                <a:solidFill>
                  <a:srgbClr val="ff0000"/>
                </a:solidFill>
                <a:latin typeface="Arial"/>
              </a:rPr>
              <a:t>relationship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ick 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258920" y="2708280"/>
            <a:ext cx="684216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http://www.catawba.k12.nc.us/pages/sites/edwebsites/computerskills/quizzes/databasequiz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Recognise </a:t>
            </a:r>
            <a:r>
              <a:rPr b="1" lang="en-GB" sz="2500" spc="-1" strike="noStrike">
                <a:solidFill>
                  <a:srgbClr val="222268"/>
                </a:solidFill>
                <a:latin typeface="Arial"/>
              </a:rPr>
              <a:t>key features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of a relational databa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xplain how </a:t>
            </a:r>
            <a:r>
              <a:rPr b="1" lang="en-GB" sz="2500" spc="-1" strike="noStrike">
                <a:solidFill>
                  <a:srgbClr val="ff0000"/>
                </a:solidFill>
                <a:latin typeface="Arial"/>
              </a:rPr>
              <a:t>entities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500" spc="-1" strike="noStrike">
                <a:solidFill>
                  <a:srgbClr val="ff0000"/>
                </a:solidFill>
                <a:latin typeface="Arial"/>
              </a:rPr>
              <a:t>attributes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are recorded in a databa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Demonstrate how tables </a:t>
            </a:r>
            <a:r>
              <a:rPr b="1" lang="en-GB" sz="2500" spc="-1" strike="noStrike">
                <a:solidFill>
                  <a:srgbClr val="ff0000"/>
                </a:solidFill>
                <a:latin typeface="Arial"/>
              </a:rPr>
              <a:t>relate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to one anoth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Describe the </a:t>
            </a:r>
            <a:r>
              <a:rPr b="1" lang="en-GB" sz="2500" spc="-1" strike="noStrike">
                <a:solidFill>
                  <a:srgbClr val="ff0000"/>
                </a:solidFill>
                <a:latin typeface="Arial"/>
              </a:rPr>
              <a:t>benefits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of using electronic databa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xplain </a:t>
            </a:r>
            <a:r>
              <a:rPr b="1" lang="en-GB" sz="2500" spc="-1" strike="noStrike">
                <a:solidFill>
                  <a:srgbClr val="222268"/>
                </a:solidFill>
                <a:latin typeface="Arial"/>
              </a:rPr>
              <a:t>referential integrity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and the purpose of </a:t>
            </a:r>
            <a:r>
              <a:rPr b="1" lang="en-GB" sz="2500" spc="-1" strike="noStrike">
                <a:solidFill>
                  <a:srgbClr val="222268"/>
                </a:solidFill>
                <a:latin typeface="Arial"/>
              </a:rPr>
              <a:t>primary keys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in building the relationships between tab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Identify one-to-one, one-to-many and many-to-many </a:t>
            </a:r>
            <a:r>
              <a:rPr b="1" lang="en-GB" sz="2500" spc="-1" strike="noStrike">
                <a:solidFill>
                  <a:srgbClr val="ff0000"/>
                </a:solidFill>
                <a:latin typeface="Arial"/>
              </a:rPr>
              <a:t>relationship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Criteria Addres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1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ain the features of a relational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art M1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ain referential integrity and the purpose of primary keys in building the relationships betwee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signment 1 Task 1 on Black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ap</a:t>
            </a:r>
            <a:br>
              <a:rPr sz="28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lectronic Databa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lowchart: Alternate Process 2"/>
          <p:cNvSpPr/>
          <p:nvPr/>
        </p:nvSpPr>
        <p:spPr>
          <a:xfrm>
            <a:off x="3276720" y="2997360"/>
            <a:ext cx="2374920" cy="863280"/>
          </a:xfrm>
          <a:prstGeom prst="flowChartAlternateProcess">
            <a:avLst/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ap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ectronic Data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lowchart: Alternate Process 4"/>
          <p:cNvSpPr/>
          <p:nvPr/>
        </p:nvSpPr>
        <p:spPr>
          <a:xfrm>
            <a:off x="3276720" y="2997360"/>
            <a:ext cx="2374920" cy="863280"/>
          </a:xfrm>
          <a:prstGeom prst="flowChartAlternateProcess">
            <a:avLst/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sadvantage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ings to re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3"/>
          <p:cNvGrpSpPr/>
          <p:nvPr/>
        </p:nvGrpSpPr>
        <p:grpSpPr>
          <a:xfrm>
            <a:off x="2898720" y="5362560"/>
            <a:ext cx="79560" cy="189000"/>
            <a:chOff x="2898720" y="5362560"/>
            <a:chExt cx="79560" cy="189000"/>
          </a:xfrm>
        </p:grpSpPr>
        <p:sp>
          <p:nvSpPr>
            <p:cNvPr id="61" name="SMARTInkAnnotation0"/>
            <p:cNvSpPr/>
            <p:nvPr/>
          </p:nvSpPr>
          <p:spPr>
            <a:xfrm>
              <a:off x="2925720" y="5362560"/>
              <a:ext cx="12600" cy="1890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12803" h="189413">
                  <a:moveTo>
                    <a:pt x="6266" y="0"/>
                  </a:moveTo>
                  <a:lnTo>
                    <a:pt x="639" y="0"/>
                  </a:lnTo>
                  <a:lnTo>
                    <a:pt x="337" y="725"/>
                  </a:lnTo>
                  <a:lnTo>
                    <a:pt x="0" y="3467"/>
                  </a:lnTo>
                  <a:lnTo>
                    <a:pt x="636" y="5940"/>
                  </a:lnTo>
                  <a:lnTo>
                    <a:pt x="1787" y="9040"/>
                  </a:lnTo>
                  <a:lnTo>
                    <a:pt x="3280" y="12558"/>
                  </a:lnTo>
                  <a:lnTo>
                    <a:pt x="4276" y="16355"/>
                  </a:lnTo>
                  <a:lnTo>
                    <a:pt x="4939" y="20338"/>
                  </a:lnTo>
                  <a:lnTo>
                    <a:pt x="5381" y="24444"/>
                  </a:lnTo>
                  <a:lnTo>
                    <a:pt x="6403" y="29359"/>
                  </a:lnTo>
                  <a:lnTo>
                    <a:pt x="7809" y="34813"/>
                  </a:lnTo>
                  <a:lnTo>
                    <a:pt x="9473" y="40626"/>
                  </a:lnTo>
                  <a:lnTo>
                    <a:pt x="10583" y="46678"/>
                  </a:lnTo>
                  <a:lnTo>
                    <a:pt x="11323" y="52890"/>
                  </a:lnTo>
                  <a:lnTo>
                    <a:pt x="11816" y="59209"/>
                  </a:lnTo>
                  <a:lnTo>
                    <a:pt x="12144" y="65598"/>
                  </a:lnTo>
                  <a:lnTo>
                    <a:pt x="12510" y="78503"/>
                  </a:lnTo>
                  <a:lnTo>
                    <a:pt x="12791" y="130633"/>
                  </a:lnTo>
                  <a:lnTo>
                    <a:pt x="12802" y="1894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SMARTInkAnnotation1"/>
            <p:cNvSpPr/>
            <p:nvPr/>
          </p:nvSpPr>
          <p:spPr>
            <a:xfrm>
              <a:off x="2898720" y="5408640"/>
              <a:ext cx="79560" cy="12600"/>
            </a:xfrm>
            <a:custGeom>
              <a:avLst/>
              <a:gdLst>
                <a:gd name="textAreaLeft" fmla="*/ 0 w 79560"/>
                <a:gd name="textAreaRight" fmla="*/ 79560 w 795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8424" h="13064">
                  <a:moveTo>
                    <a:pt x="0" y="0"/>
                  </a:moveTo>
                  <a:lnTo>
                    <a:pt x="6939" y="0"/>
                  </a:lnTo>
                  <a:lnTo>
                    <a:pt x="10435" y="726"/>
                  </a:lnTo>
                  <a:lnTo>
                    <a:pt x="14218" y="1935"/>
                  </a:lnTo>
                  <a:lnTo>
                    <a:pt x="18192" y="3467"/>
                  </a:lnTo>
                  <a:lnTo>
                    <a:pt x="28417" y="7105"/>
                  </a:lnTo>
                  <a:lnTo>
                    <a:pt x="34194" y="9091"/>
                  </a:lnTo>
                  <a:lnTo>
                    <a:pt x="41675" y="10414"/>
                  </a:lnTo>
                  <a:lnTo>
                    <a:pt x="50294" y="11298"/>
                  </a:lnTo>
                  <a:lnTo>
                    <a:pt x="78423" y="1306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lat File vs Relat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3848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at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ngle ‘chunk’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format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fficult to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…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Content Placeholder 9" descr="Screen Clipping"/>
          <p:cNvPicPr/>
          <p:nvPr/>
        </p:nvPicPr>
        <p:blipFill>
          <a:blip r:embed="rId1"/>
          <a:stretch/>
        </p:blipFill>
        <p:spPr>
          <a:xfrm>
            <a:off x="4643280" y="3068640"/>
            <a:ext cx="4038840" cy="57960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4427640" y="378936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separate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6588000" y="378936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separate 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0"/>
          <p:cNvSpPr/>
          <p:nvPr/>
        </p:nvSpPr>
        <p:spPr>
          <a:xfrm>
            <a:off x="2771640" y="6099120"/>
            <a:ext cx="608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computer.howstuffworks.com/question599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"/>
          <p:cNvSpPr/>
          <p:nvPr/>
        </p:nvSpPr>
        <p:spPr>
          <a:xfrm>
            <a:off x="5015520" y="1700280"/>
            <a:ext cx="3341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list of information in a text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lat File vs Relat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2205000"/>
            <a:ext cx="40384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l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matted in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ups field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nked multipl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…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Content Placeholder 6" descr="Screen Clipping"/>
          <p:cNvPicPr/>
          <p:nvPr/>
        </p:nvPicPr>
        <p:blipFill>
          <a:blip r:embed="rId1"/>
          <a:stretch/>
        </p:blipFill>
        <p:spPr>
          <a:xfrm>
            <a:off x="4500720" y="3933720"/>
            <a:ext cx="4038480" cy="1494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7"/>
          <p:cNvSpPr/>
          <p:nvPr/>
        </p:nvSpPr>
        <p:spPr>
          <a:xfrm>
            <a:off x="6012000" y="3429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3348000" y="4581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9"/>
          <p:cNvSpPr/>
          <p:nvPr/>
        </p:nvSpPr>
        <p:spPr>
          <a:xfrm>
            <a:off x="2771640" y="6099120"/>
            <a:ext cx="608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computer.howstuffworks.com/question599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"/>
          <p:cNvSpPr/>
          <p:nvPr/>
        </p:nvSpPr>
        <p:spPr>
          <a:xfrm>
            <a:off x="4230720" y="1628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 linked tables to stor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igned by E.F. Codd [IBM] in 19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uilding Relation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bles linked by matching field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rmalis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ing data redundancy (the need to duplicate data such as names and addres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mary, Secondary and Composite K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http://www.databasedev.co.uk/image/northwind_relationships.gif"/>
          <p:cNvPicPr/>
          <p:nvPr/>
        </p:nvPicPr>
        <p:blipFill>
          <a:blip r:embed="rId1"/>
          <a:stretch/>
        </p:blipFill>
        <p:spPr>
          <a:xfrm>
            <a:off x="4648320" y="2063880"/>
            <a:ext cx="4038480" cy="35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1:13:07Z</dcterms:created>
  <dc:creator>Northbrook College</dc:creator>
  <dc:description/>
  <dc:language>en-US</dc:language>
  <cp:lastModifiedBy>Hugh Dingwall</cp:lastModifiedBy>
  <cp:lastPrinted>2013-02-11T16:01:29Z</cp:lastPrinted>
  <dcterms:modified xsi:type="dcterms:W3CDTF">2013-03-04T11:55:50Z</dcterms:modified>
  <cp:revision>30</cp:revision>
  <dc:subject/>
  <dc:title>Databases – Task 1</dc:title>
</cp:coreProperties>
</file>