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E813-D256-4A45-8497-0CB080C7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AA75-34A5-4547-94A5-95926242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A09B-A7DA-4E7D-89DA-1B57918C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0D9-836F-49C1-8A0B-29F7446C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935A-9AB3-4794-B407-0330DD3C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01B5-4EC7-4F49-80E8-9C049753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2515-84BE-4248-99B0-44D7A807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6555-55C2-4295-A3F5-6DEB2E7B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2E30-B1CB-4C06-9373-7A5E612D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23288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1F98-B8C0-47F4-80DF-DC1E2D18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660D-EFB2-4B40-A803-7FBC04BC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C239-D8D0-4520-A929-4816B60A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A91C-B107-447B-A04C-ACB1CA84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272E-1451-4BB3-9765-0CA098D1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F8F6-E685-4FD1-8940-BAEFB6F6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941F-D3A9-4CB1-A817-81DDE649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157A-BF45-4CC4-AF3B-FD1B011E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4D017-9541-4F43-BA9E-51EDE1CC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A7709-08BF-4379-8793-99807812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44AA0-D2AF-4915-9A18-79C24DD0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2E141-F175-455E-8ED0-3856B63B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37395-7D64-46EC-9BCA-46CA315F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72A-23E9-47B5-9AC2-9433A6C4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23288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AD3E7-BD5B-4FCA-81C8-7CDF18CD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36892-FDAD-4840-9E78-B8542833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EB257-80CE-4684-90B2-2D84D479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D9CAD-8AA1-498F-8F7D-34089A7C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B8F53-6994-4D48-9740-29E68825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BA5F5-A1CB-4333-8E99-E60742F7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4E0C6-4F4E-44D6-8071-3EFFA21C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B9B04-D1D1-419D-BE8C-5355604D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09EAD-2B18-428E-8F55-9E36E9C7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35E2D-2B6C-4675-8569-632A2EF6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3091-BBC4-4B36-A73B-C5000570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670AE-AE57-4287-9575-8FDA47FD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B2E25-759F-405F-8DF8-510FC00B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23288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0CF57-3BD0-4463-A19B-7FA5E848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D1FE0-6E91-4CD5-A03B-A2AB16AB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07F6D-C6C4-4C4A-9178-F97F05E9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78C2E-14D8-448A-B444-98AD0A0B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6CEC3-A59C-48F2-979E-5F1F947B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7C5DA-926A-45B5-A7A2-6899E96F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810F6-AC88-406B-8FCC-C282B193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8DF96-91E8-4EDB-AAA3-539A6426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E5A-B252-4ED9-9C0E-F1788543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6EECF-0B44-46F6-9311-5C30A1DF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7EF0F-DEEB-4E88-839F-E1EBB90F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8596B-2072-46AE-8915-562AE49B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24C60-3E7A-4CC8-A2DE-7B11D1F9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23288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2F33A-B17D-46BF-88F0-0E8C227E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0281E-EB1B-4DB2-8A97-0E837D21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C3E79-C50A-4591-B0B6-D207377E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9021A-C0CE-42D7-9BE8-A3D61B9C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209CC-5191-4A24-991D-8627E69D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BA3E7-79EC-416F-A6BC-7B6BE19F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23288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7181-C6AA-431E-A3CF-93AA8A3D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CE563-634F-42BE-AD1A-E2D875B0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A66A-CF94-412B-950D-D57F3521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E78E-391F-4E0B-8558-B1203E93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2E0-74E6-4205-98DD-34DD89C8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401760"/>
            <a:ext cx="8686800" cy="109836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166240" y="996840"/>
            <a:ext cx="977760" cy="89532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1782720" y="0"/>
            <a:ext cx="1947960" cy="53964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0"/>
            <a:ext cx="2432160" cy="5396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3288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119E-15D3-47E3-9C0C-C4DAD16B70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8210520" y="2789280"/>
            <a:ext cx="933480" cy="10047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2130480"/>
            <a:ext cx="8458200" cy="91440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495520" y="0"/>
            <a:ext cx="1711440" cy="235908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0"/>
            <a:ext cx="2789280" cy="2359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3288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1E04-1182-49C5-891D-38B8166DCA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8210520" y="2789280"/>
            <a:ext cx="933480" cy="10047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2130480"/>
            <a:ext cx="8458200" cy="91440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495520" y="0"/>
            <a:ext cx="1711440" cy="235908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2789280" cy="267012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3288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8426-4AE7-40B5-84CF-019913200C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5bc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0"/>
            <a:ext cx="9144000" cy="301680"/>
          </a:xfrm>
          <a:prstGeom prst="rect">
            <a:avLst/>
          </a:prstGeom>
          <a:solidFill>
            <a:srgbClr val="cc9ea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301680" cy="6858000"/>
          </a:xfrm>
          <a:prstGeom prst="rect">
            <a:avLst/>
          </a:prstGeom>
          <a:solidFill>
            <a:srgbClr val="9bbb5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0" y="0"/>
            <a:ext cx="2432160" cy="5302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1427040" y="0"/>
            <a:ext cx="1571760" cy="43812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8842320" y="0"/>
            <a:ext cx="301680" cy="6858000"/>
          </a:xfrm>
          <a:prstGeom prst="rect">
            <a:avLst/>
          </a:prstGeom>
          <a:solidFill>
            <a:srgbClr val="9bbb5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3288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F972-8C01-4D45-A4A8-D84AEBCA0D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 rot="5400000">
            <a:off x="4571280" y="2349720"/>
            <a:ext cx="6519960" cy="181116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6553080" y="6135840"/>
            <a:ext cx="987480" cy="7221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8605800" y="1379520"/>
            <a:ext cx="539640" cy="146196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8604360" y="0"/>
            <a:ext cx="539640" cy="182880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3288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93D0-6823-4696-A1AA-CD60658FCF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extBox 4" descr=""/>
          <p:cNvPicPr/>
          <p:nvPr/>
        </p:nvPicPr>
        <p:blipFill>
          <a:blip r:embed="rId1"/>
          <a:stretch/>
        </p:blipFill>
        <p:spPr>
          <a:xfrm>
            <a:off x="4857840" y="328680"/>
            <a:ext cx="35733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228" name="Скругленный прямоугольник 3"/>
          <p:cNvGrpSpPr/>
          <p:nvPr/>
        </p:nvGrpSpPr>
        <p:grpSpPr>
          <a:xfrm>
            <a:off x="7643880" y="5834160"/>
            <a:ext cx="1255680" cy="963360"/>
            <a:chOff x="7643880" y="5834160"/>
            <a:chExt cx="1255680" cy="963360"/>
          </a:xfrm>
        </p:grpSpPr>
        <p:pic>
          <p:nvPicPr>
            <p:cNvPr id="229" name="Скругленный прямоугольник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43880" y="5834160"/>
              <a:ext cx="125568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746840" y="5961240"/>
              <a:ext cx="1008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Начать тес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Содержимое 2"/>
          <p:cNvSpPr/>
          <p:nvPr/>
        </p:nvSpPr>
        <p:spPr>
          <a:xfrm>
            <a:off x="2071800" y="3071880"/>
            <a:ext cx="6086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0360" indent="1764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Calibri"/>
              </a:rPr>
              <a:t>Простой т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57120" y="571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амый популярный браузер сети интер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1560600" y="2982960"/>
            <a:ext cx="69390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Google Chro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1560600" y="368784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Internet Explor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1560600" y="228132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zila Firefo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1560600" y="4389480"/>
            <a:ext cx="722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Oper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3288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alibri"/>
              </a:rPr>
              <a:t>Вопрос №1</a:t>
            </a:r>
            <a:endParaRPr b="1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3288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alibri"/>
              </a:rPr>
              <a:t>Вопрос №2</a:t>
            </a:r>
            <a:endParaRPr b="1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1560600" y="2954160"/>
            <a:ext cx="69390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McDona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1560600" y="3659040"/>
            <a:ext cx="6939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Pac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560600" y="224784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Wi-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1560600" y="434664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Bluet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одержимое 2"/>
          <p:cNvSpPr/>
          <p:nvPr/>
        </p:nvSpPr>
        <p:spPr>
          <a:xfrm>
            <a:off x="357120" y="57168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амая быстрая беспровод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0360" indent="17640">
              <a:lnSpc>
                <a:spcPct val="9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3288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alibri"/>
              </a:rPr>
              <a:t>Вопрос №3</a:t>
            </a:r>
            <a:endParaRPr b="1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1214280" y="342900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одержимое 2"/>
          <p:cNvSpPr/>
          <p:nvPr/>
        </p:nvSpPr>
        <p:spPr>
          <a:xfrm>
            <a:off x="357120" y="57168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0360" indent="17640">
              <a:lnSpc>
                <a:spcPct val="9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576360"/>
            <a:ext cx="87487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66"/>
                </a:solidFill>
                <a:uFillTx/>
                <a:latin typeface="Calibri"/>
              </a:rPr>
              <a:t>Результаты теста: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04720" y="1958760"/>
            <a:ext cx="5832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1360" indent="-7560"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сего вопросов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1360" indent="-7560"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авильных ответов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1360" indent="-7560"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цент правильных ответов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1360" indent="-7560"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ценк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09:38:13Z</dcterms:created>
  <dc:creator>KEM</dc:creator>
  <dc:description/>
  <dc:language>en-US</dc:language>
  <cp:lastModifiedBy>Uchenik12</cp:lastModifiedBy>
  <dcterms:modified xsi:type="dcterms:W3CDTF">2013-03-25T08:53:07Z</dcterms:modified>
  <cp:revision>208</cp:revision>
  <dc:subject/>
  <dc:title>Слайд 1</dc:title>
</cp:coreProperties>
</file>