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A8B-E51E-4764-B5B2-76CD1170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E63-EDCA-44CE-A0E1-D8A1EEB1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8A3-7349-4FBA-A35C-851DC2263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218-984F-41CD-B8AB-3DB7A66B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5107-24D6-4CEA-AAFA-6EBB2B39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8C64-7BA9-4BFB-A21F-21A842B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6383-BF8E-407B-91C8-0887FDDA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12B0-5C84-4C19-996F-9315AEAD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BD87-0D5C-4231-BA2D-6E5FFBA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BB96-3F68-490D-BFE5-78678A8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9870-BAAB-49CB-956F-27209B6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E09-6087-469E-B98F-EB56F717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4B30-44F3-4BB2-8CE4-9CA5038C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E03E-FB97-4A59-B77C-2B84CFA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781-ABF0-42F1-A4E8-7676ACA9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5F2E-0A92-4BE4-894C-2F74E5C0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2C14-F515-4A30-B121-01F7CC78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15E67-0279-41B3-BE61-80169B61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F8EC5-0D00-450A-B89E-F7CF21E7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98EAE-3BEC-4EE1-9120-BE36C119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3105-13AE-4C50-A9C4-AD9F9BEB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BF93-576F-4783-8FDF-5F858D1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D74-5919-4E86-B6FF-EAECCEAA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9DAB-C335-4734-BDE0-7D709F65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9D69B-9CBA-4345-8086-B6DF35A0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5614-39ED-4BD5-A872-FBA9985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7FFD6-A5CC-4007-8341-29696E3B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8E8C1-54ED-42A4-B9FB-C5E52A17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40A0-514D-4EB7-A4C3-EC962A84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944D-ED5A-46DF-AC15-44B40765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C1C3E-7626-488D-9205-0E1C804C3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6A7C-3E4A-4EC6-B313-A2EDF223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0015-16ED-4C71-A5B4-CC8E27A2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215-97D3-4CBB-9F3A-03300805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D5745-019C-486A-896C-D5D75DFA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3C211-2A79-44DE-B90B-048E9FC8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D10B-377D-4E82-B1E3-4B543820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3424-3C3B-4ECE-99E6-0B7327D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364B3-B520-46FB-B8C3-42A1D7A4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70A31-81EB-49C0-B0A9-41AE5A19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3BED2-DB3E-4D87-AC00-F70AE368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5B4E5-2EE4-4980-AB6F-30DBD692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E8B1-1378-4F5D-BF55-58F105E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36526-74F8-4AB1-8EB7-449F29C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1400-A37E-44DE-913D-81A3685A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CAB1-EBDC-450D-88B8-AB90C46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4118E-8B48-4768-A04D-E51A4AA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5CE0-7A00-4B24-A9FA-2A7C57BF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7AA89-6B01-43E6-BDFF-0DAE4DF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E7DD-E6D9-46CD-8D58-D40F5702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FF1C-51C4-4782-810E-7E96064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4EB1-6B25-436B-8BBB-92EE6E1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958C-B885-4490-B3E1-2686A535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DEA41-D2DB-4951-9ED4-B294DB0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4A11A-B4A9-4DBC-AF82-282B0C2E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23288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F4D-0629-47DA-A7E8-26EA9F7E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D90C1-F316-4AE0-9F6B-C93BAE1F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E88-01FB-484A-8CCA-5980CC07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B36-E856-423B-BA17-0A3E4EB8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284760"/>
            <a:ext cx="23288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31B-34FD-4D29-B87E-EABAC9C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69B5-8777-4D82-A5B5-ABFD499605F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528-14AD-4BDB-B7FE-F835F03FD4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7114-881D-4D01-B603-9D3560AA29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32D-B498-46C6-A386-E520BA1B8B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06E6-F8C2-43B4-A9EF-41056DDA37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extBox 4" descr=""/>
          <p:cNvPicPr/>
          <p:nvPr/>
        </p:nvPicPr>
        <p:blipFill>
          <a:blip r:embed="rId1"/>
          <a:stretch/>
        </p:blipFill>
        <p:spPr>
          <a:xfrm>
            <a:off x="4857840" y="328680"/>
            <a:ext cx="3573360" cy="1847880"/>
          </a:xfrm>
          <a:prstGeom prst="rect">
            <a:avLst/>
          </a:prstGeom>
          <a:ln w="0">
            <a:noFill/>
          </a:ln>
        </p:spPr>
      </p:pic>
      <p:grpSp>
        <p:nvGrpSpPr>
          <p:cNvPr id="228" name="Скругленный прямоугольник 3"/>
          <p:cNvGrpSpPr/>
          <p:nvPr/>
        </p:nvGrpSpPr>
        <p:grpSpPr>
          <a:xfrm>
            <a:off x="7643880" y="5834160"/>
            <a:ext cx="1255680" cy="963360"/>
            <a:chOff x="7643880" y="5834160"/>
            <a:chExt cx="1255680" cy="963360"/>
          </a:xfrm>
        </p:grpSpPr>
        <p:pic>
          <p:nvPicPr>
            <p:cNvPr id="229" name="Скругленный прямоугольник 3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643880" y="5834160"/>
              <a:ext cx="125568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746840" y="5961240"/>
              <a:ext cx="10083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Calibri"/>
                </a:rPr>
                <a:t>Начать те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Содержимое 2"/>
          <p:cNvSpPr/>
          <p:nvPr/>
        </p:nvSpPr>
        <p:spPr>
          <a:xfrm>
            <a:off x="2071800" y="3071880"/>
            <a:ext cx="6086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90360" indent="1764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alibri"/>
              </a:rPr>
              <a:t>Простой 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5712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ый популярный браузер сети интер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1560600" y="29829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Google Chro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560600" y="36878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Internet Explor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1560600" y="228132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zila Firef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1560600" y="4389480"/>
            <a:ext cx="722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Ope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1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2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560600" y="2954160"/>
            <a:ext cx="6939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cDona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1560600" y="3659040"/>
            <a:ext cx="6939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ac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1560600" y="22478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W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1560600" y="4346640"/>
            <a:ext cx="6939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indent="-10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одержимое 2"/>
          <p:cNvSpPr/>
          <p:nvPr/>
        </p:nvSpPr>
        <p:spPr>
          <a:xfrm>
            <a:off x="35712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амая быстрая беспроводн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32884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Вопрос №3</a:t>
            </a:r>
            <a:endParaRPr b="1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1560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8499600" y="2563920"/>
            <a:ext cx="0" cy="280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1560600" y="22813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1560600" y="5373720"/>
            <a:ext cx="693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14280" y="342900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одержимое 2"/>
          <p:cNvSpPr/>
          <p:nvPr/>
        </p:nvSpPr>
        <p:spPr>
          <a:xfrm>
            <a:off x="357120" y="571680"/>
            <a:ext cx="8229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17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0360" indent="17640">
              <a:lnSpc>
                <a:spcPct val="90000"/>
              </a:lnSpc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576360"/>
            <a:ext cx="8748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66"/>
                </a:solidFill>
                <a:uFillTx/>
                <a:latin typeface="Calibri"/>
              </a:rPr>
              <a:t>Результаты теста: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4720" y="1958760"/>
            <a:ext cx="58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сего вопрос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ильных ответ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цент правильных ответов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1360" indent="-7560">
              <a:spcBef>
                <a:spcPts val="2251"/>
              </a:spcBef>
              <a:tabLst>
                <a:tab algn="l" pos="0"/>
                <a:tab algn="l" pos="834696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ценк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09:38:13Z</dcterms:created>
  <dc:creator>KEM</dc:creator>
  <dc:description/>
  <dc:language>en-US</dc:language>
  <cp:lastModifiedBy>Uchenik12</cp:lastModifiedBy>
  <dcterms:modified xsi:type="dcterms:W3CDTF">2013-03-25T08:53:07Z</dcterms:modified>
  <cp:revision>208</cp:revision>
  <dc:subject/>
  <dc:title>Слайд 1</dc:title>
</cp:coreProperties>
</file>