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3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3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4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C7BB0-5299-4774-87CB-C11F7DD813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5FBB5-188C-4BFC-93F6-9E99226E249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934C6-E11C-404C-9645-86BB5A88743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1B49C-1E3F-4533-A2B4-920D8E2FC5D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CF938-0AF0-4F9F-8F95-B6B8C4CCEC08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85C-E630-4F17-A252-83F609DA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7CA-B6F9-4003-BAD1-BDC86807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F16-0D82-4061-8F69-015056E8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944-39B8-4E87-9E94-359CEA1A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092C-7419-4565-ABB4-3610D59A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13F6-C0F6-4AC6-9E31-D5640B22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05D6-C4D3-494E-BF53-CDC0816A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F113-8430-4F93-9382-BBA576C0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316C-49E7-42AF-B1AA-4F329EDB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9B3A-264D-48F6-B6A6-0EC1B9F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B277-0B5F-4114-AC63-F9575F5C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347-0A06-47F3-87FD-C6DB073B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DCD7-4F0A-400C-B917-1E04248F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3128-3379-472B-A652-08BEDDA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EBE2-5D22-4964-9BAB-63866F7E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E51F-9391-43F2-9C81-2780B286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F2D7-D6B5-4F86-9DD9-2B79A487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62FB-0B7D-4177-8B13-61BE27CA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DA66-905B-4261-A0AB-8D2F2ADE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B8C5-E714-47F0-B36A-9927DD47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5D5D-09FB-4D33-B60C-A21E3CDD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E8CF-9D00-4401-9249-B0532E1A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F24-44FA-4522-939E-0A04B79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F831-9219-4997-85C5-09EDFE4F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443D-A52E-486F-9061-F0B0CDB1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ACE3-2333-4C98-AE0B-5C96817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59A4-A95E-4BCA-A6BC-CAD7FF46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4225-0717-4523-AB99-9BC0D487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4AED-B6D6-4626-9CE2-7C678FE9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A592-9620-4683-AD03-D287FFF9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EE0A-6B88-4E27-B1D7-B6BC6CE2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A392-5A42-482E-9461-45E7E0BF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5522-0881-44E8-9988-8F8296ED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618-11D4-44B9-BD32-CA6E311A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286FD-94A6-482C-8515-A10A3CB5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0473-B743-4349-89C1-7C474AE5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9F75-7C50-439C-A9AD-F04334B8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8D63-3FD9-4664-8ED9-EE3EF56B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19AF-615A-4695-B2D6-A80AA23C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BC7D-21C6-4F5C-9D28-F36DD481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77A1-C110-4FEA-9480-4EDACFA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5A01-7F89-44AE-BD36-0E07AF87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F4D7-C199-48C5-8DFB-16414608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42B04-7084-44E4-838A-93AEAC42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457-900F-4158-B826-D0AF1B9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85EA6-02F2-4945-BDD7-D8528FA9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AB34A-5892-4E54-B64C-51E1131C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AFC1-B4E4-46F1-8581-B407023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492A-4143-4C9E-832C-C38BC28A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B26B-A5DA-461F-9CDA-EB33713F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C0BF-CF8B-4530-AF0C-012D7D42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9B02-7633-4998-9484-06EF1A06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1ACFD-5548-4326-AAC7-C9990318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95D98-14EF-4A7B-9358-4DD668FB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6B38-4EBC-45C2-899F-05D1D751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BF9-B283-4B06-BAE6-11D7CA92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2D63-B79F-428D-85B6-00F03A9E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98777-7268-4418-8D14-FD043A10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93BA-1C7A-4320-B143-B521E239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6DB9B-F5F6-4B9E-8C85-8EAA5A93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B709D-EF62-4E3B-906C-E9430AC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BAEE0-7C86-433C-A970-433254C2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03F98-DAF8-4C9D-9A42-0DE36577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A328F-5DAA-4B2A-84C0-B2546CC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2C7B0-6A31-42E5-83C4-CE5B9104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3122D-134F-4707-993A-92725C89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EBF-CF59-41AE-91A7-FBD9E88A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5063C-2172-46FD-BF59-C186B671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9D1A2-C9CE-4CD0-A5B1-AFBF2FA3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70410-1C02-4FF2-8F59-154A103A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F0A3D-EEE6-4F0F-913A-98653499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10E66-EF65-4DFA-AE8F-076CCC2D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C298C-AF82-4C54-BAFB-7089AD26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780D0-89E9-4892-A73D-A91AAB4C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FC1A8-84E9-414F-BF4C-6A74EB3E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03280" y="372600"/>
            <a:ext cx="907416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D6AF-BF57-4F47-AA95-004852AA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0DDF-6A0D-480A-95D0-AF711CAF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07F-1C20-4EEB-98D2-AB6B629E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80C19-2448-450D-A4A5-D98C0A9F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D8FEB-F2D3-400F-BE46-58365320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E3DFF-E767-49F6-846E-D2E6EE5E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46560" y="493632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B44D-1F20-4D47-83F9-67F32DC1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2312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84680" y="294948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619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2312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484680" y="4936320"/>
            <a:ext cx="26294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973AA-2514-4DB9-9C12-F3B720DD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192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560" y="2949480"/>
            <a:ext cx="39848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1920" y="4936320"/>
            <a:ext cx="8166240" cy="1814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07C-68D5-41FE-A1D8-08013EE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52360" y="252360"/>
            <a:ext cx="9586800" cy="272088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33280" y="1851120"/>
            <a:ext cx="9617040" cy="1466640"/>
            <a:chOff x="233280" y="1851120"/>
            <a:chExt cx="9617040" cy="1466640"/>
          </a:xfrm>
        </p:grpSpPr>
        <p:sp>
          <p:nvSpPr>
            <p:cNvPr id="2" name="Freeform 14"/>
            <p:cNvSpPr/>
            <p:nvPr/>
          </p:nvSpPr>
          <p:spPr>
            <a:xfrm>
              <a:off x="6666840" y="2010960"/>
              <a:ext cx="3170880" cy="787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887560" y="1869480"/>
              <a:ext cx="6112440" cy="9374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118320" y="1882800"/>
              <a:ext cx="6028200" cy="853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6184080" y="1868040"/>
              <a:ext cx="3646800" cy="7185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33280" y="1851120"/>
              <a:ext cx="9617040" cy="1466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92DD62-71DF-4F37-8EF7-FC4860316EB0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52360" y="252360"/>
            <a:ext cx="9586800" cy="66517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33280" y="5902200"/>
            <a:ext cx="9617040" cy="1467000"/>
            <a:chOff x="233280" y="5902200"/>
            <a:chExt cx="9617040" cy="1467000"/>
          </a:xfrm>
        </p:grpSpPr>
        <p:sp>
          <p:nvSpPr>
            <p:cNvPr id="50" name="Freeform 14"/>
            <p:cNvSpPr/>
            <p:nvPr/>
          </p:nvSpPr>
          <p:spPr>
            <a:xfrm>
              <a:off x="6675120" y="6062040"/>
              <a:ext cx="3175200" cy="7876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890800" y="5920560"/>
              <a:ext cx="6120360" cy="93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121920" y="5933880"/>
              <a:ext cx="6035760" cy="8542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6191640" y="5919120"/>
              <a:ext cx="3651480" cy="7185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33280" y="5902200"/>
              <a:ext cx="9617040" cy="1467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DE3F1C-D090-4151-AD7C-7BF5FEC7FCD4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52360" y="252360"/>
            <a:ext cx="9586800" cy="52214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667560" y="4633920"/>
            <a:ext cx="3170160" cy="78732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887560" y="4492800"/>
            <a:ext cx="6112080" cy="93636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3117960" y="4505400"/>
            <a:ext cx="6029280" cy="8539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6183360" y="4491000"/>
            <a:ext cx="3647880" cy="7174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33280" y="4473720"/>
            <a:ext cx="9617040" cy="146664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F24B3C-3E54-48B9-B121-5AC948099668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52360" y="252360"/>
            <a:ext cx="9586800" cy="157176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33280" y="787320"/>
            <a:ext cx="9617040" cy="1465200"/>
            <a:chOff x="233280" y="787320"/>
            <a:chExt cx="9617040" cy="1465200"/>
          </a:xfrm>
        </p:grpSpPr>
        <p:sp>
          <p:nvSpPr>
            <p:cNvPr id="145" name="Freeform 14"/>
            <p:cNvSpPr/>
            <p:nvPr/>
          </p:nvSpPr>
          <p:spPr>
            <a:xfrm>
              <a:off x="6666840" y="946800"/>
              <a:ext cx="3170880" cy="786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887560" y="805680"/>
              <a:ext cx="6112440" cy="936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118320" y="819000"/>
              <a:ext cx="6028200" cy="85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6184080" y="804240"/>
              <a:ext cx="3646800" cy="7178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33280" y="787320"/>
              <a:ext cx="9617040" cy="1465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206248-219E-47C2-8AE4-878D2F935C2E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52360" y="252360"/>
            <a:ext cx="9586800" cy="157176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33280" y="787320"/>
            <a:ext cx="9617040" cy="1468440"/>
            <a:chOff x="233280" y="787320"/>
            <a:chExt cx="9617040" cy="1468440"/>
          </a:xfrm>
        </p:grpSpPr>
        <p:sp>
          <p:nvSpPr>
            <p:cNvPr id="193" name="Freeform 14"/>
            <p:cNvSpPr/>
            <p:nvPr/>
          </p:nvSpPr>
          <p:spPr>
            <a:xfrm>
              <a:off x="6675120" y="947160"/>
              <a:ext cx="3175200" cy="7884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890800" y="805680"/>
              <a:ext cx="6120360" cy="9388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121920" y="819000"/>
              <a:ext cx="6035760" cy="855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6191640" y="804240"/>
              <a:ext cx="3651480" cy="7192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33280" y="787320"/>
              <a:ext cx="9617040" cy="14684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E10601-1DF5-4B98-A6B5-F3DAD95219CF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52360" y="252360"/>
            <a:ext cx="9586800" cy="66517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33280" y="5902200"/>
            <a:ext cx="9617040" cy="1467000"/>
            <a:chOff x="233280" y="5902200"/>
            <a:chExt cx="9617040" cy="1467000"/>
          </a:xfrm>
        </p:grpSpPr>
        <p:sp>
          <p:nvSpPr>
            <p:cNvPr id="241" name="Freeform 14"/>
            <p:cNvSpPr/>
            <p:nvPr/>
          </p:nvSpPr>
          <p:spPr>
            <a:xfrm>
              <a:off x="6675120" y="6062040"/>
              <a:ext cx="3175200" cy="7876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890800" y="5920560"/>
              <a:ext cx="6120360" cy="93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121920" y="5933880"/>
              <a:ext cx="6035760" cy="8542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6191640" y="5919120"/>
              <a:ext cx="3651480" cy="7185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33280" y="5902200"/>
              <a:ext cx="9617040" cy="1467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DEC41D-4B4B-456D-8B8E-8490506308AC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52360" y="252360"/>
            <a:ext cx="9586800" cy="157176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33280" y="787320"/>
            <a:ext cx="9617040" cy="1468440"/>
            <a:chOff x="233280" y="787320"/>
            <a:chExt cx="9617040" cy="1468440"/>
          </a:xfrm>
        </p:grpSpPr>
        <p:sp>
          <p:nvSpPr>
            <p:cNvPr id="289" name="Freeform 14"/>
            <p:cNvSpPr/>
            <p:nvPr/>
          </p:nvSpPr>
          <p:spPr>
            <a:xfrm>
              <a:off x="6675120" y="947160"/>
              <a:ext cx="3175200" cy="7884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890800" y="805680"/>
              <a:ext cx="6120360" cy="9388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121920" y="819000"/>
              <a:ext cx="6035760" cy="855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6191640" y="804240"/>
              <a:ext cx="3651480" cy="7192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33280" y="787320"/>
              <a:ext cx="9617040" cy="14684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DejaVu Sans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1" marL="63504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2" marL="942840" indent="-2505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3" marL="125892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4" marL="1611360" indent="-2509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692680" y="6889680"/>
            <a:ext cx="4175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12400" y="6889680"/>
            <a:ext cx="41749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400640" y="6889680"/>
            <a:ext cx="1279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905924-6FB1-4F51-9995-1B6EDB20BF3E}" type="slidenum">
              <a:rPr b="0" lang="en-GB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1763280"/>
            <a:ext cx="8569440" cy="196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8800" spc="-1" strike="noStrike">
                <a:solidFill>
                  <a:srgbClr val="ffffff"/>
                </a:solidFill>
                <a:latin typeface="Candara"/>
              </a:rPr>
              <a:t>Tundra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12720" y="3919320"/>
            <a:ext cx="7056720" cy="162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ndara"/>
              </a:rPr>
              <a:t>O bioma gelad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900000" y="179280"/>
            <a:ext cx="864072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3108240" y="1847880"/>
            <a:ext cx="4788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DejaVu Sans"/>
              </a:rPr>
              <a:t>É um ecossistema frágil, à medida que aumenta a exploração mineral e outros impactos humanos, a fina camada é facilmente destruída e demora muito tempo para se recuperar (Construção de um oleoduto através do Alaska).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79280" y="3240000"/>
            <a:ext cx="27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DejaVu Sans"/>
              </a:rPr>
              <a:t>Problemas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2603520" y="1763640"/>
            <a:ext cx="336600" cy="3613320"/>
          </a:xfrm>
          <a:custGeom>
            <a:avLst/>
            <a:gdLst>
              <a:gd name="textAreaLeft" fmla="*/ 215280 w 336600"/>
              <a:gd name="textAreaRight" fmla="*/ 336960 w 336600"/>
              <a:gd name="textAreaTop" fmla="*/ 93960 h 3613320"/>
              <a:gd name="textAreaBottom" fmla="*/ 3519360 h 361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98.000022735596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98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833400" y="1239840"/>
            <a:ext cx="7013520" cy="58928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2"/>
          <p:cNvSpPr/>
          <p:nvPr/>
        </p:nvSpPr>
        <p:spPr>
          <a:xfrm>
            <a:off x="833400" y="5256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DejaVu Sans"/>
              </a:rPr>
              <a:t>Temperatura e Precipitação nos Principais Biomas</a:t>
            </a:r>
            <a:endParaRPr b="0" lang="en-US" sz="27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9180720" cy="5400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"/>
          <p:cNvSpPr/>
          <p:nvPr/>
        </p:nvSpPr>
        <p:spPr>
          <a:xfrm>
            <a:off x="4319640" y="1079640"/>
            <a:ext cx="1800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ejaVu Sans"/>
              </a:rPr>
              <a:t>TUNDRA</a:t>
            </a:r>
            <a:endParaRPr b="0" lang="en-US" sz="2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Existem dois tipos de tundra, que se diferenciam basicamente pelos motivos que são geladas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Ártica ou polar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Encontrada perto do polo norte e do polo sul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Alpina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Encontrada perto de montanhas ou planícies muito                                                  elevadas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4900" spc="-1" strike="noStrike">
                <a:solidFill>
                  <a:srgbClr val="ffffff"/>
                </a:solidFill>
                <a:latin typeface="Candara"/>
              </a:rPr>
              <a:t>Tipos de tundra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Verões muito curtos, com uma duração do dia muito longa, com uma temperatura média entre 8°C e 4°C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Invernos longos com uma noite muito longa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Pouca precipitaçã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Aparência úmida devido a lenta evaporação da neve e da baixa drenagem do solo </a:t>
            </a:r>
            <a:r>
              <a:rPr b="0" i="1" lang="pt-BR" sz="2600" spc="-1" strike="noStrike">
                <a:solidFill>
                  <a:srgbClr val="073e87"/>
                </a:solidFill>
                <a:latin typeface="Candara"/>
              </a:rPr>
              <a:t>permafrost</a:t>
            </a: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Cobertura vegetal da tundra é de pequeno porte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4900" spc="-1" strike="noStrike">
                <a:solidFill>
                  <a:srgbClr val="ffffff"/>
                </a:solidFill>
                <a:latin typeface="Candara"/>
              </a:rPr>
              <a:t>Características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Composta predominantemente por </a:t>
            </a:r>
            <a:r>
              <a:rPr b="0" i="1" lang="pt-BR" sz="2600" spc="-1" strike="noStrike">
                <a:solidFill>
                  <a:srgbClr val="073e87"/>
                </a:solidFill>
                <a:latin typeface="Candara"/>
              </a:rPr>
              <a:t>liquens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Musgos, ervas e arbustos baixos também presentes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Sem plantas de raizes longas devido ao subsolo permanecer gelad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Crescimento lento devido a lentidão da decomposição da matéria orgânica no clima gelad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7200" indent="-27720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Apesar de tudo, a tundra ártica tem uma grande variedade de espécimes vegetais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4900" spc="-1" strike="noStrike">
                <a:solidFill>
                  <a:srgbClr val="ffffff"/>
                </a:solidFill>
                <a:latin typeface="Candara"/>
              </a:rPr>
              <a:t>Vegetação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999360" y="3708360"/>
            <a:ext cx="19256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DejaVu Sans"/>
              </a:rPr>
              <a:t>Eriophorum</a:t>
            </a:r>
            <a:r>
              <a:rPr b="0" lang="pt-BR" sz="1800" spc="-1" strike="noStrike">
                <a:solidFill>
                  <a:srgbClr val="000000"/>
                </a:solidFill>
                <a:latin typeface="DejaVu Sans"/>
              </a:rPr>
              <a:t> sp.</a:t>
            </a: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5256360" y="3492360"/>
            <a:ext cx="4286160" cy="3448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6119640" y="7020000"/>
            <a:ext cx="2808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DejaVu Sans"/>
              </a:rPr>
              <a:t>Carex</a:t>
            </a: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Braya humilis"/>
          <p:cNvPicPr/>
          <p:nvPr/>
        </p:nvPicPr>
        <p:blipFill>
          <a:blip r:embed="rId1"/>
          <a:stretch/>
        </p:blipFill>
        <p:spPr>
          <a:xfrm>
            <a:off x="216000" y="4665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029-braya"/>
          <p:cNvPicPr/>
          <p:nvPr/>
        </p:nvPicPr>
        <p:blipFill>
          <a:blip r:embed="rId2"/>
          <a:stretch/>
        </p:blipFill>
        <p:spPr>
          <a:xfrm>
            <a:off x="5688000" y="684360"/>
            <a:ext cx="3400560" cy="38098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8"/>
          <p:cNvSpPr/>
          <p:nvPr/>
        </p:nvSpPr>
        <p:spPr>
          <a:xfrm>
            <a:off x="3609720" y="5003640"/>
            <a:ext cx="17442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DejaVu Sans"/>
              </a:rPr>
              <a:t>Braya humilis</a:t>
            </a: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61920" y="2949480"/>
            <a:ext cx="8166240" cy="380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Maioria dos animais permanece no bioma apenas durante o curto verã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Os que permanecem, como ursos polares, desenvolveram mecanismos próprios para se defenderem do fri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2600" spc="-1" strike="noStrike">
                <a:solidFill>
                  <a:srgbClr val="073e87"/>
                </a:solidFill>
                <a:latin typeface="Candara"/>
              </a:rPr>
              <a:t>Pêlo espesso, camadas de gordura sob a pele e a hibernação são adaptações comuns de animais dessa região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907416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t-BR" sz="4900" spc="-1" strike="noStrike">
                <a:solidFill>
                  <a:srgbClr val="ffffff"/>
                </a:solidFill>
                <a:latin typeface="Candara"/>
              </a:rPr>
              <a:t>Fauna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uro</dc:creator>
  <dc:description/>
  <dc:language>en-US</dc:language>
  <cp:lastModifiedBy>CondAnarch</cp:lastModifiedBy>
  <dcterms:modified xsi:type="dcterms:W3CDTF">2013-06-07T01:29:44Z</dcterms:modified>
  <cp:revision>9</cp:revision>
  <dc:subject/>
  <dc:title>Slide 1</dc:title>
</cp:coreProperties>
</file>