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3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4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4DAD3-F9FE-4774-B694-0E21042865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C9DD8-7C82-4FBC-A743-08E3D11CB13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9FC88-1DED-42D0-8A40-756E28A0DAFA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3D328-82FD-4CE9-B407-94AD4E99D81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0BA23-5D95-43F6-81EC-0D8A3462139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5A9-8F53-4325-84EC-C84C23EF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39E-4173-444D-9042-EF9BBD09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A8D-7480-405E-8521-3598CE65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D21-61C9-4DC5-8BC8-D814F6A0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7CFD-EE9B-4130-AB80-ACE470C3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E22D-528F-4EC9-9BF9-EE7A387C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43E7-1CB8-445A-8241-F5FE4856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0DAC-CC11-4E87-B907-8CF1B219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C16F-B2F1-48BD-83BA-7BF7355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C3C6-E641-497F-B252-E7BFCB49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4974-D35A-4B8D-9784-D8CB28D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B91-6CA7-49B4-9468-2C04548B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EEBB-0EF2-43BC-8162-6BB8F611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BC2E-80FC-4BDE-B0A9-681B45E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52E8-75F8-43A5-9F0E-3628F75A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D9B5-5BD9-4A97-A9DF-2A6E89A5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BDAF-20C6-487D-9F29-C7C2476E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0E37-361F-4910-9CB4-6231AF4D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F9D9-01B7-4798-802A-5C4FC13F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7DDB-8922-4C0C-B4EB-CB746179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572D-2C8F-46F5-B65F-B244DE1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ED22-0C74-4F7F-9FD5-65C205B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95F-77FD-4214-8DD6-6B2D820B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9282-893C-4B41-B682-8F470B5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42A3F-5C5C-4175-997E-D5F2CB60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B402-5D2C-4F10-80DE-5349CCC0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A591-9D4D-4187-8E0D-8867BB0F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3EA9-03FD-478C-814E-6FF3AFB5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027B-BADC-4178-8393-7F8A533C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F0B6-22AA-4A93-906C-50CED08D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3F1D-0DB5-4E75-82EE-EA1B9323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6A4E-3C10-4E28-B52B-6E05775B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0407-C624-4901-BB38-21F12271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6ED-657F-46A7-8A6A-FBC609C3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280A-880B-4DFF-A6AC-2EF0393D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196C-8E29-4F4F-8C0D-0EAAFE50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8C76-3FE6-4C34-944D-85FF967E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6C58-80BE-4756-A7AD-B7C108D2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67F6-D671-436F-9C72-AF125E6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C1E2-7B6C-483A-83CD-29EB0FD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3343-A9FE-466A-B6B9-3619A2B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14F8-A0B3-4055-8F61-9FDEA908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B2E4-A56D-4B16-A2FB-A0948227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E5A42-ADD2-4DBC-80E1-54B8C371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338-56A9-477A-ACCD-567E9A17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3C762-5AE1-4689-A010-B52FB12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4D3C7-CE5D-4152-9AAF-476E7B20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46337-604F-4C46-B635-10FE3080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92BEC-EE0B-47C1-8FBD-60B2486B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19A78-BDB0-476A-AAFA-65DED6F3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E42F4-3089-452B-A391-D746BCA7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A1191-3A7B-4B1C-A187-378C3C4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EF0E-70F6-4987-9815-6A08FBD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210F-D443-4F0A-90C2-577CC05D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BA07-F311-4315-959C-1BFA0397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E83-4EA4-4FE4-BE8E-13B8A63A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2A8F-5773-47E0-A4D8-FA2B3D8D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19A1A-4321-4FC5-9229-47021818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C940-31D4-4445-AFB3-7105D6D0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D214-AC6A-4066-9C79-8F3FEC39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EDB1-4063-4183-824D-7467A346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24FA9-C026-46CA-8B86-A455C86D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A7941-BB7E-4A77-86C2-0BA867E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8953-71A7-416E-8290-9B632C9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16F3-E15D-4591-B221-9E783A7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B46E-5211-4A33-BBD3-C054D41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B56-A912-44F7-9D18-15A1BC9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DE5B-4666-4ECC-B620-5BBE52EF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DA813-B180-4428-BAB5-00BA58BF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61512-6646-48A0-9C07-4565B3A2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69A02-8DA5-42C6-BAAF-3554472C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1491B-3080-4CEE-9BEE-0E563E46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4BD6D-DEDE-4244-90EA-6C6A7163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04EC-CF13-4E87-8896-75853FC8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50439-C53D-4782-A5D9-91795A0A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40046-A8E7-423F-90E2-5DA5AE91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63CE1-1643-4C4D-9DF7-C7E68AC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39C-CB84-4C0E-9EB9-1A7B0D44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5BFE-8ED7-401D-B805-AA108D7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8A53D-4B53-4C8B-803D-CE799B2E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A5E58-C162-4403-A842-0CB0B1A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B4B6C-69B2-413B-9272-B144037E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CBDB1-C7B5-4EA5-9668-F7AB95E9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A2B-F3F6-4396-ABFB-D0C6AF6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52360" y="252360"/>
            <a:ext cx="9586800" cy="272088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33280" y="1851120"/>
            <a:ext cx="9617040" cy="1466640"/>
            <a:chOff x="233280" y="1851120"/>
            <a:chExt cx="9617040" cy="1466640"/>
          </a:xfrm>
        </p:grpSpPr>
        <p:sp>
          <p:nvSpPr>
            <p:cNvPr id="2" name="Freeform 14"/>
            <p:cNvSpPr/>
            <p:nvPr/>
          </p:nvSpPr>
          <p:spPr>
            <a:xfrm>
              <a:off x="6666840" y="2010960"/>
              <a:ext cx="3170880" cy="787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887560" y="1869480"/>
              <a:ext cx="6112440" cy="9374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118320" y="1882800"/>
              <a:ext cx="6028200" cy="853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6184080" y="1868040"/>
              <a:ext cx="3646800" cy="7185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33280" y="1851120"/>
              <a:ext cx="9617040" cy="1466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4FFF26-E0EF-4887-B732-584155CAA695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52360" y="252360"/>
            <a:ext cx="9586800" cy="66517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33280" y="5902200"/>
            <a:ext cx="9617040" cy="1467000"/>
            <a:chOff x="233280" y="5902200"/>
            <a:chExt cx="9617040" cy="1467000"/>
          </a:xfrm>
        </p:grpSpPr>
        <p:sp>
          <p:nvSpPr>
            <p:cNvPr id="50" name="Freeform 14"/>
            <p:cNvSpPr/>
            <p:nvPr/>
          </p:nvSpPr>
          <p:spPr>
            <a:xfrm>
              <a:off x="6675120" y="6062040"/>
              <a:ext cx="3175200" cy="7876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890800" y="5920560"/>
              <a:ext cx="6120360" cy="93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121920" y="5933880"/>
              <a:ext cx="6035760" cy="8542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6191640" y="5919120"/>
              <a:ext cx="3651480" cy="7185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33280" y="5902200"/>
              <a:ext cx="9617040" cy="1467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0829E1-D593-4A58-9EC7-77D48519D47D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52360" y="252360"/>
            <a:ext cx="9586800" cy="52214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667560" y="4633920"/>
            <a:ext cx="3170160" cy="78732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887560" y="4492800"/>
            <a:ext cx="6112080" cy="93636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117960" y="4505400"/>
            <a:ext cx="6029280" cy="8539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6183360" y="4491000"/>
            <a:ext cx="3647880" cy="7174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33280" y="4473720"/>
            <a:ext cx="9617040" cy="146664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30A6D6-8169-45D8-A9D8-096D7B1263AD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52360" y="252360"/>
            <a:ext cx="9586800" cy="157176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33280" y="787320"/>
            <a:ext cx="9617040" cy="1465200"/>
            <a:chOff x="233280" y="787320"/>
            <a:chExt cx="9617040" cy="1465200"/>
          </a:xfrm>
        </p:grpSpPr>
        <p:sp>
          <p:nvSpPr>
            <p:cNvPr id="145" name="Freeform 14"/>
            <p:cNvSpPr/>
            <p:nvPr/>
          </p:nvSpPr>
          <p:spPr>
            <a:xfrm>
              <a:off x="6666840" y="946800"/>
              <a:ext cx="3170880" cy="786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887560" y="805680"/>
              <a:ext cx="6112440" cy="936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118320" y="819000"/>
              <a:ext cx="6028200" cy="85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6184080" y="804240"/>
              <a:ext cx="3646800" cy="7178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33280" y="787320"/>
              <a:ext cx="9617040" cy="1465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89F31A-F2EB-467C-B7A8-81CB884A9349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52360" y="252360"/>
            <a:ext cx="9586800" cy="157176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33280" y="787320"/>
            <a:ext cx="9617040" cy="1468440"/>
            <a:chOff x="233280" y="787320"/>
            <a:chExt cx="9617040" cy="1468440"/>
          </a:xfrm>
        </p:grpSpPr>
        <p:sp>
          <p:nvSpPr>
            <p:cNvPr id="193" name="Freeform 14"/>
            <p:cNvSpPr/>
            <p:nvPr/>
          </p:nvSpPr>
          <p:spPr>
            <a:xfrm>
              <a:off x="6675120" y="947160"/>
              <a:ext cx="3175200" cy="7884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890800" y="805680"/>
              <a:ext cx="6120360" cy="9388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121920" y="819000"/>
              <a:ext cx="6035760" cy="855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6191640" y="804240"/>
              <a:ext cx="3651480" cy="7192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33280" y="787320"/>
              <a:ext cx="9617040" cy="14684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BF3F91-FBF6-4611-B663-8E26D4A7BAA7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52360" y="252360"/>
            <a:ext cx="9586800" cy="66517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33280" y="5902200"/>
            <a:ext cx="9617040" cy="1467000"/>
            <a:chOff x="233280" y="5902200"/>
            <a:chExt cx="9617040" cy="1467000"/>
          </a:xfrm>
        </p:grpSpPr>
        <p:sp>
          <p:nvSpPr>
            <p:cNvPr id="241" name="Freeform 14"/>
            <p:cNvSpPr/>
            <p:nvPr/>
          </p:nvSpPr>
          <p:spPr>
            <a:xfrm>
              <a:off x="6675120" y="6062040"/>
              <a:ext cx="3175200" cy="7876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890800" y="5920560"/>
              <a:ext cx="6120360" cy="93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121920" y="5933880"/>
              <a:ext cx="6035760" cy="8542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6191640" y="5919120"/>
              <a:ext cx="3651480" cy="7185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33280" y="5902200"/>
              <a:ext cx="9617040" cy="1467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2B2B00-8B09-494E-ACE2-A2E5F4F9D766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52360" y="252360"/>
            <a:ext cx="9586800" cy="157176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33280" y="787320"/>
            <a:ext cx="9617040" cy="1468440"/>
            <a:chOff x="233280" y="787320"/>
            <a:chExt cx="9617040" cy="1468440"/>
          </a:xfrm>
        </p:grpSpPr>
        <p:sp>
          <p:nvSpPr>
            <p:cNvPr id="289" name="Freeform 14"/>
            <p:cNvSpPr/>
            <p:nvPr/>
          </p:nvSpPr>
          <p:spPr>
            <a:xfrm>
              <a:off x="6675120" y="947160"/>
              <a:ext cx="3175200" cy="7884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890800" y="805680"/>
              <a:ext cx="6120360" cy="9388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121920" y="819000"/>
              <a:ext cx="6035760" cy="855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6191640" y="804240"/>
              <a:ext cx="3651480" cy="7192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33280" y="787320"/>
              <a:ext cx="9617040" cy="14684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268083-FD45-4A1F-8CAD-17260B25F1C8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1763280"/>
            <a:ext cx="8569440" cy="196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8800" spc="-1" strike="noStrike">
                <a:solidFill>
                  <a:srgbClr val="ffffff"/>
                </a:solidFill>
                <a:latin typeface="Candara"/>
              </a:rPr>
              <a:t>Tundra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12720" y="3919320"/>
            <a:ext cx="7056720" cy="162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ndara"/>
              </a:rPr>
              <a:t>O bioma gelad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864072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3108240" y="1847880"/>
            <a:ext cx="4788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DejaVu Sans"/>
              </a:rPr>
              <a:t>É um ecossistema frágil, à medida que aumenta a exploração mineral e outros impactos humanos, a fina camada é facilmente destruída e demora muito tempo para se recuperar (Construção de um oleoduto através do Alaska).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79280" y="3240000"/>
            <a:ext cx="27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DejaVu Sans"/>
              </a:rPr>
              <a:t>Problemas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2603520" y="1763640"/>
            <a:ext cx="336600" cy="3613320"/>
          </a:xfrm>
          <a:custGeom>
            <a:avLst/>
            <a:gdLst>
              <a:gd name="textAreaLeft" fmla="*/ 215280 w 336600"/>
              <a:gd name="textAreaRight" fmla="*/ 336960 w 336600"/>
              <a:gd name="textAreaTop" fmla="*/ 93960 h 3613320"/>
              <a:gd name="textAreaBottom" fmla="*/ 3519360 h 361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98.000022735596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98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833400" y="1239840"/>
            <a:ext cx="7013520" cy="58928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2"/>
          <p:cNvSpPr/>
          <p:nvPr/>
        </p:nvSpPr>
        <p:spPr>
          <a:xfrm>
            <a:off x="833400" y="5256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DejaVu Sans"/>
              </a:rPr>
              <a:t>Temperatura e Precipitação nos Principais Biomas</a:t>
            </a:r>
            <a:endParaRPr b="0" lang="en-US" sz="27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9180720" cy="5400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4319640" y="1079640"/>
            <a:ext cx="180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ejaVu Sans"/>
              </a:rPr>
              <a:t>TUNDRA</a:t>
            </a:r>
            <a:endParaRPr b="0" lang="en-US" sz="2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Existem dois tipos de tundra, que se diferenciam basicamente pelos motivos que são geladas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Ártica ou polar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Encontrada perto do polo norte e do polo sul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Alpina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Encontrada perto de montanhas ou planícies muito                                                  elevadas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4900" spc="-1" strike="noStrike">
                <a:solidFill>
                  <a:srgbClr val="ffffff"/>
                </a:solidFill>
                <a:latin typeface="Candara"/>
              </a:rPr>
              <a:t>Tipos de tundra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Verões muito curtos, com uma duração do dia muito longa, com uma temperatura média entre 8°C e 4°C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Invernos longos com uma noite muito longa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Pouca precipitaçã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Aparência úmida devido a lenta evaporação da neve e da baixa drenagem do solo </a:t>
            </a:r>
            <a:r>
              <a:rPr b="0" i="1" lang="pt-BR" sz="2600" spc="-1" strike="noStrike">
                <a:solidFill>
                  <a:srgbClr val="073e87"/>
                </a:solidFill>
                <a:latin typeface="Candara"/>
              </a:rPr>
              <a:t>permafrost</a:t>
            </a: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Cobertura vegetal da tundra é de pequeno porte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4900" spc="-1" strike="noStrike">
                <a:solidFill>
                  <a:srgbClr val="ffffff"/>
                </a:solidFill>
                <a:latin typeface="Candara"/>
              </a:rPr>
              <a:t>Características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Composta predominantemente por </a:t>
            </a:r>
            <a:r>
              <a:rPr b="0" i="1" lang="pt-BR" sz="2600" spc="-1" strike="noStrike">
                <a:solidFill>
                  <a:srgbClr val="073e87"/>
                </a:solidFill>
                <a:latin typeface="Candara"/>
              </a:rPr>
              <a:t>liquens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Musgos, ervas e arbustos baixos também presentes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Sem plantas de raizes longas devido ao subsolo permanecer gelad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Crescimento lento devido a lentidão da decomposição da matéria orgânica no clima gelad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Apesar de tudo, a tundra ártica tem uma grande variedade de espécimes vegetais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4900" spc="-1" strike="noStrike">
                <a:solidFill>
                  <a:srgbClr val="ffffff"/>
                </a:solidFill>
                <a:latin typeface="Candara"/>
              </a:rPr>
              <a:t>Vegetação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999360" y="3708360"/>
            <a:ext cx="19256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DejaVu Sans"/>
              </a:rPr>
              <a:t>Eriophorum</a:t>
            </a:r>
            <a:r>
              <a:rPr b="0" lang="pt-BR" sz="1800" spc="-1" strike="noStrike">
                <a:solidFill>
                  <a:srgbClr val="000000"/>
                </a:solidFill>
                <a:latin typeface="DejaVu Sans"/>
              </a:rPr>
              <a:t> sp.</a:t>
            </a: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5256360" y="3492360"/>
            <a:ext cx="4286160" cy="3448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6119640" y="7020000"/>
            <a:ext cx="2808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DejaVu Sans"/>
              </a:rPr>
              <a:t>Carex</a:t>
            </a: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Braya humilis"/>
          <p:cNvPicPr/>
          <p:nvPr/>
        </p:nvPicPr>
        <p:blipFill>
          <a:blip r:embed="rId1"/>
          <a:stretch/>
        </p:blipFill>
        <p:spPr>
          <a:xfrm>
            <a:off x="216000" y="4665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029-braya"/>
          <p:cNvPicPr/>
          <p:nvPr/>
        </p:nvPicPr>
        <p:blipFill>
          <a:blip r:embed="rId2"/>
          <a:stretch/>
        </p:blipFill>
        <p:spPr>
          <a:xfrm>
            <a:off x="5688000" y="684360"/>
            <a:ext cx="3400560" cy="38098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8"/>
          <p:cNvSpPr/>
          <p:nvPr/>
        </p:nvSpPr>
        <p:spPr>
          <a:xfrm>
            <a:off x="3609720" y="5003640"/>
            <a:ext cx="1744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DejaVu Sans"/>
              </a:rPr>
              <a:t>Braya humilis</a:t>
            </a: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Maioria dos animais permanece no bioma apenas durante o curto verã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Os que permanecem, como ursos polares, desenvolveram mecanismos próprios para se defenderem do fri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Pêlo espesso, camadas de gordura sob a pele e a hibernação são adaptações comuns de animais dessa regiã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4900" spc="-1" strike="noStrike">
                <a:solidFill>
                  <a:srgbClr val="ffffff"/>
                </a:solidFill>
                <a:latin typeface="Candara"/>
              </a:rPr>
              <a:t>Fauna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uro</dc:creator>
  <dc:description/>
  <dc:language>en-US</dc:language>
  <cp:lastModifiedBy>CondAnarch</cp:lastModifiedBy>
  <dcterms:modified xsi:type="dcterms:W3CDTF">2013-06-07T01:29:44Z</dcterms:modified>
  <cp:revision>9</cp:revision>
  <dc:subject/>
  <dc:title>Slide 1</dc:title>
</cp:coreProperties>
</file>