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EBD-1E39-4CE5-8A6E-B882AB37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AA9-0C14-4FD8-A27C-03E9782B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576-626D-42FB-BC7C-D20DF4E8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BEC-26A1-4316-A805-3F664AC7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2A8-9E7C-493A-8EE3-DA11D66E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D74-BC36-4F12-AB9C-F69F7673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AC2-E5FC-4296-8392-6CC8D37E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951-6825-43F2-9BD1-2A8D8DB7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C55-B40F-4E1D-BB53-E25EB32E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F0D-F20A-4407-8CA2-8096714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015-750E-4AF9-B9D3-C9320D59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F97-4269-40B0-A019-7A71742B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9CE9-C176-49EB-B937-A34E8D8B4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6000" y="278136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14842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310400">
            <a:off x="675000" y="1462320"/>
            <a:ext cx="209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Bauhaus 93"/>
              </a:rPr>
              <a:t>Dipend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Bauhaus 93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Bauhaus 93"/>
              </a:rPr>
              <a:t>Centri di Recup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5373720"/>
            <a:ext cx="134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Bauhaus 93"/>
              </a:rPr>
              <a:t>ITAL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64008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Bauhaus 93"/>
              </a:rPr>
              <a:t>Il decadentismo e il c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Bauhaus 93"/>
              </a:rPr>
              <a:t>delle drog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19400" y="53737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Bauhaus 93"/>
              </a:rPr>
              <a:t>FILO</a:t>
            </a:r>
            <a:r>
              <a:rPr b="0" i="1" lang="en-US" sz="2000" spc="-1" strike="noStrike">
                <a:solidFill>
                  <a:srgbClr val="ffffff"/>
                </a:solidFill>
                <a:latin typeface="Bauhaus 93"/>
              </a:rPr>
              <a:t>SO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6960" y="6213600"/>
            <a:ext cx="156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ff"/>
                </a:solidFill>
                <a:latin typeface="Bauhaus 93"/>
              </a:rPr>
              <a:t>Fre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ff"/>
                </a:solidFill>
                <a:latin typeface="Bauhaus 93"/>
              </a:rPr>
              <a:t>la seconda top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6320" y="530064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auhaus 93"/>
              </a:rPr>
              <a:t>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9720" y="634032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Bauhaus 93"/>
              </a:rPr>
              <a:t>Ri</a:t>
            </a:r>
            <a:r>
              <a:rPr b="0" lang="en-US" sz="1400" spc="-1" strike="noStrike">
                <a:solidFill>
                  <a:srgbClr val="ffffff"/>
                </a:solidFill>
                <a:latin typeface="Bauhaus 93"/>
              </a:rPr>
              <a:t>cerche delle 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uhaus 93"/>
              </a:rPr>
              <a:t>sulla dro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3760" y="530064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Bauhaus 93"/>
              </a:rPr>
              <a:t>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17400" y="6340320"/>
            <a:ext cx="17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auhaus 93"/>
              </a:rPr>
              <a:t>La droga nell</a:t>
            </a:r>
            <a:r>
              <a:rPr b="0" i="1" lang="en-US" sz="1400" spc="-1" strike="noStrike">
                <a:solidFill>
                  <a:srgbClr val="0066ff"/>
                </a:solidFill>
                <a:latin typeface="Bauhaus 93"/>
              </a:rPr>
              <a:t>’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auhaus 93"/>
              </a:rPr>
              <a:t>(l’assenzio di Deg</a:t>
            </a:r>
            <a:r>
              <a:rPr b="0" i="1" lang="en-US" sz="1400" spc="-1" strike="noStrike">
                <a:solidFill>
                  <a:srgbClr val="0066ff"/>
                </a:solidFill>
                <a:latin typeface="Bauhaus 93"/>
              </a:rPr>
              <a:t>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76600" y="35002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auhaus 93"/>
              </a:rPr>
              <a:t>INGL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360" y="4508640"/>
            <a:ext cx="19425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Bauhaus 93"/>
              </a:rPr>
              <a:t>Ste</a:t>
            </a:r>
            <a:r>
              <a:rPr b="0" i="1" lang="it-IT" sz="1400" spc="-1" strike="noStrike">
                <a:solidFill>
                  <a:srgbClr val="0066ff"/>
                </a:solidFill>
                <a:latin typeface="Bauhaus 93"/>
              </a:rPr>
              <a:t>ve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Bauhaus 93"/>
              </a:rPr>
              <a:t>dr Jekyll </a:t>
            </a:r>
            <a:r>
              <a:rPr b="0" i="1" lang="it-IT" sz="1400" spc="-1" strike="noStrike">
                <a:solidFill>
                  <a:srgbClr val="0066ff"/>
                </a:solidFill>
                <a:latin typeface="Bauhaus 93"/>
              </a:rPr>
              <a:t>and mr Hyd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1844640"/>
            <a:ext cx="11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auhaus 93"/>
              </a:rPr>
              <a:t>CHI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69480" y="27813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auhaus 93"/>
              </a:rPr>
              <a:t>gli Al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25280" y="1159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Bauhaus 93"/>
              </a:rPr>
              <a:t>FI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63480" y="1125360"/>
            <a:ext cx="15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auhaus 93"/>
              </a:rPr>
              <a:t>Droghe Ac</a:t>
            </a:r>
            <a:r>
              <a:rPr b="0" i="1" lang="en-US" sz="1400" spc="-1" strike="noStrike">
                <a:solidFill>
                  <a:srgbClr val="0066ff"/>
                </a:solidFill>
                <a:latin typeface="Bauhaus 93"/>
              </a:rPr>
              <a:t>ust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auhaus 93"/>
              </a:rPr>
              <a:t>Le o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7560" y="1159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Bauhaus 93"/>
              </a:rPr>
              <a:t>MATE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6680" y="620640"/>
            <a:ext cx="18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uhaus 93"/>
              </a:rPr>
              <a:t>Funzioni seno e cose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6400" y="414972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Bauhaus 93"/>
              </a:rPr>
              <a:t>Christian Gnagni, V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3:22:00Z</dcterms:created>
  <dc:creator>Personale</dc:creator>
  <dc:description/>
  <dc:language>en-US</dc:language>
  <cp:lastModifiedBy>Personale</cp:lastModifiedBy>
  <dcterms:modified xsi:type="dcterms:W3CDTF">2013-06-12T14:37:43Z</dcterms:modified>
  <cp:revision>2</cp:revision>
  <dc:subject/>
  <dc:title>Diapositiva 1</dc:title>
</cp:coreProperties>
</file>