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132-70A4-40C4-9EC1-B499F0EA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2A3-2195-410A-A127-EB119A69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70C-8467-4A60-AB7F-3E386B4A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124-36AF-4A0D-833F-7C070C18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A34-2590-42E1-9A28-25D6451B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819-D78D-4FF0-90CC-56CEC31B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7D5-82EB-4542-B2AF-02875DF7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213-979D-4801-A171-975668AA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B31-AC78-41D7-883C-8780AE52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074-5CBD-4325-A14E-C6F755D4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53F-4783-4B65-A766-FA280CA0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14B-77AB-4F27-9DD3-D4A9F79C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7FEB-7808-43D2-970B-D3AD3335A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6000" y="278136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14842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310400">
            <a:off x="675000" y="1462320"/>
            <a:ext cx="209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Bauhaus 93"/>
              </a:rPr>
              <a:t>Dipend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Bauhaus 93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Bauhaus 93"/>
              </a:rPr>
              <a:t>Centri di Recup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5373720"/>
            <a:ext cx="134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Bauhaus 93"/>
              </a:rPr>
              <a:t>ITAL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64008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Bauhaus 93"/>
              </a:rPr>
              <a:t>Il decadentismo e il cul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66ff"/>
                </a:solidFill>
                <a:latin typeface="Bauhaus 93"/>
              </a:rPr>
              <a:t>delle drog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19400" y="53737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Bauhaus 93"/>
              </a:rPr>
              <a:t>FILO</a:t>
            </a:r>
            <a:r>
              <a:rPr b="0" i="1" lang="en-US" sz="2000" spc="-1" strike="noStrike">
                <a:solidFill>
                  <a:srgbClr val="ffffff"/>
                </a:solidFill>
                <a:latin typeface="Bauhaus 93"/>
              </a:rPr>
              <a:t>SOF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6960" y="6213600"/>
            <a:ext cx="156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ff"/>
                </a:solidFill>
                <a:latin typeface="Bauhaus 93"/>
              </a:rPr>
              <a:t>Fre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ff"/>
                </a:solidFill>
                <a:latin typeface="Bauhaus 93"/>
              </a:rPr>
              <a:t>la seconda top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6320" y="5300640"/>
            <a:ext cx="9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auhaus 93"/>
              </a:rPr>
              <a:t>S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49720" y="634032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Bauhaus 93"/>
              </a:rPr>
              <a:t>Ri</a:t>
            </a:r>
            <a:r>
              <a:rPr b="0" lang="en-US" sz="1400" spc="-1" strike="noStrike">
                <a:solidFill>
                  <a:srgbClr val="ffffff"/>
                </a:solidFill>
                <a:latin typeface="Bauhaus 93"/>
              </a:rPr>
              <a:t>cerche delle 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auhaus 93"/>
              </a:rPr>
              <a:t>sulla dro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13760" y="5300640"/>
            <a:ext cx="7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Bauhaus 93"/>
              </a:rPr>
              <a:t>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17400" y="6340320"/>
            <a:ext cx="176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auhaus 93"/>
              </a:rPr>
              <a:t>La droga nell</a:t>
            </a:r>
            <a:r>
              <a:rPr b="0" i="1" lang="en-US" sz="1400" spc="-1" strike="noStrike">
                <a:solidFill>
                  <a:srgbClr val="0066ff"/>
                </a:solidFill>
                <a:latin typeface="Bauhaus 93"/>
              </a:rPr>
              <a:t>’a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auhaus 93"/>
              </a:rPr>
              <a:t>(l’assenzio di Deg</a:t>
            </a:r>
            <a:r>
              <a:rPr b="0" i="1" lang="en-US" sz="1400" spc="-1" strike="noStrike">
                <a:solidFill>
                  <a:srgbClr val="0066ff"/>
                </a:solidFill>
                <a:latin typeface="Bauhaus 93"/>
              </a:rPr>
              <a:t>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176600" y="35002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auhaus 93"/>
              </a:rPr>
              <a:t>INGL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04360" y="4508640"/>
            <a:ext cx="19425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Bauhaus 93"/>
              </a:rPr>
              <a:t>Ste</a:t>
            </a:r>
            <a:r>
              <a:rPr b="0" i="1" lang="it-IT" sz="1400" spc="-1" strike="noStrike">
                <a:solidFill>
                  <a:srgbClr val="0066ff"/>
                </a:solidFill>
                <a:latin typeface="Bauhaus 93"/>
              </a:rPr>
              <a:t>ve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Bauhaus 93"/>
              </a:rPr>
              <a:t>dr Jekyll </a:t>
            </a:r>
            <a:r>
              <a:rPr b="0" i="1" lang="it-IT" sz="1400" spc="-1" strike="noStrike">
                <a:solidFill>
                  <a:srgbClr val="0066ff"/>
                </a:solidFill>
                <a:latin typeface="Bauhaus 93"/>
              </a:rPr>
              <a:t>and mr Hyd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29800" y="1844640"/>
            <a:ext cx="11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auhaus 93"/>
              </a:rPr>
              <a:t>CHI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69480" y="27813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Bauhaus 93"/>
              </a:rPr>
              <a:t>gli Al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25280" y="1159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Bauhaus 93"/>
              </a:rPr>
              <a:t>FI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63480" y="1125360"/>
            <a:ext cx="155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auhaus 93"/>
              </a:rPr>
              <a:t>Droghe Ac</a:t>
            </a:r>
            <a:r>
              <a:rPr b="0" i="1" lang="en-US" sz="1400" spc="-1" strike="noStrike">
                <a:solidFill>
                  <a:srgbClr val="0066ff"/>
                </a:solidFill>
                <a:latin typeface="Bauhaus 93"/>
              </a:rPr>
              <a:t>usti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Bauhaus 93"/>
              </a:rPr>
              <a:t>Le on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57560" y="1159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Bauhaus 93"/>
              </a:rPr>
              <a:t>MATE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36680" y="620640"/>
            <a:ext cx="180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Bauhaus 93"/>
              </a:rPr>
              <a:t>Funzioni seno e cose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96400" y="414972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Bauhaus 93"/>
              </a:rPr>
              <a:t>Christian Gnagni, V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13:22:00Z</dcterms:created>
  <dc:creator>Personale</dc:creator>
  <dc:description/>
  <dc:language>en-US</dc:language>
  <cp:lastModifiedBy>Personale</cp:lastModifiedBy>
  <dcterms:modified xsi:type="dcterms:W3CDTF">2013-06-12T14:37:43Z</dcterms:modified>
  <cp:revision>2</cp:revision>
  <dc:subject/>
  <dc:title>Diapositiva 1</dc:title>
</cp:coreProperties>
</file>