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DB2-FD33-4BF6-89C9-D29D1AC2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tice Hal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C6C-F8CD-4A3B-9822-8E16F105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F20-725D-430B-8457-5CC372E5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B39-138D-4CE9-9C6E-021BA2C2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777-10A7-438C-A061-66C882B4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E44-A7E5-4CC4-B1DD-704F5E2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9FC-78ED-4BEA-8976-0F01A1A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A39-B1EE-4E9F-96A6-52C7641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295-5A12-4FB5-AD26-5F4ABB6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FF5-789F-4839-A04C-AB2A4D6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D86-60A1-43A5-AE9A-611AE17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D8C-A42B-4F6E-95B8-FECD3E7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D65-FC07-4AFD-9BA1-EAB6F18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B94E6D26-2449-4E1F-8D89-205F28F2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BB4E059C-7001-47DF-B067-F8D9DF87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600200" y="259092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 Narrow"/>
              </a:rPr>
              <a:t>STRATEGIC MANAGEMENT &amp; BUSINESS POLICY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Picture1"/>
          <p:cNvPicPr/>
          <p:nvPr/>
        </p:nvPicPr>
        <p:blipFill>
          <a:blip r:embed="rId2"/>
          <a:stretch/>
        </p:blipFill>
        <p:spPr>
          <a:xfrm>
            <a:off x="5334120" y="388620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3352680" y="3352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OMAS L. WHEELEN       J. DAVID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35268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191120" y="457200"/>
            <a:ext cx="40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egy Formulation: Corpor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AEF94B5-478B-4ED6-8A14-B8737D46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ertical Growth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si-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CA4CB19E-A249-4AB2-9D08-AF83B819C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ertical Growth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9F9F1B63-4545-4B3E-9E40-3E36C20B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centr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izont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2FB730F9-FD8F-4224-A239-B40413CDF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asic Diversification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ntric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glomerate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203CDCA2-DE32-4E0B-8152-911B9842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centric Diversific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owth into relat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 for syn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D450D4DD-08B4-4B17-B1AB-BE2FC935F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glomerate diversificatio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owth into unrelat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rn with financi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080DA786-7932-4CDF-9619-94C3FDA3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national Entry Option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en-Fiel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EC5C9C3D-5272-4BD1-9C5D-FF308A5F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national Entry Option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duc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rnke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T Concept (Build, Operate,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agement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B8FD3BB-0E4F-4CCF-BF55-333F4843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ability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use/proceed with ca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1144F36-1CF7-4B21-BCEF-9D298C83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trenchment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rn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ptive Company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l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qu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26C1BE36-921C-4251-9581-3C8C51DDC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y </a:t>
            </a:r>
            <a:r>
              <a:rPr b="1" lang="id-ID" sz="2800" spc="-1" strike="noStrike">
                <a:solidFill>
                  <a:srgbClr val="99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usinesses should the corporation be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corporate office manage the array of business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rporate 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at makes the corporate whole add up to more than the sum of its business unit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F22E7BBB-4630-4378-8612-62F076BD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rtfolio Analysi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urce commitment on best products to ensure continu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urce commitment on new costly products high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BE6BC976-0036-499B-AA74-0F01B5D84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CG Matrix (Portfolio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4389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00116B00-D564-40DA-96F3-114035FA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 Business Screen (Portfolio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973440" y="1143000"/>
            <a:ext cx="5383080" cy="4948920"/>
            <a:chOff x="973440" y="1143000"/>
            <a:chExt cx="5383080" cy="4948920"/>
          </a:xfrm>
        </p:grpSpPr>
        <p:sp>
          <p:nvSpPr>
            <p:cNvPr id="182" name="Freeform 7"/>
            <p:cNvSpPr/>
            <p:nvPr/>
          </p:nvSpPr>
          <p:spPr>
            <a:xfrm>
              <a:off x="2109960" y="2577960"/>
              <a:ext cx="140652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3527640" y="2577960"/>
              <a:ext cx="140796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4946760" y="2577960"/>
              <a:ext cx="1401840" cy="142560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3527640" y="1143000"/>
              <a:ext cx="140796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4946760" y="1143000"/>
              <a:ext cx="140184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2109960" y="4014720"/>
              <a:ext cx="140652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3527640" y="4014720"/>
              <a:ext cx="140796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4946760" y="4014720"/>
              <a:ext cx="140184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2109960" y="1143000"/>
              <a:ext cx="1406520" cy="1424160"/>
            </a:xfrm>
            <a:prstGeom prst="pie">
              <a:avLst/>
            </a:pr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2824200" y="1817640"/>
              <a:ext cx="236520" cy="600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2674800" y="15127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8"/>
            <p:cNvSpPr/>
            <p:nvPr/>
          </p:nvSpPr>
          <p:spPr>
            <a:xfrm>
              <a:off x="2416680" y="131112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9"/>
            <p:cNvSpPr/>
            <p:nvPr/>
          </p:nvSpPr>
          <p:spPr>
            <a:xfrm>
              <a:off x="3834360" y="131112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4089240" y="1670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5210280" y="1144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5222520" y="1569960"/>
              <a:ext cx="899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5928480" y="15699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5332680" y="1741320"/>
              <a:ext cx="671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5502240" y="2111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6"/>
            <p:cNvSpPr/>
            <p:nvPr/>
          </p:nvSpPr>
          <p:spPr>
            <a:xfrm>
              <a:off x="4093560" y="306720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3828960" y="2736720"/>
              <a:ext cx="84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8"/>
            <p:cNvSpPr/>
            <p:nvPr/>
          </p:nvSpPr>
          <p:spPr>
            <a:xfrm>
              <a:off x="4485240" y="273672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9"/>
            <p:cNvSpPr/>
            <p:nvPr/>
          </p:nvSpPr>
          <p:spPr>
            <a:xfrm>
              <a:off x="3711960" y="2905200"/>
              <a:ext cx="1099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sin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2674800" y="27273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1"/>
            <p:cNvSpPr/>
            <p:nvPr/>
          </p:nvSpPr>
          <p:spPr>
            <a:xfrm>
              <a:off x="2421720" y="255600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2"/>
            <p:cNvSpPr/>
            <p:nvPr/>
          </p:nvSpPr>
          <p:spPr>
            <a:xfrm>
              <a:off x="5308560" y="334476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3"/>
            <p:cNvSpPr/>
            <p:nvPr/>
          </p:nvSpPr>
          <p:spPr>
            <a:xfrm>
              <a:off x="4079160" y="42735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4"/>
            <p:cNvSpPr/>
            <p:nvPr/>
          </p:nvSpPr>
          <p:spPr>
            <a:xfrm>
              <a:off x="3890880" y="409248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"/>
            <p:cNvSpPr/>
            <p:nvPr/>
          </p:nvSpPr>
          <p:spPr>
            <a:xfrm>
              <a:off x="5502240" y="4000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6"/>
            <p:cNvSpPr/>
            <p:nvPr/>
          </p:nvSpPr>
          <p:spPr>
            <a:xfrm>
              <a:off x="5308560" y="4919760"/>
              <a:ext cx="72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2530080" y="4734000"/>
              <a:ext cx="60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2942280" y="473400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2342160" y="4900680"/>
              <a:ext cx="99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2478240" y="547056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3828960" y="5470560"/>
              <a:ext cx="84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5347080" y="547056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a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1572480" y="458964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1280520" y="3154320"/>
              <a:ext cx="817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1524960" y="168912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6"/>
            <p:cNvSpPr/>
            <p:nvPr/>
          </p:nvSpPr>
          <p:spPr>
            <a:xfrm>
              <a:off x="2649240" y="5786280"/>
              <a:ext cx="3313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siness Strength/Competitive 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7"/>
            <p:cNvSpPr/>
            <p:nvPr/>
          </p:nvSpPr>
          <p:spPr>
            <a:xfrm rot="16260000">
              <a:off x="145080" y="3151800"/>
              <a:ext cx="1996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 Attractiv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2117880" y="2584440"/>
              <a:ext cx="42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9"/>
            <p:cNvSpPr/>
            <p:nvPr/>
          </p:nvSpPr>
          <p:spPr>
            <a:xfrm>
              <a:off x="2117880" y="4021200"/>
              <a:ext cx="42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0"/>
            <p:cNvSpPr/>
            <p:nvPr/>
          </p:nvSpPr>
          <p:spPr>
            <a:xfrm>
              <a:off x="3533760" y="1150920"/>
              <a:ext cx="0" cy="42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1"/>
            <p:cNvSpPr/>
            <p:nvPr/>
          </p:nvSpPr>
          <p:spPr>
            <a:xfrm flipV="1">
              <a:off x="4946760" y="1150920"/>
              <a:ext cx="0" cy="429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"/>
            <p:cNvSpPr/>
            <p:nvPr/>
          </p:nvSpPr>
          <p:spPr>
            <a:xfrm>
              <a:off x="3978360" y="4554360"/>
              <a:ext cx="50652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3"/>
            <p:cNvSpPr/>
            <p:nvPr/>
          </p:nvSpPr>
          <p:spPr>
            <a:xfrm>
              <a:off x="3978360" y="4554360"/>
              <a:ext cx="519120" cy="519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4"/>
            <p:cNvSpPr/>
            <p:nvPr/>
          </p:nvSpPr>
          <p:spPr>
            <a:xfrm>
              <a:off x="5315040" y="4287960"/>
              <a:ext cx="665280" cy="66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5"/>
            <p:cNvSpPr/>
            <p:nvPr/>
          </p:nvSpPr>
          <p:spPr>
            <a:xfrm>
              <a:off x="5315040" y="4287960"/>
              <a:ext cx="677880" cy="680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6"/>
            <p:cNvSpPr/>
            <p:nvPr/>
          </p:nvSpPr>
          <p:spPr>
            <a:xfrm>
              <a:off x="5454720" y="1176480"/>
              <a:ext cx="385920" cy="39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7"/>
            <p:cNvSpPr/>
            <p:nvPr/>
          </p:nvSpPr>
          <p:spPr>
            <a:xfrm>
              <a:off x="5454720" y="1176480"/>
              <a:ext cx="398520" cy="403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8"/>
            <p:cNvSpPr/>
            <p:nvPr/>
          </p:nvSpPr>
          <p:spPr>
            <a:xfrm>
              <a:off x="3824280" y="1955880"/>
              <a:ext cx="808200" cy="80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9"/>
            <p:cNvSpPr/>
            <p:nvPr/>
          </p:nvSpPr>
          <p:spPr>
            <a:xfrm>
              <a:off x="3824280" y="1955880"/>
              <a:ext cx="820800" cy="820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0"/>
            <p:cNvSpPr/>
            <p:nvPr/>
          </p:nvSpPr>
          <p:spPr>
            <a:xfrm>
              <a:off x="4073760" y="3349800"/>
              <a:ext cx="22356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>
              <a:off x="4073760" y="3349800"/>
              <a:ext cx="236520" cy="326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2"/>
            <p:cNvSpPr/>
            <p:nvPr/>
          </p:nvSpPr>
          <p:spPr>
            <a:xfrm>
              <a:off x="2330640" y="2981160"/>
              <a:ext cx="965160" cy="9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3"/>
            <p:cNvSpPr/>
            <p:nvPr/>
          </p:nvSpPr>
          <p:spPr>
            <a:xfrm>
              <a:off x="2330640" y="2981160"/>
              <a:ext cx="977760" cy="982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"/>
            <p:cNvSpPr/>
            <p:nvPr/>
          </p:nvSpPr>
          <p:spPr>
            <a:xfrm>
              <a:off x="2473560" y="1798560"/>
              <a:ext cx="587160" cy="7048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5"/>
            <p:cNvSpPr/>
            <p:nvPr/>
          </p:nvSpPr>
          <p:spPr>
            <a:xfrm>
              <a:off x="2473560" y="1798560"/>
              <a:ext cx="587160" cy="704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5175360" y="2392200"/>
              <a:ext cx="947880" cy="9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7"/>
            <p:cNvSpPr/>
            <p:nvPr/>
          </p:nvSpPr>
          <p:spPr>
            <a:xfrm>
              <a:off x="5175360" y="2392200"/>
              <a:ext cx="960480" cy="959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8"/>
            <p:cNvSpPr/>
            <p:nvPr/>
          </p:nvSpPr>
          <p:spPr>
            <a:xfrm>
              <a:off x="4237200" y="4554360"/>
              <a:ext cx="247680" cy="24768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4237200" y="4554360"/>
              <a:ext cx="260280" cy="260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5650200" y="4287960"/>
              <a:ext cx="261720" cy="3283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1"/>
            <p:cNvSpPr/>
            <p:nvPr/>
          </p:nvSpPr>
          <p:spPr>
            <a:xfrm>
              <a:off x="5650200" y="4287960"/>
              <a:ext cx="274320" cy="341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"/>
            <p:cNvSpPr/>
            <p:nvPr/>
          </p:nvSpPr>
          <p:spPr>
            <a:xfrm>
              <a:off x="5650200" y="1176480"/>
              <a:ext cx="166680" cy="19044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3"/>
            <p:cNvSpPr/>
            <p:nvPr/>
          </p:nvSpPr>
          <p:spPr>
            <a:xfrm>
              <a:off x="5650200" y="1176480"/>
              <a:ext cx="179280" cy="203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4"/>
            <p:cNvSpPr/>
            <p:nvPr/>
          </p:nvSpPr>
          <p:spPr>
            <a:xfrm>
              <a:off x="4237200" y="1955880"/>
              <a:ext cx="395280" cy="3967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4237200" y="1955880"/>
              <a:ext cx="407880" cy="409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6"/>
            <p:cNvSpPr/>
            <p:nvPr/>
          </p:nvSpPr>
          <p:spPr>
            <a:xfrm>
              <a:off x="4237200" y="3349800"/>
              <a:ext cx="147600" cy="29520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7"/>
            <p:cNvSpPr/>
            <p:nvPr/>
          </p:nvSpPr>
          <p:spPr>
            <a:xfrm>
              <a:off x="4237200" y="3349800"/>
              <a:ext cx="160200" cy="307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8"/>
            <p:cNvSpPr/>
            <p:nvPr/>
          </p:nvSpPr>
          <p:spPr>
            <a:xfrm>
              <a:off x="2819520" y="2981160"/>
              <a:ext cx="328680" cy="47628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9"/>
            <p:cNvSpPr/>
            <p:nvPr/>
          </p:nvSpPr>
          <p:spPr>
            <a:xfrm>
              <a:off x="2819520" y="2981160"/>
              <a:ext cx="341280" cy="489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0"/>
            <p:cNvSpPr/>
            <p:nvPr/>
          </p:nvSpPr>
          <p:spPr>
            <a:xfrm>
              <a:off x="2824200" y="1817640"/>
              <a:ext cx="343080" cy="58752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1"/>
            <p:cNvSpPr/>
            <p:nvPr/>
          </p:nvSpPr>
          <p:spPr>
            <a:xfrm>
              <a:off x="2824200" y="1817640"/>
              <a:ext cx="355680" cy="600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2"/>
            <p:cNvSpPr/>
            <p:nvPr/>
          </p:nvSpPr>
          <p:spPr>
            <a:xfrm>
              <a:off x="5650200" y="2392200"/>
              <a:ext cx="442800" cy="479520"/>
            </a:xfrm>
            <a:prstGeom prst="pie">
              <a:avLst/>
            </a:pr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22AE450E-F20B-448A-86C2-2D72FCC2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rporate Parenting Strategy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ateg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alyz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DFB05350-5925-4158-9BC2-7C7E50E69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 Key Issu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direction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portfolio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parent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974C062A-6A7C-4B60-959D-4B06B7D5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Directiona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8801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E8B3D416-F021-43D2-AAAC-B2192EF6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ional Strateg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ientation towar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ion, contraction,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 or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evelopment or acquisitions, mergers, or al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8B41FFE8-3455-48E9-B5BA-124DF297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ional Strateg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Gr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enchment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DB73E92-41DD-4628-B65A-0FF10A28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wth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rn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al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3F88DE4C-40F3-4F4C-8D8A-41E0AB7E1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wth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Bas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5280"/>
            <a:ext cx="35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BAC58A0-EADC-4F14-BA5C-CE17CEAE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Picture1"/>
          <p:cNvPicPr/>
          <p:nvPr/>
        </p:nvPicPr>
        <p:blipFill>
          <a:blip r:embed="rId1"/>
          <a:stretch/>
        </p:blipFill>
        <p:spPr>
          <a:xfrm>
            <a:off x="4876920" y="4191120"/>
            <a:ext cx="3352680" cy="238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asic Concentration Strategi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tic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izont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5Z</dcterms:created>
  <dc:creator>A Valued MWSU Customer</dc:creator>
  <dc:description/>
  <dc:language>en-US</dc:language>
  <cp:lastModifiedBy>ALHASIN</cp:lastModifiedBy>
  <dcterms:modified xsi:type="dcterms:W3CDTF">2009-03-20T08:11:52Z</dcterms:modified>
  <cp:revision>49</cp:revision>
  <dc:subject/>
  <dc:title>Slide 1</dc:title>
</cp:coreProperties>
</file>