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0A3-8006-4349-B60D-73A3129F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926-2288-47EA-9C14-7CA2EBAC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4D3-E724-40A3-AFED-1DD82025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B08-5A1B-4C9E-B638-9E4D6B70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F6A3-1FD7-42FD-A2C0-DF0583BD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7059-1D69-44C9-867D-6A6FEE97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24E7-023C-470B-A435-078B96E4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4B18-A79C-4693-BCF2-782C19FB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48DF-C608-48CF-9BA5-C3F9443B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4B2F-B197-4F32-B940-D73E2523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A7EF-4FEE-4DF7-9881-D23B4EB4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BAC-5B37-42FE-8FCC-201F5164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7E03-BFC8-4114-B9A7-1770938B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4F1B-7199-4EDA-8424-3533FDCE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173C-CC1D-4B6E-8433-9E953844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3F1E-8218-4CAF-8736-15AF74BA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9F7E-ACBD-4682-80E9-324E6F50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3945D-5168-4CBB-9A08-D91CE834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E229-11E8-4CE7-9D33-37187BF8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98CD4-164D-4F83-AC54-89E3339D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B9A8-A468-4412-9E46-6D0DA3D9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84AD-4CB7-4842-9C49-8D0E069C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DC5-A4B5-4AE0-B2E2-B86DDD13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CE0B-9B9A-466B-B568-7EFEEF74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61158-4B94-4D58-9417-15CD9F3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8493-CC75-4508-8DB4-8A497DD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0B0A-A674-4B42-A6C5-2013A714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D1D2-45C4-4A9E-BA18-516276D5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0BAE-8E54-4388-BFDD-A2BE1862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62B6-6FBC-4E54-9DA6-3379B7FF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BC1D-ECB5-47A3-852C-04550867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AFDAE-1ECC-4592-BFFD-0E84478D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CC3E9-BBC8-4F88-95BE-D8AF88A9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76D-B5AA-48A4-AE52-3F1D28FC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5234-AE84-477B-9C97-0713FECA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3AD9-EFCF-49C7-93EC-1E8ECFB4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FB3B-E492-457B-BECB-7230DD82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7410-EEAC-47C5-B080-2E961DB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B820-53C6-4F27-AA27-AA03A62E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71B96-2F28-4A76-B432-9FAB3523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EC28D-14F7-4BD0-A5F0-035C5894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D5A7-20CF-43A7-8326-0CD945F6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3A97-2B1B-46CE-BB9A-D9492067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304-68AD-480C-81D0-21C4BD5C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1CD-A2B8-4CE4-A88C-6D788B65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13A-FF45-4024-A1A7-5B69F97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912-F7B8-4102-B123-7961FB63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48D-96BB-4228-8E16-DCEA184E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E84ED-74C8-47DE-B591-BF6CB0C167D6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BA89F-DAE7-4A9C-B210-5F80B5B388B0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A41D9-CF7A-4247-BF53-F42E95A59D15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6BAF6-5A06-4A77-A14E-9511AE31CF4C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CD, DVD &amp; Blu-Ray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WOUTER, FABIAN &amp; MICHI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schiedenis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wikkeld in 1995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doelt voor optische opsl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oorslag 2006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bruik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deo naar allrou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Productie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s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beschreven / Beschreven / Herschrijf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nkellaag / Dubbella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,7 – 17,1 G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egiocod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oordelen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oedkoo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trouw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mpatib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Nadelen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apac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lu-Ra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3:22:52Z</dcterms:created>
  <dc:creator>Fabian</dc:creator>
  <dc:description/>
  <dc:language>en-US</dc:language>
  <cp:lastModifiedBy>Wouter</cp:lastModifiedBy>
  <dcterms:modified xsi:type="dcterms:W3CDTF">2013-09-30T15:33:50Z</dcterms:modified>
  <cp:revision>2</cp:revision>
  <dc:subject/>
  <dc:title>CD, DVD &amp; Blu-Ray</dc:title>
</cp:coreProperties>
</file>