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894-889E-4ABB-92E2-CF336579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092-524B-4CD4-85E6-C05D688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9DF-3FF3-4434-AAD7-6691A8F3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680-0C12-485C-A894-DDB01068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5C97-562D-4E91-ACF2-D891D38E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95B2-9A09-47F8-82C4-A8E6DB47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ACC5-6BF5-4786-8D08-322154D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509-1E84-44EF-9E81-AFADBDD3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907-9BF3-4D10-96C4-A827852B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A846-CA57-44B3-892D-4507FBB0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1DB-660C-4D4B-BC25-C4174A2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BEA-5E67-4071-9C36-ACF2011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05E-FDE2-46B7-A051-038EBB9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4362-9DCF-4D50-81FD-CC19B71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6AD-200C-49FC-A1BA-26C5783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EC0-3789-4438-A38D-BC6256E0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574E-54C1-4EA3-8FE1-2B6FE13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2EF7-B84B-46AA-92B5-B584F676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7CA7-F62A-4E9D-B2C5-DD187F9D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2DFB-DA18-42DF-9F11-BBEB05E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4043-10F7-4730-B467-A5671B4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70B1-A0BC-499D-835A-5B3BEED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4D0-4C73-42CD-9029-026B6FC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9197-1E35-4328-8853-8B76BDBB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490D-0EB0-439D-8C58-462F87A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47B1-2F3F-4203-B6AF-CEF5805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314E-1422-4828-BAF1-C80EA3F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0214-8944-4E36-9A92-F23F6668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88D5-1942-4F22-BFF4-BF48938F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46BA-E0FE-470B-87D1-870F6B01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712E-6A9F-4095-92B3-9E6D0689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0472-40D5-4AC4-A336-3E5B460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71A19-66D4-4455-8AC6-FB63B63D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62A-4E40-4B39-A55F-3826813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C1CE-B5E1-4966-8455-0A45628A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3A10-2081-4506-B09D-8DDF223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BECB-151A-44E7-867D-D044965C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A1AF-48DD-4CF1-84D9-CDC4D25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019F-9D1A-4671-AA54-FFB2C12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401D-8E3F-4AC3-A397-90D38B4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004E-DABC-4042-AD9C-86432B8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2A39-53C1-41DA-88DA-27AB7AB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2000-A501-4292-89AC-6169AF9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2DA-6881-4A86-9C98-598FB9B8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C46-26D7-4F6F-9FC7-38AC6B53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840-3915-4916-AC18-BD42C22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1A9-319F-4724-8BA1-4F8AF38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90B-1FEE-4531-AEC2-FAC59A7A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FC320-CA1D-49CF-8A60-314375423CC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77BD5-848D-47C3-9004-9A076ECBA88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C404A-EA75-458D-B4F8-BC1406B2895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9F746-A9AF-404E-9DBD-ACEB513FB98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CD, DVD &amp; Blu-Ray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WOUTER, FABIAN &amp; MICHI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schiedenis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wikkeld in 199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doelt voor optische op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slag 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ebruik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deo naar allrou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Productie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s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beschreven / Beschreven / Herschrijf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nkellaag / Dubbella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,7 – 17,1 G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gioco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oor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k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trouw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mpatib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Nadelen DV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apac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lu-Ra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22:52Z</dcterms:created>
  <dc:creator>Fabian</dc:creator>
  <dc:description/>
  <dc:language>en-US</dc:language>
  <cp:lastModifiedBy>Wouter</cp:lastModifiedBy>
  <dcterms:modified xsi:type="dcterms:W3CDTF">2013-09-30T15:33:50Z</dcterms:modified>
  <cp:revision>2</cp:revision>
  <dc:subject/>
  <dc:title>CD, DVD &amp; Blu-Ray</dc:title>
</cp:coreProperties>
</file>