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6B6-0BB8-4CF6-84ED-81EEEA24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8DE-6606-4DEF-96C4-290C08BF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433-A545-4AAA-A150-DFDE002F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CEB-C147-44EC-AE9F-25B606DA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B721-64CD-4CAE-8854-DE8DDAAC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197B-6F5C-4290-AC12-78BDA33C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9753-C15C-4BB7-9782-24F92D77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4BE0-9B84-4DBC-A2D8-7C9657E9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8ADA-8C09-4376-88DD-AFF4EEC1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13BA-A914-4483-8F70-3EAEA60C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70B0-13EA-4F21-A0E1-FBD527B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9E1-4F82-4482-9A1F-FEC2565C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D307-9861-4BBA-B65E-C45BD78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4901-AE28-4307-8E77-B95D7DCF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9D53-21D1-4273-BED6-A16BC235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7522-ED7F-427E-918E-6A0D4197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8DD2-5545-4BF5-B3D7-66C02851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9590-2BB0-4728-9982-F1FB6EC6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8D89-063D-48D0-B31F-92B0ED40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6B6B-23E3-4426-BE5B-1550C0A5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438C-F756-44CD-88AF-DC889E32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2E3D-C546-4E1A-9EDA-A5C1ABEC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81E-6CC1-4B5A-960B-21A484E0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9E0E9-BCC5-4D62-B2F1-96F2D847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F404-EC58-4043-B2B0-E362FC3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E5A5D-13C4-4874-88D6-156E7AFB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51A9-3D2D-4BEC-B582-26874928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891B-FF19-49F9-92F3-8185EFE5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8B25-0962-4D3E-A775-D4FAC17A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EC1DF-4C12-47F7-A370-7890FE9D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63DB1-6C82-49CA-99AA-9D1DECDC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75C3D-CE22-4FDF-98BA-3A892B02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9023-CC36-4123-B2F9-680B4BFF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E06-1E49-4205-A677-E73F885F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19096-C045-4F18-A55A-3E1E2724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37CF6-7B65-441A-8863-659F2E4D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F0B1F-C14B-4B32-8161-67A66F89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08BF0-9D53-49F5-9F25-67A63A0D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1C0A8-3F79-4FB2-B1B5-9EEE20B8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ED023-A4EC-4112-8D8A-9387DF17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E30B-1334-4283-8BFB-070C4C14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26F43-E724-4251-AE7D-0AB1CE74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2119-E516-4C6F-93A3-4D08CFFE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2DC-C9AD-4965-9BF0-689C58A8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0A4-3DF8-4EEE-AD65-F18D12F7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DBC-3598-43BB-8913-54656A3C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FBB-11EF-460F-90AA-5F186330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248-6E53-49D0-8222-6A9AD930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3E484-A0AC-431D-B98E-DA511AC325EA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C5D96-83EC-4417-A972-3232EDA79468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88A37-5405-40E5-9A68-50794D43F24E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953B7-5896-4785-AC2D-522A1C7DFBF5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CD, DVD &amp; Blu-Ray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WOUTER, FABIAN &amp; MICHI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oordelen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oedkoop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trouw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mpatib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Nadelen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apacite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lu-Ra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eschiedenis C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958: Uitvinding Laser </a:t>
            </a:r>
            <a:r>
              <a:rPr b="0" lang="nl-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optische videopl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deorecorder bet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servision Disc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Kenmerken C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meter: 120 mm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kte: 1.2 m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pening: 15 m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74 minuten speeltij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Werking C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raalspoor putj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ode-las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oordelen C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andige verpakk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iet duu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elf muziek op zet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Nadelen C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D-ro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handig in ge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einig capacite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eschiedenis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wikkeld in 1995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doelt voor optische opsl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oorslag 2006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ebruik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deo naar allrou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Productie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s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beschreven / Beschreven / Herschrijf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nkellaag / Dubbella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,7 – 17,1 GB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Regiocod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3:22:52Z</dcterms:created>
  <dc:creator>Fabian</dc:creator>
  <dc:description/>
  <dc:language>en-US</dc:language>
  <cp:lastModifiedBy>Wouter</cp:lastModifiedBy>
  <dcterms:modified xsi:type="dcterms:W3CDTF">2013-09-30T15:40:36Z</dcterms:modified>
  <cp:revision>5</cp:revision>
  <dc:subject/>
  <dc:title>CD, DVD &amp; Blu-Ray</dc:title>
</cp:coreProperties>
</file>