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914-3CC6-4B66-91C0-59E6AEEC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08B-8013-4645-BFE2-21B57393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EDF-DFE7-4E6A-8404-3AA48825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7FB-7705-4525-BC4E-C8FE57FA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4F3-9F2B-4830-A05D-700209E3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609-2CCC-4E81-AC2D-7DDF3B35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274-1743-412C-B4BF-E0C031C3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7A8-3811-40D0-B112-B84E3F17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9D6-02AE-4FA0-8E10-E29FC886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272-0C0E-487A-AFAB-E6176F07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68A-35CF-4EBD-A39C-55A6D388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05F-B974-43D6-A36C-363B7098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EE74-D439-4A95-B334-F2B37824A7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533520" y="1143000"/>
            <a:ext cx="82296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training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his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sting process for coffee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Diagram 3" descr=""/>
          <p:cNvPicPr/>
          <p:nvPr/>
        </p:nvPicPr>
        <p:blipFill>
          <a:blip r:embed="rId1"/>
          <a:stretch/>
        </p:blipFill>
        <p:spPr>
          <a:xfrm>
            <a:off x="401760" y="1139760"/>
            <a:ext cx="8327880" cy="5035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38080" y="6858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ganization structure divided the company into 3 seg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-12600" y="-920880"/>
            <a:ext cx="9169200" cy="7602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85800" y="5257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unctional structure in  business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rector Char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4572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lots of finance people on th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ight Arrow 2"/>
          <p:cNvSpPr/>
          <p:nvPr/>
        </p:nvSpPr>
        <p:spPr>
          <a:xfrm>
            <a:off x="0" y="914400"/>
            <a:ext cx="4572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 the board to take a mostly finance view of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9:08:19Z</dcterms:created>
  <dc:creator>TungHacker</dc:creator>
  <dc:description/>
  <dc:language>en-US</dc:language>
  <cp:lastModifiedBy>TungHacker</cp:lastModifiedBy>
  <dcterms:modified xsi:type="dcterms:W3CDTF">2013-10-20T14:29:32Z</dcterms:modified>
  <cp:revision>9</cp:revision>
  <dc:subject/>
  <dc:title>Slide 1</dc:title>
</cp:coreProperties>
</file>