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13F-B437-4D54-9BEF-6B6724F0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868-4A6B-4751-A0DA-A1FE1EF5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D25-0BBE-4345-B4C5-FA604CDF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99A-B297-40A3-BC43-7428DECF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344-9FED-4D96-BEC0-82AAE371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9D03-57D6-48CB-8316-CF73585B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EA95-B4DB-4A9F-8863-01208820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A17B-A108-42B4-B44A-4F6E23A0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8587-909B-4EA4-A025-3E06EF3F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A9A4-9046-4F0A-A306-F5EED6D3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9F17-1891-41BA-896A-535973F1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FED-6CF8-4F94-9439-769E0D4C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1F2E-2359-4418-99A2-03C14077947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533520" y="1143000"/>
            <a:ext cx="82296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training of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his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asting process for coffee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Diagram 3" descr=""/>
          <p:cNvPicPr/>
          <p:nvPr/>
        </p:nvPicPr>
        <p:blipFill>
          <a:blip r:embed="rId1"/>
          <a:stretch/>
        </p:blipFill>
        <p:spPr>
          <a:xfrm>
            <a:off x="401760" y="1139760"/>
            <a:ext cx="8327880" cy="503568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838080" y="6858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rganization structure divided the company into 3 seg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 1" descr=""/>
          <p:cNvPicPr/>
          <p:nvPr/>
        </p:nvPicPr>
        <p:blipFill>
          <a:blip r:embed="rId1"/>
          <a:stretch/>
        </p:blipFill>
        <p:spPr>
          <a:xfrm>
            <a:off x="-12600" y="-920880"/>
            <a:ext cx="9169200" cy="76028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685800" y="5257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unctional structure in  business fi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rector Charl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4572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lots of finance people on th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ight Arrow 2"/>
          <p:cNvSpPr/>
          <p:nvPr/>
        </p:nvSpPr>
        <p:spPr>
          <a:xfrm>
            <a:off x="0" y="914400"/>
            <a:ext cx="457200" cy="7632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33520" y="7621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 the board to take a mostly finance view of th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09:08:19Z</dcterms:created>
  <dc:creator>TungHacker</dc:creator>
  <dc:description/>
  <dc:language>en-US</dc:language>
  <cp:lastModifiedBy>TungHacker</cp:lastModifiedBy>
  <dcterms:modified xsi:type="dcterms:W3CDTF">2013-10-20T14:29:32Z</dcterms:modified>
  <cp:revision>9</cp:revision>
  <dc:subject/>
  <dc:title>Slide 1</dc:title>
</cp:coreProperties>
</file>