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264-26CE-49EB-99BB-985C7AB5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655-80DF-4F62-B489-4EDEF3CB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076-426C-45DC-83C5-37C42C1E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956-E07F-4C71-895E-2C36F690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787-9F5E-403D-8CF0-639B899D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B44-0ADA-4967-A88C-0B89219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97D-508D-4F29-85FB-8B75E578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DD2-7B9B-40F9-9E99-DFC15A04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5CF-F139-4EEB-9044-6DB79EC9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7E2-8BAE-45B9-88C6-B301407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539-FB2D-4B9C-81F8-A8F3CA5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A0B-7031-4DCF-802E-80856D4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6AB1-3845-40E9-BCE9-906D7353AA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3520" y="1143000"/>
            <a:ext cx="8229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training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his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sting process for coffee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iagram 3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327880" cy="5035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38080" y="6858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 structure divided the company into 3 seg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-12600" y="-920880"/>
            <a:ext cx="9169200" cy="7602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85800" y="5257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nctional structure in  business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rector Char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4572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lots of finance people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2"/>
          <p:cNvSpPr/>
          <p:nvPr/>
        </p:nvSpPr>
        <p:spPr>
          <a:xfrm>
            <a:off x="0" y="914400"/>
            <a:ext cx="4572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the board to take a mostly finance view of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9:08:19Z</dcterms:created>
  <dc:creator>TungHacker</dc:creator>
  <dc:description/>
  <dc:language>en-US</dc:language>
  <cp:lastModifiedBy>TungHacker</cp:lastModifiedBy>
  <dcterms:modified xsi:type="dcterms:W3CDTF">2013-10-20T14:29:32Z</dcterms:modified>
  <cp:revision>9</cp:revision>
  <dc:subject/>
  <dc:title>Slide 1</dc:title>
</cp:coreProperties>
</file>