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6CF-691F-4E7C-A587-04D06055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713-8682-4EBD-8DC1-EA77E229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413-C690-4DB9-B4BC-E5BFBBE2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443-C0F9-4E1E-9E2B-6C1FDF20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CF8-F6B8-4276-BE09-E4929CF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7DD-5F6E-4213-A738-FC7BEB9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4AD-BACC-4EA6-89E8-F970F1D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2B6-4DEA-48E1-A898-FEFA81E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5EE-69E1-4520-8B71-D85C9E8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5C2-6DD1-4EA3-99BF-1CCD280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D71-5470-431E-BE18-CB3AD6D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69A-5706-4290-B8AC-84FC2DC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A98-6166-423D-8FB6-ED8F8DCDD8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143000"/>
            <a:ext cx="8229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training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hi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sting process for coffee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gram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32788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38080" y="685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 structure divided the company into 3 seg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-12600" y="-920880"/>
            <a:ext cx="9169200" cy="7602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85800" y="525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ctional structure in  business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Char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4572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lots of finance people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2"/>
          <p:cNvSpPr/>
          <p:nvPr/>
        </p:nvSpPr>
        <p:spPr>
          <a:xfrm>
            <a:off x="0" y="91440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board to take a mostly finance view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08:19Z</dcterms:created>
  <dc:creator>TungHacker</dc:creator>
  <dc:description/>
  <dc:language>en-US</dc:language>
  <cp:lastModifiedBy>TungHacker</cp:lastModifiedBy>
  <dcterms:modified xsi:type="dcterms:W3CDTF">2013-10-20T14:29:32Z</dcterms:modified>
  <cp:revision>9</cp:revision>
  <dc:subject/>
  <dc:title>Slide 1</dc:title>
</cp:coreProperties>
</file>