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3706-F517-4DEA-B175-DF4D8892E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E546-7722-45A7-BE35-A6E0D2242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64AC-101F-4651-B88F-091C8BEFF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C200-4337-4FBA-BB2A-A633EFA03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0C5E-7A78-485D-ABCD-6DDD362F8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CC36-CA64-4326-8037-4AC3F11C5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4C94-3F2B-43AA-9E37-EE17D430D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9462-199B-4AAC-9E48-52FB946B3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4A1A-F261-4075-84FD-CDC26278A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5794-E1F0-4456-AF19-343751C2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A67D-3A01-48EF-AAE4-2049505BB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2FE1-E01F-49A5-842B-7B3EDF08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0EA8B-11A6-4C92-A8CA-4C8927B4F6B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533520" y="1143000"/>
            <a:ext cx="822960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l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porat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icient training of 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nchis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asting process for coffee b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Diagram 3" descr=""/>
          <p:cNvPicPr/>
          <p:nvPr/>
        </p:nvPicPr>
        <p:blipFill>
          <a:blip r:embed="rId1"/>
          <a:stretch/>
        </p:blipFill>
        <p:spPr>
          <a:xfrm>
            <a:off x="401760" y="1139760"/>
            <a:ext cx="8327880" cy="503568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838080" y="68580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rganization structure divided the company into 3 segment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Diagram 1" descr=""/>
          <p:cNvPicPr/>
          <p:nvPr/>
        </p:nvPicPr>
        <p:blipFill>
          <a:blip r:embed="rId1"/>
          <a:stretch/>
        </p:blipFill>
        <p:spPr>
          <a:xfrm>
            <a:off x="-12600" y="-920880"/>
            <a:ext cx="9169200" cy="760284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685800" y="52578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unctional structure in  business fi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0"/>
          <p:cNvSpPr/>
          <p:nvPr/>
        </p:nvSpPr>
        <p:spPr>
          <a:xfrm>
            <a:off x="0" y="27432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rector Charl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380880" y="457200"/>
            <a:ext cx="815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lots of finance people on the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ight Arrow 2"/>
          <p:cNvSpPr/>
          <p:nvPr/>
        </p:nvSpPr>
        <p:spPr>
          <a:xfrm>
            <a:off x="0" y="914400"/>
            <a:ext cx="457200" cy="76320"/>
          </a:xfrm>
          <a:prstGeom prst="rightArrow">
            <a:avLst>
              <a:gd name="adj1" fmla="val 50000"/>
              <a:gd name="adj2" fmla="val 4992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533520" y="76212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d the board to take a mostly finance view of the 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0T09:08:19Z</dcterms:created>
  <dc:creator>TungHacker</dc:creator>
  <dc:description/>
  <dc:language>en-US</dc:language>
  <cp:lastModifiedBy>TungHacker</cp:lastModifiedBy>
  <dcterms:modified xsi:type="dcterms:W3CDTF">2013-10-20T14:29:32Z</dcterms:modified>
  <cp:revision>9</cp:revision>
  <dc:subject/>
  <dc:title>Slide 1</dc:title>
</cp:coreProperties>
</file>