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B1B0-25B0-49D3-9244-C832EDB7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ED7F-5A64-4CF1-9C9D-BE224336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7A27-5C62-48DD-9BA0-052F5F18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C4F8-F75D-4454-A0BB-234B083C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BE27-7A1B-4058-8678-EE2F125F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B9C0-627B-4AB1-825D-716755BF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72D2-0F4F-4FDA-A8B4-F6BAC510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1C32-4A21-4330-B852-5C0CE620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1E33-F35F-4100-B819-42E7CA50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869B-F51F-4D34-BF1B-04A5E223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1EC9-7A77-4B92-9021-1C8AD314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4A7-E729-457C-93C5-12C681A9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603E-77F0-4176-9690-B1A93E2F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8A54-6A91-4A4A-99A4-B175F8C4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1751-4522-4072-9AE3-00AFD40B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E7CF-FEA4-44C7-970C-2DF7D037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EED0-5D7D-4B77-92AA-BDFED108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2EAC-D542-4DD1-900A-194BA7F2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6E3-D0B2-478E-99A4-2922A0C0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276F-5957-4705-A268-45F4B295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856-C905-48BB-8837-4DA7BF11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ED43-E0ED-44B1-88C3-EDCCFA8E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ADE6-99A9-4BD4-ADC2-E3E205D5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18BC-8D94-450D-827A-717A24EC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37ED-DD9E-4CFF-8F3A-3D60057C312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37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336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164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3100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5F22-34F7-4CF4-8A7B-10E5A4411B2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The Running Recor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870120" cy="1276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467480" y="304920"/>
            <a:ext cx="870120" cy="1276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95520" y="1600200"/>
            <a:ext cx="592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Running Record is a record or errors, or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iscues, that readers make as they are reading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61360" y="2438280"/>
            <a:ext cx="46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d3333"/>
                </a:solidFill>
                <a:uFillTx/>
                <a:latin typeface="Times New Roman"/>
              </a:rPr>
              <a:t>Why do we use Running Records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2400" y="2819520"/>
            <a:ext cx="35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o evaluate text difficult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0960" y="3276720"/>
            <a:ext cx="59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to group together children with similar nee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2760" y="3733920"/>
            <a:ext cx="44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o monitor progress of the read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1680" y="4191120"/>
            <a:ext cx="573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o allow different children to move throug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fferent books at different speeds whi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keeping track of (and records of)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dividual progres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1760" y="5715000"/>
            <a:ext cx="69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to observe particular difficulties in particular childr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7160" y="6248520"/>
            <a:ext cx="41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o guide classroom instruc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Self Correc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68760" y="2209680"/>
            <a:ext cx="76939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ere are more than 350 species of sharks.  All sharks are alike i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many ways that are very different from other animals. The skeletons of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harks are made totally of cartilage.  This differs greatly from bony fish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whose skeletons contain true bone.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9320" y="22096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55760" y="2193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52480" y="22860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95480" y="22860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00400" y="2286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5680" y="23623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22860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62720" y="2286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5880" y="22860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29400" y="2286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08660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2286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81080" y="32004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38280" y="31240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19520" y="3200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276720" y="3124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86200" y="3124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48320" y="3124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81480" y="31240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91320" y="3200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05720" y="3124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467480" y="31240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077320" y="3124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95280" y="41148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05120" y="41148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00400" y="4038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81280" y="39625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91120" y="4038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029200" y="39625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38680" y="39625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48520" y="4038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0" y="4038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467480" y="40384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077320" y="4038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19320" y="50292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0" y="50292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24080" y="51055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95680" y="51055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05680" y="205740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Special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14400" y="312408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81440" y="396252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make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89120" y="5059440"/>
            <a:ext cx="72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truly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05320" y="208764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586160" y="315432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652840" y="39924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00760" y="505944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All Conven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68760" y="2666880"/>
            <a:ext cx="76939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ere are more than 350 species of sharks.  All sharks are alike i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many ways that are very different from other animals. The skeletons of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harks are made totally of cartilage.  This differs greatly from bony fish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whose skeletons contain true bone.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26668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26668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38280" y="26668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19520" y="26668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352680" y="26668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62520" y="26668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495680" y="27432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52880" y="27432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62720" y="26668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05720" y="26668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62920" y="27432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543800" y="26668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371600" y="36576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05120" y="35812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438280" y="35812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43200" y="36576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6576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35812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48320" y="35812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257800" y="35812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05720" y="35812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91520" y="35812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077320" y="35812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19320" y="4572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05120" y="4572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62320" y="44956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4572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4572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76920" y="4572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562720" y="4572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324480" y="46483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4572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67480" y="45720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077320" y="4572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934320" y="4724280"/>
            <a:ext cx="1616040" cy="133560"/>
          </a:xfrm>
          <a:custGeom>
            <a:avLst/>
            <a:gdLst/>
            <a:ahLst/>
            <a:rect l="l" t="t" r="r" b="b"/>
            <a:pathLst>
              <a:path w="1018" h="84">
                <a:moveTo>
                  <a:pt x="0" y="48"/>
                </a:moveTo>
                <a:cubicBezTo>
                  <a:pt x="96" y="15"/>
                  <a:pt x="189" y="9"/>
                  <a:pt x="290" y="0"/>
                </a:cubicBezTo>
                <a:cubicBezTo>
                  <a:pt x="455" y="4"/>
                  <a:pt x="621" y="4"/>
                  <a:pt x="787" y="12"/>
                </a:cubicBezTo>
                <a:cubicBezTo>
                  <a:pt x="839" y="14"/>
                  <a:pt x="895" y="43"/>
                  <a:pt x="945" y="60"/>
                </a:cubicBezTo>
                <a:cubicBezTo>
                  <a:pt x="969" y="68"/>
                  <a:pt x="1018" y="84"/>
                  <a:pt x="1018" y="8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71600" y="5486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5486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200400" y="5486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55627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91120" y="5486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5120" y="25606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man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65240" y="303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05120" y="3276720"/>
            <a:ext cx="228600" cy="228600"/>
          </a:xfrm>
          <a:prstGeom prst="flowChartExtract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94540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14640" y="35812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shark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718080" y="45259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carting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81640" y="452592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443800" y="4449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Scoring the Recor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173664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ubstitutions, Insertions, Omissions, Teacher-told respons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re scored as error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914400" y="2575080"/>
            <a:ext cx="52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Repetitions are not scored as error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14400" y="3108240"/>
            <a:ext cx="798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orrected responses are scored as self-corrections.  The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is no penalty for attempts that result in a correct response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14400" y="3946680"/>
            <a:ext cx="80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ultiple unsuccessful attempts at a word score as one error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4400" y="4403880"/>
            <a:ext cx="71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If the reader omits a line or lines, each word omitted is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counted as an error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06120" y="5105520"/>
            <a:ext cx="78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If the reader omits a page, deduct the number of words on th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age from the total word count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914400" y="5851440"/>
            <a:ext cx="826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t the reader repeatedly makes an error with a proper nou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unt it as one error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9" dur="indefinite" restart="never" nodeType="tmRoot">
          <p:childTnLst>
            <p:seq>
              <p:cTn id="1980" dur="indefinite" nodeType="mainSeq">
                <p:childTnLst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Scoring Running Record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339360" y="1630440"/>
            <a:ext cx="23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02000"/>
                </a:solidFill>
                <a:uFillTx/>
                <a:latin typeface="Times New Roman"/>
              </a:rPr>
              <a:t>Error Rat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6280" y="2743200"/>
            <a:ext cx="38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1. Count the number of error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09000" y="3276720"/>
            <a:ext cx="72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2. Compare this with the number of words in the passag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14400" y="3870360"/>
            <a:ext cx="37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3. Calculate the error rat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82760" y="4572000"/>
            <a:ext cx="477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Total number of words in the passag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umber of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14760" y="53341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d3333"/>
                </a:solidFill>
                <a:uFillTx/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63080" y="5699160"/>
            <a:ext cx="57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100 words, 5 errors       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=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= ratio 1:2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                                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5      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3" dur="indefinite" restart="never" nodeType="tmRoot">
          <p:childTnLst>
            <p:seq>
              <p:cTn id="2014" dur="indefinite" nodeType="mainSeq">
                <p:childTnLst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Scoring Running Record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973240" y="1676520"/>
            <a:ext cx="31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02000"/>
                </a:solidFill>
                <a:uFillTx/>
                <a:latin typeface="Times New Roman"/>
              </a:rPr>
              <a:t>Accuracy Rat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3480" y="2514600"/>
            <a:ext cx="798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1. Subtract the number of errors from the total number of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8080" y="3048120"/>
            <a:ext cx="48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2. Divide by the number of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09360" y="3581280"/>
            <a:ext cx="423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Number of words minus erro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umber of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67400" y="464832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94560" y="5165640"/>
            <a:ext cx="265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100 words - 7 erro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umber of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30640" y="54100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488200" y="5181480"/>
            <a:ext cx="63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9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49600" y="5334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630840" y="53341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93%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7" dur="indefinite" restart="never" nodeType="tmRoot">
          <p:childTnLst>
            <p:seq>
              <p:cTn id="2048" dur="indefinite" nodeType="mainSeq">
                <p:childTnLst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Scoring Running Record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77880" y="1935000"/>
            <a:ext cx="43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Self Correction Rat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07200" y="297180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1. Add the number of errors and self corrections together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5812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2. Divide be the number of self correction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55520" y="4175280"/>
            <a:ext cx="510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Number of errors and self correction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Self correction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974160" y="50133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66880" y="54100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10 + 5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=  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15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= 3        ratio 1: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5              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3" dur="indefinite" restart="never" nodeType="tmRoot">
          <p:childTnLst>
            <p:seq>
              <p:cTn id="2094" dur="indefinite" nodeType="mainSeq">
                <p:childTnLst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Assessmen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8080" y="182880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tegory descri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curacy rat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9240" y="2286000"/>
            <a:ext cx="75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enough for independent rea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95 – 100%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05040" y="320040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Instructional level for use in guided reading session.    90 – 94%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5200" y="4267080"/>
            <a:ext cx="80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3333"/>
                </a:solidFill>
                <a:latin typeface="Arial"/>
              </a:rPr>
              <a:t>Too difficult and will frustrate the reader</a:t>
            </a:r>
            <a:r>
              <a:rPr b="0" lang="en-US" sz="2000" spc="-1" strike="noStrike">
                <a:solidFill>
                  <a:srgbClr val="cd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d3333"/>
                </a:solidFill>
                <a:latin typeface="Arial"/>
              </a:rPr>
              <a:t>                      89% and below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3" dur="indefinite" restart="never" nodeType="tmRoot">
          <p:childTnLst>
            <p:seq>
              <p:cTn id="2124" dur="indefinite" nodeType="mainSeq">
                <p:childTnLst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Categori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38800" y="2438280"/>
            <a:ext cx="786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  <a:ea typeface="Times New Roman"/>
              </a:rPr>
              <a:t>Category Description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  <a:ea typeface="Times New Roman"/>
              </a:rPr>
              <a:t>Accuracy Rate Rang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Easy Enough for Independent Reading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  95 - 100 %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Instructional level for use in guided reading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  90 - 94%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Too difficult and will frustrate the reader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   89% and below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38080" y="158436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You can use the Accuracy Rate to determine the following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5" dur="indefinite" restart="never" nodeType="tmRoot">
          <p:childTnLst>
            <p:seq>
              <p:cTn id="2156" dur="indefinite" nodeType="mainSeq">
                <p:childTnLst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Recording Observa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07200" y="1981080"/>
            <a:ext cx="79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cord your observation of the strategy used by the child wh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e/she self correct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91800" y="28954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654920" y="2819520"/>
            <a:ext cx="64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se this symbol when the child uses context clues,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ictures, to assist in reading he word or phras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992520" y="38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93360" y="3809880"/>
            <a:ext cx="68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Use this symbol when the child uses the structure  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syntax of the language to assist in reading the word or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phrase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16560" y="5257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731960" y="5241960"/>
            <a:ext cx="642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Use this symbol  when the child uses phonics clu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o assist in the reading of the word or phra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9" dur="indefinite" restart="never" nodeType="tmRoot">
          <p:childTnLst>
            <p:seq>
              <p:cTn id="2170" dur="indefinite" nodeType="mainSeq">
                <p:childTnLst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The Running Record Form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36640" y="1676520"/>
            <a:ext cx="80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tudent’s Name______________________   Date:_________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34840" y="2209680"/>
            <a:ext cx="80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itle_________________Level______Number of Words____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371600" y="4038480"/>
            <a:ext cx="62452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The Running Recor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870120" cy="127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467480" y="304920"/>
            <a:ext cx="870120" cy="1276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96600" y="1600200"/>
            <a:ext cx="49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formation compiled and presented b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r. Ray Newt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7080" y="2819520"/>
            <a:ext cx="4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7080" y="327672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7080" y="3733920"/>
            <a:ext cx="4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7080" y="419112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20760" y="571500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Taking the Running Recor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7040" y="1523880"/>
            <a:ext cx="27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900" spc="-1" strike="noStrike">
                <a:solidFill>
                  <a:srgbClr val="402000"/>
                </a:solidFill>
                <a:latin typeface="Times New Roman"/>
              </a:rPr>
              <a:t>Sit the child beside you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1905120"/>
            <a:ext cx="61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900" spc="-1" strike="noStrike">
                <a:solidFill>
                  <a:srgbClr val="cd3333"/>
                </a:solidFill>
                <a:latin typeface="Times New Roman"/>
              </a:rPr>
              <a:t>Explain that you want the book readread independently.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9200" y="2286000"/>
            <a:ext cx="4282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en-US" sz="1900" spc="-1" strike="noStrike">
                <a:solidFill>
                  <a:srgbClr val="008000"/>
                </a:solidFill>
                <a:latin typeface="Times New Roman"/>
              </a:rPr>
              <a:t>Read the title of the book to the child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743200"/>
            <a:ext cx="7061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en-US" sz="1900" spc="-1" strike="noStrike">
                <a:solidFill>
                  <a:srgbClr val="402000"/>
                </a:solidFill>
                <a:latin typeface="Times New Roman"/>
              </a:rPr>
              <a:t>Give the child the book and record miscues and reading 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1" lang="en-US" sz="1900" spc="-1" strike="noStrike">
                <a:solidFill>
                  <a:srgbClr val="402000"/>
                </a:solidFill>
                <a:latin typeface="Times New Roman"/>
              </a:rPr>
              <a:t>behaviors on the form or a  blank sheet of paper.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3505320"/>
            <a:ext cx="7361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d3333"/>
                </a:solidFill>
                <a:latin typeface="Times New Roman"/>
              </a:rPr>
              <a:t>   </a:t>
            </a:r>
            <a:r>
              <a:rPr b="1" lang="en-US" sz="1900" spc="-1" strike="noStrike">
                <a:solidFill>
                  <a:srgbClr val="cd3333"/>
                </a:solidFill>
                <a:latin typeface="Times New Roman"/>
              </a:rPr>
              <a:t>When a child stops allow enough time for her/him to work out 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d3333"/>
                </a:solidFill>
                <a:latin typeface="Times New Roman"/>
              </a:rPr>
              <a:t>     </a:t>
            </a:r>
            <a:r>
              <a:rPr b="1" lang="en-US" sz="1900" spc="-1" strike="noStrike">
                <a:solidFill>
                  <a:srgbClr val="cd3333"/>
                </a:solidFill>
                <a:latin typeface="Times New Roman"/>
              </a:rPr>
              <a:t>the problem before you supply the word.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70280" y="4191120"/>
            <a:ext cx="5641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en-US" sz="1900" spc="-1" strike="noStrike">
                <a:solidFill>
                  <a:srgbClr val="008000"/>
                </a:solidFill>
                <a:latin typeface="Times New Roman"/>
              </a:rPr>
              <a:t>Do not wait so long the meaning of the story is lost.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724280"/>
            <a:ext cx="6988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en-US" sz="1900" spc="-1" strike="noStrike">
                <a:solidFill>
                  <a:srgbClr val="402000"/>
                </a:solidFill>
                <a:latin typeface="Times New Roman"/>
              </a:rPr>
              <a:t>Use a standardized system to record words read correctly, 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1" lang="en-US" sz="1900" spc="-1" strike="noStrike">
                <a:solidFill>
                  <a:srgbClr val="402000"/>
                </a:solidFill>
                <a:latin typeface="Times New Roman"/>
              </a:rPr>
              <a:t>substitutions, omissions, deletions, and teacher told words. 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5334120"/>
            <a:ext cx="6631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d3333"/>
                </a:solidFill>
                <a:latin typeface="Times New Roman"/>
              </a:rPr>
              <a:t>  </a:t>
            </a:r>
            <a:r>
              <a:rPr b="1" lang="en-US" sz="1900" spc="-1" strike="noStrike">
                <a:solidFill>
                  <a:srgbClr val="cd3333"/>
                </a:solidFill>
                <a:latin typeface="Times New Roman"/>
              </a:rPr>
              <a:t>Note self-corrections. It is an indicator that the reader is 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d3333"/>
                </a:solidFill>
                <a:latin typeface="Times New Roman"/>
              </a:rPr>
              <a:t>    </a:t>
            </a:r>
            <a:r>
              <a:rPr b="1" lang="en-US" sz="1900" spc="-1" strike="noStrike">
                <a:solidFill>
                  <a:srgbClr val="cd3333"/>
                </a:solidFill>
                <a:latin typeface="Times New Roman"/>
              </a:rPr>
              <a:t>monitoring comprehension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6058080"/>
            <a:ext cx="5170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en-US" sz="1900" spc="-1" strike="noStrike">
                <a:solidFill>
                  <a:srgbClr val="008000"/>
                </a:solidFill>
                <a:latin typeface="Times New Roman"/>
              </a:rPr>
              <a:t>Also note hesitations, repetitions and other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en-US" sz="1900" spc="-1" strike="noStrike">
                <a:solidFill>
                  <a:srgbClr val="008000"/>
                </a:solidFill>
                <a:latin typeface="Times New Roman"/>
              </a:rPr>
              <a:t>behaviors that may provide information.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Some Common Teachers’ Nota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9800" y="1943280"/>
            <a:ext cx="66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2000"/>
                </a:solidFill>
                <a:uFillTx/>
                <a:latin typeface="Times New Roman"/>
              </a:rPr>
              <a:t>Student’s Error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r>
              <a:rPr b="0" lang="en-US" sz="2800" spc="-1" strike="noStrike" u="sng">
                <a:solidFill>
                  <a:srgbClr val="402000"/>
                </a:solidFill>
                <a:uFillTx/>
                <a:latin typeface="Times New Roman"/>
              </a:rPr>
              <a:t>Teacher’s Not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4560" y="274320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ubstitu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590920"/>
            <a:ext cx="280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Student’s Wor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rrect Wor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365760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sertion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120" y="3505320"/>
            <a:ext cx="193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Inserted Wor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7240" y="46483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miss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28480" y="4267080"/>
            <a:ext cx="195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ord Omitt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5960" y="571500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eacher Gave Wor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8720" y="55627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3886200"/>
            <a:ext cx="228600" cy="228600"/>
          </a:xfrm>
          <a:prstGeom prst="flowChartExtract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Some Common Teachers’ Nota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66760" y="1874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11600" y="1657440"/>
            <a:ext cx="66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Student’s Behavior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                 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Teacher’s Not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4560" y="320040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lf Correct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4520" y="3048120"/>
            <a:ext cx="14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Error S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20840" y="405756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ry That Agai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8200" y="4000680"/>
            <a:ext cx="122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TT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0" y="46864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peti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7160" y="4572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19040" y="5257800"/>
            <a:ext cx="197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petition to 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tarting Poi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78960" y="53150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3520" y="605808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esit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94280" y="6000840"/>
            <a:ext cx="5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/ /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8240" y="23432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ccurate Reading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40280" y="1874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95880" y="2114640"/>
            <a:ext cx="609840" cy="614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876920" y="5429160"/>
            <a:ext cx="1015920" cy="4003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0000"/>
          </a:solidFill>
          <a:ln w="32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Substitu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2286000"/>
            <a:ext cx="784836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ere are more than 350 species of sharks. All sharks are alike i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many ways that are very different from other animals.  The skeletons of 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hark are made totally of cartilage.  This differs greatly from bony fish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whose skeletons contain true bone.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2286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063000" y="380988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23623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2286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19720" y="2286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22860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2286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23623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2362320"/>
            <a:ext cx="152280" cy="30456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048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30481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30481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3048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29718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3048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048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3048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30481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43800" y="3048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153280" y="30481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458200" y="3124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4191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41911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191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4191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42670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4267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41911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41911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0" y="4267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67480" y="42670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48769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48769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49528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48769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48769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640" y="22860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specia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32767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som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9400" y="419112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Tha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41911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fish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Omi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6480" y="2362320"/>
            <a:ext cx="76939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ere are more than 350 species of sharks.  All sharks are alike i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many ways that are very different from other animals. The skeletons of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harks are made totally of cartilage.  This differs greatly from bony fish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whose skeletons contain true bone.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23623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8640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23623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8660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012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76520" y="3124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3200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2767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3200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32767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32767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32767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29400" y="32767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32767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01000" y="32767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41148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1148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4191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29000" y="4191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41911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4191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2720" y="4191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48520" y="4267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34320" y="4191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67480" y="41911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53280" y="41911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51055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51814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5181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5181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30080" y="2362320"/>
            <a:ext cx="8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2560" y="2362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-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332280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-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95480" y="332280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-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237200"/>
            <a:ext cx="5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-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8160" y="51814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-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Inser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8760" y="2438280"/>
            <a:ext cx="769392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ere are more than 350 species of sharks.  All sharks are alike i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many ways that are very different from other animals. The skeletons of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   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harks are made totally of cartilage.  This differs greatly from bony fish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whose skeletons contain true bone.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91320" y="3048120"/>
            <a:ext cx="228600" cy="228600"/>
          </a:xfrm>
          <a:prstGeom prst="flowChartExtract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05320" y="3962520"/>
            <a:ext cx="228600" cy="228600"/>
          </a:xfrm>
          <a:prstGeom prst="flowChartExtract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48720" y="4876920"/>
            <a:ext cx="228600" cy="228600"/>
          </a:xfrm>
          <a:prstGeom prst="flowChartExtract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5791320"/>
            <a:ext cx="228600" cy="228600"/>
          </a:xfrm>
          <a:prstGeom prst="flowChartExtract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4300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23623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24382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19520" y="24382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25146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2438280"/>
            <a:ext cx="2286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25146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76920" y="24382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62720" y="24382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25146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24382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2920" y="25146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800" y="24382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3429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05120" y="33526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32767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33526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33526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33526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57800" y="33526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9920" y="3429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05720" y="33526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91520" y="3429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77320" y="3429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4343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4343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4343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4267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05320" y="4267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38480" y="42670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42670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86400" y="4267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4343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34320" y="4343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467480" y="43434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29600" y="4191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19320" y="5334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09680" y="53341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52578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81280" y="52578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19720" y="52578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15360" y="23320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of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32767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ver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24280" y="3276720"/>
            <a:ext cx="366840" cy="44424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96440" y="4237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big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518148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hard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Repeti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905120"/>
            <a:ext cx="784836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ere are more than 350 species of sharks.  All sharks are alike i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many ways that are very different from other animals. The skeletons of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harks are made totally of cartilage.  This differs greatly from bony fishes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whose skeletons contain true bone.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0" y="2057400"/>
            <a:ext cx="830160" cy="231840"/>
          </a:xfrm>
          <a:custGeom>
            <a:avLst/>
            <a:gdLst/>
            <a:ahLst/>
            <a:rect l="l" t="t" r="r" b="b"/>
            <a:pathLst>
              <a:path w="523" h="146">
                <a:moveTo>
                  <a:pt x="0" y="134"/>
                </a:moveTo>
                <a:cubicBezTo>
                  <a:pt x="18" y="115"/>
                  <a:pt x="30" y="91"/>
                  <a:pt x="49" y="73"/>
                </a:cubicBezTo>
                <a:cubicBezTo>
                  <a:pt x="59" y="62"/>
                  <a:pt x="73" y="58"/>
                  <a:pt x="85" y="49"/>
                </a:cubicBezTo>
                <a:cubicBezTo>
                  <a:pt x="94" y="41"/>
                  <a:pt x="99" y="29"/>
                  <a:pt x="110" y="24"/>
                </a:cubicBezTo>
                <a:cubicBezTo>
                  <a:pt x="132" y="12"/>
                  <a:pt x="182" y="0"/>
                  <a:pt x="182" y="0"/>
                </a:cubicBezTo>
                <a:cubicBezTo>
                  <a:pt x="307" y="15"/>
                  <a:pt x="417" y="8"/>
                  <a:pt x="510" y="97"/>
                </a:cubicBezTo>
                <a:cubicBezTo>
                  <a:pt x="523" y="138"/>
                  <a:pt x="522" y="146"/>
                  <a:pt x="522" y="121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19320" y="1905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6520" y="1981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0" y="2057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1905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981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1905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19720" y="1981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76920" y="1981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83640" y="1828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62720" y="1905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9920" y="1981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29400" y="1981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1981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1981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43000" y="2895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28195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28195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19520" y="2895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29000" y="2895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28954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0" y="28195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2895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67280" y="28195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10440" y="272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04080" y="272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48320" y="2971800"/>
            <a:ext cx="1668240" cy="231840"/>
          </a:xfrm>
          <a:custGeom>
            <a:avLst/>
            <a:gdLst/>
            <a:ahLst/>
            <a:rect l="l" t="t" r="r" b="b"/>
            <a:pathLst>
              <a:path w="523" h="146">
                <a:moveTo>
                  <a:pt x="0" y="134"/>
                </a:moveTo>
                <a:cubicBezTo>
                  <a:pt x="18" y="115"/>
                  <a:pt x="30" y="91"/>
                  <a:pt x="49" y="73"/>
                </a:cubicBezTo>
                <a:cubicBezTo>
                  <a:pt x="59" y="62"/>
                  <a:pt x="73" y="58"/>
                  <a:pt x="85" y="49"/>
                </a:cubicBezTo>
                <a:cubicBezTo>
                  <a:pt x="94" y="41"/>
                  <a:pt x="99" y="29"/>
                  <a:pt x="110" y="24"/>
                </a:cubicBezTo>
                <a:cubicBezTo>
                  <a:pt x="132" y="12"/>
                  <a:pt x="182" y="0"/>
                  <a:pt x="182" y="0"/>
                </a:cubicBezTo>
                <a:cubicBezTo>
                  <a:pt x="307" y="15"/>
                  <a:pt x="417" y="8"/>
                  <a:pt x="510" y="97"/>
                </a:cubicBezTo>
                <a:cubicBezTo>
                  <a:pt x="523" y="138"/>
                  <a:pt x="522" y="146"/>
                  <a:pt x="522" y="121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05720" y="27432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15200" y="28195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077320" y="28195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4038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4038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62320" y="4038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0384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40384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40384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99160" y="280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82000" y="3870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46680" y="387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9880" y="4038480"/>
            <a:ext cx="754200" cy="304920"/>
          </a:xfrm>
          <a:custGeom>
            <a:avLst/>
            <a:gdLst/>
            <a:ahLst/>
            <a:rect l="l" t="t" r="r" b="b"/>
            <a:pathLst>
              <a:path w="523" h="146">
                <a:moveTo>
                  <a:pt x="0" y="134"/>
                </a:moveTo>
                <a:cubicBezTo>
                  <a:pt x="18" y="115"/>
                  <a:pt x="30" y="91"/>
                  <a:pt x="49" y="73"/>
                </a:cubicBezTo>
                <a:cubicBezTo>
                  <a:pt x="59" y="62"/>
                  <a:pt x="73" y="58"/>
                  <a:pt x="85" y="49"/>
                </a:cubicBezTo>
                <a:cubicBezTo>
                  <a:pt x="94" y="41"/>
                  <a:pt x="99" y="29"/>
                  <a:pt x="110" y="24"/>
                </a:cubicBezTo>
                <a:cubicBezTo>
                  <a:pt x="132" y="12"/>
                  <a:pt x="182" y="0"/>
                  <a:pt x="182" y="0"/>
                </a:cubicBezTo>
                <a:cubicBezTo>
                  <a:pt x="307" y="15"/>
                  <a:pt x="417" y="8"/>
                  <a:pt x="510" y="97"/>
                </a:cubicBezTo>
                <a:cubicBezTo>
                  <a:pt x="523" y="138"/>
                  <a:pt x="522" y="146"/>
                  <a:pt x="522" y="121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029200" y="4038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62720" y="4038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48520" y="41148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0" y="4038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43800" y="41148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077320" y="41148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95280" y="49528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81080" y="49528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71800" y="49528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7600" y="49528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48769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81280" y="4830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46680" y="478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90720" y="5029200"/>
            <a:ext cx="3497040" cy="307800"/>
          </a:xfrm>
          <a:custGeom>
            <a:avLst/>
            <a:gdLst/>
            <a:ahLst/>
            <a:rect l="l" t="t" r="r" b="b"/>
            <a:pathLst>
              <a:path w="523" h="146">
                <a:moveTo>
                  <a:pt x="0" y="134"/>
                </a:moveTo>
                <a:cubicBezTo>
                  <a:pt x="18" y="115"/>
                  <a:pt x="30" y="91"/>
                  <a:pt x="49" y="73"/>
                </a:cubicBezTo>
                <a:cubicBezTo>
                  <a:pt x="59" y="62"/>
                  <a:pt x="73" y="58"/>
                  <a:pt x="85" y="49"/>
                </a:cubicBezTo>
                <a:cubicBezTo>
                  <a:pt x="94" y="41"/>
                  <a:pt x="99" y="29"/>
                  <a:pt x="110" y="24"/>
                </a:cubicBezTo>
                <a:cubicBezTo>
                  <a:pt x="132" y="12"/>
                  <a:pt x="182" y="0"/>
                  <a:pt x="182" y="0"/>
                </a:cubicBezTo>
                <a:cubicBezTo>
                  <a:pt x="307" y="15"/>
                  <a:pt x="417" y="8"/>
                  <a:pt x="510" y="97"/>
                </a:cubicBezTo>
                <a:cubicBezTo>
                  <a:pt x="523" y="138"/>
                  <a:pt x="522" y="146"/>
                  <a:pt x="522" y="121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8T23:26:03Z</dcterms:created>
  <dc:creator>Raymond R. Newton</dc:creator>
  <dc:description/>
  <dc:language>en-US</dc:language>
  <cp:lastModifiedBy>Abadiano</cp:lastModifiedBy>
  <cp:lastPrinted>2003-02-09T16:13:44Z</cp:lastPrinted>
  <dcterms:modified xsi:type="dcterms:W3CDTF">2003-09-24T16:19:05Z</dcterms:modified>
  <cp:revision>73</cp:revision>
  <dc:subject/>
  <dc:title>The Running Record</dc:title>
</cp:coreProperties>
</file>