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4C4-6AA9-45FA-BE8D-AD66A48F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CBF-70DA-43E5-B411-18A892B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FDC-8F65-46C4-BC43-48FA80BD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455-F5A6-4E05-9A5F-7574419B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079E-12FB-459E-8E48-EEE3054B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2EAD-9EF8-4C91-8288-08A9E480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7C91-5FC3-4A75-AB27-DDF54DB4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E7C8-5557-4B72-998F-EADABFF1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F310-7E2D-453D-B782-5E271B95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8F2F-A6F3-486D-9827-2E7B360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6F33-03B5-4F11-AAF7-FA6E2DE8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3E3-1D1B-47F8-8DBA-23EC1CD6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D6BC-A72C-4032-9A5D-1E8EE5C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6D4E-7E06-4D42-808A-BFE2F9C1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5B26-4E83-44B5-9E77-0A39FEE3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E463-7374-45E6-8DC9-8108BE71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D218-34DE-4ACD-8F16-3820B154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02A-9A1F-48C8-91AF-3E451BB9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D57-2607-45D2-9B67-A0980F71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676-F7F0-492E-A5CA-88C0FAAB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218-AFA0-48D0-9180-1F6279AE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7B6-FD4D-4A98-857B-A94400D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5BA-09AB-4DA6-891A-82E52C1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EE8-2E50-4450-92BE-85D26260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F2A2-DBED-4DFE-8C17-6B136827FD2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37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33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164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3100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D66E-E2F1-4516-81AA-F0FBB2FEF79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The Running Recor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870120" cy="1276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87012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95520" y="1600200"/>
            <a:ext cx="59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Running Record is a record or errors, or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iscues, that readers make as they are reading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61360" y="243828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d3333"/>
                </a:solidFill>
                <a:uFillTx/>
                <a:latin typeface="Times New Roman"/>
              </a:rPr>
              <a:t>Why do we use Running Record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2400" y="2819520"/>
            <a:ext cx="35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evaluate text difficult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0960" y="3276720"/>
            <a:ext cx="59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to group together children with similar nee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2760" y="3733920"/>
            <a:ext cx="44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monitor progress of the read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1680" y="4191120"/>
            <a:ext cx="573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o allow different children to move throug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fferent books at different speeds whi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eeping track of (and records of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dividual progres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1760" y="5715000"/>
            <a:ext cx="69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to observe particular difficulties in particular childr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7160" y="6248520"/>
            <a:ext cx="41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guide classroom instruc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elf Correc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68760" y="2209680"/>
            <a:ext cx="7693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2209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55760" y="2193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956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627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81080" y="32004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3124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19520" y="3200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3124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3200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67480" y="3124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773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41148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0512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04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81280" y="3962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39625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3962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485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67480" y="4038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773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50292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50292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5105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95680" y="5105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5680" y="205740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pecial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312408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81440" y="396252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k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89120" y="5059440"/>
            <a:ext cx="72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truly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05320" y="20876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86160" y="31543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52840" y="39924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00760" y="505944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All Conven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68760" y="2666880"/>
            <a:ext cx="7693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2666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666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8280" y="2666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1952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2680" y="2666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27432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27432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27432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2666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1600" y="3657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35812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43200" y="3657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657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915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077320" y="3581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4495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769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627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324480" y="4648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67480" y="4572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77320" y="4572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4724280"/>
            <a:ext cx="1616040" cy="133560"/>
          </a:xfrm>
          <a:custGeom>
            <a:avLst/>
            <a:gdLst/>
            <a:ahLst/>
            <a:rect l="l" t="t" r="r" b="b"/>
            <a:pathLst>
              <a:path w="1018" h="84">
                <a:moveTo>
                  <a:pt x="0" y="48"/>
                </a:moveTo>
                <a:cubicBezTo>
                  <a:pt x="96" y="15"/>
                  <a:pt x="189" y="9"/>
                  <a:pt x="290" y="0"/>
                </a:cubicBezTo>
                <a:cubicBezTo>
                  <a:pt x="455" y="4"/>
                  <a:pt x="621" y="4"/>
                  <a:pt x="787" y="12"/>
                </a:cubicBezTo>
                <a:cubicBezTo>
                  <a:pt x="839" y="14"/>
                  <a:pt x="895" y="43"/>
                  <a:pt x="945" y="60"/>
                </a:cubicBezTo>
                <a:cubicBezTo>
                  <a:pt x="969" y="68"/>
                  <a:pt x="1018" y="84"/>
                  <a:pt x="1018" y="8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486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5486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5486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55627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91120" y="5486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25606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ma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65240" y="30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05120" y="32767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45400" y="2590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4640" y="3581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hark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18080" y="45259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cartin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81640" y="4525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443800" y="4449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coring the Recor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173664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bstitutions, Insertions, Omissions, Teacher-told respon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re scored as error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25750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Repetitions are not scored as error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108240"/>
            <a:ext cx="798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orrected responses are scored as self-corrections.  The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s no penalty for attempts that result in a correct respons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400" y="3946680"/>
            <a:ext cx="80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ultiple unsuccessful attempts at a word score as one err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4400" y="440388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If the reader omits a line or lines, each word omitted i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counted as an err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06120" y="5105520"/>
            <a:ext cx="78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If the reader omits a page, deduct the number of words on th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ge from the total word coun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5851440"/>
            <a:ext cx="82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t the reader repeatedly makes an error with a proper nou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unt it as one err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9" dur="indefinite" restart="never" nodeType="tmRoot">
          <p:childTnLst>
            <p:seq>
              <p:cTn id="1980" dur="indefinite" nodeType="mainSeq">
                <p:childTnLst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coring Running Rec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39360" y="1630440"/>
            <a:ext cx="23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Error Ra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6280" y="274320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. Count the number of error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9000" y="327672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. Compare this with the number of words in the passag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3870360"/>
            <a:ext cx="37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3. Calculate the error rat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2760" y="4572000"/>
            <a:ext cx="47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Total number of words in the passag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14760" y="53341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d3333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63080" y="5699160"/>
            <a:ext cx="57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00 words, 5 errors    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= ratio 1:2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             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5     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coring Running Rec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73240" y="1676520"/>
            <a:ext cx="31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02000"/>
                </a:solidFill>
                <a:uFillTx/>
                <a:latin typeface="Times New Roman"/>
              </a:rPr>
              <a:t>Accuracy Ra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3480" y="2514600"/>
            <a:ext cx="79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. Subtract the number of errors from the total 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3048120"/>
            <a:ext cx="48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. Divide by the 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09360" y="3581280"/>
            <a:ext cx="423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Number of words minus erro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7400" y="46483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94560" y="5165640"/>
            <a:ext cx="265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100 words - 7 erro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umber of wor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30640" y="5410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488200" y="5181480"/>
            <a:ext cx="6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9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9600" y="5334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630840" y="53341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93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coring Running Reco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77880" y="19350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Self Correction Ra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07200" y="297180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. Add the number of errors and self corrections togethe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5812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2. Divide be the number of self correction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55520" y="4175280"/>
            <a:ext cx="51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Number of errors and self correc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elf correc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74160" y="50133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66880" y="54100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10 + 5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=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= 3        ratio 1: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5              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Assessm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080" y="18288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tegory descri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curacy rat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9240" y="2286000"/>
            <a:ext cx="75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enough for independent rea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95 – 100%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05040" y="320040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Instructional level for use in guided reading session.    90 – 94%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5200" y="4267080"/>
            <a:ext cx="80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3333"/>
                </a:solidFill>
                <a:latin typeface="Arial"/>
              </a:rPr>
              <a:t>Too difficult and will frustrate the reader</a:t>
            </a:r>
            <a:r>
              <a:rPr b="0" lang="en-US" sz="2000" spc="-1" strike="noStrike">
                <a:solidFill>
                  <a:srgbClr val="cd33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d3333"/>
                </a:solidFill>
                <a:latin typeface="Arial"/>
              </a:rPr>
              <a:t>                      89% and belo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Categor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8800" y="2438280"/>
            <a:ext cx="786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  <a:ea typeface="Times New Roman"/>
              </a:rPr>
              <a:t>Category Description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  <a:ea typeface="Times New Roman"/>
              </a:rPr>
              <a:t>Accuracy Rate Rang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Easy Enough for Independent Readin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95 - 100 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Instructional level for use in guided readin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90 - 94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Too difficult and will frustrate the reader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   89% and bel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38080" y="158436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You can use the Accuracy Rate to determine the following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Recording Observ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07200" y="198108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cord your observation of the strategy used by the child wh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e/she self correc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91800" y="28954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54920" y="2819520"/>
            <a:ext cx="64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e this symbol when the child uses context clues,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ictures, to assist in reading he word or phra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9252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93360" y="3809880"/>
            <a:ext cx="68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Use this symbol when the child uses the structure  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syntax of the language to assist in reading the word or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phras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1656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31960" y="52419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Use this symbol  when the child uses phonics clu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o assist in the reading of the word or phr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9" dur="indefinite" restart="never" nodeType="tmRoot">
          <p:childTnLst>
            <p:seq>
              <p:cTn id="2170" dur="indefinite" nodeType="mainSeq">
                <p:childTnLst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The Running Record For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6640" y="167652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udent’s Name______________________   Date: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4840" y="220968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itle_________________Level______Number of Words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2452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The Running Recor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870120" cy="127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870120" cy="1276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96600" y="1600200"/>
            <a:ext cx="499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formation compiled and presented 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r. Ray Newt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2819520"/>
            <a:ext cx="4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7080" y="32767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7080" y="3733920"/>
            <a:ext cx="4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41911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0760" y="571500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Taking the Running Recor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7040" y="1523880"/>
            <a:ext cx="27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402000"/>
                </a:solidFill>
                <a:latin typeface="Times New Roman"/>
              </a:rPr>
              <a:t>Sit the child beside you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905120"/>
            <a:ext cx="61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900" spc="-1" strike="noStrike">
                <a:solidFill>
                  <a:srgbClr val="cd3333"/>
                </a:solidFill>
                <a:latin typeface="Times New Roman"/>
              </a:rPr>
              <a:t>Explain that you want the book readread independently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9200" y="2286000"/>
            <a:ext cx="4282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Read the title of the book to the child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743200"/>
            <a:ext cx="7061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Give the child the book and record miscues and reading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behaviors on the form or a  blank sheet of paper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505320"/>
            <a:ext cx="7361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   </a:t>
            </a: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When a child stops allow enough time for her/him to work out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the problem before you supply the word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70280" y="4191120"/>
            <a:ext cx="5641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Do not wait so long the meaning of the story is lost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724280"/>
            <a:ext cx="6988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Use a standardized system to record words read correctly,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lang="en-US" sz="1900" spc="-1" strike="noStrike">
                <a:solidFill>
                  <a:srgbClr val="402000"/>
                </a:solidFill>
                <a:latin typeface="Times New Roman"/>
              </a:rPr>
              <a:t>substitutions, omissions, deletions, and teacher told words.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5334120"/>
            <a:ext cx="6631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Note self-corrections. It is an indicator that the reader is 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cd3333"/>
                </a:solidFill>
                <a:latin typeface="Times New Roman"/>
              </a:rPr>
              <a:t>monitoring comprehension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6058080"/>
            <a:ext cx="5170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d3333"/>
              </a:buClr>
              <a:buSzPct val="13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Also note hesitations, repetitions and other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en-US" sz="1900" spc="-1" strike="noStrike">
                <a:solidFill>
                  <a:srgbClr val="008000"/>
                </a:solidFill>
                <a:latin typeface="Times New Roman"/>
              </a:rPr>
              <a:t>behaviors that may provide information.</a:t>
            </a:r>
            <a:endParaRPr b="0" lang="en-US" sz="19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ome Common Teachers’ Not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9800" y="194328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Student’s Error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Teacher’s No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4560" y="27432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bstitu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590920"/>
            <a:ext cx="28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Student’s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rrect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3657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sertion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120" y="3505320"/>
            <a:ext cx="19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Inserted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7240" y="46483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miss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8480" y="4267080"/>
            <a:ext cx="19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ord Omit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5960" y="5715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eacher Gave Wor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8720" y="5562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388620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ome Common Teachers’ Not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66760" y="187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11600" y="1657440"/>
            <a:ext cx="66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Student’s Behavior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Teacher’s No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4560" y="320040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elf Correct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4520" y="3048120"/>
            <a:ext cx="14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Error S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20840" y="40575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ry That Agai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8200" y="400068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TA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0" y="46864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peti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7160" y="4572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19040" y="525780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petition t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rting Poi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78960" y="53150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520" y="60580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esi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94280" y="6000840"/>
            <a:ext cx="5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/ /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8240" y="23432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ccurate Read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40280" y="187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95880" y="2114640"/>
            <a:ext cx="609840" cy="614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876920" y="5429160"/>
            <a:ext cx="1015920" cy="4003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0000"/>
          </a:solidFill>
          <a:ln w="32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Substitu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286000"/>
            <a:ext cx="784836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 The skeletons of 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63000" y="38098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22860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2286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2362320"/>
            <a:ext cx="152280" cy="30456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3048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048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2971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3048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3048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53280" y="3048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45820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4267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4267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48769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48769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4952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48769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48769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640" y="2286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pecia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32767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som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9400" y="41911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Tha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41911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fis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Omi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6480" y="2362320"/>
            <a:ext cx="769392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124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3200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3200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32767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32767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2767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272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4191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105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5181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5181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5181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30080" y="2362320"/>
            <a:ext cx="8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2560" y="2362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-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33228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480" y="3322800"/>
            <a:ext cx="5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237200"/>
            <a:ext cx="5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   </a:t>
            </a: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8160" y="51814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402000"/>
                </a:solidFill>
                <a:uFillTx/>
                <a:latin typeface="Times New Roman"/>
              </a:rPr>
              <a:t>-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Inser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8760" y="2438280"/>
            <a:ext cx="76939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30481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05320" y="39625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8720" y="48769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5791320"/>
            <a:ext cx="228600" cy="228600"/>
          </a:xfrm>
          <a:prstGeom prst="flowChartExtract">
            <a:avLst/>
          </a:prstGeom>
          <a:solidFill>
            <a:srgbClr val="402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23623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23623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25146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2438280"/>
            <a:ext cx="2286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2514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2514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2920" y="25146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24382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429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2767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33526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3429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33526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91520" y="3429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4290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4267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42670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6400" y="4267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4343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67480" y="43434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29600" y="4191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5334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53341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52578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525780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5257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15360" y="23320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276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ver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3276720"/>
            <a:ext cx="366840" cy="44424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96440" y="42372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bi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518148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2000"/>
                </a:solidFill>
                <a:uFillTx/>
                <a:latin typeface="Times New Roman"/>
              </a:rPr>
              <a:t>har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d3333"/>
                </a:solidFill>
                <a:uFillTx/>
                <a:latin typeface="Times New Roman"/>
              </a:rPr>
              <a:t>Repeti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905120"/>
            <a:ext cx="78483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re are more than 350 species of sharks.  All sharks are alike 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many ways that are very different from other animals. The skeletons o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harks are made totally of cartilage.  This differs greatly from bony fishes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hose skeletons contain true bone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2057400"/>
            <a:ext cx="830160" cy="231840"/>
          </a:xfrm>
          <a:custGeom>
            <a:avLst/>
            <a:gdLst/>
            <a:ahLst/>
            <a:rect l="l" t="t" r="r" b="b"/>
            <a:pathLst>
              <a:path w="523" h="146">
                <a:moveTo>
                  <a:pt x="0" y="134"/>
                </a:moveTo>
                <a:cubicBezTo>
                  <a:pt x="18" y="115"/>
                  <a:pt x="30" y="91"/>
                  <a:pt x="49" y="73"/>
                </a:cubicBezTo>
                <a:cubicBezTo>
                  <a:pt x="59" y="62"/>
                  <a:pt x="73" y="58"/>
                  <a:pt x="85" y="49"/>
                </a:cubicBezTo>
                <a:cubicBezTo>
                  <a:pt x="94" y="41"/>
                  <a:pt x="99" y="29"/>
                  <a:pt x="110" y="24"/>
                </a:cubicBezTo>
                <a:cubicBezTo>
                  <a:pt x="132" y="12"/>
                  <a:pt x="182" y="0"/>
                  <a:pt x="182" y="0"/>
                </a:cubicBezTo>
                <a:cubicBezTo>
                  <a:pt x="307" y="15"/>
                  <a:pt x="417" y="8"/>
                  <a:pt x="510" y="97"/>
                </a:cubicBezTo>
                <a:cubicBezTo>
                  <a:pt x="523" y="138"/>
                  <a:pt x="522" y="146"/>
                  <a:pt x="522" y="121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19320" y="1905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7652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20574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1905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1905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1972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7692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3640" y="182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62720" y="19051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2940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19810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43000" y="2895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2819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2819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2895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2895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2895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28195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2895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67280" y="281952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10440" y="272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04080" y="272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48320" y="2971800"/>
            <a:ext cx="1668240" cy="231840"/>
          </a:xfrm>
          <a:custGeom>
            <a:avLst/>
            <a:gdLst/>
            <a:ahLst/>
            <a:rect l="l" t="t" r="r" b="b"/>
            <a:pathLst>
              <a:path w="523" h="146">
                <a:moveTo>
                  <a:pt x="0" y="134"/>
                </a:moveTo>
                <a:cubicBezTo>
                  <a:pt x="18" y="115"/>
                  <a:pt x="30" y="91"/>
                  <a:pt x="49" y="73"/>
                </a:cubicBezTo>
                <a:cubicBezTo>
                  <a:pt x="59" y="62"/>
                  <a:pt x="73" y="58"/>
                  <a:pt x="85" y="49"/>
                </a:cubicBezTo>
                <a:cubicBezTo>
                  <a:pt x="94" y="41"/>
                  <a:pt x="99" y="29"/>
                  <a:pt x="110" y="24"/>
                </a:cubicBezTo>
                <a:cubicBezTo>
                  <a:pt x="132" y="12"/>
                  <a:pt x="182" y="0"/>
                  <a:pt x="182" y="0"/>
                </a:cubicBezTo>
                <a:cubicBezTo>
                  <a:pt x="307" y="15"/>
                  <a:pt x="417" y="8"/>
                  <a:pt x="510" y="97"/>
                </a:cubicBezTo>
                <a:cubicBezTo>
                  <a:pt x="523" y="138"/>
                  <a:pt x="522" y="146"/>
                  <a:pt x="522" y="121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27432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15200" y="28195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77320" y="28195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038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4038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40384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99160" y="280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82000" y="3870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46680" y="387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4038480"/>
            <a:ext cx="754200" cy="304920"/>
          </a:xfrm>
          <a:custGeom>
            <a:avLst/>
            <a:gdLst/>
            <a:ahLst/>
            <a:rect l="l" t="t" r="r" b="b"/>
            <a:pathLst>
              <a:path w="523" h="146">
                <a:moveTo>
                  <a:pt x="0" y="134"/>
                </a:moveTo>
                <a:cubicBezTo>
                  <a:pt x="18" y="115"/>
                  <a:pt x="30" y="91"/>
                  <a:pt x="49" y="73"/>
                </a:cubicBezTo>
                <a:cubicBezTo>
                  <a:pt x="59" y="62"/>
                  <a:pt x="73" y="58"/>
                  <a:pt x="85" y="49"/>
                </a:cubicBezTo>
                <a:cubicBezTo>
                  <a:pt x="94" y="41"/>
                  <a:pt x="99" y="29"/>
                  <a:pt x="110" y="24"/>
                </a:cubicBezTo>
                <a:cubicBezTo>
                  <a:pt x="132" y="12"/>
                  <a:pt x="182" y="0"/>
                  <a:pt x="182" y="0"/>
                </a:cubicBezTo>
                <a:cubicBezTo>
                  <a:pt x="307" y="15"/>
                  <a:pt x="417" y="8"/>
                  <a:pt x="510" y="97"/>
                </a:cubicBezTo>
                <a:cubicBezTo>
                  <a:pt x="523" y="138"/>
                  <a:pt x="522" y="146"/>
                  <a:pt x="522" y="121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4852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0" y="40384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77320" y="411480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4952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81080" y="4952880"/>
            <a:ext cx="21456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4952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7600" y="495288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876920"/>
            <a:ext cx="214200" cy="368280"/>
          </a:xfrm>
          <a:custGeom>
            <a:avLst/>
            <a:gdLst/>
            <a:ahLst/>
            <a:rect l="l" t="t" r="r" b="b"/>
            <a:pathLst>
              <a:path w="135" h="232">
                <a:moveTo>
                  <a:pt x="0" y="123"/>
                </a:moveTo>
                <a:cubicBezTo>
                  <a:pt x="8" y="135"/>
                  <a:pt x="18" y="145"/>
                  <a:pt x="24" y="159"/>
                </a:cubicBezTo>
                <a:cubicBezTo>
                  <a:pt x="34" y="182"/>
                  <a:pt x="49" y="232"/>
                  <a:pt x="49" y="232"/>
                </a:cubicBezTo>
                <a:cubicBezTo>
                  <a:pt x="76" y="176"/>
                  <a:pt x="85" y="117"/>
                  <a:pt x="109" y="62"/>
                </a:cubicBezTo>
                <a:cubicBezTo>
                  <a:pt x="135" y="0"/>
                  <a:pt x="133" y="46"/>
                  <a:pt x="133" y="1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81280" y="4830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46680" y="478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5029200"/>
            <a:ext cx="3497040" cy="307800"/>
          </a:xfrm>
          <a:custGeom>
            <a:avLst/>
            <a:gdLst/>
            <a:ahLst/>
            <a:rect l="l" t="t" r="r" b="b"/>
            <a:pathLst>
              <a:path w="523" h="146">
                <a:moveTo>
                  <a:pt x="0" y="134"/>
                </a:moveTo>
                <a:cubicBezTo>
                  <a:pt x="18" y="115"/>
                  <a:pt x="30" y="91"/>
                  <a:pt x="49" y="73"/>
                </a:cubicBezTo>
                <a:cubicBezTo>
                  <a:pt x="59" y="62"/>
                  <a:pt x="73" y="58"/>
                  <a:pt x="85" y="49"/>
                </a:cubicBezTo>
                <a:cubicBezTo>
                  <a:pt x="94" y="41"/>
                  <a:pt x="99" y="29"/>
                  <a:pt x="110" y="24"/>
                </a:cubicBezTo>
                <a:cubicBezTo>
                  <a:pt x="132" y="12"/>
                  <a:pt x="182" y="0"/>
                  <a:pt x="182" y="0"/>
                </a:cubicBezTo>
                <a:cubicBezTo>
                  <a:pt x="307" y="15"/>
                  <a:pt x="417" y="8"/>
                  <a:pt x="510" y="97"/>
                </a:cubicBezTo>
                <a:cubicBezTo>
                  <a:pt x="523" y="138"/>
                  <a:pt x="522" y="146"/>
                  <a:pt x="522" y="121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23:26:03Z</dcterms:created>
  <dc:creator>Raymond R. Newton</dc:creator>
  <dc:description/>
  <dc:language>en-US</dc:language>
  <cp:lastModifiedBy>Abadiano</cp:lastModifiedBy>
  <cp:lastPrinted>2003-02-09T16:13:44Z</cp:lastPrinted>
  <dcterms:modified xsi:type="dcterms:W3CDTF">2003-09-24T16:19:05Z</dcterms:modified>
  <cp:revision>73</cp:revision>
  <dc:subject/>
  <dc:title>The Running Record</dc:title>
</cp:coreProperties>
</file>