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D5B-6519-47A2-9E91-92D7555D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328-7416-4912-8C2D-FE1A6E43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72D-73D2-4C97-8F52-749DB428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3AD-3FCE-4589-8351-172ACC1E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282-57AA-473D-B8C4-ED3A3D77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2C0-7BDE-40DF-9ADC-ECF51CC3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22E-38F9-4715-900D-DD6909E7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E89-0704-4682-B3D3-231A4CE4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E9F-AB65-47C6-BA7E-DFD7BB98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1C0-77A7-49D8-A564-B9C3B76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EED-2C2E-4B7F-BB40-4D442CF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568-2F53-439C-8ED1-D048522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E05-831D-452A-A383-8041C9B7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 I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Gb"/>
          <p:cNvPicPr/>
          <p:nvPr/>
        </p:nvPicPr>
        <p:blipFill>
          <a:blip r:embed="rId1"/>
          <a:stretch/>
        </p:blipFill>
        <p:spPr>
          <a:xfrm>
            <a:off x="2666880" y="2438280"/>
            <a:ext cx="5639040" cy="417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truktur tmv"/>
          <p:cNvPicPr/>
          <p:nvPr/>
        </p:nvPicPr>
        <p:blipFill>
          <a:blip r:embed="rId2"/>
          <a:stretch/>
        </p:blipFill>
        <p:spPr>
          <a:xfrm>
            <a:off x="7315200" y="2971800"/>
            <a:ext cx="1390680" cy="11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tembako kena virus"/>
          <p:cNvPicPr/>
          <p:nvPr/>
        </p:nvPicPr>
        <p:blipFill>
          <a:blip r:embed="rId3"/>
          <a:stretch/>
        </p:blipFill>
        <p:spPr>
          <a:xfrm>
            <a:off x="380880" y="2514600"/>
            <a:ext cx="2028960" cy="1476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28600" y="1828800"/>
            <a:ext cx="8686800" cy="4724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934320" y="22860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bacco Mosaic Virus (TM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Bentuk &amp; Contoh S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ilihan Berganda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: 2Soal (Skor 2/I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ssay Test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: 4 Soal (Skor 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tor 2 : Menjelaskan dengan gambar tahapan replikasi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tor 3: Menjelaskan perbedaan replikasi melalui daur litik dan lisoge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tor 5: Menjelaskan berbagai cara penularan dan pencegahan penyakit yang disebabk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Indikator Pembelajaran Bab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1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: Menyebutkan 6 ciri biologi sebagai il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10 ciri makhluk hi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3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20 cabang biolo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4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20 bidang  kajian cabang ilmu bi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5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jelaskan ruang lingkup biolo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6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langkah-langkah metode ilm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7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: Menjelaskan peran biologi dalam bidang kedokteran, pertanian, peternakan, industri dan farm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8" descr="Gb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340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rcobaan A.Mayer pada Penelitian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1406520" y="533412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ya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penya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3578040" y="54100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unnya dihalus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6931440" y="4572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strak da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6169680" y="2362320"/>
            <a:ext cx="145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strak da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y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penya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4646880" y="16002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mprot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3808440" y="3124080"/>
            <a:ext cx="1014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n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1750680" y="3048120"/>
            <a:ext cx="122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na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jadi sa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838080" y="1295280"/>
            <a:ext cx="7543800" cy="51818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rcobaan Dmitri Ivanowski pada Penelitian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139400" y="2057400"/>
            <a:ext cx="7000200" cy="4040640"/>
            <a:chOff x="1139400" y="2057400"/>
            <a:chExt cx="7000200" cy="4040640"/>
          </a:xfrm>
        </p:grpSpPr>
        <p:pic>
          <p:nvPicPr>
            <p:cNvPr id="60" name="Picture 18" descr="Gb"/>
            <p:cNvPicPr/>
            <p:nvPr/>
          </p:nvPicPr>
          <p:blipFill>
            <a:blip r:embed="rId1"/>
            <a:stretch/>
          </p:blipFill>
          <p:spPr>
            <a:xfrm>
              <a:off x="1447560" y="2057400"/>
              <a:ext cx="6400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/>
            <p:cNvSpPr/>
            <p:nvPr/>
          </p:nvSpPr>
          <p:spPr>
            <a:xfrm>
              <a:off x="1139400" y="3657240"/>
              <a:ext cx="1451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 ya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rpeny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halusk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815920" y="3047760"/>
              <a:ext cx="1401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nyaring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kstrak d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 ya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rpeny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4493520" y="2590560"/>
              <a:ext cx="1104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t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a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rpeny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5863680" y="2285640"/>
              <a:ext cx="176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naman tembak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jadi s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7084080" y="5028840"/>
              <a:ext cx="1055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nam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ang seh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5256000" y="419076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emprotk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3428640" y="57909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t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WordArt 19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838080" y="1905120"/>
            <a:ext cx="7543800" cy="4572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7086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ntuk-bentuk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3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2" name="Group 29"/>
          <p:cNvGrpSpPr/>
          <p:nvPr/>
        </p:nvGrpSpPr>
        <p:grpSpPr>
          <a:xfrm>
            <a:off x="5105520" y="1600200"/>
            <a:ext cx="2455200" cy="4952880"/>
            <a:chOff x="5105520" y="1600200"/>
            <a:chExt cx="2455200" cy="4952880"/>
          </a:xfrm>
        </p:grpSpPr>
        <p:pic>
          <p:nvPicPr>
            <p:cNvPr id="73" name="Picture 16" descr="Gb"/>
            <p:cNvPicPr/>
            <p:nvPr/>
          </p:nvPicPr>
          <p:blipFill>
            <a:blip r:embed="rId1"/>
            <a:stretch/>
          </p:blipFill>
          <p:spPr>
            <a:xfrm>
              <a:off x="5403960" y="1987560"/>
              <a:ext cx="18352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7"/>
            <p:cNvSpPr/>
            <p:nvPr/>
          </p:nvSpPr>
          <p:spPr>
            <a:xfrm>
              <a:off x="5869800" y="34290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9" descr="Gb"/>
            <p:cNvPicPr/>
            <p:nvPr/>
          </p:nvPicPr>
          <p:blipFill>
            <a:blip r:embed="rId2"/>
            <a:stretch/>
          </p:blipFill>
          <p:spPr>
            <a:xfrm>
              <a:off x="5334120" y="4190760"/>
              <a:ext cx="20509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1"/>
            <p:cNvSpPr/>
            <p:nvPr/>
          </p:nvSpPr>
          <p:spPr>
            <a:xfrm>
              <a:off x="5869800" y="571500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erti huruf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5"/>
            <p:cNvSpPr/>
            <p:nvPr/>
          </p:nvSpPr>
          <p:spPr>
            <a:xfrm>
              <a:off x="5105520" y="1600200"/>
              <a:ext cx="2438280" cy="22860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5105520" y="3886200"/>
              <a:ext cx="2438280" cy="2666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8"/>
          <p:cNvGrpSpPr/>
          <p:nvPr/>
        </p:nvGrpSpPr>
        <p:grpSpPr>
          <a:xfrm>
            <a:off x="1828800" y="1600200"/>
            <a:ext cx="2209680" cy="4952880"/>
            <a:chOff x="1828800" y="1600200"/>
            <a:chExt cx="2209680" cy="4952880"/>
          </a:xfrm>
        </p:grpSpPr>
        <p:pic>
          <p:nvPicPr>
            <p:cNvPr id="80" name="Picture 14" descr="Gb"/>
            <p:cNvPicPr/>
            <p:nvPr/>
          </p:nvPicPr>
          <p:blipFill>
            <a:blip r:embed="rId3"/>
            <a:stretch/>
          </p:blipFill>
          <p:spPr>
            <a:xfrm>
              <a:off x="1981080" y="2057400"/>
              <a:ext cx="190440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5"/>
            <p:cNvSpPr/>
            <p:nvPr/>
          </p:nvSpPr>
          <p:spPr>
            <a:xfrm>
              <a:off x="2590560" y="3504960"/>
              <a:ext cx="70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18" descr="Gb"/>
            <p:cNvPicPr/>
            <p:nvPr/>
          </p:nvPicPr>
          <p:blipFill>
            <a:blip r:embed="rId4"/>
            <a:stretch/>
          </p:blipFill>
          <p:spPr>
            <a:xfrm>
              <a:off x="1904760" y="3962160"/>
              <a:ext cx="208260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20"/>
            <p:cNvSpPr/>
            <p:nvPr/>
          </p:nvSpPr>
          <p:spPr>
            <a:xfrm>
              <a:off x="2209680" y="5867280"/>
              <a:ext cx="12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ihid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4"/>
            <p:cNvSpPr/>
            <p:nvPr/>
          </p:nvSpPr>
          <p:spPr>
            <a:xfrm>
              <a:off x="1828800" y="1600200"/>
              <a:ext cx="2209680" cy="22860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7"/>
            <p:cNvSpPr/>
            <p:nvPr/>
          </p:nvSpPr>
          <p:spPr>
            <a:xfrm>
              <a:off x="1828800" y="3886200"/>
              <a:ext cx="2209680" cy="2666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Gb"/>
          <p:cNvPicPr/>
          <p:nvPr/>
        </p:nvPicPr>
        <p:blipFill>
          <a:blip r:embed="rId1"/>
          <a:stretch/>
        </p:blipFill>
        <p:spPr>
          <a:xfrm>
            <a:off x="2133720" y="1828800"/>
            <a:ext cx="4038480" cy="3530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ruktur Tubuh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904040" y="27162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ubung li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829520" y="3429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NA vi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364840" y="388620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z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a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344480" y="4697280"/>
            <a:ext cx="17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ubung prot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aps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447920" y="2057400"/>
            <a:ext cx="6095880" cy="441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0" descr="Gb"/>
          <p:cNvPicPr/>
          <p:nvPr/>
        </p:nvPicPr>
        <p:blipFill>
          <a:blip r:embed="rId1"/>
          <a:stretch/>
        </p:blipFill>
        <p:spPr>
          <a:xfrm>
            <a:off x="3581280" y="1447920"/>
            <a:ext cx="4172040" cy="288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Gb"/>
          <p:cNvPicPr/>
          <p:nvPr/>
        </p:nvPicPr>
        <p:blipFill>
          <a:blip r:embed="rId2"/>
          <a:stretch/>
        </p:blipFill>
        <p:spPr>
          <a:xfrm>
            <a:off x="762120" y="2057400"/>
            <a:ext cx="2361960" cy="2238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ntuk-bentuk Selubung Protein (Kapsid)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7120" y="43434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entuk hel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Gb"/>
          <p:cNvPicPr/>
          <p:nvPr/>
        </p:nvPicPr>
        <p:blipFill>
          <a:blip r:embed="rId3"/>
          <a:stretch/>
        </p:blipFill>
        <p:spPr>
          <a:xfrm>
            <a:off x="3200400" y="4191120"/>
            <a:ext cx="1752480" cy="1611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5794920" y="373392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entuk kompl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424400" y="5867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entuk polihe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1820160" y="210492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829160" y="2590920"/>
            <a:ext cx="9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u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apso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876920" y="2362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4872600" y="262080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ubu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874040" y="28684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ubung e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5447160" y="316872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pengan da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5408640" y="33685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abut e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1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80880" y="1676520"/>
            <a:ext cx="8001000" cy="4800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86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produksi Bakteriofage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ngan Siklus Litik danLisoge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Gb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47815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3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38080" y="1600200"/>
            <a:ext cx="7543800" cy="4876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irus-virus Penyebab Penya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Gb"/>
          <p:cNvPicPr/>
          <p:nvPr/>
        </p:nvPicPr>
        <p:blipFill>
          <a:blip r:embed="rId1"/>
          <a:stretch/>
        </p:blipFill>
        <p:spPr>
          <a:xfrm>
            <a:off x="762120" y="1295280"/>
            <a:ext cx="12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Gb"/>
          <p:cNvPicPr/>
          <p:nvPr/>
        </p:nvPicPr>
        <p:blipFill>
          <a:blip r:embed="rId2"/>
          <a:stretch/>
        </p:blipFill>
        <p:spPr>
          <a:xfrm>
            <a:off x="762120" y="2895480"/>
            <a:ext cx="1292040" cy="124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Gb"/>
          <p:cNvPicPr/>
          <p:nvPr/>
        </p:nvPicPr>
        <p:blipFill>
          <a:blip r:embed="rId3"/>
          <a:stretch/>
        </p:blipFill>
        <p:spPr>
          <a:xfrm>
            <a:off x="762120" y="4572000"/>
            <a:ext cx="1536480" cy="121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Gb"/>
          <p:cNvPicPr/>
          <p:nvPr/>
        </p:nvPicPr>
        <p:blipFill>
          <a:blip r:embed="rId4"/>
          <a:stretch/>
        </p:blipFill>
        <p:spPr>
          <a:xfrm>
            <a:off x="5105520" y="464832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Gb"/>
          <p:cNvPicPr/>
          <p:nvPr/>
        </p:nvPicPr>
        <p:blipFill>
          <a:blip r:embed="rId5"/>
          <a:stretch/>
        </p:blipFill>
        <p:spPr>
          <a:xfrm>
            <a:off x="5105520" y="1219320"/>
            <a:ext cx="1157040" cy="139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Gb"/>
          <p:cNvPicPr/>
          <p:nvPr/>
        </p:nvPicPr>
        <p:blipFill>
          <a:blip r:embed="rId6"/>
          <a:stretch/>
        </p:blipFill>
        <p:spPr>
          <a:xfrm>
            <a:off x="5105520" y="2971800"/>
            <a:ext cx="1190520" cy="131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3"/>
          <p:cNvSpPr/>
          <p:nvPr/>
        </p:nvSpPr>
        <p:spPr>
          <a:xfrm>
            <a:off x="2592360" y="1905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669760" y="3352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her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593800" y="4952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e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404400" y="13716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ga tul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erserang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6480360" y="32004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un anggr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erserang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6479640" y="480060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aman to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erserang T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9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533520" y="1143000"/>
            <a:ext cx="3657600" cy="53341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191120" y="1143000"/>
            <a:ext cx="4647960" cy="53341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100" spc="-1" strike="noStrike">
                <a:solidFill>
                  <a:srgbClr val="000000"/>
                </a:solidFill>
                <a:latin typeface="Arial"/>
              </a:rPr>
              <a:t>Indikator Pembelajaran Viru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gidentifikasikasi ciri-ciri  (mengenai bentuk dan ukuran tubuh) dan struktur tubuh vi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dengan gambar tahapan replikasi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perbedaan replikasi melalui daur litik dan lisogeni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peranan virus yang menguntungkan bagi kehidupan manu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mbuat data jenis penyakit yang disebabkan oleh virus yang ada di sekitar kita dari berbagai s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berbagai cara penularan dan pencegahan penyakit yang disebabkan vir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2:03:07Z</dcterms:created>
  <dc:creator>Eny Wijayanti</dc:creator>
  <dc:description/>
  <dc:language>en-US</dc:language>
  <cp:lastModifiedBy>User</cp:lastModifiedBy>
  <dcterms:modified xsi:type="dcterms:W3CDTF">2013-09-20T03:24:58Z</dcterms:modified>
  <cp:revision>21</cp:revision>
  <dc:subject/>
  <dc:title>Percobaan A.Mayer pada penelitian virus</dc:title>
</cp:coreProperties>
</file>