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7FD6E-57F8-4597-83FB-724B5A137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648AA-5FF2-4917-8298-2925CABD6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CA440-B57B-45B1-BDFD-1C380E7A1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A2F20-AE23-4D1E-A7B9-2EDFDED42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BA674-04B3-4AC6-A598-74BC8B9BE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13A90-98A5-4160-A36C-31A40595C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970F0-6C3C-4391-A43F-BCA4A9DFD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ACF70-8424-4B53-BD50-E3F1DC2B5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E5962-0AD2-4B4E-B243-9C052590B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D9664-60A2-407A-BCBA-97773D89D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2C302-6684-426A-B75C-155FD5399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69D02-FEBB-45B1-958B-B7FF96F8A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C60A5-0083-460D-9409-076E54533536}" type="slidenum">
              <a:rPr b="0" lang="zh-TW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ettoday.net/news/20130819/258616.htm#ixzz2o8n8yWCh" TargetMode="External"/><Relationship Id="rId2" Type="http://schemas.openxmlformats.org/officeDocument/2006/relationships/hyperlink" Target="http://www.appledaily.com.tw/" TargetMode="Externa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Arial"/>
                <a:ea typeface="華康粗黑體(P)"/>
              </a:rPr>
              <a:t>臍帶血銀行倫理問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資電概論與倫理報告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第八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39528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消基會大力抨擊，以此作為宣傳，讓不知情的民眾砸下大把鈔票，最後卻發現無法治病，</a:t>
            </a:r>
            <a:r>
              <a:rPr b="0" lang="zh-TW" sz="3200" spc="-1" strike="noStrike">
                <a:solidFill>
                  <a:srgbClr val="ff3300"/>
                </a:solidFill>
                <a:latin typeface="Arial"/>
              </a:rPr>
              <a:t>不僅是違反公益，更是違反私益。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呼籲政府應積極補助公益臍帶血血庫，建置全國性的網路，才能使更多人互惠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95280" y="1844640"/>
            <a:ext cx="8317080" cy="31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395280" y="33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實例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：挺著大肚、已到預產期的李小姐，參加幾次醫院的媽媽教室，分別聽到不同的臍帶血業者批評其他業者後，覺得很奇怪，好像每家都有弱點，而且儲存費用不一，一家業者的業務代表聽到另一家的儲存費用後，馬上開出更低的價錢拉攏她，「好像在喊價一樣，」不安的她放棄存臍帶血的念頭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實例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：一位懷孕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38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週的陳小姐，原打算生產時把臍帶血公捐出去，卻輾轉打聽到，慈濟醫學中心公捐庫分配給在他院生產、採集臍帶血的額度已滿，除非在慈濟生產，否則無法公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該為寶寶存臍帶血嗎？"/>
          <p:cNvPicPr/>
          <p:nvPr/>
        </p:nvPicPr>
        <p:blipFill>
          <a:blip r:embed="rId1"/>
          <a:stretch/>
        </p:blipFill>
        <p:spPr>
          <a:xfrm>
            <a:off x="6156360" y="4797360"/>
            <a:ext cx="28573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有鑑於公益性臍帶血銀行才是符合公眾利益的措施，但在商業性臍帶血銀行的衝擊之下，勢必嚴重邊緣化，因此法國政府對商業性銀行採嚴格管制，日本則於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年前就由公費介入，大力扶持公益性銀行，義大利更全面禁止臍帶血銀行轉為營利性質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3300"/>
                </a:solidFill>
                <a:latin typeface="Arial"/>
              </a:rPr>
              <a:t>希望大家能多聽一聽、多想一想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彷彿洗腦般的感人廣告影片，還有許多知名的藝人不斷代言，在這些疲勞轟炸般的「宣傳」的背後，到底包裝了什麼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3300"/>
                </a:solidFill>
                <a:latin typeface="Arial"/>
              </a:rPr>
              <a:t>越多人去臍帶血銀行儲存的結果，究竟是能救到更多人，還是反而救到了更少人？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我們真的還要去儲存嗎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資料來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為什麼歐洲有國家禁止商業化的臍帶血銀行？ 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| ETtoday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論壇新聞 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| ETtoday 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新聞</a:t>
            </a:r>
            <a:r>
              <a:rPr b="0" lang="zh-TW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ettoday.net/news/20130819/258616.htm#ixzz2o8n8yWCh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蘋果日報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TW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appledaily.com.tw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媒體科學新聞教案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臍帶血的期待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過度期待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?!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臍帶血知多少－民視新聞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ftp://163.32.118.209/nature/2013%B0%EA%A4p%A8%EC%AE%D5%BF%D4%B8%DF%AAA%B0%C8/20120308%BB%B2%BE%C9%AD%FB%BCW%AF%E0%AC%E3%B2%DF-%B4C%C5%E9%AC%EC%BE%C7%B7s%BBD%B1%B4%A8s%AA%C0%B8s/%A4T%A1B%B4C%C5%E9%AC%EC%BE%C7%B7s%BBD%B1%D0%AE%D7%A6%A8%AAG(%A5%CD%AA%AB)-%C2%C0%B1a%A6%E5%AA%BA%B4%C1%AB%DD.pdf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討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分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95280" y="278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3300"/>
                </a:solidFill>
                <a:latin typeface="Arial"/>
                <a:ea typeface="標楷體"/>
              </a:rPr>
              <a:t>報告到此結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為了爭取更多業績，業者努力在多方管道建立關係。除了一般打廣告外，一些診所、醫院也可見到臍帶血業者的文宣資料，媽媽教室當然更少不了業者的足跡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瞄準現代父母把孩子當寶、想為孩子儲備最好人生的急切心理，業者不斷鼓吹存臍帶血就像幫孩子買保險，使得這股「紅色金磚」風，有增無減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395280" y="2852640"/>
            <a:ext cx="87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3300"/>
                </a:solidFill>
                <a:latin typeface="Arial"/>
              </a:rPr>
              <a:t>但，花了一筆數萬元，真的買到安心嗎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403280" y="981000"/>
            <a:ext cx="6880320" cy="501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900000" y="1413000"/>
            <a:ext cx="7510680" cy="41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324000" y="69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民眾看商業廣告，常誤以為保存臍帶血就是添購一張「保命符」，認為神經修復、皮膚再生、器官再造等再生醫學的「遠景」，都是臍帶血的臨床應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但事實上目前衛福部明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規定，臍帶血主要應用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地中海型貧血，以及部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白血病等血液與骨髓系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的疾病治療，與大眾認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有很大落差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003640" y="2205000"/>
            <a:ext cx="3111840" cy="40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39528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根據醫學文獻，全世界的臍帶血移植案例，陌生人之間相互配對的「異體移植」的案例數遠遠多於「自體移植」的案例數，也遠遠多於「親屬間移植」的案例數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台灣有臍帶血銀行不斷做廣告宣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「臍帶血移植成功案例」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結果那個案例</a:t>
            </a:r>
            <a:r>
              <a:rPr b="0" lang="zh-TW" sz="3200" spc="-1" strike="noStrike">
                <a:solidFill>
                  <a:srgbClr val="ff3300"/>
                </a:solidFill>
                <a:latin typeface="Arial"/>
              </a:rPr>
              <a:t>根本是「異體移植」成功的案例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Arial"/>
              </a:rPr>
              <a:t>台灣的臍帶血銀行商業化已經到了「走火入魔」的地步，</a:t>
            </a:r>
            <a:r>
              <a:rPr b="0" lang="zh-TW" sz="2800" spc="-1" strike="noStrike">
                <a:solidFill>
                  <a:srgbClr val="ff3300"/>
                </a:solidFill>
                <a:latin typeface="Arial"/>
              </a:rPr>
              <a:t>政府甚至還以之作為台灣發展生物科技產業的業績之一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，完全不去思考為什麼有許多國家嚴格限制商業化的臍帶血銀行（如法國），甚至根本禁止商業化的臍帶血銀行（如義大利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為什麼這些國家</a:t>
            </a:r>
            <a:r>
              <a:rPr b="1" lang="zh-TW" sz="2800" spc="-1" strike="noStrike">
                <a:solidFill>
                  <a:srgbClr val="ff3300"/>
                </a:solidFill>
                <a:latin typeface="Arial"/>
              </a:rPr>
              <a:t>嚴格限制商業化的臍帶血銀行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，只鼓勵公益性的臍帶血銀行呢？一言以蔽之，它們認為「</a:t>
            </a:r>
            <a:r>
              <a:rPr b="1" lang="zh-TW" sz="2800" spc="-1" strike="noStrike">
                <a:solidFill>
                  <a:srgbClr val="000000"/>
                </a:solidFill>
                <a:latin typeface="Arial"/>
              </a:rPr>
              <a:t>商業化的臍帶血銀行違反公益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，它會讓</a:t>
            </a:r>
            <a:r>
              <a:rPr b="1" lang="zh-TW" sz="2800" spc="-1" strike="noStrike">
                <a:solidFill>
                  <a:srgbClr val="ff3300"/>
                </a:solidFill>
                <a:latin typeface="Arial"/>
              </a:rPr>
              <a:t>更少人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能夠得到臍帶血移植的救治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395280" y="263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TW" sz="3600" spc="-1" strike="noStrike">
                <a:solidFill>
                  <a:srgbClr val="ff3300"/>
                </a:solidFill>
                <a:latin typeface="Arial"/>
              </a:rPr>
              <a:t>越多人儲存臍帶血，不是應該會越多人有機會得到臍帶血移植的救治嗎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3300"/>
                </a:solidFill>
                <a:latin typeface="Arial"/>
              </a:rPr>
              <a:t>(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關鍵就在「商業化」的臍帶血銀行與「公益性」的臍帶血銀行的差異。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越多人儲存到前者，反而會讓全國民眾每個人得到救治的機會減少臍帶血是可以配對的，我們的臍帶血是可能可以救別人的，別人的臍帶血也是可以來救我們的。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1T16:46:38Z</dcterms:created>
  <dc:creator>Customer</dc:creator>
  <dc:description/>
  <dc:language>en-US</dc:language>
  <cp:lastModifiedBy>Customer</cp:lastModifiedBy>
  <dcterms:modified xsi:type="dcterms:W3CDTF">2013-12-23T03:54:27Z</dcterms:modified>
  <cp:revision>2</cp:revision>
  <dc:subject/>
  <dc:title>資電概論與倫理報告</dc:title>
</cp:coreProperties>
</file>