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jpeg" ContentType="image/jpeg"/>
  <Override PartName="/ppt/media/image24.jpeg" ContentType="image/jpeg"/>
  <Override PartName="/ppt/media/image23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DB894-45CF-4ACF-A15B-2DA3EC544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57894-4CD7-403A-B7F4-AE7CEB74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49AF0-B87D-4566-981C-679F85C66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28647-1B22-44F1-B38F-F354BFD9A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144C-BB92-4DE8-9093-39EF6C4AE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E671-C9CB-4293-9D53-6FBC45AC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9D43-7158-4982-ACAD-CD1DE036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6302-E40D-4AD0-AC62-D354B40D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7D35-27B7-441F-B611-C83CFD03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4237-5DA4-4547-8FB2-47E946E4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FC4F-AA35-49F6-AEE7-02B28E3C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25D2A-1070-44E2-B826-1327E16A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2E1B-7AD5-4C41-B3DA-F1ACBF1B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F317-A3E9-41D9-A31D-BF2C0E07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3071-67D5-452F-9425-373B76CF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7DE9-3BCA-4733-ABA7-D7A48B04F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E8BA-E13A-4F45-9F5F-3C276436D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373C8-64AF-442A-9F61-5FF0F6093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BD51D-1239-46B0-A52D-6FDCFDED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0AA18-323E-48DD-94C9-54D15CA7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07D32-A826-4AC3-9935-3597F943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B62AC-1F08-40BF-9427-8A482069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D9586-1031-4A38-A078-6CF06A21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8E8C8-4163-42CF-81EB-5156CE37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D76EF-6354-4A15-842C-B2077611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CB3A0-105C-4584-9AFE-FAA2CF01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C72DC-5E68-443A-A3C7-95E2D9CC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03702-FF29-4EDC-B39F-153A1F1A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DE858-AC4E-4A66-A071-4ABA581C7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37AA8-2134-448F-AFB5-B3FCFBDBB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F8CE2C-3917-4F92-A4EB-9ADECD86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5C1841-162B-48D0-AA39-A48D0422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A9E458-754E-450D-9424-E91A5D2D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E37CE-4621-488C-953B-F6A69C64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F9E8EA-5FF4-43F4-BCF4-202E3AB4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A6E459-6E8F-4886-BCF4-E7D24485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CA49F7-E6A3-427F-9299-5BA452A8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15F610-015B-4598-A708-A2700FDC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457AA5-E6C4-4278-AB70-AB10E650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96121E-0A2A-49DF-A5F2-8DDDFEDB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D995CD-ADEE-4A93-8BF5-D9143D00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93A448-C3C8-41E1-A770-C25620829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87AD9A-06F7-4D06-BBBA-5E043A9CA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55492-8FEC-46C5-9FA3-02C7327C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8EE21-6106-4D66-8826-48FBFB8A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4999C-C613-453D-A0E1-B75913CE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1CCF0-A6B7-4CC7-8CB2-2CBDE070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14146-9E37-4210-B731-1C47406D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C58D-848F-49AB-9B26-09054C99E7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1DE0-3AF0-4A06-A249-138AE32F122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8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25FD-5913-40B1-B895-7F793D4856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66B0-4B4C-4543-B1EF-34733C12EDD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Flag_of_Romania.svg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ru.wikipedia.org/wiki/&#1060;&#1072;&#1081;&#1083;:Coat_of_arms_of_Romania.svg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krugosvet.ru/uploads/enc/images/23/12363279687e4d.jpg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ru.wikipedia.org/wiki/&#1060;&#1072;&#1081;&#1083;:Romania-relief.png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dikarem.net/wp-content/uploads/2008/12/st_116_romania_3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urope3d.vwi.ro/wp-content/uploads/2009/07/romania-photos_38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hyperlink" Target="http://ru.wikipedia.org/wiki/&#1060;&#1072;&#1081;&#1083;:Bancorex_building_bgiu.jpg" TargetMode="External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urope3d.vwi.ro/wp-content/uploads/2009/07/romania-photos_46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europe3d.vwi.ro/wp-content/uploads/2009/07/romania-photos_08.jpg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europe3d.vwi.ro/wp-content/uploads/2009/07/romania-photos_42.jpg" TargetMode="External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europe3d.vwi.ro/wp-content/uploads/2009/07/romania-photos_45.jpg" TargetMode="External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dobe Fan Heiti Std B"/>
                <a:ea typeface="Adobe Fan Heiti Std B"/>
              </a:rPr>
              <a:t>РУМУН</a:t>
            </a:r>
            <a:r>
              <a:rPr b="0" lang="en-US" sz="6000" spc="-1" strike="noStrike">
                <a:solidFill>
                  <a:srgbClr val="ff0000"/>
                </a:solidFill>
                <a:latin typeface="Adobe Fan Heiti Std B"/>
                <a:ea typeface="Adobe Fan Heiti Std B"/>
              </a:rPr>
              <a:t>I</a:t>
            </a:r>
            <a:r>
              <a:rPr b="0" lang="ru-RU" sz="6000" spc="-1" strike="noStrike">
                <a:solidFill>
                  <a:srgbClr val="ff0000"/>
                </a:solidFill>
                <a:latin typeface="Adobe Fan Heiti Std B"/>
                <a:ea typeface="Adobe Fan Heiti Std B"/>
              </a:rPr>
              <a:t>Я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3" name="Picture 9" descr="logo"/>
          <p:cNvPicPr/>
          <p:nvPr/>
        </p:nvPicPr>
        <p:blipFill>
          <a:blip r:embed="rId1"/>
          <a:stretch/>
        </p:blipFill>
        <p:spPr>
          <a:xfrm>
            <a:off x="0" y="4365720"/>
            <a:ext cx="9144000" cy="2360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Румыния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8000" y="2492280"/>
            <a:ext cx="2367000" cy="1578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Герб Румынии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667640" y="2205000"/>
            <a:ext cx="952560" cy="1305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2"/>
          <p:cNvSpPr/>
          <p:nvPr/>
        </p:nvSpPr>
        <p:spPr>
          <a:xfrm>
            <a:off x="237960" y="1839960"/>
            <a:ext cx="3981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умунія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(рум. România) - держава на південному сході Європи, демократична республіка. Столиця - Бухарес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28400" y="372600"/>
            <a:ext cx="85359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Garamond"/>
              </a:rPr>
              <a:t>Експорт: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$ 49,41 млрд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Основні партнери по зовнішній торгівлі - Німеччина (16.5%), Італія (15.6%), Франція (7.4%), Туреччина (6.6%), Угорщина (5.1%), Болгарія (4.2%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Основні статті експорту: текстиль, продукція машинобудування та металургійної промисловості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Garamond"/>
              </a:rPr>
              <a:t>Импорт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c000"/>
                </a:solidFill>
                <a:latin typeface="Garamond"/>
              </a:rPr>
              <a:t>:</a:t>
            </a:r>
            <a:r>
              <a:rPr b="1" lang="ru-RU" sz="1600" spc="-1" strike="noStrike">
                <a:solidFill>
                  <a:srgbClr val="ffc000"/>
                </a:solidFill>
                <a:latin typeface="Garamond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$76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17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млрд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артнери: Німеччина 16.3%, Італія 11.4%, Угорщина 7.4%, Росія 6%, Франція 5,7%, Туреччина 4.9%, Австрія 4.9%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 імпорті переважають продукція машинобудування, нафту і газ, текстиль та вироби з нього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5" name="Picture 10" descr="bucharest-photos_07"/>
          <p:cNvPicPr/>
          <p:nvPr/>
        </p:nvPicPr>
        <p:blipFill>
          <a:blip r:embed="rId1"/>
          <a:stretch/>
        </p:blipFill>
        <p:spPr>
          <a:xfrm>
            <a:off x="324000" y="3857760"/>
            <a:ext cx="4286160" cy="30002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6"/>
          <p:cNvSpPr/>
          <p:nvPr/>
        </p:nvSpPr>
        <p:spPr>
          <a:xfrm>
            <a:off x="4222440" y="142920"/>
            <a:ext cx="465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Garamond"/>
              </a:rPr>
              <a:t>Зовнішньоекономічні відносин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4" descr="About Romania  at  www.aboutromania.com"/>
          <p:cNvPicPr/>
          <p:nvPr/>
        </p:nvPicPr>
        <p:blipFill>
          <a:blip r:embed="rId2"/>
          <a:stretch/>
        </p:blipFill>
        <p:spPr>
          <a:xfrm>
            <a:off x="5076720" y="3549600"/>
            <a:ext cx="395928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640" y="1197000"/>
            <a:ext cx="26020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Замок Пелеш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14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Багато хто вважає , що цей замок - один з найкрасивіших у Європі. Замок Пелеш - шедевр архітектури в стилі Пізнього Німецького Відродження. Замок побудований в 1873 - 1883 р.р. королем Каролом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I.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Інтер'єри Пелеша - зразок витонченого дизайну. Його 160 кімнат прикрашені найпрекраснішими експонатами європейського мистецтва : люстри з кристала Мурано , німецькі вітражі , стіни покриті шкірою з Кордови , фарфор Мейсен і Сервер , чорне дерево і скульптури зі слонової кістк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Дуже схожий на замок Пелеш - замок Пелішор ​​( "Маленький Пелеш " ) . Король Фердинанд , який послідував за Каролом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I ,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мав намір використовувати замок Пелеш як літню резиденцію. Можливо , він знайшов , що Пелеш занадто великий і такий , що пригнічує , і він вирішив побудувати замок поменше , в стилі Арт Нуво - замок Пелішор ​​. 70 кімнат Пелішор ​​обставлено унікальним зібранням віденської меблів початку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XX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століття і скляним посудом Лалік і Тіфані 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0" name="Picture 2" descr="C:\Users\Ярослав\Desktop\Pelesh.jpg"/>
          <p:cNvPicPr/>
          <p:nvPr/>
        </p:nvPicPr>
        <p:blipFill>
          <a:blip r:embed="rId1"/>
          <a:stretch/>
        </p:blipFill>
        <p:spPr>
          <a:xfrm>
            <a:off x="3492360" y="264960"/>
            <a:ext cx="4535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000" y="0"/>
            <a:ext cx="32076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Замок Бран - Замок Дракул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Цей середньовічний замок - фортеця , якого часто називають Замком Дракули , був побудований в 1377 , для захисту сусіднього міста Брашов від загарбників. Він , також , служив митної станцією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імнати і башти замку формують внутрішній двір . Деякі кімнати безпосередньо пов'язані , через підземні проходи , з внутрішнім двором. У 1920 році , жителі Брашова , подарували замок Королеві Румунії - Марії , і в скоре він став її улюбленим місцем проживанн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Замок Бран - місце , де знаходяться багаті зібрання румунських і іноземних меблів і художніх творів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XIV - XIX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толіть. Замок стоїть на високій скелі , над мальовничим селом Бран . Біля входу розташований відкритий етнографічний музей старовинних сільських будиночків з виставками меблів , домашніх предметів і національних костюмі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3" name="Picture 2" descr="C:\Users\Ярослав\Desktop\0_84c06_5595978b_orig.jpg"/>
          <p:cNvPicPr/>
          <p:nvPr/>
        </p:nvPicPr>
        <p:blipFill>
          <a:blip r:embed="rId1"/>
          <a:stretch/>
        </p:blipFill>
        <p:spPr>
          <a:xfrm>
            <a:off x="-14400" y="4797360"/>
            <a:ext cx="915840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184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Дякуємо за увагу!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45" name="Picture 10" descr="Фотография Румынии. Замок Пелеш"/>
          <p:cNvPicPr/>
          <p:nvPr/>
        </p:nvPicPr>
        <p:blipFill>
          <a:blip r:embed="rId1"/>
          <a:stretch/>
        </p:blipFill>
        <p:spPr>
          <a:xfrm>
            <a:off x="108000" y="1341360"/>
            <a:ext cx="6769080" cy="45086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3" descr="romania-photos_20-150x150"/>
          <p:cNvPicPr/>
          <p:nvPr/>
        </p:nvPicPr>
        <p:blipFill>
          <a:blip r:embed="rId2"/>
          <a:stretch/>
        </p:blipFill>
        <p:spPr>
          <a:xfrm>
            <a:off x="7164360" y="189000"/>
            <a:ext cx="1866960" cy="18669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7" descr="romania-photos_44-150x150"/>
          <p:cNvPicPr/>
          <p:nvPr/>
        </p:nvPicPr>
        <p:blipFill>
          <a:blip r:embed="rId3"/>
          <a:stretch/>
        </p:blipFill>
        <p:spPr>
          <a:xfrm>
            <a:off x="7093080" y="4913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" descr="Влад Цепеш"/>
          <p:cNvPicPr/>
          <p:nvPr/>
        </p:nvPicPr>
        <p:blipFill>
          <a:blip r:embed="rId4"/>
          <a:stretch/>
        </p:blipFill>
        <p:spPr>
          <a:xfrm>
            <a:off x="7093080" y="2205000"/>
            <a:ext cx="19270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8" descr="Румыния"/>
          <p:cNvPicPr/>
          <p:nvPr/>
        </p:nvPicPr>
        <p:blipFill>
          <a:blip r:embed="rId1"/>
          <a:stretch/>
        </p:blipFill>
        <p:spPr>
          <a:xfrm>
            <a:off x="0" y="4214880"/>
            <a:ext cx="3000240" cy="26431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8"/>
          <p:cNvSpPr/>
          <p:nvPr/>
        </p:nvSpPr>
        <p:spPr>
          <a:xfrm>
            <a:off x="4427640" y="404640"/>
            <a:ext cx="4716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лоща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238 391 км ² (78-я в світі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ерегова лінія: 225 км узбережжя Чорного мор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Garamond"/>
              </a:rPr>
              <a:t>Природні ресурси: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афта, природний газ, вугілля (6-7 млрд. т), золото, залізняк, кам'яна сіль, деревина, гідроенергоресурс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адра країни містять ще багато нерозвіданих багатст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19" descr="12363279687e4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0520"/>
            <a:ext cx="3857760" cy="3213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63" descr="300px-Romania-relief">
            <a:hlinkClick r:id="rId4"/>
          </p:cNvPr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5076720" y="3784680"/>
            <a:ext cx="331164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romania"/>
          <p:cNvPicPr/>
          <p:nvPr/>
        </p:nvPicPr>
        <p:blipFill>
          <a:blip r:embed="rId1"/>
          <a:stretch/>
        </p:blipFill>
        <p:spPr>
          <a:xfrm>
            <a:off x="108000" y="3773520"/>
            <a:ext cx="4032360" cy="29970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8"/>
          <p:cNvSpPr/>
          <p:nvPr/>
        </p:nvSpPr>
        <p:spPr>
          <a:xfrm>
            <a:off x="3500280" y="52560"/>
            <a:ext cx="214344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Rectangle 128"/>
          <p:cNvSpPr/>
          <p:nvPr/>
        </p:nvSpPr>
        <p:spPr>
          <a:xfrm>
            <a:off x="3500280" y="52560"/>
            <a:ext cx="214344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34"/>
          <p:cNvSpPr/>
          <p:nvPr/>
        </p:nvSpPr>
        <p:spPr>
          <a:xfrm>
            <a:off x="2436840" y="2851200"/>
            <a:ext cx="42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356000" y="2205000"/>
          <a:ext cx="4932360" cy="2808360"/>
        </p:xfrm>
        <a:graphic>
          <a:graphicData uri="http://schemas.openxmlformats.org/drawingml/2006/table">
            <a:tbl>
              <a:tblPr/>
              <a:tblGrid>
                <a:gridCol w="4240440"/>
                <a:gridCol w="691920"/>
              </a:tblGrid>
              <a:tr h="98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бсяг ВВП - 200,1 млрд. $ (40-я в світі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 душу населення - 12 200 $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5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руктура ВВП (2008 року)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ільське господарство: 8,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мисловість: 3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фера послуг: 55,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96" name="Picture 15" descr="Пояна Брашов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836640"/>
            <a:ext cx="360036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Населе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00720" y="980640"/>
            <a:ext cx="46432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2,2 млн (липень 2009 р.) - 51-е місце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 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частка міського населення - 54%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щільність - 98 чол. / км 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    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йбільші міста - Бухарест, Ясси, Констанца, Брашов, Галац, Плоєшті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фіційний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язык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– </a:t>
            </a:r>
            <a:r>
              <a:rPr b="1" lang="ru-RU" sz="2000" spc="-1" strike="noStrike">
                <a:solidFill>
                  <a:srgbClr val="ffcc00"/>
                </a:solidFill>
                <a:latin typeface="Garamond"/>
              </a:rPr>
              <a:t>румынски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роджуваність - 10,5 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 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мертність - 11,8 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500280" y="2744640"/>
            <a:ext cx="214344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48"/>
          <p:cNvSpPr/>
          <p:nvPr/>
        </p:nvSpPr>
        <p:spPr>
          <a:xfrm>
            <a:off x="1928880" y="5006880"/>
            <a:ext cx="450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Garamond"/>
              </a:rPr>
              <a:t>Вікова структура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Garamond"/>
              </a:rPr>
              <a:t>0-14 років: 15,5%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Garamond"/>
              </a:rPr>
              <a:t>15-64 років: 69,7%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Garamond"/>
              </a:rPr>
              <a:t>65 років і старше: 14,7% (2009 р.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1" name="Picture 57" descr="romania-photos_38-150x1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29280" y="4500720"/>
            <a:ext cx="1816200" cy="1815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romania-pop"/>
          <p:cNvPicPr/>
          <p:nvPr/>
        </p:nvPicPr>
        <p:blipFill>
          <a:blip r:embed="rId3"/>
          <a:srcRect l="2044" t="494" r="2906" b="25157"/>
          <a:stretch/>
        </p:blipFill>
        <p:spPr>
          <a:xfrm>
            <a:off x="357120" y="1000080"/>
            <a:ext cx="3505320" cy="3657600"/>
          </a:xfrm>
          <a:prstGeom prst="rect">
            <a:avLst/>
          </a:prstGeom>
          <a:ln w="0">
            <a:noFill/>
          </a:ln>
        </p:spPr>
      </p:pic>
      <p:sp>
        <p:nvSpPr>
          <p:cNvPr id="203" name="TextBox 11"/>
          <p:cNvSpPr/>
          <p:nvPr/>
        </p:nvSpPr>
        <p:spPr>
          <a:xfrm>
            <a:off x="803160" y="464328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Garamond"/>
              </a:rPr>
              <a:t>Густота Населенн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Garamond"/>
              </a:rPr>
              <a:t>Населе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57160" y="1214280"/>
            <a:ext cx="5051520" cy="11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Етнічний склад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642960" y="1650240"/>
            <a:ext cx="3571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Румуни - 89,5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Угорці - 6,6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Цигани - 2,5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Українці - 0,3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Німці - 0,3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Росіяни - 0,2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Турки - 0,2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Прямоугольник 8"/>
          <p:cNvSpPr/>
          <p:nvPr/>
        </p:nvSpPr>
        <p:spPr>
          <a:xfrm>
            <a:off x="324000" y="4253040"/>
            <a:ext cx="457200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Garamond"/>
              </a:rPr>
              <a:t>Розподіл робочої сили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Garamond"/>
              </a:rPr>
              <a:t> 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 сільському господарстві - 30%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 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у промисловості - 23%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у сфері обслуговування - 47%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0" y="5568840"/>
            <a:ext cx="505152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емографічна політика держави спрямована на збільшення народжуваності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9" name="Picture 12" descr="C:\Users\Ярослав\Desktop\2828295860_65ddc69836_o.jpg"/>
          <p:cNvPicPr/>
          <p:nvPr/>
        </p:nvPicPr>
        <p:blipFill>
          <a:blip r:embed="rId1"/>
          <a:stretch/>
        </p:blipFill>
        <p:spPr>
          <a:xfrm>
            <a:off x="5022720" y="1052640"/>
            <a:ext cx="38181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214800" y="857160"/>
            <a:ext cx="5929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ухарест, Плоешти и промышленный центр Брашов. (около </a:t>
            </a:r>
            <a:r>
              <a:rPr b="0" lang="ru-RU" sz="1800" spc="-1" strike="noStrike">
                <a:solidFill>
                  <a:srgbClr val="ffc000"/>
                </a:solidFill>
                <a:latin typeface="Garamond"/>
              </a:rPr>
              <a:t>2/5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промышленной продукции страны). Машиностроение и нефтепереработка, резиновая, бумажная, текстильная промышленность, производство электроэнергии, химических и пищевых продукто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Garamond"/>
              </a:rPr>
              <a:t>Центральная Трансильвания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— крупнейший район газовой, химической и стекольной промышленности Хунедоаро-Решицкий промышленный район - угольно-металлургическая специализац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Garamond"/>
              </a:rPr>
              <a:t>Западно-Молдавский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, охватывающий промышленные центры области Бакэу в долине р. Сирет и ее притоков Тротуш и Еистрина (нефтегазохимия и целлюлозно-бумяжная промышленность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Garamond"/>
              </a:rPr>
              <a:t>Олтенский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промышленный район (центры - Крайове и Тыргу-Жиу) - добыча нефти, энергетических углей, развитие энергетики и хими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Garamond"/>
              </a:rPr>
              <a:t>Нижне- Дунайский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промышленный район (с глав. центрами Галац и Брэила)- главная база черной металлургии страны с развивающейся машиностроительной промышленностью (судостроение), целлюлозно-бумажная и химическая промышленност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Garamond"/>
              </a:rPr>
              <a:t>г. Слатина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рупный алюминиевый завод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Garamond"/>
              </a:rPr>
              <a:t>Промышленность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12" name="Picture 6" descr="romania-photos_35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romania-photos_35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romania-photos_35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2" descr="romania-photos_07"/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4" descr="romania-photos_07"/>
          <p:cNvPicPr/>
          <p:nvPr/>
        </p:nvPicPr>
        <p:blipFill>
          <a:blip r:embed="rId5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6" descr="romania-photos_07"/>
          <p:cNvPicPr/>
          <p:nvPr/>
        </p:nvPicPr>
        <p:blipFill>
          <a:blip r:embed="rId6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8" descr="romania-photos_07"/>
          <p:cNvPicPr/>
          <p:nvPr/>
        </p:nvPicPr>
        <p:blipFill>
          <a:blip r:embed="rId7"/>
          <a:stretch/>
        </p:blipFill>
        <p:spPr>
          <a:xfrm>
            <a:off x="0" y="5000760"/>
            <a:ext cx="2771640" cy="18572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270px-Bancorex_building_bgiu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79280" y="2060640"/>
            <a:ext cx="25718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ільське господарств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419280" y="765000"/>
            <a:ext cx="572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умунія - великий виробник сільськогосподарської продукції (особливо зерна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овідна галузь - рослинництво ( 2/3 валової сільськогосподарської продукції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а частку тваринництва припадає близько 1 /3. У гірських же і деяких горбистих районах тваринництво - головна галузь сільського господарства 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еред зернових культур різко переважають кукурудза і пшениця. Картопля, цукровий буряк , соняшни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сновні виробники зерна в Румунії - Нижньо - Дунайська і Середньо - Дунайська низовин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За рівнем розвитку тваринництва Румунія близька до Болгарії та Югославії , але ще сильно поступається , наприклад , Чехословаччин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 країні широко поширене малоінтенсивне пасовищне тваринництво , відрізняється порівняно невисокою продуктивністю 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2" name="Picture 5" descr="romania-photos_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332240"/>
            <a:ext cx="3384720" cy="2525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romania-photos_08-150x15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1413000"/>
            <a:ext cx="2160720" cy="2160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5" descr="romania-photos_42-150x15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61440" y="5275440"/>
            <a:ext cx="158256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Garamond"/>
              </a:rPr>
              <a:t>Виноробство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. Сьогодні в Румунії площа виноградників складає близько 300 тис. га. При цьому половина всіх виноградників в країні належать кооперативам, третина - приватним власникам і тільки 16% - державі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6" name="Picture 6" descr="romania-photos_11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romania-photos_45-150x15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429264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100400"/>
          <p:cNvPicPr/>
          <p:nvPr/>
        </p:nvPicPr>
        <p:blipFill>
          <a:blip r:embed="rId4"/>
          <a:stretch/>
        </p:blipFill>
        <p:spPr>
          <a:xfrm>
            <a:off x="5508720" y="2421000"/>
            <a:ext cx="1571400" cy="11937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Румыния"/>
          <p:cNvPicPr/>
          <p:nvPr/>
        </p:nvPicPr>
        <p:blipFill>
          <a:blip r:embed="rId5"/>
          <a:stretch/>
        </p:blipFill>
        <p:spPr>
          <a:xfrm>
            <a:off x="324000" y="3357720"/>
            <a:ext cx="47624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3120" y="4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Бухаре́с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Rectangle 9"/>
          <p:cNvSpPr/>
          <p:nvPr/>
        </p:nvSpPr>
        <p:spPr>
          <a:xfrm>
            <a:off x="324000" y="778680"/>
            <a:ext cx="7993080" cy="24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" rIns="7920" tIns="6480" bIns="6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Найважливіший економічний і культурний центр країн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Населення (з передмістями) - більше 2,3 млн. чоловік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 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йбільше місто в Південно-Східній Європі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 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иробляється близько 21% валового внутрішнього продукту країн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концентирована чверть промислового виробництва Румунії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 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йбільш індустріалізована частину країн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4" descr="bucharest-photos_01-150x150"/>
          <p:cNvPicPr/>
          <p:nvPr/>
        </p:nvPicPr>
        <p:blipFill>
          <a:blip r:embed="rId1"/>
          <a:stretch/>
        </p:blipFill>
        <p:spPr>
          <a:xfrm>
            <a:off x="7093080" y="40464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bucharest-photos_04"/>
          <p:cNvPicPr/>
          <p:nvPr/>
        </p:nvPicPr>
        <p:blipFill>
          <a:blip r:embed="rId2"/>
          <a:stretch/>
        </p:blipFill>
        <p:spPr>
          <a:xfrm>
            <a:off x="324000" y="3284640"/>
            <a:ext cx="8208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2T09:47:28Z</dcterms:created>
  <dc:creator>media</dc:creator>
  <dc:description/>
  <dc:language>en-US</dc:language>
  <cp:lastModifiedBy>Ярослав</cp:lastModifiedBy>
  <dcterms:modified xsi:type="dcterms:W3CDTF">2013-11-13T20:34:35Z</dcterms:modified>
  <cp:revision>93</cp:revision>
  <dc:subject/>
  <dc:title>РУМЫНИЯ</dc:title>
</cp:coreProperties>
</file>