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20AE-5EA1-4588-BD1A-6E276461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F4F4-2B0B-4E0B-9DAF-0795033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5428-51F1-41D0-B45F-AB1EEB9F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53429-1AAB-44C3-8013-25C1831C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D7FF-7F17-4805-A12D-7FDE4EA7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EA2A-BDDD-45E4-934B-CC2DB5A7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A9E3-F058-4C3B-ABFC-DB4ED5FA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FB3D-C9BA-41B2-AF91-680F1A9F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B26C-8F51-42AF-9245-DC16E10F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C13A-EA0C-472F-975D-0D537E0C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9BC9-0FDA-4D9B-828D-A1D2125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4A4E-0027-43E1-9AFE-DE9F4B26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7FE-9944-41CB-9A3C-F6A30BB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93F8-1B18-4750-8D44-79B90CA3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A688-84E2-45B5-B8DA-3B49221B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5562-AEBA-46EF-98BB-02D06DA6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F598-51DC-49ED-B4FA-B48D036F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8023-B920-49BE-BDC2-C9921C71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1B3E-D297-41A5-AD7E-70D6FDB4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AAFB-AF35-45A1-BD83-F660286D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8361-2917-4058-BC76-196C8AA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34FD-D24F-4AA2-974B-266BA743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8F12-BA59-4BEB-B747-01E2E4E4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3996-6B61-4E86-97A6-075FDFA7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9ABC-4480-4EE1-81D0-55BD350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855A-1E84-4449-8B1C-F375F297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31EA-B353-4F67-A174-6B758CB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E237-D3F7-413F-B3DF-22BBC58A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E6A3-4843-43D3-AE42-E91A042D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DDAD-9F62-472B-90E5-B4493FBE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F9828-FC37-4EE7-98E3-83920222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7EA90-1A22-4E19-BBE6-6F08F36A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B43C3-B5B8-424D-8CC2-F564792A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05BB-F4DA-4F9D-8964-20EDBF05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92208-E526-4FFB-9F1F-01991C6C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D2508-0FD1-48DA-AC36-B838EBB7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1FAD6-A805-46C4-B4EA-94CE5D4B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65A65-EC36-485C-AD3D-6148C99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008FC-4D6E-4586-8E27-D0571B48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E0B29-571F-48BE-B49B-8E0ADCE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6BFAC-2D63-4754-A0D8-9D43B99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AC931-5D41-4426-92B8-6DB1BB2A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9F86A-107C-49C7-8A7D-883F0F1C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CA60-5F56-4177-BF6D-E555D8CE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3526-393F-4F71-8B92-0FED6379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E842-F790-49CB-838B-53958A36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068C-11CE-43E3-889C-157C9D4E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CDD4-ABC2-4345-816C-DD20CB30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71E9-BB2A-4AF4-82F7-C5654F84BF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7C6C-103C-4424-8244-8644096C6A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35A8-3990-4630-AD89-199E090226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BBA0-FCB1-41DB-89CA-F8063F693E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lag_of_Romania.svg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ru.wikipedia.org/wiki/&#1060;&#1072;&#1081;&#1083;:Coat_of_arms_of_Romania.sv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krugosvet.ru/uploads/enc/images/23/12363279687e4d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ru.wikipedia.org/wiki/&#1060;&#1072;&#1081;&#1083;:Romania-relief.png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dikarem.net/wp-content/uploads/2008/12/st_116_romania_3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urope3d.vwi.ro/wp-content/uploads/2009/07/romania-photos_38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hyperlink" Target="http://ru.wikipedia.org/wiki/&#1060;&#1072;&#1081;&#1083;:Bancorex_building_bgiu.jpg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ope3d.vwi.ro/wp-content/uploads/2009/07/romania-photos_46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europe3d.vwi.ro/wp-content/uploads/2009/07/romania-photos_08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europe3d.vwi.ro/wp-content/uploads/2009/07/romania-photos_42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europe3d.vwi.ro/wp-content/uploads/2009/07/romania-photos_45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dobe Fan Heiti Std B"/>
                <a:ea typeface="Adobe Fan Heiti Std B"/>
              </a:rPr>
              <a:t>РУМУН</a:t>
            </a:r>
            <a:r>
              <a:rPr b="0" lang="en-US" sz="6000" spc="-1" strike="noStrike">
                <a:solidFill>
                  <a:srgbClr val="ff0000"/>
                </a:solidFill>
                <a:latin typeface="Adobe Fan Heiti Std B"/>
                <a:ea typeface="Adobe Fan Heiti Std B"/>
              </a:rPr>
              <a:t>I</a:t>
            </a:r>
            <a:r>
              <a:rPr b="0" lang="ru-RU" sz="6000" spc="-1" strike="noStrike">
                <a:solidFill>
                  <a:srgbClr val="ff0000"/>
                </a:solidFill>
                <a:latin typeface="Adobe Fan Heiti Std B"/>
                <a:ea typeface="Adobe Fan Heiti Std B"/>
              </a:rPr>
              <a:t>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Picture 9" descr="logo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360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Румын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2492280"/>
            <a:ext cx="2367000" cy="1578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ерб Румын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67640" y="2205000"/>
            <a:ext cx="952560" cy="1305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237960" y="1839960"/>
            <a:ext cx="398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муні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(рум. România) - держава на південному сході Європи, демократична республіка. Столиця - Бухарес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400" y="372600"/>
            <a:ext cx="85359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Експорт: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$ 49,41 млрд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сновні партнери по зовнішній торгівлі - Німеччина (16.5%), Італія (15.6%), Франція (7.4%), Туреччина (6.6%), Угорщина (5.1%), Болгарія (4.2%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сновні статті експорту: текстиль, продукція машинобудування та металургійної промисловості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Импорт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:</a:t>
            </a:r>
            <a:r>
              <a:rPr b="1" lang="ru-RU" sz="16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$76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17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лрд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артнери: Німеччина 16.3%, Італія 11.4%, Угорщина 7.4%, Росія 6%, Франція 5,7%, Туреччина 4.9%, Австрія 4.9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імпорті переважають продукція машинобудування, нафту і газ, текстиль та вироби з нь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10" descr="bucharest-photos_07"/>
          <p:cNvPicPr/>
          <p:nvPr/>
        </p:nvPicPr>
        <p:blipFill>
          <a:blip r:embed="rId1"/>
          <a:stretch/>
        </p:blipFill>
        <p:spPr>
          <a:xfrm>
            <a:off x="324000" y="385776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4222440" y="142920"/>
            <a:ext cx="465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aramond"/>
              </a:rPr>
              <a:t>Зовнішньоекономічні відноси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4" descr="About Romania  at  www.aboutromania.com"/>
          <p:cNvPicPr/>
          <p:nvPr/>
        </p:nvPicPr>
        <p:blipFill>
          <a:blip r:embed="rId2"/>
          <a:stretch/>
        </p:blipFill>
        <p:spPr>
          <a:xfrm>
            <a:off x="5076720" y="3549600"/>
            <a:ext cx="395928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2602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Замок Пелеш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14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Багато хто вважає , що цей замок - один з найкрасивіших у Європі. Замок Пелеш - шедевр архітектури в стилі Пізнього Німецького Відродження. Замок побудований в 1873 - 1883 р.р. королем Каролом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.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Інтер'єри Пелеша - зразок витонченого дизайну. Його 160 кімнат прикрашені найпрекраснішими експонатами європейського мистецтва : люстри з кристала Мурано , німецькі вітражі , стіни покриті шкірою з Кордови , фарфор Мейсен і Сервер , чорне дерево і скульптури зі слонової кіст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уже схожий на замок Пелеш - замок Пелішор ​​( "Маленький Пелеш " ) . Король Фердинанд , який послідував за Каролом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 ,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в намір використовувати замок Пелеш як літню резиденцію. Можливо , він знайшов , що Пелеш занадто великий і такий , що пригнічує , і він вирішив побудувати замок поменше , в стилі Арт Нуво - замок Пелішор ​​. 70 кімнат Пелішор ​​обставлено унікальним зібранням віденської меблів початку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XX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толіття і скляним посудом Лалік і Тіфані 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2" descr="C:\Users\Ярослав\Desktop\Pelesh.jpg"/>
          <p:cNvPicPr/>
          <p:nvPr/>
        </p:nvPicPr>
        <p:blipFill>
          <a:blip r:embed="rId1"/>
          <a:stretch/>
        </p:blipFill>
        <p:spPr>
          <a:xfrm>
            <a:off x="3492360" y="264960"/>
            <a:ext cx="4535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" y="0"/>
            <a:ext cx="32076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мок Бран - Замок Драку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ей середньовічний замок - фортеця , якого часто називають Замком Дракули , був побудований в 1377 , для захисту сусіднього міста Брашов від загарбників. Він , також , служив митної станціє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імнати і башти замку формують внутрішній двір . Деякі кімнати безпосередньо пов'язані , через підземні проходи , з внутрішнім двором. У 1920 році , жителі Брашова , подарували замок Королеві Румунії - Марії , і в скоре він став її улюбленим місцем проживанн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мок Бран - місце , де знаходяться багаті зібрання румунських і іноземних меблів і художніх творів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IV - XIX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оліть. Замок стоїть на високій скелі , над мальовничим селом Бран . Біля входу розташований відкритий етнографічний музей старовинних сільських будиночків з виставками меблів , домашніх предметів і національних костюмі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3" name="Picture 2" descr="C:\Users\Ярослав\Desktop\0_84c06_5595978b_orig.jpg"/>
          <p:cNvPicPr/>
          <p:nvPr/>
        </p:nvPicPr>
        <p:blipFill>
          <a:blip r:embed="rId1"/>
          <a:stretch/>
        </p:blipFill>
        <p:spPr>
          <a:xfrm>
            <a:off x="-14400" y="4797360"/>
            <a:ext cx="91584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184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якуємо за увагу!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5" name="Picture 10" descr="Фотография Румынии. Замок Пелеш"/>
          <p:cNvPicPr/>
          <p:nvPr/>
        </p:nvPicPr>
        <p:blipFill>
          <a:blip r:embed="rId1"/>
          <a:stretch/>
        </p:blipFill>
        <p:spPr>
          <a:xfrm>
            <a:off x="108000" y="1341360"/>
            <a:ext cx="6769080" cy="4508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romania-photos_20-150x150"/>
          <p:cNvPicPr/>
          <p:nvPr/>
        </p:nvPicPr>
        <p:blipFill>
          <a:blip r:embed="rId2"/>
          <a:stretch/>
        </p:blipFill>
        <p:spPr>
          <a:xfrm>
            <a:off x="7164360" y="18900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7" descr="romania-photos_44-150x150"/>
          <p:cNvPicPr/>
          <p:nvPr/>
        </p:nvPicPr>
        <p:blipFill>
          <a:blip r:embed="rId3"/>
          <a:stretch/>
        </p:blipFill>
        <p:spPr>
          <a:xfrm>
            <a:off x="7093080" y="4913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Влад Цепеш"/>
          <p:cNvPicPr/>
          <p:nvPr/>
        </p:nvPicPr>
        <p:blipFill>
          <a:blip r:embed="rId4"/>
          <a:stretch/>
        </p:blipFill>
        <p:spPr>
          <a:xfrm>
            <a:off x="7093080" y="2205000"/>
            <a:ext cx="1927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Румыния"/>
          <p:cNvPicPr/>
          <p:nvPr/>
        </p:nvPicPr>
        <p:blipFill>
          <a:blip r:embed="rId1"/>
          <a:stretch/>
        </p:blipFill>
        <p:spPr>
          <a:xfrm>
            <a:off x="0" y="4214880"/>
            <a:ext cx="3000240" cy="2643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4427640" y="404640"/>
            <a:ext cx="47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оща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38 391 км ² (78-я в світі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ерегова лінія: 225 км узбережжя Чорного мор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Природні ресурси: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фта, природний газ, вугілля (6-7 млрд. т), золото, залізняк, кам'яна сіль, деревина, гідроенергоресурс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дра країни містять ще багато нерозвіданих багатст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19" descr="12363279687e4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0520"/>
            <a:ext cx="3857760" cy="3213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3" descr="300px-Romania-relief">
            <a:hlinkClick r:id="rId4"/>
          </p:cNvPr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076720" y="3784680"/>
            <a:ext cx="331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romania"/>
          <p:cNvPicPr/>
          <p:nvPr/>
        </p:nvPicPr>
        <p:blipFill>
          <a:blip r:embed="rId1"/>
          <a:stretch/>
        </p:blipFill>
        <p:spPr>
          <a:xfrm>
            <a:off x="108000" y="3773520"/>
            <a:ext cx="4032360" cy="2997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3500280" y="52560"/>
            <a:ext cx="21434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Rectangle 128"/>
          <p:cNvSpPr/>
          <p:nvPr/>
        </p:nvSpPr>
        <p:spPr>
          <a:xfrm>
            <a:off x="3500280" y="52560"/>
            <a:ext cx="21434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34"/>
          <p:cNvSpPr/>
          <p:nvPr/>
        </p:nvSpPr>
        <p:spPr>
          <a:xfrm>
            <a:off x="2436840" y="2851200"/>
            <a:ext cx="42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356000" y="2205000"/>
          <a:ext cx="4932360" cy="2808360"/>
        </p:xfrm>
        <a:graphic>
          <a:graphicData uri="http://schemas.openxmlformats.org/drawingml/2006/table">
            <a:tbl>
              <a:tblPr/>
              <a:tblGrid>
                <a:gridCol w="4240440"/>
                <a:gridCol w="691920"/>
              </a:tblGrid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сяг ВВП - 200,1 млрд. $ (40-я в світі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 душу населення - 12 200 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уктура ВВП (2008 року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ільське господарство: 8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мисловість: 3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фера послуг: 55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15" descr="Пояна Брашо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836640"/>
            <a:ext cx="3600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Насел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00720" y="980640"/>
            <a:ext cx="4643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2,2 млн (липень 2009 р.) - 51-е місц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астка міського населення - 54%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щільність - 98 чол. / км 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  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більші міста - Бухарест, Ясси, Констанца, Брашов, Галац, Плоєшті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фіційний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язык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1" lang="ru-RU" sz="2000" spc="-1" strike="noStrike">
                <a:solidFill>
                  <a:srgbClr val="ffcc00"/>
                </a:solidFill>
                <a:latin typeface="Garamond"/>
              </a:rPr>
              <a:t>румынск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роджуваність - 10,5 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мертність - 11,8 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500280" y="2744640"/>
            <a:ext cx="21434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1928880" y="5006880"/>
            <a:ext cx="45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Garamond"/>
              </a:rPr>
              <a:t>Вікова структура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Garamond"/>
              </a:rPr>
              <a:t>0-14 років: 15,5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Garamond"/>
              </a:rPr>
              <a:t>15-64 років: 69,7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Garamond"/>
              </a:rPr>
              <a:t>65 років і старше: 14,7% (2009 р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57" descr="romania-photos_38-150x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9280" y="450072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romania-pop"/>
          <p:cNvPicPr/>
          <p:nvPr/>
        </p:nvPicPr>
        <p:blipFill>
          <a:blip r:embed="rId3"/>
          <a:srcRect l="2044" t="494" r="2906" b="25157"/>
          <a:stretch/>
        </p:blipFill>
        <p:spPr>
          <a:xfrm>
            <a:off x="357120" y="1000080"/>
            <a:ext cx="3505320" cy="3657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1"/>
          <p:cNvSpPr/>
          <p:nvPr/>
        </p:nvSpPr>
        <p:spPr>
          <a:xfrm>
            <a:off x="803160" y="464328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aramond"/>
              </a:rPr>
              <a:t>Густота Населенн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Насел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57160" y="1214280"/>
            <a:ext cx="505152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тнічний склад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42960" y="1650240"/>
            <a:ext cx="3571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Румуни - 89,5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Угорці - 6,6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Цигани - 2,5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Українці - 0,3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Німці - 0,3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Росіяни - 0,2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Турки - 0,2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Прямоугольник 8"/>
          <p:cNvSpPr/>
          <p:nvPr/>
        </p:nvSpPr>
        <p:spPr>
          <a:xfrm>
            <a:off x="324000" y="4253040"/>
            <a:ext cx="4572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aramond"/>
              </a:rPr>
              <a:t>Розподіл робочої си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Garamond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ільському господарстві - 30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 промисловості - 23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 сфері обслуговування - 47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5568840"/>
            <a:ext cx="50515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емографічна політика держави спрямована на збільшення народжуваності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12" descr="C:\Users\Ярослав\Desktop\2828295860_65ddc69836_o.jpg"/>
          <p:cNvPicPr/>
          <p:nvPr/>
        </p:nvPicPr>
        <p:blipFill>
          <a:blip r:embed="rId1"/>
          <a:stretch/>
        </p:blipFill>
        <p:spPr>
          <a:xfrm>
            <a:off x="5022720" y="1052640"/>
            <a:ext cx="38181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214800" y="857160"/>
            <a:ext cx="5929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ухарест, Плоешти и промышленный центр Брашов. (около </a:t>
            </a:r>
            <a:r>
              <a:rPr b="0" lang="ru-RU" sz="1800" spc="-1" strike="noStrike">
                <a:solidFill>
                  <a:srgbClr val="ffc000"/>
                </a:solidFill>
                <a:latin typeface="Garamond"/>
              </a:rPr>
              <a:t>2/5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промышленной продукции страны). Машиностроение и нефтепереработка, резиновая, бумажная, текстильная промышленность, производство электроэнергии, химических и пищевых продукт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Центральная Трансильвани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— крупнейший район газовой, химической и стекольной промышленности Хунедоаро-Решицкий промышленный район - угольно-металлургическая специализац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Западно-Молдавс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, охватывающий промышленные центры области Бакэу в долине р. Сирет и ее притоков Тротуш и Еистрина (нефтегазохимия и целлюлозно-бумяжная промышленнос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Олтенс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промышленный район (центры - Крайове и Тыргу-Жиу) - добыча нефти, энергетических углей, развитие энергетики и хим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Нижне- Дунайс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промышленный район (с глав. центрами Галац и Брэила)- главная база черной металлургии страны с развивающейся машиностроительной промышленностью (судостроение), целлюлозно-бумажная и химическая промышленн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Garamond"/>
              </a:rPr>
              <a:t>г. Слатина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упный алюминиевый зав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Промышленность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2" name="Picture 6" descr="romania-photos_35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romania-photos_35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romania-photos_35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romania-photos_07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romania-photos_07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romania-photos_07"/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romania-photos_07"/>
          <p:cNvPicPr/>
          <p:nvPr/>
        </p:nvPicPr>
        <p:blipFill>
          <a:blip r:embed="rId7"/>
          <a:stretch/>
        </p:blipFill>
        <p:spPr>
          <a:xfrm>
            <a:off x="0" y="5000760"/>
            <a:ext cx="2771640" cy="1857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270px-Bancorex_building_bgiu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9280" y="2060640"/>
            <a:ext cx="2571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ільське господар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19280" y="765000"/>
            <a:ext cx="572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умунія - великий виробник сільськогосподарської продукції (особливо зерна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відна галузь - рослинництво ( 2/3 валової сільськогосподарської продукції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частку тваринництва припадає близько 1 /3. У гірських же і деяких горбистих районах тваринництво - головна галузь сільського господарства 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еред зернових культур різко переважають кукурудза і пшениця. Картопля, цукровий буряк , соняшни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і виробники зерна в Румунії - Нижньо - Дунайська і Середньо - Дунайська низовин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 рівнем розвитку тваринництва Румунія близька до Болгарії та Югославії , але ще сильно поступається , наприклад , Чехословаччи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країні широко поширене малоінтенсивне пасовищне тваринництво , відрізняється порівняно невисокою продуктивністю 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Picture 5" descr="romania-photos_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332240"/>
            <a:ext cx="3384720" cy="2525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romania-photos_08-150x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413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romania-photos_42-150x15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1440" y="5275440"/>
            <a:ext cx="15825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Garamond"/>
              </a:rPr>
              <a:t>Виноробств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Сьогодні в Румунії площа виноградників складає близько 300 тис. га. При цьому половина всіх виноградників в країні належать кооперативам, третина - приватним власникам і тільки 16% - державі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6" name="Picture 6" descr="romania-photos_11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romania-photos_45-150x1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4292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100400"/>
          <p:cNvPicPr/>
          <p:nvPr/>
        </p:nvPicPr>
        <p:blipFill>
          <a:blip r:embed="rId4"/>
          <a:stretch/>
        </p:blipFill>
        <p:spPr>
          <a:xfrm>
            <a:off x="5508720" y="2421000"/>
            <a:ext cx="1571400" cy="1193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Румыния"/>
          <p:cNvPicPr/>
          <p:nvPr/>
        </p:nvPicPr>
        <p:blipFill>
          <a:blip r:embed="rId5"/>
          <a:stretch/>
        </p:blipFill>
        <p:spPr>
          <a:xfrm>
            <a:off x="324000" y="335772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3120" y="4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ухаре́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324000" y="778680"/>
            <a:ext cx="799308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" rIns="792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Найважливіший економічний і культурний центр краї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Населення (з передмістями) - більше 2,3 млн. чолові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більше місто в Південно-Східній Європі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иробляється близько 21% валового внутрішнього продукту краї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концентирована чверть промислового виробництва Румунії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більш індустріалізована частину краї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4" descr="bucharest-photos_01-150x150"/>
          <p:cNvPicPr/>
          <p:nvPr/>
        </p:nvPicPr>
        <p:blipFill>
          <a:blip r:embed="rId1"/>
          <a:stretch/>
        </p:blipFill>
        <p:spPr>
          <a:xfrm>
            <a:off x="7093080" y="40464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bucharest-photos_04"/>
          <p:cNvPicPr/>
          <p:nvPr/>
        </p:nvPicPr>
        <p:blipFill>
          <a:blip r:embed="rId2"/>
          <a:stretch/>
        </p:blipFill>
        <p:spPr>
          <a:xfrm>
            <a:off x="324000" y="3284640"/>
            <a:ext cx="8208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9:47:28Z</dcterms:created>
  <dc:creator>media</dc:creator>
  <dc:description/>
  <dc:language>en-US</dc:language>
  <cp:lastModifiedBy>Ярослав</cp:lastModifiedBy>
  <dcterms:modified xsi:type="dcterms:W3CDTF">2013-11-13T20:34:35Z</dcterms:modified>
  <cp:revision>93</cp:revision>
  <dc:subject/>
  <dc:title>РУМЫНИЯ</dc:title>
</cp:coreProperties>
</file>