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2EBC0-E409-4720-BE14-750AAEAB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10CEC-05EA-412B-917F-32A20B8C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86B8-83CC-4BF8-9024-91E4E2C7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D4983-E9DE-4216-836C-F6D31A4F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60CB-FEC3-4192-98D3-AA75D5BF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5E40-FBED-412E-8699-C170145F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F5FD-B77B-4479-B543-6BCDD2D3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C49C-EFDD-4782-9014-AB37C349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8BAC-E362-4BD5-B7D0-001565B7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420A-5291-4D52-9294-04C8C78E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093C-F0F4-41AD-BA91-99A304D6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797CB-EB8C-4EF8-B745-A990ACC5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F86E-263D-4AF4-BBC8-8A6673F2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222A-6D71-480E-95F9-1F63271F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506C-E01B-4213-AEFA-147C9557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6496-BF1A-4ED0-B94F-CC292A7B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1CA4-3581-4BFF-B032-37DCEE01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44ED6-7913-41C6-B49B-E8921F53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3483D-9C3B-46DB-9AE8-23FC5596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91B9F-3670-42AB-B448-221CB1DE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28E21-AEA0-4512-8DDD-9120CD9C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6A6DA-539E-4C2B-9ACC-2D57C1BD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6276F-A582-447D-96CD-5F73E160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C8B93-848D-4EB0-B8BA-7AAB1D41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3416-7133-4297-8C75-400428D781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CD6A-593D-47B4-B8C5-8700EF2561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Language Barr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anguage barriers in the work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ips how to avoid language b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tuation in the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onstructed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anguage barrier is a  barrier to communication resulting from speaking different langu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Language barriers in the workp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Language Barriers Workplace"/>
          <p:cNvPicPr/>
          <p:nvPr/>
        </p:nvPicPr>
        <p:blipFill>
          <a:blip r:embed="rId1"/>
          <a:stretch/>
        </p:blipFill>
        <p:spPr>
          <a:xfrm>
            <a:off x="990720" y="1752480"/>
            <a:ext cx="69148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Causes problem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usiness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Tips how to avoid language barr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peak slowly and cl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sk for cla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requently check for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void idi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e careful of abbrev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fine the basics of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Tips how to avoid language barr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hoose your medium of communication eff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ovide information with multiple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e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ituation in the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0 million spanish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oblem in Sou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olution: schoo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Constructed 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nvente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eason: ease human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3 most widely spoken constructed languages: esperanto, interlingua, klin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16:47:50Z</dcterms:created>
  <dc:creator>Feri</dc:creator>
  <dc:description/>
  <dc:language>en-US</dc:language>
  <cp:lastModifiedBy>Feri</cp:lastModifiedBy>
  <dcterms:modified xsi:type="dcterms:W3CDTF">2014-01-14T18:02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