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8C54-3F5F-4AF9-B1AC-9D94373B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D438-4AE5-4B72-AE7F-8CCC261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1036-8422-4F16-A15D-9FC5BF32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A5B5-2C8F-418B-962D-6117456F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C9D-E21C-4BD5-BD0E-2760FAC0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71DC-3320-4C59-B278-BCC4C47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0721-6715-4BEB-B9C9-98C94E2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1C9A-935A-46D4-AFB4-17A4E73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4EE-751A-48F7-8805-8963C64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FFA6-2D98-4C2A-80AE-10921C8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FA5-3AD5-4DFD-A731-1640ACB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0EA1-14C0-4B1C-BDEC-2488C8AB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86FE-8E82-4A4E-9CA0-4BE9BD4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213-D362-4FC4-9D9B-58A8C10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997D-F898-431E-8F83-2EB212ED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9325-4FB1-4BCA-BA6E-E71F5360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3A5-8B24-467F-B971-8A435B21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31A8-E4A9-4C89-BAEE-ACAE4AC4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F991-7A19-4AAA-9D85-5EB88C7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0C9B-EF01-4D62-A96A-B68B49F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C2B4-423C-4C84-B402-FEC7E7BE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C6F1B-1909-471B-8755-B9E15D0A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7892-A48A-46E1-8E7B-395EF45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440C-78CD-4124-BC66-84FF363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93A-6559-48E3-9BC4-8F3AC43BB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EE6-AD22-4CF6-AFAA-672159970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nguage barriers in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tuation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onstructed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nguage barrier is a  barrier to communication resulting from speaking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Language barriers in the work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Language Barriers Workplace"/>
          <p:cNvPicPr/>
          <p:nvPr/>
        </p:nvPicPr>
        <p:blipFill>
          <a:blip r:embed="rId1"/>
          <a:stretch/>
        </p:blipFill>
        <p:spPr>
          <a:xfrm>
            <a:off x="990720" y="1752480"/>
            <a:ext cx="6914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auses problem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usiness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ak slowly and 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sk for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requently check fo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void idi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careful of 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ine the basic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hoose your medium of communicati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 information with multipl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ituation in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0 million spanis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blem in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lution: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onstruct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ven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ason: ease huma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 most widely spoken constructed languages: esperanto, interlingua, klin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6:47:50Z</dcterms:created>
  <dc:creator>Feri</dc:creator>
  <dc:description/>
  <dc:language>en-US</dc:language>
  <cp:lastModifiedBy>Feri</cp:lastModifiedBy>
  <dcterms:modified xsi:type="dcterms:W3CDTF">2014-01-14T18:02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