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2592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Developmental Psycholog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Put yo name in here Gurl! Kel!!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Entry Requirement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minimum requirement for this career path is a Second Class Honours Degree (or above) in Psychology.[2]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dditionally it is beneficial to have fundamental background skills in Maths and English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hD students generally have much greater flexibility in this career than undergraduate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Roles and Responsibiliti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re is a wide range of work available for this career. Schools, Children's homes, Government agencies, Hospitals and Rehabilitation centres are just a few of the many scenarios commonly experienced by developmental psychologist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evelopmental Psychologists usually specialise in specific age-groups and therefore the daily work varies greatly upon the age group you decide to work with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Career Opportunities 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and Progres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oth Public and private sectors need Developmental Psychologists. They study and work with every aspect of a persons life and so they make an important part of many organisa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evelopment of the career depends greatly on the role taken. A Psychologist in a substance abuse clinic would have a very different career path to one working in educa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Alternative Career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hildrens Psychologist, Criminal Psycholog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Referenc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74760"/>
                <a:tab algn="l" pos="1093680"/>
                <a:tab algn="l" pos="1812960"/>
                <a:tab algn="l" pos="2532240"/>
                <a:tab algn="l" pos="3251160"/>
                <a:tab algn="l" pos="3970440"/>
                <a:tab algn="l" pos="4689360"/>
                <a:tab algn="l" pos="5408640"/>
                <a:tab algn="l" pos="6127920"/>
                <a:tab algn="l" pos="6846840"/>
                <a:tab algn="l" pos="7566120"/>
                <a:tab algn="l" pos="8285040"/>
                <a:tab algn="l" pos="9004320"/>
                <a:tab algn="l" pos="9723600"/>
                <a:tab algn="l" pos="1044252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[1] http://careersinpsychology.org/what-is-developmental-psychology/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74760"/>
                <a:tab algn="l" pos="1093680"/>
                <a:tab algn="l" pos="1812960"/>
                <a:tab algn="l" pos="2532240"/>
                <a:tab algn="l" pos="3251160"/>
                <a:tab algn="l" pos="3970440"/>
                <a:tab algn="l" pos="4689360"/>
                <a:tab algn="l" pos="5408640"/>
                <a:tab algn="l" pos="6127920"/>
                <a:tab algn="l" pos="6846840"/>
                <a:tab algn="l" pos="7566120"/>
                <a:tab algn="l" pos="8285040"/>
                <a:tab algn="l" pos="9004320"/>
                <a:tab algn="l" pos="9723600"/>
                <a:tab algn="l" pos="1044252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74760"/>
                <a:tab algn="l" pos="1093680"/>
                <a:tab algn="l" pos="1812960"/>
                <a:tab algn="l" pos="2532240"/>
                <a:tab algn="l" pos="3251160"/>
                <a:tab algn="l" pos="3970440"/>
                <a:tab algn="l" pos="4689360"/>
                <a:tab algn="l" pos="5408640"/>
                <a:tab algn="l" pos="6127920"/>
                <a:tab algn="l" pos="6846840"/>
                <a:tab algn="l" pos="7566120"/>
                <a:tab algn="l" pos="8285040"/>
                <a:tab algn="l" pos="9004320"/>
                <a:tab algn="l" pos="9723600"/>
                <a:tab algn="l" pos="1044252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[2] http://psychology.about.com/od/psychologycareerprofiles/a/developmental-psychologist.ht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74760"/>
                <a:tab algn="l" pos="1093680"/>
                <a:tab algn="l" pos="1812960"/>
                <a:tab algn="l" pos="2532240"/>
                <a:tab algn="l" pos="3251160"/>
                <a:tab algn="l" pos="3970440"/>
                <a:tab algn="l" pos="4689360"/>
                <a:tab algn="l" pos="5408640"/>
                <a:tab algn="l" pos="6127920"/>
                <a:tab algn="l" pos="6846840"/>
                <a:tab algn="l" pos="7566120"/>
                <a:tab algn="l" pos="8285040"/>
                <a:tab algn="l" pos="9004320"/>
                <a:tab algn="l" pos="9723600"/>
                <a:tab algn="l" pos="1044252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74760"/>
                <a:tab algn="l" pos="1093680"/>
                <a:tab algn="l" pos="1812960"/>
                <a:tab algn="l" pos="2532240"/>
                <a:tab algn="l" pos="3251160"/>
                <a:tab algn="l" pos="3970440"/>
                <a:tab algn="l" pos="4689360"/>
                <a:tab algn="l" pos="5408640"/>
                <a:tab algn="l" pos="6127920"/>
                <a:tab algn="l" pos="6846840"/>
                <a:tab algn="l" pos="7566120"/>
                <a:tab algn="l" pos="8285040"/>
                <a:tab algn="l" pos="9004320"/>
                <a:tab algn="l" pos="9723600"/>
                <a:tab algn="l" pos="1044252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[3] http://www.shu.ac.uk/prospectus/course/835/entry/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20:44:38Z</dcterms:created>
  <dc:creator>Keelan G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