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D56-7813-4904-BEF0-5EC686F7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44F-8CB3-4530-8BF5-6F84423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3CB-6D4C-430C-B590-F248B0FE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60E-94CB-4B96-93BD-B0F58221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6D9-C490-4A75-BC03-3B174055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E4F-CE9E-4423-B9BA-A88FE53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A5D-FFF6-4EAA-B3D9-FE7165F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F8B-BCBA-4C43-BFF6-6ED54EB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57E-6DA1-4BBD-B519-301E7192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2F4-FA9B-4C91-AF6B-FBA15CB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C3B-1CF4-4899-AF6C-718DE16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40E-4352-4401-8788-B218640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156B-F84E-42BC-A0CE-A075D3FBFDF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Produção de Texto e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Formação de Leitores</a:t>
            </a:r>
            <a:br>
              <a:rPr sz="6600"/>
            </a:br>
            <a:r>
              <a:rPr b="1" lang="pt-BR" sz="6600" spc="-1" strike="noStrike">
                <a:solidFill>
                  <a:srgbClr val="002060"/>
                </a:solidFill>
                <a:latin typeface="Calibri"/>
              </a:rPr>
              <a:t>Aula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ndré Carrieri\Desktop\AULA 1\torcida xv.jpg"/>
          <p:cNvPicPr/>
          <p:nvPr/>
        </p:nvPicPr>
        <p:blipFill>
          <a:blip r:embed="rId1"/>
          <a:stretch/>
        </p:blipFill>
        <p:spPr>
          <a:xfrm>
            <a:off x="395280" y="404640"/>
            <a:ext cx="8385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André Carrieri\Desktop\AULA 1\allianz_arena_bayern_munchen.jpeg"/>
          <p:cNvPicPr/>
          <p:nvPr/>
        </p:nvPicPr>
        <p:blipFill>
          <a:blip r:embed="rId1"/>
          <a:stretch/>
        </p:blipFill>
        <p:spPr>
          <a:xfrm>
            <a:off x="324000" y="306360"/>
            <a:ext cx="849600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André Carrieri\Desktop\AULA 1\2307amtvjovens.jpg"/>
          <p:cNvPicPr/>
          <p:nvPr/>
        </p:nvPicPr>
        <p:blipFill>
          <a:blip r:embed="rId1"/>
          <a:stretch/>
        </p:blipFill>
        <p:spPr>
          <a:xfrm>
            <a:off x="468360" y="549360"/>
            <a:ext cx="8177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ndré Carrieri\Desktop\AULA 1\stockholm_hot_dog-2.jpg"/>
          <p:cNvPicPr/>
          <p:nvPr/>
        </p:nvPicPr>
        <p:blipFill>
          <a:blip r:embed="rId1"/>
          <a:stretch/>
        </p:blipFill>
        <p:spPr>
          <a:xfrm>
            <a:off x="539640" y="404640"/>
            <a:ext cx="77644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Sábado de Feira Livre numa cidade do Bras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ndré Carrieri\Desktop\AULA 1\images.jpg"/>
          <p:cNvPicPr/>
          <p:nvPr/>
        </p:nvPicPr>
        <p:blipFill>
          <a:blip r:embed="rId1"/>
          <a:stretch/>
        </p:blipFill>
        <p:spPr>
          <a:xfrm>
            <a:off x="684360" y="549360"/>
            <a:ext cx="7840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ndré Carrieri\Desktop\2CDC4E82D1FD4A4680892C79339D6869.jpg"/>
          <p:cNvPicPr/>
          <p:nvPr/>
        </p:nvPicPr>
        <p:blipFill>
          <a:blip r:embed="rId1"/>
          <a:stretch/>
        </p:blipFill>
        <p:spPr>
          <a:xfrm>
            <a:off x="468360" y="404640"/>
            <a:ext cx="8157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ldas_Praca_da_Fruta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André Carrieri\Desktop\AULA 1\images (1).jpg"/>
          <p:cNvPicPr/>
          <p:nvPr/>
        </p:nvPicPr>
        <p:blipFill>
          <a:blip r:embed="rId1"/>
          <a:stretch/>
        </p:blipFill>
        <p:spPr>
          <a:xfrm>
            <a:off x="468360" y="620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lmoço de Doming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toda a Famí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O que é Comunicaçã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dré Carrieri\Desktop\AULA 1\mathias4.jpg"/>
          <p:cNvPicPr/>
          <p:nvPr/>
        </p:nvPicPr>
        <p:blipFill>
          <a:blip r:embed="rId1"/>
          <a:stretch/>
        </p:blipFill>
        <p:spPr>
          <a:xfrm>
            <a:off x="755640" y="404640"/>
            <a:ext cx="75852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COMUNICAÇÃO TEORIA TÉCNICAS\AULA 1\DSC06793.JPG"/>
          <p:cNvPicPr/>
          <p:nvPr/>
        </p:nvPicPr>
        <p:blipFill>
          <a:blip r:embed="rId1"/>
          <a:stretch/>
        </p:blipFill>
        <p:spPr>
          <a:xfrm>
            <a:off x="971640" y="549360"/>
            <a:ext cx="74628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André Carrieri\Desktop\AULA 1\scan0123b.jpg"/>
          <p:cNvPicPr/>
          <p:nvPr/>
        </p:nvPicPr>
        <p:blipFill>
          <a:blip r:embed="rId1"/>
          <a:stretch/>
        </p:blipFill>
        <p:spPr>
          <a:xfrm>
            <a:off x="755640" y="549360"/>
            <a:ext cx="800244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ndré Carrieri\Desktop\AULA 1\DSC_6207_Lasagna-Pron-4-460x260.jpg"/>
          <p:cNvPicPr/>
          <p:nvPr/>
        </p:nvPicPr>
        <p:blipFill>
          <a:blip r:embed="rId1"/>
          <a:stretch/>
        </p:blipFill>
        <p:spPr>
          <a:xfrm>
            <a:off x="611280" y="620640"/>
            <a:ext cx="8026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pt-BR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não existe por si só, como algo separado da vida em socie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sociedade e a comunicação são uma coisa só. Não existe uma comunicação sem uma sociedade, nem uma sociedade sem uma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é o canal pelo qual os padrões da vida da sua cultura foram-lhe transmitidos. É através dela que você aprendeu a ser gente e ser “membro” da sua sociedade – da sua família, do seu grupo de amigos, da sua vizinhança e também da su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Ninguém lhe ensinou como se organiza a sociedade e o que pensa e sente a sua cultura. Isso acontece indiretamente pela experiência acumulada de pequenos eventos em relação às pessoas que convivem e se comunicam com você: os atos de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Quando nos comunicamos com pessoas criamos laços de ideias e emoções. Portanto, a comunicação ocorre quando interagimos com outras pessoas utilizando lingu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ara nos comunicarmos, podemos utilizar várias linguagens: escrever, cantar, desenhar, dançar, se vestir, fazer ge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A linguagem é a representação do pensamento por meio de sinais, imagens ou palav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16000" y="63252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Meios ambie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comunicacion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4360" y="2060640"/>
            <a:ext cx="7920000" cy="3592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O que é Comunic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tos de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 Comunicação no Cotid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08160" y="692280"/>
            <a:ext cx="49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Tema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1785960"/>
            <a:ext cx="8429760" cy="2801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Clássico de futebol no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Feira livre em São P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lmoço de domingo em famí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712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40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Atos da Comunicação</a:t>
            </a:r>
            <a:br>
              <a:rPr sz="9600"/>
            </a:b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o meio ambiente social da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2060"/>
                </a:solidFill>
                <a:latin typeface="Calibri"/>
              </a:rPr>
              <a:t>Ambientes Sociais Estruturados de Comunicação</a:t>
            </a:r>
            <a:br>
              <a:rPr sz="9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palavras-chave:</a:t>
            </a:r>
            <a:br>
              <a:rPr sz="3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intencionalidade, função social, constr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Noite de Jogo Decisiv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Estádio Lota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3:56Z</dcterms:created>
  <dc:creator>Admin</dc:creator>
  <dc:description/>
  <dc:language>en-US</dc:language>
  <cp:lastModifiedBy>André Carrieri</cp:lastModifiedBy>
  <dcterms:modified xsi:type="dcterms:W3CDTF">2014-03-21T18:24:32Z</dcterms:modified>
  <cp:revision>98</cp:revision>
  <dc:subject/>
  <dc:title>COMUNICAÇÃO: um eterno aprendizado</dc:title>
</cp:coreProperties>
</file>