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DA28-2111-4C99-89BD-AF20A8C8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B354-C809-412C-9DA7-56E44134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6BB0-4A3C-4453-8CE9-538B42BB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3713-6540-402F-A3BA-474C308B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BFC7-7C27-48FD-BEB6-70A706DF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FFAA-1AED-4BE9-BE92-4AA76995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0DD4-1756-46D4-B799-44DCE123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52F7-9373-40F4-8C94-F6BB1BC9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58E4-2CE5-49E8-94FA-AB82ABE8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D041-749F-49A5-B8F8-1C748F7D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FBF-C9BA-4E10-9017-82678857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54C-1616-4496-A915-F8F13EEB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8594-CE34-40F4-9BCA-9923955FEF7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333360"/>
            <a:ext cx="8501040" cy="352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Produção de Texto e</a:t>
            </a:r>
            <a:br>
              <a:rPr sz="7200"/>
            </a:b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Formação de Leitores</a:t>
            </a:r>
            <a:br>
              <a:rPr sz="6600"/>
            </a:br>
            <a:r>
              <a:rPr b="1" lang="pt-BR" sz="6600" spc="-1" strike="noStrike">
                <a:solidFill>
                  <a:srgbClr val="002060"/>
                </a:solidFill>
                <a:latin typeface="Calibri"/>
              </a:rPr>
              <a:t>Aula 0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André Carrieri\Desktop\AULA 1\torcida xv.jpg"/>
          <p:cNvPicPr/>
          <p:nvPr/>
        </p:nvPicPr>
        <p:blipFill>
          <a:blip r:embed="rId1"/>
          <a:stretch/>
        </p:blipFill>
        <p:spPr>
          <a:xfrm>
            <a:off x="395280" y="404640"/>
            <a:ext cx="83851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André Carrieri\Desktop\AULA 1\allianz_arena_bayern_munchen.jpeg"/>
          <p:cNvPicPr/>
          <p:nvPr/>
        </p:nvPicPr>
        <p:blipFill>
          <a:blip r:embed="rId1"/>
          <a:stretch/>
        </p:blipFill>
        <p:spPr>
          <a:xfrm>
            <a:off x="324000" y="306360"/>
            <a:ext cx="849600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André Carrieri\Desktop\AULA 1\2307amtvjovens.jpg"/>
          <p:cNvPicPr/>
          <p:nvPr/>
        </p:nvPicPr>
        <p:blipFill>
          <a:blip r:embed="rId1"/>
          <a:stretch/>
        </p:blipFill>
        <p:spPr>
          <a:xfrm>
            <a:off x="468360" y="549360"/>
            <a:ext cx="8177040" cy="46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André Carrieri\Desktop\AULA 1\stockholm_hot_dog-2.jpg"/>
          <p:cNvPicPr/>
          <p:nvPr/>
        </p:nvPicPr>
        <p:blipFill>
          <a:blip r:embed="rId1"/>
          <a:stretch/>
        </p:blipFill>
        <p:spPr>
          <a:xfrm>
            <a:off x="539640" y="404640"/>
            <a:ext cx="7764480" cy="58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35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Sábado de Feira Livre numa cidade do Brasi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C:\Users\André Carrieri\Desktop\AULA 1\images.jpg"/>
          <p:cNvPicPr/>
          <p:nvPr/>
        </p:nvPicPr>
        <p:blipFill>
          <a:blip r:embed="rId1"/>
          <a:stretch/>
        </p:blipFill>
        <p:spPr>
          <a:xfrm>
            <a:off x="684360" y="549360"/>
            <a:ext cx="78404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André Carrieri\Desktop\2CDC4E82D1FD4A4680892C79339D6869.jpg"/>
          <p:cNvPicPr/>
          <p:nvPr/>
        </p:nvPicPr>
        <p:blipFill>
          <a:blip r:embed="rId1"/>
          <a:stretch/>
        </p:blipFill>
        <p:spPr>
          <a:xfrm>
            <a:off x="468360" y="404640"/>
            <a:ext cx="81579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aldas_Praca_da_Fruta"/>
          <p:cNvPicPr/>
          <p:nvPr/>
        </p:nvPicPr>
        <p:blipFill>
          <a:blip r:embed="rId1"/>
          <a:stretch/>
        </p:blipFill>
        <p:spPr>
          <a:xfrm>
            <a:off x="539640" y="40464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André Carrieri\Desktop\AULA 1\images (1).jpg"/>
          <p:cNvPicPr/>
          <p:nvPr/>
        </p:nvPicPr>
        <p:blipFill>
          <a:blip r:embed="rId1"/>
          <a:stretch/>
        </p:blipFill>
        <p:spPr>
          <a:xfrm>
            <a:off x="468360" y="620640"/>
            <a:ext cx="80992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35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Almoço de Domingo</a:t>
            </a:r>
            <a:br>
              <a:rPr sz="7200"/>
            </a:b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com toda a Famíli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7120" y="333360"/>
            <a:ext cx="8501040" cy="352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600" spc="-1" strike="noStrike">
                <a:solidFill>
                  <a:srgbClr val="002060"/>
                </a:solidFill>
                <a:latin typeface="Calibri"/>
              </a:rPr>
              <a:t>O que é Comunicação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Users\André Carrieri\Desktop\AULA 1\mathias4.jpg"/>
          <p:cNvPicPr/>
          <p:nvPr/>
        </p:nvPicPr>
        <p:blipFill>
          <a:blip r:embed="rId1"/>
          <a:stretch/>
        </p:blipFill>
        <p:spPr>
          <a:xfrm>
            <a:off x="755640" y="404640"/>
            <a:ext cx="7585200" cy="568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:\COMUNICAÇÃO TEORIA TÉCNICAS\AULA 1\DSC06793.JPG"/>
          <p:cNvPicPr/>
          <p:nvPr/>
        </p:nvPicPr>
        <p:blipFill>
          <a:blip r:embed="rId1"/>
          <a:stretch/>
        </p:blipFill>
        <p:spPr>
          <a:xfrm>
            <a:off x="971640" y="549360"/>
            <a:ext cx="7462800" cy="55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André Carrieri\Desktop\AULA 1\scan0123b.jpg"/>
          <p:cNvPicPr/>
          <p:nvPr/>
        </p:nvPicPr>
        <p:blipFill>
          <a:blip r:embed="rId1"/>
          <a:stretch/>
        </p:blipFill>
        <p:spPr>
          <a:xfrm>
            <a:off x="755640" y="549360"/>
            <a:ext cx="8002440" cy="49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André Carrieri\Desktop\AULA 1\DSC_6207_Lasagna-Pron-4-460x260.jpg"/>
          <p:cNvPicPr/>
          <p:nvPr/>
        </p:nvPicPr>
        <p:blipFill>
          <a:blip r:embed="rId1"/>
          <a:stretch/>
        </p:blipFill>
        <p:spPr>
          <a:xfrm>
            <a:off x="611280" y="620640"/>
            <a:ext cx="80262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Atos de Comunicaçã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0438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pt-BR" sz="4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A comunicação não existe por si só, como algo separado da vida em socieda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A sociedade e a comunicação são uma coisa só. Não existe uma comunicação sem uma sociedade, nem uma sociedade sem uma comunicaçã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Atos de Comunicaçã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0438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A comunicação é o canal pelo qual os padrões da vida da sua cultura foram-lhe transmitidos. É através dela que você aprendeu a ser gente e ser “membro” da sua sociedade – da sua família, do seu grupo de amigos, da sua vizinhança e também da sua 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Atos de Comunicaçã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0438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Ninguém lhe ensinou como se organiza a sociedade e o que pensa e sente a sua cultura. Isso acontece indiretamente pela experiência acumulada de pequenos eventos em relação às pessoas que convivem e se comunicam com você: os atos de comunicaçã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Comunicaçã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85840" y="1428840"/>
            <a:ext cx="8424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Quando nos comunicamos com pessoas criamos laços de ideias e emoções. Portanto, a comunicação ocorre quando interagimos com outras pessoas utilizando linguag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Para nos comunicarmos, podemos utilizar várias linguagens: escrever, cantar, desenhar, dançar, se vestir, fazer ges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A linguagem é a representação do pensamento por meio de sinais, imagens ou palavra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216000" y="632520"/>
            <a:ext cx="8748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000066"/>
                </a:solidFill>
                <a:latin typeface="Verdana"/>
              </a:rPr>
              <a:t>Meios ambient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000066"/>
                </a:solidFill>
                <a:latin typeface="Verdana"/>
              </a:rPr>
              <a:t>comunicacionai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84360" y="2060640"/>
            <a:ext cx="7920000" cy="3592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O que é Comunicaçã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Meio Ambiente Comunic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Atos de Comunic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A Comunicação no Cotidi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2108160" y="692280"/>
            <a:ext cx="49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66"/>
                </a:solidFill>
                <a:latin typeface="Verdana"/>
              </a:rPr>
              <a:t>Temas Abord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57120" y="1785960"/>
            <a:ext cx="8429760" cy="2801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Clássico de futebol no Bras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Feira livre em São Pau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Almoço de domingo em famí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66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57120" y="642960"/>
            <a:ext cx="842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pt-BR" sz="4000" spc="-1" strike="noStrike">
                <a:solidFill>
                  <a:srgbClr val="000066"/>
                </a:solidFill>
                <a:latin typeface="Verdana"/>
              </a:rPr>
              <a:t>Meio Ambiente Comunica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35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600" spc="-1" strike="noStrike">
                <a:solidFill>
                  <a:srgbClr val="002060"/>
                </a:solidFill>
                <a:latin typeface="Calibri"/>
              </a:rPr>
              <a:t>Atos da Comunicação</a:t>
            </a:r>
            <a:br>
              <a:rPr sz="9600"/>
            </a:br>
            <a:r>
              <a:rPr b="1" lang="pt-BR" sz="3600" spc="-1" strike="noStrike">
                <a:solidFill>
                  <a:srgbClr val="002060"/>
                </a:solidFill>
                <a:latin typeface="Calibri"/>
              </a:rPr>
              <a:t>o meio ambiente social da comunic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914400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002060"/>
                </a:solidFill>
                <a:latin typeface="Calibri"/>
              </a:rPr>
              <a:t>Ambientes Sociais Estruturados de Comunicação</a:t>
            </a:r>
            <a:br>
              <a:rPr sz="9600"/>
            </a:br>
            <a:r>
              <a:rPr b="1" lang="pt-BR" sz="3600" spc="-1" strike="noStrike">
                <a:solidFill>
                  <a:srgbClr val="333399"/>
                </a:solidFill>
                <a:latin typeface="Calibri"/>
              </a:rPr>
              <a:t>palavras-chave:</a:t>
            </a:r>
            <a:br>
              <a:rPr sz="3600"/>
            </a:br>
            <a:r>
              <a:rPr b="1" lang="pt-BR" sz="3600" spc="-1" strike="noStrike">
                <a:solidFill>
                  <a:srgbClr val="333399"/>
                </a:solidFill>
                <a:latin typeface="Calibri"/>
              </a:rPr>
              <a:t>intencionalidade, função social, constru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35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Noite de Jogo Decisivo</a:t>
            </a:r>
            <a:br>
              <a:rPr sz="7200"/>
            </a:b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com Estádio Lotad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9:13:56Z</dcterms:created>
  <dc:creator>Admin</dc:creator>
  <dc:description/>
  <dc:language>en-US</dc:language>
  <cp:lastModifiedBy>André Carrieri</cp:lastModifiedBy>
  <dcterms:modified xsi:type="dcterms:W3CDTF">2014-03-21T18:24:32Z</dcterms:modified>
  <cp:revision>98</cp:revision>
  <dc:subject/>
  <dc:title>COMUNICAÇÃO: um eterno aprendizado</dc:title>
</cp:coreProperties>
</file>