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174-E80F-48F3-86C2-90131837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A06-2057-4E44-9008-399D517F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F6B-491B-4D21-B6D4-19AF812B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C46-7858-4DD6-92B6-ACB18C31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F0B-3433-48DA-8B04-74106574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3AC-BA9C-470E-9BA7-2EFF9937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B3E-6038-4941-94F1-FF3C72B7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F0B-DFFC-4601-971F-B8FEE21C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713-290B-4279-9A07-DCAA71CA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88A-CA27-4D3F-B3C7-93A0D9EA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CFE-6716-43E4-89BF-7570C86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D0D-19E9-4547-A257-9578B2CF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A932-E0DC-4823-B00A-F7698E903A2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Produção de Texto e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Formação de Leitores</a:t>
            </a:r>
            <a:br>
              <a:rPr sz="6600"/>
            </a:br>
            <a:r>
              <a:rPr b="1" lang="pt-BR" sz="6600" spc="-1" strike="noStrike">
                <a:solidFill>
                  <a:srgbClr val="002060"/>
                </a:solidFill>
                <a:latin typeface="Calibri"/>
              </a:rPr>
              <a:t>Aula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ndré Carrieri\Desktop\AULA 1\torcida xv.jpg"/>
          <p:cNvPicPr/>
          <p:nvPr/>
        </p:nvPicPr>
        <p:blipFill>
          <a:blip r:embed="rId1"/>
          <a:stretch/>
        </p:blipFill>
        <p:spPr>
          <a:xfrm>
            <a:off x="395280" y="404640"/>
            <a:ext cx="83851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André Carrieri\Desktop\AULA 1\allianz_arena_bayern_munchen.jpeg"/>
          <p:cNvPicPr/>
          <p:nvPr/>
        </p:nvPicPr>
        <p:blipFill>
          <a:blip r:embed="rId1"/>
          <a:stretch/>
        </p:blipFill>
        <p:spPr>
          <a:xfrm>
            <a:off x="324000" y="306360"/>
            <a:ext cx="849600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André Carrieri\Desktop\AULA 1\2307amtvjovens.jpg"/>
          <p:cNvPicPr/>
          <p:nvPr/>
        </p:nvPicPr>
        <p:blipFill>
          <a:blip r:embed="rId1"/>
          <a:stretch/>
        </p:blipFill>
        <p:spPr>
          <a:xfrm>
            <a:off x="468360" y="549360"/>
            <a:ext cx="817704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André Carrieri\Desktop\AULA 1\stockholm_hot_dog-2.jpg"/>
          <p:cNvPicPr/>
          <p:nvPr/>
        </p:nvPicPr>
        <p:blipFill>
          <a:blip r:embed="rId1"/>
          <a:stretch/>
        </p:blipFill>
        <p:spPr>
          <a:xfrm>
            <a:off x="539640" y="404640"/>
            <a:ext cx="776448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Sábado de Feira Livre numa cidade do Bras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ndré Carrieri\Desktop\AULA 1\images.jpg"/>
          <p:cNvPicPr/>
          <p:nvPr/>
        </p:nvPicPr>
        <p:blipFill>
          <a:blip r:embed="rId1"/>
          <a:stretch/>
        </p:blipFill>
        <p:spPr>
          <a:xfrm>
            <a:off x="684360" y="549360"/>
            <a:ext cx="7840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ndré Carrieri\Desktop\2CDC4E82D1FD4A4680892C79339D6869.jpg"/>
          <p:cNvPicPr/>
          <p:nvPr/>
        </p:nvPicPr>
        <p:blipFill>
          <a:blip r:embed="rId1"/>
          <a:stretch/>
        </p:blipFill>
        <p:spPr>
          <a:xfrm>
            <a:off x="468360" y="404640"/>
            <a:ext cx="81579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ldas_Praca_da_Fruta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André Carrieri\Desktop\AULA 1\images (1).jpg"/>
          <p:cNvPicPr/>
          <p:nvPr/>
        </p:nvPicPr>
        <p:blipFill>
          <a:blip r:embed="rId1"/>
          <a:stretch/>
        </p:blipFill>
        <p:spPr>
          <a:xfrm>
            <a:off x="468360" y="620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lmoço de Doming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toda a Famíl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O que é Comunicação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ndré Carrieri\Desktop\AULA 1\mathias4.jpg"/>
          <p:cNvPicPr/>
          <p:nvPr/>
        </p:nvPicPr>
        <p:blipFill>
          <a:blip r:embed="rId1"/>
          <a:stretch/>
        </p:blipFill>
        <p:spPr>
          <a:xfrm>
            <a:off x="755640" y="404640"/>
            <a:ext cx="758520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COMUNICAÇÃO TEORIA TÉCNICAS\AULA 1\DSC06793.JPG"/>
          <p:cNvPicPr/>
          <p:nvPr/>
        </p:nvPicPr>
        <p:blipFill>
          <a:blip r:embed="rId1"/>
          <a:stretch/>
        </p:blipFill>
        <p:spPr>
          <a:xfrm>
            <a:off x="971640" y="549360"/>
            <a:ext cx="7462800" cy="55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André Carrieri\Desktop\AULA 1\scan0123b.jpg"/>
          <p:cNvPicPr/>
          <p:nvPr/>
        </p:nvPicPr>
        <p:blipFill>
          <a:blip r:embed="rId1"/>
          <a:stretch/>
        </p:blipFill>
        <p:spPr>
          <a:xfrm>
            <a:off x="755640" y="549360"/>
            <a:ext cx="800244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André Carrieri\Desktop\AULA 1\DSC_6207_Lasagna-Pron-4-460x260.jpg"/>
          <p:cNvPicPr/>
          <p:nvPr/>
        </p:nvPicPr>
        <p:blipFill>
          <a:blip r:embed="rId1"/>
          <a:stretch/>
        </p:blipFill>
        <p:spPr>
          <a:xfrm>
            <a:off x="611280" y="620640"/>
            <a:ext cx="80262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pt-BR" sz="4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não existe por si só, como algo separado da vida em socied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sociedade e a comunicação são uma coisa só. Não existe uma comunicação sem uma sociedade, nem uma sociedade sem uma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é o canal pelo qual os padrões da vida da sua cultura foram-lhe transmitidos. É através dela que você aprendeu a ser gente e ser “membro” da sua sociedade – da sua família, do seu grupo de amigos, da sua vizinhança e também da su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Ninguém lhe ensinou como se organiza a sociedade e o que pensa e sente a sua cultura. Isso acontece indiretamente pela experiência acumulada de pequenos eventos em relação às pessoas que convivem e se comunicam com você: os atos de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5840" y="142884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Quando nos comunicamos com pessoas criamos laços de ideias e emoções. Portanto, a comunicação ocorre quando interagimos com outras pessoas utilizando lingu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Para nos comunicarmos, podemos utilizar várias linguagens: escrever, cantar, desenhar, dançar, se vestir, fazer ges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A linguagem é a representação do pensamento por meio de sinais, imagens ou palavr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16000" y="632520"/>
            <a:ext cx="87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Meios ambien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comunicaciona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4360" y="2060640"/>
            <a:ext cx="7920000" cy="3592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O que é Comunicaçã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tos de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 Comunicação no Cotid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108160" y="692280"/>
            <a:ext cx="49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Temas Abo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1785960"/>
            <a:ext cx="8429760" cy="2801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Clássico de futebol no Bra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Feira livre em São Pa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lmoço de domingo em famí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66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7120" y="64296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40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Atos da Comunicação</a:t>
            </a:r>
            <a:br>
              <a:rPr sz="9600"/>
            </a:br>
            <a:r>
              <a:rPr b="1" lang="pt-BR" sz="3600" spc="-1" strike="noStrike">
                <a:solidFill>
                  <a:srgbClr val="002060"/>
                </a:solidFill>
                <a:latin typeface="Calibri"/>
              </a:rPr>
              <a:t>o meio ambiente social da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2060"/>
                </a:solidFill>
                <a:latin typeface="Calibri"/>
              </a:rPr>
              <a:t>Ambientes Sociais Estruturados de Comunicação</a:t>
            </a:r>
            <a:br>
              <a:rPr sz="9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palavras-chave:</a:t>
            </a:r>
            <a:br>
              <a:rPr sz="3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intencionalidade, função social, constr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Noite de Jogo Decisiv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Estádio Lota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9:13:56Z</dcterms:created>
  <dc:creator>Admin</dc:creator>
  <dc:description/>
  <dc:language>en-US</dc:language>
  <cp:lastModifiedBy>André Carrieri</cp:lastModifiedBy>
  <dcterms:modified xsi:type="dcterms:W3CDTF">2014-03-21T18:24:32Z</dcterms:modified>
  <cp:revision>98</cp:revision>
  <dc:subject/>
  <dc:title>COMUNICAÇÃO: um eterno aprendizado</dc:title>
</cp:coreProperties>
</file>