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0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FF59-02F3-4716-8FD1-59F7BA7C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800" y="235548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364F-95FD-4376-B52A-233E237F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F7C0-E96E-4A52-8EF4-280108B2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48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352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980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48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352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C5BD-36F9-46E8-A4AB-6499CCA9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98A7-E880-4CA6-B6E4-81829561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9800" y="1842840"/>
            <a:ext cx="82123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8F24-1DED-4804-8A53-3EC5E334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82123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6A52-E89B-4F9B-8A53-B17E59E9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9815-0F70-45A5-A693-E18226B3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3BEF-0E62-429F-A5F8-EEFA99C0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07280" cy="50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13A1-901F-4BBF-B394-17B4337F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AB83-4B75-48DA-808D-CC281E67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9800" y="1842840"/>
            <a:ext cx="82123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E661-1727-404A-897D-4B959401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2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96DD-5A3E-4DC4-9483-86BB5E9A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364E-6B70-4FF2-A205-325B095A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800" y="235548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2346-107C-473A-A61E-ECE05CB8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2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82EE-7100-455A-8D3A-07E60A2C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648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352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80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648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352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D190-97AF-40EE-948F-EB65D1DF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16599-2312-4AE3-9852-F1A25E16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9800" y="1842840"/>
            <a:ext cx="82123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A5237-3618-4CD1-9346-BB8FDAD0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82123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1AA07-33E4-40DA-8A46-F398A107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4411F-0EF4-468D-B1B3-FEF7BCB8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393A7-313B-40CE-8C16-7B5C009E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82123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C4EE-12ED-4D65-A342-6065D347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07280" cy="50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67860-BE3E-45A8-A85B-547BF2C1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8CC42-2032-43A7-8D06-BC4EBA93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82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F19CE-6C26-4258-AC4A-BDFB4D26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B811B-5F7E-49F7-8D1A-C60979D5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800" y="235548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FC74C-BB95-4EF1-B325-A0646AF2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82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EC2D0-5044-493E-B8DB-4B72CE9E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4648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352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980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4648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352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5E482-8509-4DE4-AE71-1D835C72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6A290-6086-41D9-A442-FD454CB0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69800" y="1842840"/>
            <a:ext cx="82123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DBC7B-62EB-4E93-B62D-4F26E839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82123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4756A-4CB1-4CA7-9625-0EC702B5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BEAE-3D24-4860-A645-0E9C9716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E4605-3709-42CF-B00D-570FFC94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78364-0426-49EE-8020-53D34D21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07280" cy="50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9ECF6-E503-4BEA-8E4B-F11F5ABC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2EA86-F9AB-4120-B98A-4E657A7C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82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D849C-38CA-4BD4-AED0-1D985992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DE453-8E60-4FDD-9705-AD96272D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9800" y="235548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4ADCC-342F-42DB-9324-137661E0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82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B3C33-4400-48A1-8796-007FCE5A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4648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352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980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4648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352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8890F-770B-4549-9B73-A6E9905B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A76E2-4BC0-4C47-8C84-7EAC3751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9215-8383-4EF3-AFD2-8DD8D97A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9800" y="1842840"/>
            <a:ext cx="82123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62DDA-844A-4D38-A372-778235B1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82123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4F2FC-E18C-4FB2-8E05-A1589DAF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4B6EE-CFD4-4552-9568-B086A9F2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A592A-273E-4986-B941-FC220E1A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07280" cy="50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4707A-4874-49D4-9335-7518BC38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4B1BD-C015-47F2-9AAD-CF45211D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82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7A2A2-B76E-44BE-82B2-6FD69FD7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CDD02-BCDC-47CB-8573-59458D65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800" y="235548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39E73-0C13-42BE-8268-A134549E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82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8884B-61D5-4968-B324-23A1F571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07280" cy="50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B4F2-5CDD-4831-A433-C44876E0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4648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352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980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4648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352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C0AD1-4E2C-4169-84EA-1983135F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228EA-82E7-423A-890C-55842C40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69800" y="1842840"/>
            <a:ext cx="82123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7F832-DE26-4F7A-AACD-F82CAF19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82123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381B5-E2BF-41E7-AD7B-47AEF79A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64140-60B8-44DA-B341-E1544F25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7C963-9139-4514-873B-0B62DA33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07280" cy="50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300D4-D86A-4D5B-9F05-B5957AE1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97816-E11B-4E39-AE56-8BD24DB1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82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167C5-5121-4B60-AE28-374FDBAE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2AD8F-775D-4476-B982-12B9C92F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F05D-DF9B-4FED-A574-6ADD817C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9800" y="235548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F93D3-E404-4D9F-B310-0D231FE2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82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5FF28-3D61-4697-B7E3-EA0DED80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4648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3520" y="184284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980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4648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3520" y="2355480"/>
            <a:ext cx="264420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EC31D-6980-4174-A24E-175F0D38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235548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282C-C7EF-4BC6-941F-29278CC0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98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842840"/>
            <a:ext cx="40075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9800" y="2355480"/>
            <a:ext cx="8212320" cy="4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A487-43E5-4AA8-A0F1-4A17F453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2700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C1C3-F5B7-44ED-87CF-D1EF14FC6C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3640" y="2206440"/>
            <a:ext cx="6334200" cy="13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B285-F7E9-4C1D-A938-E21E1FB47B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6C75-4A27-4290-9603-A51C3786D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1" descr=""/>
          <p:cNvPicPr/>
          <p:nvPr/>
        </p:nvPicPr>
        <p:blipFill>
          <a:blip r:embed="rId2"/>
          <a:srcRect l="0" t="0" r="117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2970000"/>
            <a:ext cx="690876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960D-7176-42F9-B117-4771FE41A7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0577-2F69-4067-BFDC-ACC3F6C5A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2"/>
          <a:srcRect l="0" t="0" r="0" b="3794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DFDF-AAFA-4EDE-AC5E-473BC7F7F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Impact"/>
              </a:rPr>
              <a:t>Advantages and Disadvantages of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4000" y="5589720"/>
            <a:ext cx="7777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 Medical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2205000"/>
            <a:ext cx="2951280" cy="295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421080" y="2708280"/>
            <a:ext cx="2389320" cy="20890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635280" y="44280"/>
            <a:ext cx="53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shyan Hadian Aziz/11031302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oup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able of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fficient data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nline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ragile electronic hardwares and softw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ecuri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90080"/>
            <a:ext cx="8435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99"/>
                </a:solidFill>
                <a:latin typeface="Impact"/>
                <a:ea typeface="MS PGothic"/>
              </a:rPr>
              <a:t>Advant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Data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atient's medica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12720" y="2565360"/>
            <a:ext cx="3240000" cy="3241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068720" y="3860640"/>
            <a:ext cx="1368360" cy="790560"/>
          </a:xfrm>
          <a:prstGeom prst="rightArrow">
            <a:avLst>
              <a:gd name="adj1" fmla="val 50000"/>
              <a:gd name="adj2" fmla="val 432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5580000" y="2852640"/>
            <a:ext cx="3097440" cy="295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diagnosis, appointmen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12720" y="3068640"/>
            <a:ext cx="3768840" cy="2808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219640" y="2781360"/>
            <a:ext cx="3168720" cy="32511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57200" y="190440"/>
            <a:ext cx="84358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99"/>
                </a:solidFill>
                <a:latin typeface="Impact"/>
                <a:ea typeface="MS PGothic"/>
              </a:rPr>
              <a:t>Advant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ile computer hardwares and softw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up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ware and computer vir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96720" y="3790800"/>
            <a:ext cx="2519640" cy="22672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2482920" cy="1224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6300720" y="3933720"/>
            <a:ext cx="2378160" cy="20941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57200" y="190440"/>
            <a:ext cx="84358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Impact"/>
                <a:ea typeface="MS PGothic"/>
              </a:rPr>
              <a:t>Disadvant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9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th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3851280" cy="23767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572000" y="2852640"/>
            <a:ext cx="4048200" cy="26877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57200" y="190440"/>
            <a:ext cx="84358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Impact"/>
                <a:ea typeface="MS PGothic"/>
              </a:rPr>
              <a:t>Disadvant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brought many </a:t>
            </a:r>
            <a:r>
              <a:rPr b="0" i="1" lang="en-US" sz="3200" spc="-1" strike="noStrike" u="sng">
                <a:solidFill>
                  <a:srgbClr val="00cc99"/>
                </a:solidFill>
                <a:uFillTx/>
                <a:latin typeface="Calibri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the medical f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disadvantages ar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vulnerabilities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proper measure, the risk of vulnerabilities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Calibri"/>
              </a:rPr>
              <a:t>can be reduc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190440"/>
            <a:ext cx="84358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Impact"/>
                <a:ea typeface="MS PGothic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96720" y="141444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77777"/>
                </a:solidFill>
                <a:latin typeface="Arial"/>
                <a:ea typeface="Microsoft YaHei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61280" y="6102360"/>
            <a:ext cx="126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91280" y="6172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9:25:44Z</dcterms:created>
  <dc:creator/>
  <dc:description/>
  <dc:language>en-US</dc:language>
  <cp:lastModifiedBy/>
  <cp:lastPrinted>1899-12-30T00:00:00Z</cp:lastPrinted>
  <dcterms:modified xsi:type="dcterms:W3CDTF">2014-05-08T00:53:0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85</vt:lpwstr>
  </property>
</Properties>
</file>