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F93-FF29-43F0-83BA-DAA09A7E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2A5-17CA-4953-8E07-62DD8D05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EAB-3447-4F8C-9BCF-D6C2B195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5DB-199A-4016-BABB-ADC4805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6CD6-C5DD-4837-AD5C-0689968E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451-BAB3-49BF-8253-D86B1BB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EF3-4739-43D1-8B5B-0CAE1F6C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CDAA-C2A5-4249-89E3-0679FF8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7A85-3DFB-40C0-9A85-6DFA06F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066E-F453-48DC-B24D-A1D1406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4E7-361A-4FC2-98D7-16C2720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868-EA22-49D0-B52F-D725BD7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198-FB3B-4FEC-9C13-DDF91BA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FC9-C282-4710-BA47-5C9A90B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6054-4332-41F3-98E8-E4DE421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2B9A-A0FC-4327-AB3A-DDA09EB9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E6F0-AB38-4B7E-B3DD-2E82D102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B4FC-DF60-43CA-9308-0D04DBD2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3743-E64F-4C48-ADF2-95D1CB5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C0DA-926C-423F-8D3A-D7DF7B22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E015-5C0F-4533-A2EB-705BBD0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FF81-F60B-43B0-94D7-71F4126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C73-9BE0-4859-9A49-8953437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A0B6-0005-4B85-AECC-14D7014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5F2C-4BE5-47D3-B9D9-BCEF44A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096E-F48A-48EA-9857-F341106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9CD7-6788-4E16-AA5F-C5FE0D4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A373-77EA-48C2-9804-95A9E7E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4FB2-288E-4C58-A824-9159359B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B38D-B71F-488C-BF0E-80FC5E37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4F4B-2D72-4110-80AA-5220F060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3FF7-48A9-4EFC-AD7C-8F1DCE7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8A12-3FD6-43F3-A1C6-82711D3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AB6-8FB3-4ED4-B8F4-F03594E4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93AD-110C-4641-A901-4AD47A6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B7BF-586E-4ED1-AA37-21453520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55D6-B097-40AC-8AB7-13635276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F7E3-C0CC-47BC-A0C2-3918807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CF31-F3AD-49E5-BEC0-AB5CEAD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2F6A-983E-4379-A4D3-713F4B0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57DF-F000-452C-BB1F-B5AF269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F99D-3B57-4A92-AD89-7CF441F9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6D6B-FB50-4515-82DC-32CCB3C7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F026-F138-4F5A-A0CB-6D0807E0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A3D-7B57-4B77-B3FA-C86BF92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3D12-96AD-4ED2-8F51-C0F2B252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8C9C-D05F-4EAB-ACE7-4F3B0A4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3C8E-2A6C-4C8A-B6A8-BEC1ABE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FB7A-CF98-43BD-B364-142DC5B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A0FB-913C-412E-BECE-C7CB993C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26DF-1D4B-4D9B-BC01-3AA80CC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934D-12B1-459B-8C71-D7CA5A1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B4FA-DFAA-4EB6-91A6-04E61DA9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BF2C-0A80-46CA-B882-44128332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30B5-AD37-4CD2-AB41-CD219249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650-4271-4DB7-BFBF-9502F1E7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5486-2344-4484-926C-BC9AE2C7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D3A8-965D-4BDF-B8C9-E25E6465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BDBE-0B7B-4C24-B42B-ACA0C734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47DE-70B3-474A-93E1-862B0A9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E64D-4855-476B-A015-6211AA9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9741-AE64-47F8-B214-2BF4F79B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2A47-2F20-4904-B5B8-7BFE0F82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5F90-FC8F-4AA8-B348-CD84CFC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87BB-2EF2-4F5B-B106-8F47258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A437-D9A7-4629-A1A0-FACA082F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466-2C79-4000-A7DB-6128885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449E-1EE7-40EA-A62E-6A5C3E6F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D970-25C2-4FCF-82F3-8AEB4403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365E-CA75-4B57-B980-FE3682D5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6E5-A9C3-499D-84C5-9435FDA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807-0722-4FA3-84CA-DC347D1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700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9A9-73D9-4860-9A73-72ECED5FF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2206440"/>
            <a:ext cx="63342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A0CF-AEE8-4BBA-A1BC-B7BB509FA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9CC-305D-4C8B-9D2E-49DCA672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"/>
          <p:cNvPicPr/>
          <p:nvPr/>
        </p:nvPicPr>
        <p:blipFill>
          <a:blip r:embed="rId2"/>
          <a:srcRect l="0" t="0" r="11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970000"/>
            <a:ext cx="69087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739-D4BE-48E2-A926-F1FA8FAFE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DFE-C395-469F-BDCF-17A06645E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B4B-BE41-49C4-8BBA-4CF5B21A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Impact"/>
              </a:rPr>
              <a:t>Advantages and Disadvantages of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000" y="5589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Medical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2205000"/>
            <a:ext cx="2951280" cy="295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21080" y="2708280"/>
            <a:ext cx="2389320" cy="2089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635280" y="44280"/>
            <a:ext cx="53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shyan Hadian Aziz/1103130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fficient 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agile electronic hardwares and softw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ur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435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Impact"/>
                <a:ea typeface="MS PGothic"/>
              </a:rPr>
              <a:t>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Data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atient's medica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2720" y="256536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068720" y="3860640"/>
            <a:ext cx="1368360" cy="790560"/>
          </a:xfrm>
          <a:prstGeom prst="rightArrow">
            <a:avLst>
              <a:gd name="adj1" fmla="val 50000"/>
              <a:gd name="adj2" fmla="val 43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09744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diagnosis, appoint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2720" y="3068640"/>
            <a:ext cx="3768840" cy="2808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168720" cy="3251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Impact"/>
                <a:ea typeface="MS PGothic"/>
              </a:rPr>
              <a:t>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computer hardwares and softw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ware and computer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96720" y="3790800"/>
            <a:ext cx="2519640" cy="226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82920" cy="1224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2378160" cy="2094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  <a:ea typeface="MS PGothic"/>
              </a:rPr>
              <a:t>Dis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51280" cy="2376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72000" y="2852640"/>
            <a:ext cx="4048200" cy="2687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  <a:ea typeface="MS PGothic"/>
              </a:rPr>
              <a:t>Dis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rought many </a:t>
            </a:r>
            <a:r>
              <a:rPr b="0" i="1" lang="en-US" sz="3200" spc="-1" strike="noStrike" u="sng">
                <a:solidFill>
                  <a:srgbClr val="00cc99"/>
                </a:solidFill>
                <a:uFillTx/>
                <a:latin typeface="Calibri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medical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disadvantages a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vulnerabilitie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roper measure, the risk of vulnerabilities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alibri"/>
              </a:rPr>
              <a:t>can be redu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Impact"/>
                <a:ea typeface="MS PGothic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720" y="141444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77777"/>
                </a:solidFill>
                <a:latin typeface="Arial"/>
                <a:ea typeface="Microsoft YaHei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91280" y="6172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5:44Z</dcterms:created>
  <dc:creator/>
  <dc:description/>
  <dc:language>en-US</dc:language>
  <cp:lastModifiedBy/>
  <cp:lastPrinted>1899-12-30T00:00:00Z</cp:lastPrinted>
  <dcterms:modified xsi:type="dcterms:W3CDTF">2014-05-08T00:53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