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0380-B797-4C41-BC74-0B4EE07E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B8B6-AA3E-43F1-8EDF-A1387BF3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13A9-49A5-494B-8B7C-9E7B7EF7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2FCD-16E4-4CAD-9BD7-F2DBED9F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475C-57CA-4D6E-9C2C-FC8662D6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6144-0EED-45B3-AE63-D2A4C38F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D4A8-90DA-402A-9D77-B6079471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DC57-DC10-4A78-9D68-E215D292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769B-E92E-48A7-ADF6-493DA9D7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5444-0CE9-47E3-ABC3-ED79606F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9C26-96DB-49A3-8B5B-3D3E7353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749C-9181-4373-9148-E72E24BB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AF7E-75B9-4267-A30B-5F9F464C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8797-9A5C-41DB-8E72-E5C08A4F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4634-1B30-4FC7-B33E-7667FB1E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133C-ACBE-4D03-8FE6-BBF40AB6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C7B0-A847-4CBC-A009-D54FC08D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14B0-3A31-43B2-ADB0-75DD52C8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26F-2766-4684-9D57-D90539F7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3953-4A24-4518-8D5B-BD9F0DD0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7F61-7F6D-443A-85F3-E294AB7F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7B8C-FA96-4E1A-9070-17C6015D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6FA4-83BB-4224-9886-DD1D74C7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7504-68A1-4239-9FEB-73533E37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C999-5227-46E5-AFF5-A70256EC4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072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8D6F-455E-4980-A507-89A3EB617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072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y we should host DayZ Overwat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69800" y="2422080"/>
            <a:ext cx="8212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y Nick (Epic Dragon), Plexcon, and Zeb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onator benef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either offer Starter Loadouts (spawning with Snipers, silenced pisto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es (a place where only a certain player can enter) you can make this a monthly pa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sts of hosting this ser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have done the research, lots of people say Vilayer is the way to go. But for this purpose I will present other o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ww.vilayer.com/gameinfo/dayz-packag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ww.hfbservers.com/da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s://dayz.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blems we will encou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ckers - as you may know ArmA 2 is a favorite for skiddies. Most hackers would not be able to get past our custom anti-cheat but some may be able to use Engine cheats. Also Battleye has gotten a LOT better rec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etitive DDoSing - Other servers (top servers) will possibly try and take us down unless we build bridges with other communities. I am well known in  the ArmA community (as a whole) so I have contacts to help us establish these brid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fits (Don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yZ and all ArmA 2 servers generate tons of income. Donator benefits and ranks can be built to a custom extent (personal requests) and should be very g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932360" y="981000"/>
            <a:ext cx="21146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1T19:51:52Z</dcterms:created>
  <dc:creator>Snodgrass</dc:creator>
  <dc:description/>
  <dc:language>en-US</dc:language>
  <cp:lastModifiedBy/>
  <dcterms:modified xsi:type="dcterms:W3CDTF">2014-05-11T20:13:3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46</vt:lpwstr>
  </property>
</Properties>
</file>