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5DF8-79BD-4EEE-9346-7A785351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580E-3E59-465D-A3B7-3505B0FD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1891-E8DF-4676-B304-97CB78EE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1858-528A-4CBB-8898-E82981E4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BA21-F66F-4DB4-970E-E2C61743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E01F-BE30-4DB3-A364-E8D66275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5FB4-F025-4190-9C2E-C3C544AF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3A0C-29C4-453E-A2C1-2E012189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849F-6830-401D-B4B4-583B67DF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9008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6051-F28F-437E-9EDD-BFAEED3E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75F5-B187-49A2-9AE2-22F99021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A0BE-45A3-4C97-BC70-9C674A90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E1A0-76F7-4C1E-BDF2-D8C7C9D4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0A10-0F88-45B9-922D-A4586FCF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9A72-069C-41B5-87DD-366F39C5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06F1-6756-401E-B31E-3064226D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9DF8-5B4C-490A-BBC6-08C7DB90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0E82-D0C9-4915-82EC-1BA79F17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0063-8599-42F8-A91B-4468B473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DA1F-72F4-4124-9863-E280A7E5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9008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D7EC-930A-491A-B59F-6404718D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ACA1-7DDF-4166-8F4C-BB9F5434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60A2-0ED2-4F18-B446-076B8EF0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0A53-5E92-4B06-8327-3290378C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6C21-7A8B-4A7E-A939-AFA5D9231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072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A652-9DCB-4674-830D-2072B5183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072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hy we should host DayZ Overwat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69800" y="2422080"/>
            <a:ext cx="8212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y Nick (Epic Dragon), Plexcon, and Zeb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onator benef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either offer Starter Loadouts (spawning with Snipers, silenced pisto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es (a place where only a certain player can enter) you can make this a monthly pa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sts of hosting this ser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have done the research, lots of people say Vilayer is the way to go. But for this purpose I will present other o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ww.vilayer.com/gameinfo/dayz-packag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ww.hfbservers.com/da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s://dayz.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blems we will encou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ckers - as you may know ArmA 2 is a favorite for skiddies. Most hackers would not be able to get past our custom anti-cheat but some may be able to use Engine cheats. Also Battleye has gotten a LOT better rec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etitive DDoSing - Other servers (top servers) will possibly try and take us down unless we build bridges with other communities. I am well known in  the ArmA community (as a whole) so I have contacts to help us establish these brid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fits (Don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yZ and all ArmA 2 servers generate tons of income. Donator benefits and ranks can be built to a custom extent (personal requests) and should be very g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932360" y="981000"/>
            <a:ext cx="21146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1T19:51:52Z</dcterms:created>
  <dc:creator>Snodgrass</dc:creator>
  <dc:description/>
  <dc:language>en-US</dc:language>
  <cp:lastModifiedBy/>
  <dcterms:modified xsi:type="dcterms:W3CDTF">2014-05-11T20:13:3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46</vt:lpwstr>
  </property>
</Properties>
</file>