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07710-605A-4014-97E2-14D37B173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5050-CACB-4497-A8C1-D89F42D0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A71CB-0FFB-4838-8F14-8942151E7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8366D-055F-4EE6-B52C-18569C3B6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DC838-754B-4C4E-821A-3E26B1447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60508-2476-408D-8E18-B90F82E14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E3994-2AF6-4E4E-BE7E-1FF0DB5AF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D093E-2BCD-4795-A2A3-B0BAEBDB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F27C5-BD2D-4D6E-8E3C-68B3A755A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62D9B-FC37-4991-AF52-B0C8884D7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49B1-2106-4A0F-8F1B-9DBF2232A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EF43-7F82-44C1-81DD-E93810E5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2C16F-AEDB-4C54-A80E-B430FF7E3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290AA-0926-4700-BEFB-07D96B6D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49A1D-BF11-4BD9-A8D9-2DD9B7104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E2B9C-0A5A-45F7-BCED-4FB5056FF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39ED0-BBB7-44FA-83F9-64CFAAB12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146E-EACD-4CEC-8529-5C72E52E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946E-1D7C-4623-BF3F-179279C25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2A2DE-E857-4115-A333-4039C961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8389-FCC1-42F4-9985-A5247BC4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E1BD-0C0E-4DA2-947F-9F23F089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EC63-ED3A-47BA-9FCC-4AE2CD75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5ECD-8E05-4526-B686-BC79D0C4F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C093-C1C8-401A-ADC2-9FC0D694F5C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68AE-8555-4C4D-AAC3-FBB6EE033F3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CONTAMINANTES ORGANICOS PERSISTENTES (</a:t>
            </a:r>
            <a:r>
              <a:rPr b="0" lang="es-ES" sz="4800" spc="-1" strike="noStrike">
                <a:solidFill>
                  <a:srgbClr val="ccecff"/>
                </a:solidFill>
                <a:latin typeface="Arial"/>
              </a:rPr>
              <a:t>COPS </a:t>
            </a:r>
            <a:r>
              <a:rPr b="0" lang="es-CL" sz="4800" spc="-1" strike="noStrike">
                <a:solidFill>
                  <a:srgbClr val="ccecff"/>
                </a:solidFill>
                <a:latin typeface="Arial"/>
              </a:rPr>
              <a:t>)</a:t>
            </a:r>
            <a:endParaRPr b="0" lang="en-US" sz="4800" spc="-1" strike="noStrike">
              <a:solidFill>
                <a:srgbClr val="cce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ffffff"/>
                </a:solidFill>
                <a:latin typeface="Arial"/>
              </a:rPr>
              <a:t>COMPUEST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Plaguicidas organoclorado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DT,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drí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eldri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endrí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lordano, heptacloro, toxafeno y mirex</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Productos industri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Los policlorobifenilos (PCB, usados como aceites de transmisión eléctr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hexaclorobenceno (HCB) que también es plaguic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aminantes no deseados resultado del uso industrial de productos clorado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xinas y furan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Daños:</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minan los alimentos especialmente los productos lácteos y la carne.</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an al feto a través de la placenta y se excretan en la leche materna; amenazando el derecho de las mujeres de proteger su salud reproductiva y la salud de las futuras generaciones .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n efectos crónicos como el cáncer y malformaciones en animales y seres human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minan el suelo, atmósfera, agua, flora y fauna silvestre. </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En los animales los COPs producen:</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minuye la reproducción y por lo tanto, del tamaño de la pobla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amiento anormal de la tiroides y otros desarreglos del sistema hormona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zación de los machos y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culinización de las hembr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malías del comportamient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áncer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formaciones congénitas.</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En humanos los COPs pueden producir:</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áncer y tumores en múltiples sitio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sarreglos neuro-conductuales incluyendo problemas de aprendizaj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ducción del rendimient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ambios en el temperame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ambios en el sistema inmunológico y neurológi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s reproductivos y desórdenes ligados al sex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ríodo de lactancia en las mad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fermedades como la endometrios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umento de la incidencia de la diabete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l 4 al 9 de diciembre de 2000 tuvo lugar en Johannesburgo, Sudáfrica, la 5ª reunión del Comité Intergubernamental Negociador sobre Contaminantes Orgánicos Persistentes(CO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or un futuro sin Contaminantes Orgánicos Persistent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Qué son?</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Contaminantes Orgánicos Persistentes, son sustancias químicas tóxicas, persistentes y bio acumulables en los organismos, causando efectos diversos en la salud humana y en el ambiente.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misiones actuales causarán cáncer y alteraciones hormonales en los próximos 1.000 añ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inco Propiedades que hacen que los COP sean muy peligros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amina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Organ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sist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n solubles en grasas y por consiguiente se acumulan en los tejidos viv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ueden viajar grandes distancias </a:t>
            </a:r>
            <a:endParaRPr b="0" lang="en-US" sz="3200" spc="-1" strike="noStrike">
              <a:solidFill>
                <a:srgbClr val="ffffff"/>
              </a:solidFill>
              <a:latin typeface="Arial"/>
            </a:endParaRPr>
          </a:p>
        </p:txBody>
      </p:sp>
      <p:sp>
        <p:nvSpPr>
          <p:cNvPr id="249" name=""/>
          <p:cNvSpPr/>
          <p:nvPr/>
        </p:nvSpPr>
        <p:spPr>
          <a:xfrm>
            <a:off x="1827360" y="3169440"/>
            <a:ext cx="5490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eden viajar grandes distanci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oductos químicos sumamente tóxicos pueden esperar su tiempo, envenenando a sus víctimas de maneras tales que son muy difíciles de v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benceno, por ejemplo, es un disolvente común. Es un ingrediente en algunas pinturas, en productos de desengrasado, gasolinas, y en varios otros contaminantes industriales y comerci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cancerígeno, y afecta a los descendientes de las personas contaminadas, incluso a los hombres, pues la exposición fetal no es la única manera en la que el benceno puede envenenar a los niños; también puede afectar a los cromosomas y dañar los genes que su hijo heredar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formulaciones actuales de los plaguicidas son de 10 a 100 veces más tóxicas que en 197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Disruptores endocrinos</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COP vertidos al medio ambiente,, tienen potencial para perturbar el sistema endocrino de los animales, incluidos los seres human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ellas se encuentran las sustancias persistentes, bioacumulativas y organohalógenas que incluyen algunos plaguicidas (fungicidas, herbicidas e insecticidas) y las sustancias químicas industriales, otros productos sintéticos y algunos metales pesad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as poblaciones animales han sido afectadas ya por estas sustanci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re las repercusiones figuran la disfunción tiroidea en aves y peces; la disminución de la fertilidad en aves, peces, crustáceos y mamíferos; la disminución del éxito de la incubación en aves, peces y tortugas; graves deformidades de nacimiento en aves, peces y tortugas; anormalidades metabólicas en aves, peces 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s sustancias se transportan a grandes distancias ya que se han dispersado por todo el mund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comunidad internacional tiene ahora que tomar acciones globales urgentes para eliminarlos.</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disruptores endocrinos interfieren en el funcionamiento del sistema hormonal mediante alguno de estos tres mecanis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suplantando a las hormonas natura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loqueando su acción 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umentando o disminuyendo sus nive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sustancias químicas disruptoras endocrinas no son venenos clásicos ni carcinógenos típic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atienen a reglas diferentes. Algunas sustancias químicas hormonalmente activas apenas parecen plantear riesgos de cánc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os niveles que se encuentran normalmente en el entorno, las sustancias químicas disruptoras hormonales no matan células ni atacan el AD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objetivo son las hormonas, los mensajeros químicos que se mueven constantemente dentro de la red de comunicaciones del cuerpo. Las sustancias químicas sintéticas hormonalmente activas son delincuentes de la autopista de la información biológica que sabotean comunicaciones vit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racan a los mensajeros o los suplantan. Cambian de lugar las señales. Revuelven los mensajes. Siembran desinform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an toda clase de estrag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ado que los mensajes hormonales organizan muchos aspectos decisivos del desarrollo, desde la diferenciación sexual hasta la organización del cerebro, las sustancias químicas disruptoras hormonales representan un especial peligro antes del nacimiento y en las primeras etapas de la vid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disruptores endocrinos pueden poner en peligro la supervivencia de especies enteras, quizá a largo plazo incluso la especie huma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especie humana carece de experiencia evolutiva con estos compuestos sintético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on contaminantes porque</a:t>
            </a:r>
            <a:r>
              <a:rPr b="1" lang="en-US" sz="4400" spc="-1" strike="noStrike">
                <a:solidFill>
                  <a:srgbClr val="ccecff"/>
                </a:solidFill>
                <a:latin typeface="Arial"/>
              </a:rPr>
              <a:t>.....</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muy bajas concentraciones afectan gravemente la salud de los seres humanos, animales y el ambiente. </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os imitadores artificiales de los estrógenos difieren en aspectos fundamentales de los estrógenos veget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estro organismo es capaz de descomponer y excretar los imitadores naturales de los estrógenos, pero muchos de los compuestos artificiales resisten los procesos normales de descomposición 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acumulan en el cuerpo, sometiendo a humanos y animales a una exposición de bajo nivel pero de larga duració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 pauta de exposición crónica a sustancias hormonales no tiene precedentes en nuestra historia evolutiva, y para adaptarse a este nuevo peligro harían falta milenios, no década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nosotros portamos varios centenares de sustancias químicas persistentes en nuestro cuerpo, entre ellas muchas que han sido identificadas como disruptores endocrin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a parte, las portamos en concentraciones que multiplican por varios millares los niveles naturales de los estrógenos libres, es decir, estrógenos que no están enlazados por proteínas sanguíneas y son, por tanto, biológicamente activ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ha descubierto que cantidades insignificantes de estrógeno libre pueden alterar el curso del desarrollo en el útero; tan insignificantes como una décima parte por bill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sustancias químicas disruptoras endocrinas pueden actuar juntas y cantidades pequeñas, aparentemente insignificantes, de sustancias químicas individuales, pueden tener un importante efecto acumulativo.</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usa gran preocupación la creciente frecuencia de anormalidades genitales en los niños, como testículos no descendidos (criptorquidia), penes sumamente pequeños e hipospadias, un defecto en el que la uretra que transporta la orina no se prolonga hasta el final del p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s zonas de cultivo intensivo en la provincia de Granada y Almería, en donde se emplea el endosulfán y otros plaguicidas, se han registrado unos 500 casos de criptorquidia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on persistentes porqu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cen mucho tiempo en el ambiente, incluso </a:t>
            </a:r>
            <a:r>
              <a:rPr b="1" lang="en-US" sz="3200" spc="-1" strike="noStrike">
                <a:solidFill>
                  <a:srgbClr val="ff5050"/>
                </a:solidFill>
                <a:latin typeface="Arial"/>
              </a:rPr>
              <a:t>decenas</a:t>
            </a:r>
            <a:r>
              <a:rPr b="1" lang="en-US" sz="3200" spc="-1" strike="noStrike">
                <a:solidFill>
                  <a:srgbClr val="cc0066"/>
                </a:solidFill>
                <a:latin typeface="Arial"/>
              </a:rPr>
              <a:t> </a:t>
            </a:r>
            <a:r>
              <a:rPr b="1" lang="en-US" sz="3200" spc="-1" strike="noStrike">
                <a:solidFill>
                  <a:srgbClr val="ff5050"/>
                </a:solidFill>
                <a:latin typeface="Arial"/>
              </a:rPr>
              <a:t>de años,</a:t>
            </a:r>
            <a:r>
              <a:rPr b="0" lang="en-US" sz="3200" spc="-1" strike="noStrike">
                <a:solidFill>
                  <a:srgbClr val="ffffff"/>
                </a:solidFill>
                <a:latin typeface="Arial"/>
              </a:rPr>
              <a:t> resistiendo la degradación por el sol, su degradación química y la degradación por otros microorganismos.</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unos estudios con animales indican que la exposición a sustancias químicas hormonalmente activas en el periodo prenatal o en la edad adulta aumenta la vulnerabilidad a cánceres sensibles a hormonas, como los tumores malignos en mama, próstata, ovarios y útero.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os efectos de los disruptores endocrinos está el aumento de los casos de cáncer de testículo y de endometrio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igno más espectacular y preocupante de que los disruptores endocrinos pueden haberse cobrado ya un precio importante se encuentra en los informes que indican que la cantidad y movilidad de los espermatozoides de los varones ha caído en picado en el último medio sigl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espermatozoides masculinos han descendido un 45 por ciento, desde un promedio de 113 millones por mililitro de semen en 1940 a sólo 66 millones por mililitro en 1990.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ismo tiempo, el volumen del semen eyaculado ha descendido un 25 por ciento, por lo que el descenso real de los espermatozoides equivalía a un 50 por ci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descenso amenaza la capacidad fertilizadora masculina.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a política adecuada para reducir la amenaza de las sustancias químicas que alteran el sistema hormonal requiere la prohibición inmediata de plaguicidas como el endosulfán y el metoxiclo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gicidas como la vinclozolina, herbicidas como la atrazina, los alquilfenoles, los ftalatos y el bisfenol-A. Para evitar la generación de dioxinas se requiere la eliminación progresiva del PVC, el percloroetileno, todos los plaguicidas clorados, el blanqueo de la pasta de papel con cloro y la incineración de residuos.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as sustancias químicas de efectos disruptores sobre el sistema endocrino figuran:</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dioxinas y furanos, que se generan en la producción de cloro y compuestos clorados, como el PVC o los plaguicidas organoclorados, el blanqueo con cloro de la pasta de papel y la incineración de residu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ccecff"/>
                </a:solidFill>
                <a:latin typeface="Arial"/>
              </a:rPr>
              <a:t>Son bioacumulables porque.......</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acumulan en los </a:t>
            </a:r>
            <a:r>
              <a:rPr b="1" lang="es-ES" sz="3200" spc="-1" strike="noStrike">
                <a:solidFill>
                  <a:srgbClr val="ff5050"/>
                </a:solidFill>
                <a:latin typeface="Arial"/>
              </a:rPr>
              <a:t>tejidos grasos</a:t>
            </a:r>
            <a:r>
              <a:rPr b="0" lang="es-ES" sz="3200" spc="-1" strike="noStrike">
                <a:solidFill>
                  <a:srgbClr val="ffffff"/>
                </a:solidFill>
                <a:latin typeface="Arial"/>
              </a:rPr>
              <a:t> de los organismos. Se biomagnifican, es decir, </a:t>
            </a:r>
            <a:r>
              <a:rPr b="1" lang="es-ES" sz="3200" spc="-1" strike="noStrike">
                <a:solidFill>
                  <a:srgbClr val="ff5050"/>
                </a:solidFill>
                <a:latin typeface="Arial"/>
              </a:rPr>
              <a:t>aumentan su concentración en cientos o hasta millones de veces a medida que van subiendo en las cadenas alimenticias. </a:t>
            </a: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PCBs, actualmente prohibidos. Las concentraciones en tejidos humanos han permanecido constantes en los últimos años aun cuando la mayoría de los países industrializados pusieron fin a la producción de PCBs hace más de una décad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umerosos plaguicidas, algunos prohibidos y otros no, como el DDT y sus productos de degradación, el lindano, el metoxicloro (), piretroides sintéticos, herbicidas de triazina, kepona, dieldrín, vinclozolina, dicofol y clordano, entre otro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laguicida endosulfán, de amplio uso en la agricultura  en Latinoamérica, a pesar de estar prohibido en numerosos paíse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HCB (hexaclorobenceno), empleado en síntesis orgánicas, como fungicida para el tratamiento de semillas y como preservador de la mader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ftalatos, utilizados en la fabricación de PVC. El 95 por ciento del DEHP (di(2etilexil)ftalato) se emplea en la fabricación del PVC.</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alquilfenoles, antioxidantes presentes en el poliestireno modificado y en el PVC, y como productos de la degradación de los deterge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nonilfenol pertenece a la familia de sustancias químicas sintéticas llamadas alquilfenoles. Los fabricantes añaden nonilfenoles al poliestireno y al cloruro de polivinilo (PVC), como antioxidante para que estos plásticos sean más estables y menos frági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estudio descubrió que la industria de procesamiento y envasado de alimentos utilizaba PVC que contenían alquilfeno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descomposición de sustancias químicas presentes en detergentes industriales, plaguicidas y productos para el cuidado personal pueden dar origen asimismo a nonilfenol.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bisfenol-A, de amplio uso en la industria agroalimentaria (recubrimiento interior de los envases metálicos de estaño) y por parte de los dentistas (empastes dentari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e dispersan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mpliamente en el medio ambiente, a través del viento, ríos y corrientes marinas, trasladándose a todas partes del plane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han encontrado en el agua, suelo, sedimentos, animales y personas, incluso en el Artico y en lugares muy alejados de donde originalmente fueron liberados.</a:t>
            </a:r>
            <a:endParaRPr b="0" lang="en-US" sz="32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lan Nacional para la Implementación del Convenio de Estocolmo (P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sarrollo del Plan Nacional de Implementación para la Gestión de l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aminantes Orgánicos Persistentes (PNI) para la Fase I: 2006-2010, permitirá al país da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mplimiento a lo establecido en el Convenio de Estocolmo, adoptando medidas tendientes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ducir o eliminar las liberaciones de COPs a fin de proteger la salud humana y el med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mbiente 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Cuáles s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problemas con los COPs han motivado su prohibición y restricción severa en muchos países y acciones internacionales.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rograma de las Naciones Unidas para el Medio Ambiente (PNUMA), ha llamado ha establecer un convenio internacional obligatorio sobre 12 COPs de manera prioritaria, que además defina los criterios para añadir nuevas sustancias y establezca mecanismos de apoyo a los países en desarrollo: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0:21:20Z</dcterms:created>
  <dc:creator>Rogelio</dc:creator>
  <dc:description/>
  <dc:language>en-US</dc:language>
  <cp:lastModifiedBy>Vicente</cp:lastModifiedBy>
  <dcterms:modified xsi:type="dcterms:W3CDTF">2012-10-11T00:31:24Z</dcterms:modified>
  <cp:revision>3</cp:revision>
  <dc:subject/>
  <dc:title>CONTAMINANTES ORGANICOS PERSISTENTES (COPS )</dc:title>
</cp:coreProperties>
</file>