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C80-DBAC-452A-9569-9D2BF37E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DD3-80AC-43EC-AFC2-631B3686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DC0-E759-414C-AC43-74FA03DE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078-D4E1-4C69-9D16-0755BCD7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472-85CC-48E9-AA46-7B197163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A045-ACE7-41D9-B217-264A7131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E0C-C80C-48B4-A24D-4723EAB3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2C6-8DFB-42C7-BD45-7BCE2D04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24E-66C1-441E-AE27-59365C8E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446-1B50-4C73-A56A-1F8342D8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8B9-3C89-47D1-A692-73FAB3E2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931-1FA5-4D52-9299-817F23F6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402E-F544-4637-B4D2-46DF6EF86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新細明體"/>
              </a:rPr>
              <a:t>電腦輔助模流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762120" y="1905120"/>
            <a:ext cx="5410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主題：澆口與冷卻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762120" y="4038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71249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蔡明哲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ASE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71239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黃聖豪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AS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71228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翁吉誠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ASE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71222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林恒毅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ASE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904680" y="3200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組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43196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射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177840" y="1447920"/>
            <a:ext cx="4317840" cy="251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MAN\Desktop\模流\40071239\射壓-1.bmp"/>
          <p:cNvPicPr/>
          <p:nvPr/>
        </p:nvPicPr>
        <p:blipFill>
          <a:blip r:embed="rId2"/>
          <a:stretch/>
        </p:blipFill>
        <p:spPr>
          <a:xfrm>
            <a:off x="4724280" y="1447920"/>
            <a:ext cx="4318200" cy="251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MAN\Desktop\模流\40071228\004.bmp"/>
          <p:cNvPicPr/>
          <p:nvPr/>
        </p:nvPicPr>
        <p:blipFill>
          <a:blip r:embed="rId3"/>
          <a:stretch/>
        </p:blipFill>
        <p:spPr>
          <a:xfrm>
            <a:off x="177840" y="3935520"/>
            <a:ext cx="4317840" cy="251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MAN\Desktop\模流\40071222\射壓-1.bmp"/>
          <p:cNvPicPr/>
          <p:nvPr/>
        </p:nvPicPr>
        <p:blipFill>
          <a:blip r:embed="rId4"/>
          <a:stretch/>
        </p:blipFill>
        <p:spPr>
          <a:xfrm>
            <a:off x="4724280" y="4033800"/>
            <a:ext cx="4318200" cy="2519280"/>
          </a:xfrm>
          <a:prstGeom prst="rect">
            <a:avLst/>
          </a:prstGeom>
          <a:ln w="0">
            <a:noFill/>
          </a:ln>
        </p:spPr>
      </p:pic>
      <p:sp>
        <p:nvSpPr>
          <p:cNvPr id="51" name="矩形 11"/>
          <p:cNvSpPr/>
          <p:nvPr/>
        </p:nvSpPr>
        <p:spPr>
          <a:xfrm>
            <a:off x="304920" y="35053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4"/>
          <p:cNvSpPr/>
          <p:nvPr/>
        </p:nvSpPr>
        <p:spPr>
          <a:xfrm>
            <a:off x="4800600" y="3505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304920" y="6324480"/>
            <a:ext cx="99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6"/>
          <p:cNvSpPr/>
          <p:nvPr/>
        </p:nvSpPr>
        <p:spPr>
          <a:xfrm>
            <a:off x="4800600" y="63244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90920" y="122400"/>
          <a:ext cx="6095880" cy="12492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壓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融接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1"/>
          <a:stretch/>
        </p:blipFill>
        <p:spPr>
          <a:xfrm>
            <a:off x="254160" y="914400"/>
            <a:ext cx="4317840" cy="28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MAN\Desktop\模流\40071239\融接線.bmp"/>
          <p:cNvPicPr/>
          <p:nvPr/>
        </p:nvPicPr>
        <p:blipFill>
          <a:blip r:embed="rId2"/>
          <a:stretch/>
        </p:blipFill>
        <p:spPr>
          <a:xfrm>
            <a:off x="4724280" y="914400"/>
            <a:ext cx="4318200" cy="287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MAN\Desktop\模流\40071222\融接線.bmp"/>
          <p:cNvPicPr/>
          <p:nvPr/>
        </p:nvPicPr>
        <p:blipFill>
          <a:blip r:embed="rId3"/>
          <a:stretch/>
        </p:blipFill>
        <p:spPr>
          <a:xfrm>
            <a:off x="4724280" y="3886200"/>
            <a:ext cx="4318200" cy="287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MAN\Desktop\模流\40071228\003.bmp"/>
          <p:cNvPicPr/>
          <p:nvPr/>
        </p:nvPicPr>
        <p:blipFill>
          <a:blip r:embed="rId4"/>
          <a:stretch/>
        </p:blipFill>
        <p:spPr>
          <a:xfrm>
            <a:off x="254160" y="3886200"/>
            <a:ext cx="4317840" cy="2879640"/>
          </a:xfrm>
          <a:prstGeom prst="rect">
            <a:avLst/>
          </a:prstGeom>
          <a:ln w="0">
            <a:noFill/>
          </a:ln>
        </p:spPr>
      </p:pic>
      <p:sp>
        <p:nvSpPr>
          <p:cNvPr id="61" name="矩形 7"/>
          <p:cNvSpPr/>
          <p:nvPr/>
        </p:nvSpPr>
        <p:spPr>
          <a:xfrm>
            <a:off x="304920" y="35053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4800600" y="3505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304920" y="62485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48006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167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翹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39560" y="1600200"/>
            <a:ext cx="3598920" cy="2158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MAN\Desktop\模流\40071239\翹曲.bmp"/>
          <p:cNvPicPr/>
          <p:nvPr/>
        </p:nvPicPr>
        <p:blipFill>
          <a:blip r:embed="rId2"/>
          <a:stretch/>
        </p:blipFill>
        <p:spPr>
          <a:xfrm>
            <a:off x="4782960" y="1600200"/>
            <a:ext cx="3598920" cy="2158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MAN\Desktop\模流\40071228\005.bmp"/>
          <p:cNvPicPr/>
          <p:nvPr/>
        </p:nvPicPr>
        <p:blipFill>
          <a:blip r:embed="rId3"/>
          <a:stretch/>
        </p:blipFill>
        <p:spPr>
          <a:xfrm>
            <a:off x="439560" y="3962520"/>
            <a:ext cx="3598920" cy="215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MAN\Desktop\模流\40071222\翹曲.bmp"/>
          <p:cNvPicPr/>
          <p:nvPr/>
        </p:nvPicPr>
        <p:blipFill>
          <a:blip r:embed="rId4"/>
          <a:stretch/>
        </p:blipFill>
        <p:spPr>
          <a:xfrm>
            <a:off x="4782960" y="3962520"/>
            <a:ext cx="3598920" cy="2158920"/>
          </a:xfrm>
          <a:prstGeom prst="rect">
            <a:avLst/>
          </a:prstGeom>
          <a:ln w="0">
            <a:noFill/>
          </a:ln>
        </p:spPr>
      </p:pic>
      <p:sp>
        <p:nvSpPr>
          <p:cNvPr id="70" name="矩形 7"/>
          <p:cNvSpPr/>
          <p:nvPr/>
        </p:nvSpPr>
        <p:spPr>
          <a:xfrm>
            <a:off x="380880" y="3505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/>
          <p:cNvSpPr/>
          <p:nvPr/>
        </p:nvSpPr>
        <p:spPr>
          <a:xfrm>
            <a:off x="4876920" y="35053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38088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"/>
          <p:cNvSpPr/>
          <p:nvPr/>
        </p:nvSpPr>
        <p:spPr>
          <a:xfrm>
            <a:off x="4876920" y="62485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90920" y="122400"/>
          <a:ext cx="6095880" cy="12492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標稱最大翹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填充狀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19000" y="1143000"/>
            <a:ext cx="3600720" cy="251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4933800" y="1143000"/>
            <a:ext cx="3600720" cy="251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819000" y="4043520"/>
            <a:ext cx="3600720" cy="252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4"/>
          <a:stretch/>
        </p:blipFill>
        <p:spPr>
          <a:xfrm>
            <a:off x="4933800" y="4043520"/>
            <a:ext cx="3600720" cy="2520720"/>
          </a:xfrm>
          <a:prstGeom prst="rect">
            <a:avLst/>
          </a:prstGeom>
          <a:ln w="0">
            <a:noFill/>
          </a:ln>
        </p:spPr>
      </p:pic>
      <p:sp>
        <p:nvSpPr>
          <p:cNvPr id="80" name="矩形 7"/>
          <p:cNvSpPr/>
          <p:nvPr/>
        </p:nvSpPr>
        <p:spPr>
          <a:xfrm>
            <a:off x="685800" y="3505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/>
          <p:cNvSpPr/>
          <p:nvPr/>
        </p:nvSpPr>
        <p:spPr>
          <a:xfrm>
            <a:off x="4876920" y="35053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858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0"/>
          <p:cNvSpPr/>
          <p:nvPr/>
        </p:nvSpPr>
        <p:spPr>
          <a:xfrm>
            <a:off x="4876920" y="62485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MAN\Desktop\模流\40071239\塑膠流-4.bmp"/>
          <p:cNvPicPr/>
          <p:nvPr/>
        </p:nvPicPr>
        <p:blipFill>
          <a:blip r:embed="rId1"/>
          <a:stretch/>
        </p:blipFill>
        <p:spPr>
          <a:xfrm>
            <a:off x="4933800" y="4038480"/>
            <a:ext cx="360072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MAN\Desktop\模流\40071239\塑膠流-1.bmp"/>
          <p:cNvPicPr/>
          <p:nvPr/>
        </p:nvPicPr>
        <p:blipFill>
          <a:blip r:embed="rId2"/>
          <a:stretch/>
        </p:blipFill>
        <p:spPr>
          <a:xfrm>
            <a:off x="838080" y="1219320"/>
            <a:ext cx="360072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MAN\Desktop\模流\40071239\塑膠流-2.bmp"/>
          <p:cNvPicPr/>
          <p:nvPr/>
        </p:nvPicPr>
        <p:blipFill>
          <a:blip r:embed="rId3"/>
          <a:stretch/>
        </p:blipFill>
        <p:spPr>
          <a:xfrm>
            <a:off x="4876920" y="121932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MAN\Desktop\模流\40071239\塑膠流-3.bmp"/>
          <p:cNvPicPr/>
          <p:nvPr/>
        </p:nvPicPr>
        <p:blipFill>
          <a:blip r:embed="rId4"/>
          <a:stretch/>
        </p:blipFill>
        <p:spPr>
          <a:xfrm>
            <a:off x="895320" y="403848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填充狀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685800" y="3505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4876920" y="35053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6858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4876920" y="62485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MAN\Desktop\模流\40071228\008.bmp"/>
          <p:cNvPicPr/>
          <p:nvPr/>
        </p:nvPicPr>
        <p:blipFill>
          <a:blip r:embed="rId1"/>
          <a:stretch/>
        </p:blipFill>
        <p:spPr>
          <a:xfrm>
            <a:off x="4857840" y="129060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MAN\Desktop\模流\40071228\009.bmp"/>
          <p:cNvPicPr/>
          <p:nvPr/>
        </p:nvPicPr>
        <p:blipFill>
          <a:blip r:embed="rId2"/>
          <a:stretch/>
        </p:blipFill>
        <p:spPr>
          <a:xfrm>
            <a:off x="971640" y="403380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MAN\Desktop\模流\40071228\010.bmp"/>
          <p:cNvPicPr/>
          <p:nvPr/>
        </p:nvPicPr>
        <p:blipFill>
          <a:blip r:embed="rId3"/>
          <a:stretch/>
        </p:blipFill>
        <p:spPr>
          <a:xfrm>
            <a:off x="4857840" y="403380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MAN\Desktop\模流\40071228\007.bmp"/>
          <p:cNvPicPr/>
          <p:nvPr/>
        </p:nvPicPr>
        <p:blipFill>
          <a:blip r:embed="rId4"/>
          <a:stretch/>
        </p:blipFill>
        <p:spPr>
          <a:xfrm>
            <a:off x="971640" y="1290600"/>
            <a:ext cx="3600360" cy="2519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填充狀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685800" y="3505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4876920" y="35053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6858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4876920" y="62485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1157400"/>
            <a:ext cx="3598920" cy="2728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29200" y="1157400"/>
            <a:ext cx="3598920" cy="27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3598920" cy="27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029200" y="3886200"/>
            <a:ext cx="3598920" cy="2728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填充狀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685800" y="3505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4876920" y="35053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6858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4876920" y="62485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結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209680"/>
            <a:ext cx="784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射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4 &gt; CASE3 &gt; CASE1 &gt; CAS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融接線數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1 &gt; CASE2 &gt; CASE3 &gt; CAS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翹曲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3 &gt; CASE1 = CASE2 = CAS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澆口的位置與數量的不同，影響了融接線的數量與位置，其射壓大小也有差異，同時也略微影響翹曲，最終影響成型品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14-05-01T10:24:4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