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CEE-8569-4BE5-8394-E5D8C21A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9E3-AD79-4DFA-BBF0-A66BDA57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D04-B674-44F7-AF40-88EF0E8C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7EF-484E-485D-BF5D-DCA637A0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143A-3A01-44C4-A5E8-F88DE308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ECC2-1794-40F0-99C0-0A9D67D9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D73D-6ED8-46D6-BBA5-5A0D9542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96E1-5351-410D-B4CC-35EB692A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7B22-C2BE-40CB-AF3B-51CF32CF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32E6-D148-4FA7-9E07-11FD3F41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F2AA-FCD5-440F-9C5B-84EE5022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52D8-B931-45CA-B92E-489DA9F2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6F27-35BF-4F24-BF7F-A4680825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33A1-19BF-41CA-9541-E49E9B61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9648-B207-45D2-9B1E-0D5DFAC4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0CD0-A26B-4CA4-883B-13FC04E0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1D02-1735-4231-9CF0-2397037E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9CA-9169-4993-8F37-05A739F6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FAD-A953-45FD-A37F-2CEE423F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12E-63EF-4EB5-A0C6-5FAC22A3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34B-A62B-4D17-AD0D-4F8F40EA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7E3-7246-4231-B6ED-A9871262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FD0-16B5-4AAA-83A2-C18F6D20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DDF-F159-43FB-8E04-0AA240ED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3C1D-F68F-4C3A-BD39-FD9F86DEAD1A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0CCD-A148-46B8-9397-FBEC5BE72625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Visual C#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視窗程式設計入門：繪圖程式範例與遊戲專題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單元十六：音樂音效播放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使用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VisualBasic 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的 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Computer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類別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using Microsoft.VisualBasic; //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定義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AudioPlayMode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列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using Microsoft.VisualBasic.Devices; //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定義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Computer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類別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Computer myComputer = new Comput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播放在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音效配置中事件相關的音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yComputer.Audio.PlaySystemSound(System.Media.SystemSounds.Beep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播放外部的聲音檔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yComputer.Audio.Play("chimes.wav"); //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聲音檔與執行檔同目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093080" y="2637000"/>
            <a:ext cx="1761840" cy="1180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84720" y="4724280"/>
            <a:ext cx="2781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Computer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類別的屬性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687760" y="2698920"/>
          <a:ext cx="4975200" cy="2317320"/>
        </p:xfrm>
        <a:graphic>
          <a:graphicData uri="http://schemas.openxmlformats.org/drawingml/2006/table">
            <a:tbl>
              <a:tblPr/>
              <a:tblGrid>
                <a:gridCol w="1779840"/>
                <a:gridCol w="3195360"/>
              </a:tblGrid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uter 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類別的屬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說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供播放音效的屬性和方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p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供管理 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剪貼簿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方法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供存取鍵盤目前狀態的屬性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供取得滑鼠格式和組態資訊的屬性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供存取電腦序列埠的屬性和方法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供取得顯示螢幕的屬性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Windows 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音效配置中事件相關的音效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Computer myComputer = new Comput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播放在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音效配置中事件相關的音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yComputer.Audio.PlaySystemSound(System.Media.SystemSounds.Asteris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yComputer.Audio.PlaySystemSound(System.Media.SystemSounds.Beep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yComputer.Audio.PlaySystemSound(System.Media.SystemSounds.Exclamati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yComputer.Audio.PlaySystemSound(System.Media.SystemSounds.Han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yComputer.Audio.PlaySystemSound(System.Media.SystemSounds.Question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使用 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SystemSounds 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和 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SoundPlay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using System.Medi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SystemSounds.Asterisk.Pla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SystemSounds.Beep.Pla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SystemSounds.Exclamation.Pla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SystemSounds.Hand.Pla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SystemSounds.Question.Play(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使用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winmm.DLL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的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PlaySound(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[System.Runtime.InteropServices.DllImport("winmm.DLL"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EntryPoint = "PlaySound", SetLastError = true)]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private static extern bool PlaySound(string szSound, System.IntPtr hMod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PlaySoundFlags flags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[System.Flags]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public enum PlaySoundFlags : i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SND_SYNC = 0x0000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SND_ASYNC = 0x0001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SND_NODEFAULT = 0x0002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SND_LOOP = 0x0008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SND_NOSTOP = 0x0010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SND_NOWAIT = 0x00002000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SND_FILENAME = 0x00020000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SND_RESOURCE = 0x0004000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播放外部的聲音檔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private void button2_Click(object sender, EventArgs 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播放  聲音檔與執行檔同目錄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PlaySound("chimes.wav", new System.IntPtr(), PlaySoundFlags.SND_SYNC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播放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MP3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檔案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516720" y="1628640"/>
            <a:ext cx="1781280" cy="2181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19640" y="4149720"/>
            <a:ext cx="35434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3:23:38Z</dcterms:created>
  <dc:creator>me</dc:creator>
  <dc:description/>
  <dc:language>en-US</dc:language>
  <cp:lastModifiedBy>me</cp:lastModifiedBy>
  <dcterms:modified xsi:type="dcterms:W3CDTF">2009-11-14T02:32:25Z</dcterms:modified>
  <cp:revision>35</cp:revision>
  <dc:subject/>
  <dc:title>Visual C# 視窗程式設計入門：繪圖程式範例與遊戲專題 </dc:title>
</cp:coreProperties>
</file>