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005-47FD-4168-B927-E5B82E7F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B37-515D-4821-AA2D-D92A14D8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7A7-FB25-42C6-A777-AD62D50E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4F5-0819-4C95-8A6E-06D91BBB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9139-12E5-4DB6-A870-EA9B377D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1576-3C17-47CD-A9A8-BB8978F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B5B9-8A4A-4B65-8985-C2C02C5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FF10-C39A-447E-9B64-EC6731CF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F4B9-E424-491D-8EA1-934AD195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6445-F0AE-4D44-975F-BD502A5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0384-BE30-48A6-9C82-B4F1FAD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C90-7AFB-48CA-8FBD-BA0D141F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B848-0803-4A7D-ABA5-DDEDFBE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0145-7EBC-4DF6-A209-22C324F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B659-E000-4693-948F-2D256D87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69AC-49B3-428C-AA5A-844305D7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9467-0E3D-4A6C-89EF-FF2AA5ED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A5B-8077-4E2A-81A4-CF743EB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954-91DF-4F84-A16C-BFE100F4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C0F-8A78-41C0-B878-1B08D26F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2AC-2B5E-4D49-92B1-7EB6B443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F83-605F-43B9-9673-8693DE1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D52-AD16-4F54-98B7-AD9A3B0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619-6287-43DA-9D58-3F96086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818-1F09-4093-994F-0F57CC4DB783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04EE-24AF-44F2-BD40-4BD19577F04F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Visual C#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視窗程式設計入門：繪圖程式範例與遊戲專題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單元十六：音樂音效播放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使用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VisualBasic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的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Computer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類別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using Microsoft.VisualBasic; 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定義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AudioPlayMode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列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using Microsoft.VisualBasic.Devices; 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定義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Computer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類別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Computer myComputer = new Comput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播放在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音效配置中事件相關的音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Bee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播放外部的聲音檔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("chimes.wav"); 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聲音檔與執行檔同目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93080" y="2637000"/>
            <a:ext cx="1761840" cy="1180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84720" y="4724280"/>
            <a:ext cx="2781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Computer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類別的屬性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687760" y="2698920"/>
          <a:ext cx="4975200" cy="2317320"/>
        </p:xfrm>
        <a:graphic>
          <a:graphicData uri="http://schemas.openxmlformats.org/drawingml/2006/table">
            <a:tbl>
              <a:tblPr/>
              <a:tblGrid>
                <a:gridCol w="1779840"/>
                <a:gridCol w="3195360"/>
              </a:tblGrid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uter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類別的屬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說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播放音效的屬性和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p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管理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剪貼簿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方法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存取鍵盤目前狀態的屬性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取得滑鼠格式和組態資訊的屬性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存取電腦序列埠的屬性和方法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提供取得顯示螢幕的屬性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Windows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音效配置中事件相關的音效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Computer myComputer = new Comput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播放在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音效配置中事件相關的音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Asteris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Beep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Exclamati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Ha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yComputer.Audio.PlaySystemSound(System.Media.SystemSounds.Question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使用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SystemSounds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和 </a:t>
            </a:r>
            <a:r>
              <a:rPr b="0" lang="zh-TW" sz="4000" spc="-1" strike="noStrike">
                <a:solidFill>
                  <a:srgbClr val="333399"/>
                </a:solidFill>
                <a:latin typeface="Tahoma"/>
              </a:rPr>
              <a:t>SoundPlay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using System.Medi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Asterisk.Pl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Beep.Pl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Exclamation.Pl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Hand.Pla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SystemSounds.Question.Play(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使用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winmm.DLL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的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PlaySound(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[System.Runtime.InteropServices.DllImport("winmm.DLL"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EntryPoint = "PlaySound", SetLastError = true)]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rivate static extern bool PlaySound(string szSound, System.IntPtr hMod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laySoundFlags flags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[System.Flags]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ublic enum PlaySoundFlags : i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SYNC = 0x0000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ASYNC = 0x0001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NODEFAULT = 0x0002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LOOP = 0x0008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NOSTOP = 0x0010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NOWAIT = 0x00002000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FILENAME = 0x00020000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SND_RESOURCE = 0x0004000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播放外部的聲音檔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rivate void button2_Click(object sender, EventArgs 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播放  聲音檔與執行檔同目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PlaySound("chimes.wav", new System.IntPtr(), PlaySoundFlags.SND_SYN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播放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MP3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檔案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1781280" cy="2181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19640" y="4149720"/>
            <a:ext cx="35434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23:38Z</dcterms:created>
  <dc:creator>me</dc:creator>
  <dc:description/>
  <dc:language>en-US</dc:language>
  <cp:lastModifiedBy>me</cp:lastModifiedBy>
  <dcterms:modified xsi:type="dcterms:W3CDTF">2009-11-14T02:32:25Z</dcterms:modified>
  <cp:revision>35</cp:revision>
  <dc:subject/>
  <dc:title>Visual C# 視窗程式設計入門：繪圖程式範例與遊戲專題 </dc:title>
</cp:coreProperties>
</file>