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859-A0E4-4F91-AF7D-23A9A8D6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E5BB-7763-4E34-8816-A9B6A926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04B2-2DEA-4A05-B94E-AA55D6F0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41CC-6866-4A55-BA99-8AFC703BB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849-F4FE-4854-9B4F-4AC5D0E8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3DE-F2CA-4A7F-92CB-B9920CBD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16DC-3B20-48B5-9208-AE2C5FB2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D20E-5C0E-47AA-B510-AEB182AB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D95-98DC-4E63-BE02-E08549EE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F179-CE51-4FA4-BDED-AC16547B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892-D695-4683-906F-03DD55B8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1F7-5585-400E-BA1A-864C6E49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924A0-64D8-4A27-B117-41ED3321B3C2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ésentation Con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131480"/>
            <a:ext cx="9070920" cy="6265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ujet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MMORP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tagonistes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ONNET Emil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ZZATI Anto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ICHEL Lo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HURTER Yann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cence CISII 2011/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ie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énéralité du s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ie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'applet dynamique au s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ie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Diapo sur des exemples d'échange de données entre le site et l'applet ?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ie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Forum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Gestion des donn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tilisation des ses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bas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projet compl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applet dynamique au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optique d'opt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ésentation su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rtie J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rtie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e projet se déroule sur XX sema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jet de 4 person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jet divisé en 2 parties : conception et programam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résentation su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u en ligne multip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bat au tour par t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ve, P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pplet intégré dans un sit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éraction avec le j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ie J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ngage utilisé :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xion avec l'applet : R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tilisation d'une BDD et de Serv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ie J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Parler de la connexion plus en détail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ie J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000" y="1743120"/>
            <a:ext cx="907092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jeu en quelques mots (général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Jeu 2 dimensions (vue du dess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Zone libre de déplacement 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bat en groupe/seul contre monstres/jou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ie J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jeu en quelques mots (Comb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ystème basé sur du tour par t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 choix possibles : Attaquer/Utiliser p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ssibilité de dro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ie J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jeu en quelques mots (Objets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mure : augmente les points de 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rme : augmente l'atta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tions : redonne de la v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8:41:09Z</dcterms:created>
  <dc:creator/>
  <dc:description/>
  <dc:language>en-US</dc:language>
  <cp:lastModifiedBy>émilien bonnet</cp:lastModifiedBy>
  <dcterms:modified xsi:type="dcterms:W3CDTF">2012-01-15T22:13:16Z</dcterms:modified>
  <cp:revision>4</cp:revision>
  <dc:subject/>
  <dc:title/>
</cp:coreProperties>
</file>