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9D31-C6D8-4A22-9315-7E4E01061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DE3D-94B2-489B-9637-27371A61B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5D69-0DCA-4979-AFCE-C91633334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E875-AE6F-4DD6-83F1-04B713F30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8299-A7C7-41FE-A2C3-F954F47CD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F73A-2712-4BAD-9215-C8B9D160F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C8B2-97E5-4921-A9F7-0BF09DD3D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C4E9-366B-403A-89BA-40B824C08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3065-F899-430A-B903-4463B4FC6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7B17-D6A1-46AD-B119-A9094906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48A1-FFA6-4E6C-9E8B-5A56AB47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EF9E-38AB-4DEA-8541-5D8C7D93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A6B722-3A1B-4DC3-A1AC-944F3FDCC6EC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résentation Conce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131480"/>
            <a:ext cx="9070920" cy="6265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Sujet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: MMORP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rotagonistes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BONNET Emil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OZZATI Anton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ICHEL Lo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HURTER Yann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icence CISII 2011/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artie S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Généralité du sit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artie S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'applet dynamique au sit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artie S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Arial"/>
              </a:rPr>
              <a:t>Diapo sur des exemples d'échange de données entre le site et l'applet ?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artie S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Forum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Gestion des donné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tilisation des ses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ne base de donn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n projet compl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ne applet dynamique au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ne optique d'optim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résentation suj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artie Je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artie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e projet se déroule sur XX sema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rojet de 4 person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rojet divisé en 2 parties : conception et programam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résentation suj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Jeu en ligne multiplay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mbat au tour par t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ve, Pv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pplet intégré dans un site w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téraction avec le je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o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artie J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angage utilisé : 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nnexion avec l'applet : R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tilisation d'une BDD et de Servl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artie J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Arial"/>
              </a:rPr>
              <a:t>Parler de la connexion plus en détail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artie J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68000" y="1743120"/>
            <a:ext cx="9070920" cy="50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jeu en quelques mots (général)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Jeu 2 dimensions (vue du dess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Zone libre de déplacement on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mbat en groupe/seul contre monstres/jou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artie J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jeu en quelques mots (Comba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ystème basé sur du tour par t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2 choix possibles : Attaquer/Utiliser po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ossibilité de dro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artie J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jeu en quelques mots (Objets)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rmure : augmente les points de v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rme : augmente l'atta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otions : redonne de la v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5T18:41:09Z</dcterms:created>
  <dc:creator/>
  <dc:description/>
  <dc:language>en-US</dc:language>
  <cp:lastModifiedBy>émilien bonnet</cp:lastModifiedBy>
  <dcterms:modified xsi:type="dcterms:W3CDTF">2012-01-15T22:13:16Z</dcterms:modified>
  <cp:revision>4</cp:revision>
  <dc:subject/>
  <dc:title/>
</cp:coreProperties>
</file>