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F4F-074E-4A40-AA4B-4DE42FB2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0A1-FEC6-4E00-B4C2-682C20C2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14E-5C5D-4929-AC98-78CB33F2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E14-636A-4D0C-9CB2-CAE2B11D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5974-A73D-457A-A8A1-DAAD84EB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0D5A-1C1C-4462-9B4C-F50FA3E0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DFB8-0994-41F2-A931-D5304E1B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A5C4-4D54-4E46-A94C-57542181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8FAE-C280-465D-91B2-64760CC6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7444-B0AD-49FA-B3E5-E072EB7B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DD07-0292-4AE4-8809-432AA643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3D8-5E8E-4D16-AE83-33BC5449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7640-DC3A-45AF-BE4F-58844ECB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96B4-C028-4B75-BB32-8B38EFE1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9946-DF09-49A0-A2C5-AC308DBE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24BF-9637-459A-96F7-45383B34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DB5C-BECA-465C-9AA9-34AEC72B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08C-3388-489D-BB44-150A3E0A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CA8-5768-480F-901B-66D13D5F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952-5F1F-4E71-868F-CA0837C9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8A9-AA9C-47C8-9581-F00BBB32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9A4-7F71-4B01-ACE5-081E07E7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8CC-5105-4FC0-9E6A-C608C44E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926-6213-4FB1-B412-A6E95559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2ECF-1E69-48C7-9712-5223B9A3D0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18A5-E651-4AEE-B3D3-DDB20A5461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§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Представление информации, язык, кодиров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3818" t="4677" r="3856" b="4842"/>
          <a:stretch/>
        </p:blipFill>
        <p:spPr>
          <a:xfrm>
            <a:off x="2627280" y="2924280"/>
            <a:ext cx="4176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Содерж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Язы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од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Цели кодиров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450720" cy="512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11280" y="2349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53847" t="18078" r="8521" b="11374"/>
          <a:stretch/>
        </p:blipFill>
        <p:spPr>
          <a:xfrm>
            <a:off x="611280" y="2987640"/>
            <a:ext cx="4316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Язы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знаковая систем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едставления и передач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Естественны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язык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русск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китайск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английски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немецкий и др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Формальны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язык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математические символ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нотная грамо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языки программирова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3944880"/>
            <a:ext cx="2089080" cy="2076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18464400">
            <a:off x="4981320" y="42051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20064000">
            <a:off x="6754320" y="4199040"/>
            <a:ext cx="1489320" cy="158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rcRect l="0" t="0" r="4334" b="0"/>
          <a:stretch/>
        </p:blipFill>
        <p:spPr>
          <a:xfrm>
            <a:off x="5889600" y="3862440"/>
            <a:ext cx="1366920" cy="1200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72360" y="26028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837"/>
                </a:moveTo>
                <a:lnTo>
                  <a:pt x="13846" y="6448"/>
                </a:ln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lnTo>
                  <a:pt x="18233" y="10800"/>
                </a:lnTo>
                <a:lnTo>
                  <a:pt x="16579" y="10800"/>
                </a:lnTo>
                <a:lnTo>
                  <a:pt x="16579" y="17989"/>
                </a:lnTo>
                <a:lnTo>
                  <a:pt x="5960" y="17989"/>
                </a:lnTo>
                <a:lnTo>
                  <a:pt x="5960" y="10800"/>
                </a:lnTo>
                <a:lnTo>
                  <a:pt x="4307" y="10800"/>
                </a:lnTo>
                <a:close/>
              </a:path>
              <a:path fill="darkenLess" w="22539" h="21600">
                <a:moveTo>
                  <a:pt x="13846" y="6448"/>
                </a:move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close/>
              </a:path>
              <a:path fill="darkenLess" w="22539" h="21600">
                <a:moveTo>
                  <a:pt x="10347" y="14299"/>
                </a:moveTo>
                <a:lnTo>
                  <a:pt x="12192" y="14299"/>
                </a:lnTo>
                <a:lnTo>
                  <a:pt x="12192" y="17989"/>
                </a:lnTo>
                <a:lnTo>
                  <a:pt x="16579" y="17989"/>
                </a:lnTo>
                <a:lnTo>
                  <a:pt x="16579" y="10800"/>
                </a:lnTo>
                <a:lnTo>
                  <a:pt x="5960" y="10800"/>
                </a:lnTo>
                <a:lnTo>
                  <a:pt x="5960" y="17989"/>
                </a:lnTo>
                <a:lnTo>
                  <a:pt x="10347" y="17989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Кодировани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процесс представления информации для удобства ёё хранения и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Схема передачи информации через письменность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86080" y="3068640"/>
            <a:ext cx="7958160" cy="1585800"/>
            <a:chOff x="586080" y="3068640"/>
            <a:chExt cx="7958160" cy="1585800"/>
          </a:xfrm>
        </p:grpSpPr>
        <p:grpSp>
          <p:nvGrpSpPr>
            <p:cNvPr id="103" name=""/>
            <p:cNvGrpSpPr/>
            <p:nvPr/>
          </p:nvGrpSpPr>
          <p:grpSpPr>
            <a:xfrm>
              <a:off x="586080" y="3213000"/>
              <a:ext cx="1549440" cy="502920"/>
              <a:chOff x="586080" y="3213000"/>
              <a:chExt cx="1549440" cy="502920"/>
            </a:xfrm>
          </p:grpSpPr>
          <p:sp>
            <p:nvSpPr>
              <p:cNvPr id="104" name=""/>
              <p:cNvSpPr/>
              <p:nvPr/>
            </p:nvSpPr>
            <p:spPr>
              <a:xfrm>
                <a:off x="611280" y="3213000"/>
                <a:ext cx="1512720" cy="50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6080" y="3284280"/>
                <a:ext cx="154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Устная реч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167920" y="3068640"/>
              <a:ext cx="1324440" cy="792000"/>
              <a:chOff x="2167920" y="3068640"/>
              <a:chExt cx="1324440" cy="792000"/>
            </a:xfrm>
          </p:grpSpPr>
          <p:sp>
            <p:nvSpPr>
              <p:cNvPr id="107" name=""/>
              <p:cNvSpPr/>
              <p:nvPr/>
            </p:nvSpPr>
            <p:spPr>
              <a:xfrm>
                <a:off x="2195640" y="3068640"/>
                <a:ext cx="1296720" cy="792000"/>
              </a:xfrm>
              <a:prstGeom prst="rightArrow">
                <a:avLst>
                  <a:gd name="adj1" fmla="val 50000"/>
                  <a:gd name="adj2" fmla="val 4093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67920" y="3277800"/>
                <a:ext cx="104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Письм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547640" y="4076640"/>
              <a:ext cx="1533240" cy="504720"/>
              <a:chOff x="1547640" y="4076640"/>
              <a:chExt cx="1533240" cy="504720"/>
            </a:xfrm>
          </p:grpSpPr>
          <p:sp>
            <p:nvSpPr>
              <p:cNvPr id="110" name=""/>
              <p:cNvSpPr/>
              <p:nvPr/>
            </p:nvSpPr>
            <p:spPr>
              <a:xfrm rot="10800000">
                <a:off x="1547640" y="4076640"/>
                <a:ext cx="1511280" cy="504720"/>
              </a:xfrm>
              <a:prstGeom prst="wedgeRectCallout">
                <a:avLst>
                  <a:gd name="adj1" fmla="val -15967"/>
                  <a:gd name="adj2" fmla="val 11194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51240" y="418932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Код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522960" y="3213000"/>
              <a:ext cx="2057040" cy="580680"/>
              <a:chOff x="3522960" y="3213000"/>
              <a:chExt cx="2057040" cy="580680"/>
            </a:xfrm>
          </p:grpSpPr>
          <p:sp>
            <p:nvSpPr>
              <p:cNvPr id="113" name=""/>
              <p:cNvSpPr/>
              <p:nvPr/>
            </p:nvSpPr>
            <p:spPr>
              <a:xfrm>
                <a:off x="3564000" y="3244680"/>
                <a:ext cx="201600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22960" y="3213000"/>
                <a:ext cx="2053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Письменный текс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-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ко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627520" y="3068640"/>
              <a:ext cx="1322280" cy="792000"/>
              <a:chOff x="5627520" y="3068640"/>
              <a:chExt cx="1322280" cy="792000"/>
            </a:xfrm>
          </p:grpSpPr>
          <p:sp>
            <p:nvSpPr>
              <p:cNvPr id="116" name=""/>
              <p:cNvSpPr/>
              <p:nvPr/>
            </p:nvSpPr>
            <p:spPr>
              <a:xfrm>
                <a:off x="5653080" y="3068640"/>
                <a:ext cx="1296720" cy="792000"/>
              </a:xfrm>
              <a:prstGeom prst="rightArrow">
                <a:avLst>
                  <a:gd name="adj1" fmla="val 50000"/>
                  <a:gd name="adj2" fmla="val 4093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27520" y="3277800"/>
                <a:ext cx="100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Чте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994800" y="3213000"/>
              <a:ext cx="1549440" cy="502920"/>
              <a:chOff x="6994800" y="3213000"/>
              <a:chExt cx="1549440" cy="502920"/>
            </a:xfrm>
          </p:grpSpPr>
          <p:sp>
            <p:nvSpPr>
              <p:cNvPr id="119" name=""/>
              <p:cNvSpPr/>
              <p:nvPr/>
            </p:nvSpPr>
            <p:spPr>
              <a:xfrm>
                <a:off x="7020000" y="3213000"/>
                <a:ext cx="1512720" cy="50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994800" y="3284280"/>
                <a:ext cx="154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Устная реч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215320" y="4149720"/>
              <a:ext cx="1804320" cy="504720"/>
              <a:chOff x="5215320" y="4149720"/>
              <a:chExt cx="1804320" cy="504720"/>
            </a:xfrm>
          </p:grpSpPr>
          <p:sp>
            <p:nvSpPr>
              <p:cNvPr id="122" name=""/>
              <p:cNvSpPr/>
              <p:nvPr/>
            </p:nvSpPr>
            <p:spPr>
              <a:xfrm rot="10800000">
                <a:off x="5219280" y="4149720"/>
                <a:ext cx="1800360" cy="504720"/>
              </a:xfrm>
              <a:prstGeom prst="wedgeRectCallout">
                <a:avLst>
                  <a:gd name="adj1" fmla="val -5379"/>
                  <a:gd name="adj2" fmla="val 11194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15320" y="4262400"/>
                <a:ext cx="176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Декод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8172360" y="26028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837"/>
                </a:moveTo>
                <a:lnTo>
                  <a:pt x="13846" y="6448"/>
                </a:ln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lnTo>
                  <a:pt x="18233" y="10800"/>
                </a:lnTo>
                <a:lnTo>
                  <a:pt x="16579" y="10800"/>
                </a:lnTo>
                <a:lnTo>
                  <a:pt x="16579" y="17989"/>
                </a:lnTo>
                <a:lnTo>
                  <a:pt x="5960" y="17989"/>
                </a:lnTo>
                <a:lnTo>
                  <a:pt x="5960" y="10800"/>
                </a:lnTo>
                <a:lnTo>
                  <a:pt x="4307" y="10800"/>
                </a:lnTo>
                <a:close/>
              </a:path>
              <a:path fill="darkenLess" w="22539" h="21600">
                <a:moveTo>
                  <a:pt x="13846" y="6448"/>
                </a:move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close/>
              </a:path>
              <a:path fill="darkenLess" w="22539" h="21600">
                <a:moveTo>
                  <a:pt x="10347" y="14299"/>
                </a:moveTo>
                <a:lnTo>
                  <a:pt x="12192" y="14299"/>
                </a:lnTo>
                <a:lnTo>
                  <a:pt x="12192" y="17989"/>
                </a:lnTo>
                <a:lnTo>
                  <a:pt x="16579" y="17989"/>
                </a:lnTo>
                <a:lnTo>
                  <a:pt x="16579" y="10800"/>
                </a:lnTo>
                <a:lnTo>
                  <a:pt x="5960" y="10800"/>
                </a:lnTo>
                <a:lnTo>
                  <a:pt x="5960" y="17989"/>
                </a:lnTo>
                <a:lnTo>
                  <a:pt x="10347" y="17989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Цели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кодирован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асекречивание информации (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шифрование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ыстрый способ запис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стенография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16360" y="4508640"/>
            <a:ext cx="2881440" cy="1508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8835" r="0" b="10995"/>
          <a:stretch/>
        </p:blipFill>
        <p:spPr>
          <a:xfrm>
            <a:off x="4643280" y="2421000"/>
            <a:ext cx="2448000" cy="147312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88508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2360" y="26028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837"/>
                </a:moveTo>
                <a:lnTo>
                  <a:pt x="13846" y="6448"/>
                </a:ln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lnTo>
                  <a:pt x="18233" y="10800"/>
                </a:lnTo>
                <a:lnTo>
                  <a:pt x="16579" y="10800"/>
                </a:lnTo>
                <a:lnTo>
                  <a:pt x="16579" y="17989"/>
                </a:lnTo>
                <a:lnTo>
                  <a:pt x="5960" y="17989"/>
                </a:lnTo>
                <a:lnTo>
                  <a:pt x="5960" y="10800"/>
                </a:lnTo>
                <a:lnTo>
                  <a:pt x="4307" y="10800"/>
                </a:lnTo>
                <a:close/>
              </a:path>
              <a:path fill="darkenLess" w="22539" h="21600">
                <a:moveTo>
                  <a:pt x="13846" y="6448"/>
                </a:move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close/>
              </a:path>
              <a:path fill="darkenLess" w="22539" h="21600">
                <a:moveTo>
                  <a:pt x="10347" y="14299"/>
                </a:moveTo>
                <a:lnTo>
                  <a:pt x="12192" y="14299"/>
                </a:lnTo>
                <a:lnTo>
                  <a:pt x="12192" y="17989"/>
                </a:lnTo>
                <a:lnTo>
                  <a:pt x="16579" y="17989"/>
                </a:lnTo>
                <a:lnTo>
                  <a:pt x="16579" y="10800"/>
                </a:lnTo>
                <a:lnTo>
                  <a:pt x="5960" y="10800"/>
                </a:lnTo>
                <a:lnTo>
                  <a:pt x="5960" y="17989"/>
                </a:lnTo>
                <a:lnTo>
                  <a:pt x="10347" y="17989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ередача по техническим каналам связи (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телеграфный код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Цели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одирован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842920" y="2781360"/>
            <a:ext cx="3618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2492280"/>
            <a:ext cx="431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8160" y="321300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д(азбука) Морз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78480" y="26370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д Бо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2303640" cy="2219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291360" y="3284640"/>
            <a:ext cx="1962000" cy="277956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788508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72360" y="26028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837"/>
                </a:moveTo>
                <a:lnTo>
                  <a:pt x="13846" y="6448"/>
                </a:ln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lnTo>
                  <a:pt x="18233" y="10800"/>
                </a:lnTo>
                <a:lnTo>
                  <a:pt x="16579" y="10800"/>
                </a:lnTo>
                <a:lnTo>
                  <a:pt x="16579" y="17989"/>
                </a:lnTo>
                <a:lnTo>
                  <a:pt x="5960" y="17989"/>
                </a:lnTo>
                <a:lnTo>
                  <a:pt x="5960" y="10800"/>
                </a:lnTo>
                <a:lnTo>
                  <a:pt x="4307" y="10800"/>
                </a:lnTo>
                <a:close/>
              </a:path>
              <a:path fill="darkenLess" w="22539" h="21600">
                <a:moveTo>
                  <a:pt x="13846" y="6448"/>
                </a:move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close/>
              </a:path>
              <a:path fill="darkenLess" w="22539" h="21600">
                <a:moveTo>
                  <a:pt x="10347" y="14299"/>
                </a:moveTo>
                <a:lnTo>
                  <a:pt x="12192" y="14299"/>
                </a:lnTo>
                <a:lnTo>
                  <a:pt x="12192" y="17989"/>
                </a:lnTo>
                <a:lnTo>
                  <a:pt x="16579" y="17989"/>
                </a:lnTo>
                <a:lnTo>
                  <a:pt x="16579" y="10800"/>
                </a:lnTo>
                <a:lnTo>
                  <a:pt x="5960" y="10800"/>
                </a:lnTo>
                <a:lnTo>
                  <a:pt x="5960" y="17989"/>
                </a:lnTo>
                <a:lnTo>
                  <a:pt x="10347" y="17989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Цели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кодировани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ыполнение математических вычислений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Десятичная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система счисл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для человек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Двоичная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система счисл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для компьютер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2663640" cy="1863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10861" r="0" b="11031"/>
          <a:stretch/>
        </p:blipFill>
        <p:spPr>
          <a:xfrm>
            <a:off x="5867280" y="2349360"/>
            <a:ext cx="2089440" cy="1632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88508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837"/>
                </a:moveTo>
                <a:lnTo>
                  <a:pt x="13846" y="6448"/>
                </a:ln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lnTo>
                  <a:pt x="18233" y="10800"/>
                </a:lnTo>
                <a:lnTo>
                  <a:pt x="16579" y="10800"/>
                </a:lnTo>
                <a:lnTo>
                  <a:pt x="16579" y="17989"/>
                </a:lnTo>
                <a:lnTo>
                  <a:pt x="5960" y="17989"/>
                </a:lnTo>
                <a:lnTo>
                  <a:pt x="5960" y="10800"/>
                </a:lnTo>
                <a:lnTo>
                  <a:pt x="4307" y="10800"/>
                </a:lnTo>
                <a:close/>
              </a:path>
              <a:path fill="darkenLess" w="22539" h="21600">
                <a:moveTo>
                  <a:pt x="13846" y="6448"/>
                </a:move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close/>
              </a:path>
              <a:path fill="darkenLess" w="22539" h="21600">
                <a:moveTo>
                  <a:pt x="10347" y="14299"/>
                </a:moveTo>
                <a:lnTo>
                  <a:pt x="12192" y="14299"/>
                </a:lnTo>
                <a:lnTo>
                  <a:pt x="12192" y="17989"/>
                </a:lnTo>
                <a:lnTo>
                  <a:pt x="16579" y="17989"/>
                </a:lnTo>
                <a:lnTo>
                  <a:pt x="16579" y="10800"/>
                </a:lnTo>
                <a:lnTo>
                  <a:pt x="5960" y="10800"/>
                </a:lnTo>
                <a:lnTo>
                  <a:pt x="5960" y="17989"/>
                </a:lnTo>
                <a:lnTo>
                  <a:pt x="10347" y="17989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1:06:22Z</dcterms:created>
  <dc:creator>Саша</dc:creator>
  <dc:description/>
  <dc:language>en-US</dc:language>
  <cp:lastModifiedBy>Саша</cp:lastModifiedBy>
  <dcterms:modified xsi:type="dcterms:W3CDTF">2012-05-15T12:04:42Z</dcterms:modified>
  <cp:revision>2</cp:revision>
  <dc:subject/>
  <dc:title>§2. Представление информации</dc:title>
</cp:coreProperties>
</file>